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D6A8-A235-459F-998D-2C6ED7C369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4AF3-41BB-4149-B3C8-CB700DFD65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26D5-B1D1-4777-BD64-C197B79559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B90B-0765-455E-8A96-B58BC85CBA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E97A-C500-4D5E-8FAB-188F3FEBFB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64C0-1368-44DB-9A8D-5C76E92CCF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EC71D-FDD4-4FD1-8FA4-9B96F31D1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1CABA-3A1F-4718-80F4-D7469DF5F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C5084-6376-471C-BAA2-181EFEEBD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391AC-A536-4E4D-921F-9C5891E4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4B129-E78E-4923-80CA-8E9853377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E9318-02CA-4877-BB6D-08056D760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63F98-7FB6-451C-B952-3DDA102C8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81C2-23CA-435F-A30E-7F85A73A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688A-7E08-4EB4-94E2-65DCE1C3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D4E84-51F1-40B5-915F-6913CB93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64FC-236C-4322-85B0-E8D4E8F1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2C9F-B177-4CB8-8EC0-F2118DC3C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18DB-CE75-4B55-A829-453F3A031E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index.as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Challenging medicine</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Medicines and human health</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admap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Chemistry for Tomorrow’s World, the RSC s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i="1" lang="en-GB" sz="1200" spc="-1" strike="noStrike">
                <a:solidFill>
                  <a:srgbClr val="000000"/>
                </a:solidFill>
                <a:latin typeface="Arial"/>
                <a:ea typeface="Times New Roman"/>
              </a:rPr>
              <a:t>Global change is creating enormous challenges relating to energy, food and climate change. It is both necessary and urgent that action be tak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its Roadmap, the RSC identified priority areas in which the chemical sciences can support change. These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cit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health</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style and recrea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and 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f these, </a:t>
            </a:r>
            <a:r>
              <a:rPr b="1" lang="en-GB" sz="1200" spc="-1" strike="noStrike">
                <a:solidFill>
                  <a:srgbClr val="003f7b"/>
                </a:solidFill>
                <a:latin typeface="Arial"/>
                <a:ea typeface="Arial"/>
              </a:rPr>
              <a:t>human health </a:t>
            </a:r>
            <a:r>
              <a:rPr b="0" lang="en-GB" sz="1200" spc="-1" strike="noStrike">
                <a:solidFill>
                  <a:srgbClr val="000000"/>
                </a:solidFill>
                <a:latin typeface="Arial"/>
                <a:ea typeface="Arial"/>
              </a:rPr>
              <a:t>makes connections to medicinal chemistry and pharmaceutic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tails of all priority areas may be found at: </a:t>
            </a:r>
            <a:r>
              <a:rPr b="0" lang="en-GB" sz="1000" spc="-1" strike="noStrike" u="sng">
                <a:solidFill>
                  <a:srgbClr val="009999"/>
                </a:solidFill>
                <a:uFillTx/>
                <a:latin typeface="Arial"/>
                <a:ea typeface="Times New Roman"/>
                <a:hlinkClick r:id="rId2"/>
              </a:rPr>
              <a:t>http://www.rsc.org/ScienceAndTechnology/roadmap/priorityareas/index.asp</a:t>
            </a:r>
            <a:r>
              <a:rPr b="0" lang="en-GB" sz="1000" spc="-1" strike="noStrike">
                <a:solidFill>
                  <a:srgbClr val="003f7b"/>
                </a:solidFill>
                <a:latin typeface="Arial"/>
                <a:ea typeface="Times New Roman"/>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Human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mproving and maintaining accessible health, including disease preven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anks to improvement in health care, people are healthier and live longer today than ever before. However, the progress in health over recent decades has been deeply unequal. Considerable and growing health inequalities exist in many parts of the worl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nature of health problems is also changing. Longer lives and the effect of ageing have increased the burden of chronic disorders. While urbanisation and globalisation have accelerated worldwide transmission of communicable dis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challeng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i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gnost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giene and infec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s and prosthet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s and therap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ed medic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What causes ill health</a:t>
            </a:r>
            <a:endParaRPr b="0" lang="en-US" sz="2400" spc="-1" strike="noStrike">
              <a:solidFill>
                <a:srgbClr val="003f7b"/>
              </a:solidFill>
              <a:latin typeface="Arial"/>
            </a:endParaRPr>
          </a:p>
        </p:txBody>
      </p:sp>
      <p:pic>
        <p:nvPicPr>
          <p:cNvPr id="95" name="Picture 9" descr="Corporate_brand_logo_CMYK.jpg"/>
          <p:cNvPicPr/>
          <p:nvPr/>
        </p:nvPicPr>
        <p:blipFill>
          <a:blip r:embed="rId1"/>
          <a:stretch/>
        </p:blipFill>
        <p:spPr>
          <a:xfrm>
            <a:off x="7812000" y="6227640"/>
            <a:ext cx="1008000" cy="441360"/>
          </a:xfrm>
          <a:prstGeom prst="rect">
            <a:avLst/>
          </a:prstGeom>
          <a:ln w="0">
            <a:noFill/>
          </a:ln>
        </p:spPr>
      </p:pic>
      <p:sp>
        <p:nvSpPr>
          <p:cNvPr id="96"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Body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althy body numerous chemical reactions are happening − inside cells, on the surface of cells and in body fluids. Illness and disease may occur when some of these chemical reactions are disrupted, for example, by pathogens. Pathogens are organisms that cause disease. They include micro-organisms such as bacteria and viruses and other parasites such as wor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rillions of bacteria in a human body. Most are harmless, some are helpful (for example, to digest vegetables and make vitamins), but some cause stomach upsets, tonsillitis, ear infections and meningitis. Viruses can infect healthy cells and cause, for example, colds, flu, mumps, German measles and chicken po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8"/>
          <p:cNvSpPr/>
          <p:nvPr/>
        </p:nvSpPr>
        <p:spPr>
          <a:xfrm>
            <a:off x="471636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human immune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housand million white blood cells of various types are made each day in a human body. They form part of the body’s immune system. This uses a complex network of proteins, cells, tissues and organs to protect the body against attack from pathog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fected with germs, your body's defence is often inflammation. Blood flow to the affected area increases, making it red, swollen and tender. Blood vessels become 'leaky', allowing defender cells to reach the infected area. Some produce chemicals that kill bacteria or virus-infected cells. Others clear up the debris or feed on and digest bacter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TextBox 9"/>
          <p:cNvSpPr/>
          <p:nvPr/>
        </p:nvSpPr>
        <p:spPr>
          <a:xfrm>
            <a:off x="2556000" y="319104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eptococcus</a:t>
            </a:r>
            <a:r>
              <a:rPr b="0" lang="en-GB" sz="1200" spc="-1" strike="noStrike">
                <a:solidFill>
                  <a:srgbClr val="000000"/>
                </a:solidFill>
                <a:latin typeface="Arial"/>
              </a:rPr>
              <a:t> bacteria can cause skin, throat and inner ear infections.</a:t>
            </a:r>
            <a:endParaRPr b="0" lang="en-US" sz="1200" spc="-1" strike="noStrike">
              <a:solidFill>
                <a:srgbClr val="000000"/>
              </a:solidFill>
              <a:latin typeface="Arial"/>
            </a:endParaRPr>
          </a:p>
        </p:txBody>
      </p:sp>
      <p:sp>
        <p:nvSpPr>
          <p:cNvPr id="99" name="TextBox 12"/>
          <p:cNvSpPr/>
          <p:nvPr/>
        </p:nvSpPr>
        <p:spPr>
          <a:xfrm>
            <a:off x="7020000" y="2606760"/>
            <a:ext cx="165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 is caused by a virus called the varicella-zoster virus (VZV). A rash, which starts as small itchy red spots, can sometimes cover the whole body.</a:t>
            </a:r>
            <a:endParaRPr b="0" lang="en-US" sz="1200" spc="-1" strike="noStrike">
              <a:solidFill>
                <a:srgbClr val="000000"/>
              </a:solidFill>
              <a:latin typeface="Arial"/>
            </a:endParaRPr>
          </a:p>
        </p:txBody>
      </p:sp>
      <p:pic>
        <p:nvPicPr>
          <p:cNvPr id="100" name="Picture 11" descr="C:\Documents and Settings\k.gadd\Local Settings\Temp\Temporary Directory 1 for Ken' Photos 2.zip\Ken' Photos 2\streptacocus_sstock_13863628.jpg"/>
          <p:cNvPicPr/>
          <p:nvPr/>
        </p:nvPicPr>
        <p:blipFill>
          <a:blip r:embed="rId2"/>
          <a:stretch/>
        </p:blipFill>
        <p:spPr>
          <a:xfrm>
            <a:off x="638280" y="3011400"/>
            <a:ext cx="1903320" cy="1427400"/>
          </a:xfrm>
          <a:prstGeom prst="rect">
            <a:avLst/>
          </a:prstGeom>
          <a:ln w="0">
            <a:noFill/>
          </a:ln>
        </p:spPr>
      </p:pic>
      <p:pic>
        <p:nvPicPr>
          <p:cNvPr id="101" name="Picture 13" descr="C:\Documents and Settings\k.gadd\Local Settings\Temp\Temporary Directory 2 for Ken' Photos 2.zip\Ken' Photos 2\chickenpox_sstock_1157706.jpg"/>
          <p:cNvPicPr/>
          <p:nvPr/>
        </p:nvPicPr>
        <p:blipFill>
          <a:blip r:embed="rId3"/>
          <a:stretch/>
        </p:blipFill>
        <p:spPr>
          <a:xfrm>
            <a:off x="4791240" y="2565360"/>
            <a:ext cx="2255760" cy="16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Helping the body’s natural defences</a:t>
            </a:r>
            <a:endParaRPr b="0" lang="en-US" sz="2400" spc="-1" strike="noStrike">
              <a:solidFill>
                <a:srgbClr val="003f7b"/>
              </a:solidFill>
              <a:latin typeface="Arial"/>
            </a:endParaRPr>
          </a:p>
        </p:txBody>
      </p:sp>
      <p:pic>
        <p:nvPicPr>
          <p:cNvPr id="103" name="Picture 9" descr="Corporate_brand_logo_CMYK.jpg"/>
          <p:cNvPicPr/>
          <p:nvPr/>
        </p:nvPicPr>
        <p:blipFill>
          <a:blip r:embed="rId1"/>
          <a:stretch/>
        </p:blipFill>
        <p:spPr>
          <a:xfrm>
            <a:off x="7812000" y="6227640"/>
            <a:ext cx="1008000" cy="441360"/>
          </a:xfrm>
          <a:prstGeom prst="rect">
            <a:avLst/>
          </a:prstGeom>
          <a:ln w="0">
            <a:noFill/>
          </a:ln>
        </p:spPr>
      </p:pic>
      <p:sp>
        <p:nvSpPr>
          <p:cNvPr id="104"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ntibo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white blood cells make proteins called antibodies. These target and destroy specific pathog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kes time, but once the body has learned how to make an antibody, it can be rapidly produced in the future. The body has become immune to that disease and won’t get ill. Vaccines make you immune to a disease before you catch 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extBox 9"/>
          <p:cNvSpPr/>
          <p:nvPr/>
        </p:nvSpPr>
        <p:spPr>
          <a:xfrm>
            <a:off x="2627280" y="3141720"/>
            <a:ext cx="1944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s are usually administered by injection (sometimes called a ‘jab’). This is vaccination. Sometimes more than one vaccine is administered. The MMR jab, for example, protects against measles, mumps and rubel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UK, a programme of vaccinations is offered free of charge on the NHS to all babies and children.</a:t>
            </a:r>
            <a:endParaRPr b="0" lang="en-US" sz="1200" spc="-1" strike="noStrike">
              <a:solidFill>
                <a:srgbClr val="000000"/>
              </a:solidFill>
              <a:latin typeface="Arial"/>
            </a:endParaRPr>
          </a:p>
        </p:txBody>
      </p:sp>
      <p:sp>
        <p:nvSpPr>
          <p:cNvPr id="106" name="Rectangle 8"/>
          <p:cNvSpPr/>
          <p:nvPr/>
        </p:nvSpPr>
        <p:spPr>
          <a:xfrm>
            <a:off x="4802040" y="1052640"/>
            <a:ext cx="380232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nging body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times the body’s natural defences need help. When the immune system is unable to fight the pathogens effectively, medicinal drugs can often provide this hel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interfere with undesirable chemical reactions happening in the body, often inside cells, on the surface of cells and in body flu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ins, including enzymes, are often involved in this body chemistry and are targets for medicinal dru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rfering in places where the body’s natural chemical reactions are not happening properly, medicinal drugs help put the body chemistry right when it goes wro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7" name="Picture 12" descr="C:\Documents and Settings\k.gadd\Local Settings\Temp\Temporary Directory 4 for Ken' Photos 2.zip\Ken' Photos 2\injection_sstock_49907068.jpg"/>
          <p:cNvPicPr/>
          <p:nvPr/>
        </p:nvPicPr>
        <p:blipFill>
          <a:blip r:embed="rId2"/>
          <a:stretch/>
        </p:blipFill>
        <p:spPr>
          <a:xfrm>
            <a:off x="611280" y="3284640"/>
            <a:ext cx="2016000" cy="2738160"/>
          </a:xfrm>
          <a:prstGeom prst="rect">
            <a:avLst/>
          </a:prstGeom>
          <a:ln w="0">
            <a:noFill/>
          </a:ln>
        </p:spPr>
      </p:pic>
      <p:pic>
        <p:nvPicPr>
          <p:cNvPr id="108" name="Picture 14" descr="C:\Documents and Settings\k.gadd\Local Settings\Temp\Temporary Directory 7 for Ken' Photos 2.zip\Ken' Photos 2\pepsinogen_sstock_71338528.jpg"/>
          <p:cNvPicPr/>
          <p:nvPr/>
        </p:nvPicPr>
        <p:blipFill>
          <a:blip r:embed="rId3"/>
          <a:stretch/>
        </p:blipFill>
        <p:spPr>
          <a:xfrm>
            <a:off x="4932360" y="3573360"/>
            <a:ext cx="2952720" cy="163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ly, the discovery and development of a new dr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s 10 yea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00 new chemical compounds are m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s at least £500,0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Medicinal chemistry</a:t>
            </a:r>
            <a:endParaRPr b="0" lang="en-US" sz="2400" spc="-1" strike="noStrike">
              <a:solidFill>
                <a:srgbClr val="003f7b"/>
              </a:solidFill>
              <a:latin typeface="Arial"/>
            </a:endParaRPr>
          </a:p>
        </p:txBody>
      </p:sp>
      <p:pic>
        <p:nvPicPr>
          <p:cNvPr id="111" name="Picture 9" descr="Corporate_brand_logo_CMYK.jpg"/>
          <p:cNvPicPr/>
          <p:nvPr/>
        </p:nvPicPr>
        <p:blipFill>
          <a:blip r:embed="rId1"/>
          <a:stretch/>
        </p:blipFill>
        <p:spPr>
          <a:xfrm>
            <a:off x="7812000" y="6227640"/>
            <a:ext cx="1008000" cy="441360"/>
          </a:xfrm>
          <a:prstGeom prst="rect">
            <a:avLst/>
          </a:prstGeom>
          <a:ln w="0">
            <a:noFill/>
          </a:ln>
        </p:spPr>
      </p:pic>
      <p:sp>
        <p:nvSpPr>
          <p:cNvPr id="11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dicinal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arly days the main objective of medicinal chemists was to isolate compounds with therapeutic properties from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adays, obtaining potential drugs from plants is still of interest, but medicinal chemistry it concerned primarily with the synthesis of medicinal dru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cinal chemistry is almost always aimed at </a:t>
            </a:r>
            <a:r>
              <a:rPr b="1" lang="en-GB" sz="1200" spc="-1" strike="noStrike">
                <a:solidFill>
                  <a:srgbClr val="003f7b"/>
                </a:solidFill>
                <a:latin typeface="Arial"/>
              </a:rPr>
              <a:t>drug discovery and developmen</a:t>
            </a:r>
            <a:r>
              <a:rPr b="0" lang="en-GB" sz="1200" spc="-1" strike="noStrike">
                <a:solidFill>
                  <a:srgbClr val="000000"/>
                </a:solidFill>
                <a:latin typeface="Arial"/>
              </a:rPr>
              <a:t>t, drawing upon skills, knowledge and understanding of various areas of science, 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nthetic organic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ational chemistr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logy (in particular, pharmacokine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ects of the biolog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3" name="ShockwaveFlash1"/>
          <p:cNvGraphicFramePr/>
          <p:nvPr/>
        </p:nvGraphicFramePr>
        <p:xfrm>
          <a:off x="4932360" y="1413000"/>
          <a:ext cx="3311640" cy="2592360"/>
        </p:xfrm>
        <a:graphic>
          <a:graphicData uri="http://schemas.openxmlformats.org/presentationml/2006/ole">
            <p:oleObj r:id="rId2" spid="">
              <p:embed/>
              <p:pic>
                <p:nvPicPr>
                  <p:cNvPr id="114" name="ShockwaveFlash1" descr=""/>
                  <p:cNvPicPr/>
                  <p:nvPr/>
                </p:nvPicPr>
                <p:blipFill>
                  <a:blip r:embed="rId3"/>
                  <a:stretch/>
                </p:blipFill>
                <p:spPr>
                  <a:xfrm>
                    <a:off x="4932360" y="1413000"/>
                    <a:ext cx="3311640" cy="2592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11-01T09:19:45Z</dcterms:modified>
  <cp:revision>63</cp:revision>
  <dc:subject/>
  <dc:title>RSC PPT Template</dc:title>
</cp:coreProperties>
</file>