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05759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9300-22AE-4F45-8E9F-F544EE6EB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348E-DEB6-4833-8A7A-363FA34D86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568D-3AA5-478B-B812-3E06A36834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up of coffee with bean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Petr Kratochvil [Public domain], via Wikimedia Comm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t baal.jp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Einar Helland Berger (Own work) [CC BY-SA 2.5 (http://creativecommons.org/licenses/by-sa/2.5)], via Wikimedia Comm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D6FE-AAB1-42AC-B35F-57C2DE0BBC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t baal.jp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Einar Helland Berger (Own work) [CC BY-SA 2.5 (http://creativecommons.org/licenses/by-sa/2.5)], via Wikimedia Comm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FBB3-D437-4433-84E1-A8AA001D67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795B-63C5-40F5-AF8C-3CD7B4D4C6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0575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5057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Slide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3" descr="H:\Design\Powerpoint DO NOT MOVE\New templates 2014\16 9\Graphics\power point_4 3_PURPLE_96dpi.png"/>
          <p:cNvPicPr/>
          <p:nvPr/>
        </p:nvPicPr>
        <p:blipFill>
          <a:blip r:embed="rId2"/>
          <a:stretch/>
        </p:blipFill>
        <p:spPr>
          <a:xfrm>
            <a:off x="-19080" y="-44280"/>
            <a:ext cx="9271080" cy="52243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0575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5057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H:\Design\Powerpoint DO NOT MOVE\New templates 2014\16 9\Graphics\power point_4 3_PURPLE_96dpi2.png"/>
          <p:cNvPicPr/>
          <p:nvPr/>
        </p:nvPicPr>
        <p:blipFill>
          <a:blip r:embed="rId2"/>
          <a:stretch/>
        </p:blipFill>
        <p:spPr>
          <a:xfrm>
            <a:off x="0" y="11160"/>
            <a:ext cx="9144000" cy="51530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0575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5057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H:\Design\Powerpoint DO NOT MOVE\New templates 2014\16 9\Graphics\power point_4 3_PURPLE_96dpi3.png"/>
          <p:cNvPicPr/>
          <p:nvPr/>
        </p:nvPicPr>
        <p:blipFill>
          <a:blip r:embed="rId2"/>
          <a:stretch/>
        </p:blipFill>
        <p:spPr>
          <a:xfrm>
            <a:off x="0" y="-9360"/>
            <a:ext cx="9144000" cy="51530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0575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5057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Slide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" descr="H:\Design\Powerpoint DO NOT MOVE\New templates 2014\16 9\Graphics\power point_4 3_PURPLE_96dpi3.png"/>
          <p:cNvPicPr/>
          <p:nvPr/>
        </p:nvPicPr>
        <p:blipFill>
          <a:blip r:embed="rId2"/>
          <a:srcRect l="0" t="0" r="86108" b="73091"/>
          <a:stretch/>
        </p:blipFill>
        <p:spPr>
          <a:xfrm>
            <a:off x="0" y="-9360"/>
            <a:ext cx="1270080" cy="13874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0575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5057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ftr" idx="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Slide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3" descr="H:\Design\Powerpoint DO NOT MOVE\New templates 2014\16 9\Graphics\power point_4 3_PURPLE_96dpi3.png"/>
          <p:cNvPicPr/>
          <p:nvPr/>
        </p:nvPicPr>
        <p:blipFill>
          <a:blip r:embed="rId2"/>
          <a:stretch/>
        </p:blipFill>
        <p:spPr>
          <a:xfrm>
            <a:off x="0" y="-9360"/>
            <a:ext cx="9144000" cy="51530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0575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5057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ftr" idx="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Slide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3" descr="H:\Design\Powerpoint DO NOT MOVE\New templates 2014\16 9\Graphics\power point_4 3_PURPLE_96dpi3.png"/>
          <p:cNvPicPr/>
          <p:nvPr/>
        </p:nvPicPr>
        <p:blipFill>
          <a:blip r:embed="rId2"/>
          <a:srcRect l="0" t="0" r="86108" b="73091"/>
          <a:stretch/>
        </p:blipFill>
        <p:spPr>
          <a:xfrm>
            <a:off x="0" y="-9360"/>
            <a:ext cx="1270080" cy="138744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0575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5057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Slide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42720" y="358560"/>
            <a:ext cx="6911640" cy="27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05759"/>
                </a:solidFill>
                <a:latin typeface="Museo Slab 700"/>
                <a:ea typeface="Museo Slab 700"/>
              </a:rPr>
              <a:t>Chilling effects</a:t>
            </a:r>
            <a:br>
              <a:rPr sz="4800"/>
            </a:br>
            <a:r>
              <a:rPr b="0" lang="en-GB" sz="3600" spc="-1" strike="noStrike">
                <a:solidFill>
                  <a:srgbClr val="505759"/>
                </a:solidFill>
                <a:latin typeface="Museo Sans 500"/>
                <a:ea typeface="Museo Sans 500"/>
              </a:rPr>
              <a:t>the endothermic reaction between ammonium thiocyanate and barium hydroxide</a:t>
            </a:r>
            <a:endParaRPr b="0" lang="en-US" sz="36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85" name="TextBox 2"/>
          <p:cNvSpPr/>
          <p:nvPr/>
        </p:nvSpPr>
        <p:spPr>
          <a:xfrm>
            <a:off x="5148360" y="4168800"/>
            <a:ext cx="26636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05759"/>
                </a:solidFill>
                <a:latin typeface="Calibri"/>
              </a:rPr>
              <a:t>Nov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05759"/>
                </a:solidFill>
                <a:latin typeface="Calibri"/>
              </a:rPr>
              <a:t>rsc.li/EiC616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Picture 2" descr="W:\EiC\PRODUCTION\EiC Web and CMYK Masthead\EiCMasthead_300x300.png"/>
          <p:cNvPicPr/>
          <p:nvPr/>
        </p:nvPicPr>
        <p:blipFill>
          <a:blip r:embed="rId1"/>
          <a:stretch/>
        </p:blipFill>
        <p:spPr>
          <a:xfrm>
            <a:off x="6149880" y="2638440"/>
            <a:ext cx="1590840" cy="158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203280" y="1487520"/>
            <a:ext cx="274932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05759"/>
                </a:solidFill>
                <a:latin typeface="Museo Slab 700"/>
                <a:ea typeface="Museo Slab 700"/>
              </a:rPr>
              <a:t>energy</a:t>
            </a:r>
            <a:endParaRPr b="0" lang="en-US" sz="54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88" name="Title 2"/>
          <p:cNvSpPr/>
          <p:nvPr/>
        </p:nvSpPr>
        <p:spPr>
          <a:xfrm>
            <a:off x="3262320" y="1990800"/>
            <a:ext cx="2604960" cy="11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05759"/>
                </a:solidFill>
                <a:latin typeface="Museo Slab 700"/>
                <a:ea typeface="Museo Slab 700"/>
              </a:rPr>
              <a:t>spread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itle 2"/>
          <p:cNvSpPr/>
          <p:nvPr/>
        </p:nvSpPr>
        <p:spPr>
          <a:xfrm>
            <a:off x="3111480" y="2857680"/>
            <a:ext cx="290844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505759"/>
                </a:solidFill>
                <a:latin typeface="Museo Slab 700"/>
                <a:ea typeface="Museo Slab 700"/>
              </a:rPr>
              <a:t>out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Down Arrow 3"/>
          <p:cNvSpPr/>
          <p:nvPr/>
        </p:nvSpPr>
        <p:spPr>
          <a:xfrm rot="16200000">
            <a:off x="6444360" y="2283480"/>
            <a:ext cx="936720" cy="1224000"/>
          </a:xfrm>
          <a:prstGeom prst="downArrow">
            <a:avLst>
              <a:gd name="adj1" fmla="val 50000"/>
              <a:gd name="adj2" fmla="val 49962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Down Arrow 21"/>
          <p:cNvSpPr/>
          <p:nvPr/>
        </p:nvSpPr>
        <p:spPr>
          <a:xfrm rot="12306000">
            <a:off x="5400000" y="356760"/>
            <a:ext cx="934920" cy="1224000"/>
          </a:xfrm>
          <a:prstGeom prst="downArrow">
            <a:avLst>
              <a:gd name="adj1" fmla="val 50000"/>
              <a:gd name="adj2" fmla="val 50059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Down Arrow 22"/>
          <p:cNvSpPr/>
          <p:nvPr/>
        </p:nvSpPr>
        <p:spPr>
          <a:xfrm rot="10800000">
            <a:off x="4214880" y="558360"/>
            <a:ext cx="714240" cy="933480"/>
          </a:xfrm>
          <a:prstGeom prst="downArrow">
            <a:avLst>
              <a:gd name="adj1" fmla="val 50000"/>
              <a:gd name="adj2" fmla="val 49973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Down Arrow 23"/>
          <p:cNvSpPr/>
          <p:nvPr/>
        </p:nvSpPr>
        <p:spPr>
          <a:xfrm rot="14775000">
            <a:off x="6522840" y="1254960"/>
            <a:ext cx="712800" cy="93204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Down Arrow 24"/>
          <p:cNvSpPr/>
          <p:nvPr/>
        </p:nvSpPr>
        <p:spPr>
          <a:xfrm flipH="1" rot="5400000">
            <a:off x="1978920" y="2269440"/>
            <a:ext cx="936720" cy="1224000"/>
          </a:xfrm>
          <a:prstGeom prst="downArrow">
            <a:avLst>
              <a:gd name="adj1" fmla="val 50000"/>
              <a:gd name="adj2" fmla="val 49962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Down Arrow 25"/>
          <p:cNvSpPr/>
          <p:nvPr/>
        </p:nvSpPr>
        <p:spPr>
          <a:xfrm flipH="1" rot="9294000">
            <a:off x="2726640" y="340920"/>
            <a:ext cx="934920" cy="1225440"/>
          </a:xfrm>
          <a:prstGeom prst="downArrow">
            <a:avLst>
              <a:gd name="adj1" fmla="val 50000"/>
              <a:gd name="adj2" fmla="val 50118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Down Arrow 26"/>
          <p:cNvSpPr/>
          <p:nvPr/>
        </p:nvSpPr>
        <p:spPr>
          <a:xfrm flipH="1" rot="6825000">
            <a:off x="2058480" y="1241280"/>
            <a:ext cx="712800" cy="93168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ounded Rectangle 27"/>
          <p:cNvSpPr/>
          <p:nvPr/>
        </p:nvSpPr>
        <p:spPr>
          <a:xfrm>
            <a:off x="1763640" y="4132440"/>
            <a:ext cx="5656320" cy="671400"/>
          </a:xfrm>
          <a:prstGeom prst="roundRect">
            <a:avLst>
              <a:gd name="adj" fmla="val 16667"/>
            </a:avLst>
          </a:prstGeom>
          <a:solidFill>
            <a:srgbClr val="00b0f0">
              <a:alpha val="10000"/>
            </a:srgbClr>
          </a:solidFill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b0f0"/>
                </a:solidFill>
                <a:latin typeface="Museo Sans 500"/>
                <a:ea typeface="Museo Sans 500"/>
              </a:rPr>
              <a:t>the 2</a:t>
            </a:r>
            <a:r>
              <a:rPr b="0" i="1" lang="en-US" sz="2800" spc="-1" strike="noStrike" baseline="30000">
                <a:solidFill>
                  <a:srgbClr val="00b0f0"/>
                </a:solidFill>
                <a:latin typeface="Museo Sans 500"/>
                <a:ea typeface="Museo Sans 500"/>
              </a:rPr>
              <a:t>nd</a:t>
            </a:r>
            <a:r>
              <a:rPr b="0" i="1" lang="en-US" sz="2800" spc="-1" strike="noStrike">
                <a:solidFill>
                  <a:srgbClr val="00b0f0"/>
                </a:solidFill>
                <a:latin typeface="Museo Sans 500"/>
                <a:ea typeface="Museo Sans 500"/>
              </a:rPr>
              <a:t> law of thermodynam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2" descr="ile:Et baal.jpg"/>
          <p:cNvPicPr/>
          <p:nvPr/>
        </p:nvPicPr>
        <p:blipFill>
          <a:blip r:embed="rId1"/>
          <a:stretch/>
        </p:blipFill>
        <p:spPr>
          <a:xfrm>
            <a:off x="5508720" y="1155600"/>
            <a:ext cx="2122560" cy="2832120"/>
          </a:xfrm>
          <a:prstGeom prst="rect">
            <a:avLst/>
          </a:prstGeom>
          <a:ln w="57240">
            <a:solidFill>
              <a:srgbClr val="00b0f0"/>
            </a:solidFill>
            <a:miter/>
          </a:ln>
        </p:spPr>
      </p:pic>
      <p:pic>
        <p:nvPicPr>
          <p:cNvPr id="299" name="Picture 4" descr="ttps://upload.wikimedia.org/wikipedia/commons/9/9c/Cup_of_coffee_with_beans.jpg"/>
          <p:cNvPicPr/>
          <p:nvPr/>
        </p:nvPicPr>
        <p:blipFill>
          <a:blip r:embed="rId2"/>
          <a:stretch/>
        </p:blipFill>
        <p:spPr>
          <a:xfrm>
            <a:off x="387360" y="1174680"/>
            <a:ext cx="4219560" cy="281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ile:Et baal.jpg"/>
          <p:cNvPicPr/>
          <p:nvPr/>
        </p:nvPicPr>
        <p:blipFill>
          <a:blip r:embed="rId1"/>
          <a:stretch/>
        </p:blipFill>
        <p:spPr>
          <a:xfrm>
            <a:off x="5508720" y="1589040"/>
            <a:ext cx="2122560" cy="2832120"/>
          </a:xfrm>
          <a:prstGeom prst="rect">
            <a:avLst/>
          </a:prstGeom>
          <a:ln w="57240">
            <a:solidFill>
              <a:srgbClr val="00b0f0"/>
            </a:solidFill>
            <a:miter/>
          </a:ln>
        </p:spPr>
      </p:pic>
      <p:sp>
        <p:nvSpPr>
          <p:cNvPr id="301" name="Rounded Rectangle 6"/>
          <p:cNvSpPr/>
          <p:nvPr/>
        </p:nvSpPr>
        <p:spPr>
          <a:xfrm>
            <a:off x="1922400" y="281160"/>
            <a:ext cx="5299200" cy="1029960"/>
          </a:xfrm>
          <a:prstGeom prst="roundRect">
            <a:avLst>
              <a:gd name="adj" fmla="val 16667"/>
            </a:avLst>
          </a:prstGeom>
          <a:solidFill>
            <a:srgbClr val="fec5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Museo Slab 700"/>
                <a:ea typeface="Museo Slab 700"/>
              </a:rPr>
              <a:t>exo</a:t>
            </a:r>
            <a:r>
              <a:rPr b="0" lang="en-US" sz="2800" spc="-1" strike="noStrike">
                <a:solidFill>
                  <a:srgbClr val="ff0000"/>
                </a:solidFill>
                <a:latin typeface="Museo Slab 700"/>
                <a:ea typeface="Museo Slab 700"/>
              </a:rPr>
              <a:t>therm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Museo Sans 500"/>
                <a:ea typeface="Museo Sans 500"/>
              </a:rPr>
              <a:t>a process that releases he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2" name="Group 4"/>
          <p:cNvGrpSpPr/>
          <p:nvPr/>
        </p:nvGrpSpPr>
        <p:grpSpPr>
          <a:xfrm>
            <a:off x="1618920" y="1707480"/>
            <a:ext cx="3097440" cy="2169720"/>
            <a:chOff x="1618920" y="1707480"/>
            <a:chExt cx="3097440" cy="2169720"/>
          </a:xfrm>
        </p:grpSpPr>
        <p:sp>
          <p:nvSpPr>
            <p:cNvPr id="303" name="Arc 5"/>
            <p:cNvSpPr/>
            <p:nvPr/>
          </p:nvSpPr>
          <p:spPr>
            <a:xfrm>
              <a:off x="2704320" y="1852200"/>
              <a:ext cx="987480" cy="1728000"/>
            </a:xfrm>
            <a:custGeom>
              <a:avLst/>
              <a:gdLst/>
              <a:ahLst/>
              <a:rect l="l" t="t" r="r" b="b"/>
              <a:pathLst>
                <a:path stroke="0" w="987210" h="1728192">
                  <a:moveTo>
                    <a:pt x="210" y="889269"/>
                  </a:moveTo>
                  <a:cubicBezTo>
                    <a:pt x="-3729" y="652675"/>
                    <a:pt x="47945" y="423609"/>
                    <a:pt x="143164" y="255565"/>
                  </a:cubicBezTo>
                  <a:cubicBezTo>
                    <a:pt x="344567" y="-99873"/>
                    <a:pt x="675825" y="-82240"/>
                    <a:pt x="864520" y="293964"/>
                  </a:cubicBezTo>
                  <a:cubicBezTo>
                    <a:pt x="950381" y="465147"/>
                    <a:pt x="994153" y="688759"/>
                    <a:pt x="986314" y="916151"/>
                  </a:cubicBezTo>
                  <a:lnTo>
                    <a:pt x="493605" y="864096"/>
                  </a:lnTo>
                  <a:lnTo>
                    <a:pt x="210" y="889269"/>
                  </a:lnTo>
                  <a:close/>
                </a:path>
                <a:path fill="none" w="987210" h="1728192">
                  <a:moveTo>
                    <a:pt x="210" y="889269"/>
                  </a:moveTo>
                  <a:cubicBezTo>
                    <a:pt x="-3729" y="652675"/>
                    <a:pt x="47945" y="423609"/>
                    <a:pt x="143164" y="255565"/>
                  </a:cubicBezTo>
                  <a:cubicBezTo>
                    <a:pt x="344567" y="-99873"/>
                    <a:pt x="675825" y="-82240"/>
                    <a:pt x="864520" y="293964"/>
                  </a:cubicBezTo>
                  <a:cubicBezTo>
                    <a:pt x="950381" y="465147"/>
                    <a:pt x="994153" y="688759"/>
                    <a:pt x="986314" y="916151"/>
                  </a:cubicBezTo>
                </a:path>
              </a:pathLst>
            </a:custGeom>
            <a:noFill/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Straight Connector 7"/>
            <p:cNvSpPr/>
            <p:nvPr/>
          </p:nvSpPr>
          <p:spPr>
            <a:xfrm>
              <a:off x="1854000" y="2757600"/>
              <a:ext cx="850320" cy="36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Straight Connector 8"/>
            <p:cNvSpPr/>
            <p:nvPr/>
          </p:nvSpPr>
          <p:spPr>
            <a:xfrm>
              <a:off x="3691800" y="3462480"/>
              <a:ext cx="1024560" cy="8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Straight Connector 9"/>
            <p:cNvSpPr/>
            <p:nvPr/>
          </p:nvSpPr>
          <p:spPr>
            <a:xfrm>
              <a:off x="3691800" y="2765520"/>
              <a:ext cx="0" cy="69696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7" name="Group 10"/>
            <p:cNvGrpSpPr/>
            <p:nvPr/>
          </p:nvGrpSpPr>
          <p:grpSpPr>
            <a:xfrm>
              <a:off x="1618920" y="1707480"/>
              <a:ext cx="3097440" cy="2169720"/>
              <a:chOff x="1618920" y="1707480"/>
              <a:chExt cx="3097440" cy="2169720"/>
            </a:xfrm>
          </p:grpSpPr>
          <p:cxnSp>
            <p:nvCxnSpPr>
              <p:cNvPr id="308" name="Straight Arrow Connector 11"/>
              <p:cNvCxnSpPr/>
              <p:nvPr/>
            </p:nvCxnSpPr>
            <p:spPr>
              <a:xfrm flipV="1">
                <a:off x="1618920" y="1707480"/>
                <a:ext cx="1080" cy="2086920"/>
              </a:xfrm>
              <a:prstGeom prst="straightConnector1">
                <a:avLst/>
              </a:prstGeom>
              <a:ln cap="rnd" w="507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9" name="Straight Arrow Connector 12"/>
              <p:cNvCxnSpPr/>
              <p:nvPr/>
            </p:nvCxnSpPr>
            <p:spPr>
              <a:xfrm>
                <a:off x="1618920" y="3838680"/>
                <a:ext cx="3097800" cy="38880"/>
              </a:xfrm>
              <a:prstGeom prst="straightConnector1">
                <a:avLst/>
              </a:prstGeom>
              <a:ln cap="rnd" w="507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cxnSp>
        <p:nvCxnSpPr>
          <p:cNvPr id="310" name="Straight Arrow Connector 13"/>
          <p:cNvCxnSpPr/>
          <p:nvPr/>
        </p:nvCxnSpPr>
        <p:spPr>
          <a:xfrm>
            <a:off x="3238200" y="2787480"/>
            <a:ext cx="1080" cy="697680"/>
          </a:xfrm>
          <a:prstGeom prst="straightConnector1">
            <a:avLst/>
          </a:prstGeom>
          <a:ln cap="rnd" w="63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1" name="Rectangle 14"/>
          <p:cNvSpPr/>
          <p:nvPr/>
        </p:nvSpPr>
        <p:spPr>
          <a:xfrm>
            <a:off x="1740600" y="2427120"/>
            <a:ext cx="9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useo Sans 500"/>
                <a:ea typeface="Museo Sans 500"/>
              </a:rPr>
              <a:t>reacta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15"/>
          <p:cNvSpPr/>
          <p:nvPr/>
        </p:nvSpPr>
        <p:spPr>
          <a:xfrm>
            <a:off x="3789000" y="307656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useo Sans 500"/>
                <a:ea typeface="Museo Sans 500"/>
              </a:rPr>
              <a:t>produc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traight Connector 16"/>
          <p:cNvSpPr/>
          <p:nvPr/>
        </p:nvSpPr>
        <p:spPr>
          <a:xfrm>
            <a:off x="2787480" y="2765520"/>
            <a:ext cx="955800" cy="11160"/>
          </a:xfrm>
          <a:prstGeom prst="line">
            <a:avLst/>
          </a:prstGeom>
          <a:ln cap="rnd" w="41400">
            <a:solidFill>
              <a:srgbClr val="7f7f7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traight Connector 17"/>
          <p:cNvSpPr/>
          <p:nvPr/>
        </p:nvSpPr>
        <p:spPr>
          <a:xfrm>
            <a:off x="2771640" y="3459240"/>
            <a:ext cx="957240" cy="12600"/>
          </a:xfrm>
          <a:prstGeom prst="line">
            <a:avLst/>
          </a:prstGeom>
          <a:ln cap="rnd" w="41400">
            <a:solidFill>
              <a:srgbClr val="7f7f7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18"/>
          <p:cNvSpPr/>
          <p:nvPr/>
        </p:nvSpPr>
        <p:spPr>
          <a:xfrm>
            <a:off x="2783880" y="2930400"/>
            <a:ext cx="45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0000"/>
                </a:solidFill>
                <a:latin typeface="Museo Sans 500"/>
                <a:ea typeface="Museo Sans 500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6" name="Group 19"/>
          <p:cNvGrpSpPr/>
          <p:nvPr/>
        </p:nvGrpSpPr>
        <p:grpSpPr>
          <a:xfrm>
            <a:off x="3110040" y="1834200"/>
            <a:ext cx="1087560" cy="1506960"/>
            <a:chOff x="3110040" y="1834200"/>
            <a:chExt cx="1087560" cy="1506960"/>
          </a:xfrm>
        </p:grpSpPr>
        <p:pic>
          <p:nvPicPr>
            <p:cNvPr id="317" name="Picture 20" descr=""/>
            <p:cNvPicPr/>
            <p:nvPr/>
          </p:nvPicPr>
          <p:blipFill>
            <a:blip r:embed="rId2"/>
            <a:stretch/>
          </p:blipFill>
          <p:spPr>
            <a:xfrm rot="1188600">
              <a:off x="3321000" y="1906560"/>
              <a:ext cx="665280" cy="136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Picture 21" descr=""/>
            <p:cNvPicPr/>
            <p:nvPr/>
          </p:nvPicPr>
          <p:blipFill>
            <a:blip r:embed="rId3"/>
            <a:srcRect l="37450" t="84661" r="45479" b="2730"/>
            <a:stretch/>
          </p:blipFill>
          <p:spPr>
            <a:xfrm>
              <a:off x="3340800" y="2834640"/>
              <a:ext cx="340200" cy="20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9" name="TextBox 22"/>
          <p:cNvSpPr/>
          <p:nvPr/>
        </p:nvSpPr>
        <p:spPr>
          <a:xfrm rot="16200000">
            <a:off x="1033920" y="2666520"/>
            <a:ext cx="76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useo Sans 500"/>
                <a:ea typeface="Museo Sans 500"/>
              </a:rPr>
              <a:t>energ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Straight Arrow Connector 25" descr=""/>
          <p:cNvPicPr/>
          <p:nvPr/>
        </p:nvPicPr>
        <p:blipFill>
          <a:blip r:embed="rId4"/>
          <a:stretch/>
        </p:blipFill>
        <p:spPr>
          <a:xfrm>
            <a:off x="2951280" y="1719360"/>
            <a:ext cx="577800" cy="2060640"/>
          </a:xfrm>
          <a:prstGeom prst="rect">
            <a:avLst/>
          </a:prstGeom>
          <a:ln w="0">
            <a:noFill/>
          </a:ln>
        </p:spPr>
      </p:pic>
      <p:pic>
        <p:nvPicPr>
          <p:cNvPr id="321" name="Straight Arrow Connector 26" descr=""/>
          <p:cNvPicPr/>
          <p:nvPr/>
        </p:nvPicPr>
        <p:blipFill>
          <a:blip r:embed="rId5"/>
          <a:stretch/>
        </p:blipFill>
        <p:spPr>
          <a:xfrm>
            <a:off x="2932200" y="1547640"/>
            <a:ext cx="573120" cy="132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3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3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3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6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3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9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3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2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3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3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3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80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10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600"/>
                            </p:stCondLst>
                            <p:childTnLst>
                              <p:par>
                                <p:cTn id="105" nodeType="afterEffect" fill="hold" presetClass="emph" presetID="32" repeatCount="3000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06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8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9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evt="end">
                                        <p:tn val="111"/>
                                      </p:cond>
                                    </p:stCondLst>
                                  </p:cTn>
                                  <p:tgtEl>
                                    <p:spTgt spid="3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8" dur="1" fill="hold">
                                    <p:stCondLst>
                                      <p:cond evt="end">
                                        <p:tn val="115"/>
                                      </p:cond>
                                    </p:stCondLst>
                                  </p:cTn>
                                  <p:tgtEl>
                                    <p:spTgt spid="3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ounded Rectangle 43"/>
          <p:cNvSpPr/>
          <p:nvPr/>
        </p:nvSpPr>
        <p:spPr>
          <a:xfrm>
            <a:off x="4897440" y="123840"/>
            <a:ext cx="3917880" cy="4035240"/>
          </a:xfrm>
          <a:custGeom>
            <a:avLst/>
            <a:gdLst>
              <a:gd name="textAreaLeft" fmla="*/ 42480 w 3917880"/>
              <a:gd name="textAreaRight" fmla="*/ 3875400 w 3917880"/>
              <a:gd name="textAreaTop" fmla="*/ 42480 h 4035240"/>
              <a:gd name="textAreaBottom" fmla="*/ 3992760 h 4035240"/>
            </a:gdLst>
            <a:ahLst/>
            <a:rect l="textAreaLeft" t="textAreaTop" r="textAreaRight" b="textAreaBottom"/>
            <a:pathLst>
              <a:path w="21600" h="22247">
                <a:moveTo>
                  <a:pt x="802" y="0"/>
                </a:moveTo>
                <a:arcTo wR="802" hR="802" stAng="16200000" swAng="-5400000"/>
                <a:lnTo>
                  <a:pt x="0" y="21445"/>
                </a:lnTo>
                <a:arcTo wR="802" hR="802" stAng="10800000" swAng="-5400000"/>
                <a:lnTo>
                  <a:pt x="20798" y="22247"/>
                </a:lnTo>
                <a:arcTo wR="802" hR="802" stAng="5400000" swAng="-5400000"/>
                <a:lnTo>
                  <a:pt x="21600" y="802"/>
                </a:lnTo>
                <a:arcTo wR="802" hR="802" stAng="0" swAng="-5400000"/>
                <a:close/>
              </a:path>
            </a:pathLst>
          </a:custGeom>
          <a:solidFill>
            <a:srgbClr val="92d05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ounded Rectangle 42"/>
          <p:cNvSpPr/>
          <p:nvPr/>
        </p:nvSpPr>
        <p:spPr>
          <a:xfrm>
            <a:off x="290520" y="2139840"/>
            <a:ext cx="3917880" cy="2019240"/>
          </a:xfrm>
          <a:prstGeom prst="roundRect">
            <a:avLst>
              <a:gd name="adj" fmla="val 8662"/>
            </a:avLst>
          </a:prstGeom>
          <a:solidFill>
            <a:srgbClr val="92d05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55800" y="771120"/>
            <a:ext cx="34257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05759"/>
                </a:solidFill>
                <a:latin typeface="Museo Slab 700"/>
                <a:ea typeface="Museo Slab 700"/>
              </a:rPr>
              <a:t>energy </a:t>
            </a:r>
            <a:r>
              <a:rPr b="0" lang="en-US" sz="2500" spc="-1" strike="noStrike">
                <a:solidFill>
                  <a:srgbClr val="9bbb59"/>
                </a:solidFill>
                <a:latin typeface="Museo Slab 700"/>
                <a:ea typeface="Museo Slab 700"/>
              </a:rPr>
              <a:t>spreads</a:t>
            </a:r>
            <a:r>
              <a:rPr b="0" lang="en-US" sz="2500" spc="-1" strike="noStrike">
                <a:solidFill>
                  <a:srgbClr val="505759"/>
                </a:solidFill>
                <a:latin typeface="Museo Slab 700"/>
                <a:ea typeface="Museo Slab 700"/>
              </a:rPr>
              <a:t> out: </a:t>
            </a:r>
            <a:br>
              <a:rPr sz="2500"/>
            </a:br>
            <a:r>
              <a:rPr b="0" lang="en-US" sz="2500" spc="-1" strike="noStrike">
                <a:solidFill>
                  <a:srgbClr val="4bacc6"/>
                </a:solidFill>
                <a:latin typeface="Museo Slab 700"/>
                <a:ea typeface="Museo Slab 700"/>
              </a:rPr>
              <a:t>entropy increases</a:t>
            </a:r>
            <a:endParaRPr b="0" lang="en-US" sz="25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25" name="Oval 1"/>
          <p:cNvSpPr/>
          <p:nvPr/>
        </p:nvSpPr>
        <p:spPr>
          <a:xfrm>
            <a:off x="5796000" y="3478320"/>
            <a:ext cx="539640" cy="539640"/>
          </a:xfrm>
          <a:prstGeom prst="ellipse">
            <a:avLst/>
          </a:prstGeom>
          <a:noFill/>
          <a:ln w="507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030a0"/>
                </a:solidFill>
                <a:latin typeface="Museo 300"/>
                <a:ea typeface="Museo 300"/>
              </a:rPr>
              <a:t>Ba</a:t>
            </a:r>
            <a:r>
              <a:rPr b="0" lang="en-US" sz="1200" spc="-1" strike="noStrike" baseline="30000">
                <a:solidFill>
                  <a:srgbClr val="7030a0"/>
                </a:solidFill>
                <a:latin typeface="Museo 300"/>
                <a:ea typeface="Museo 300"/>
              </a:rPr>
              <a:t>2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Oval 7"/>
          <p:cNvSpPr/>
          <p:nvPr/>
        </p:nvSpPr>
        <p:spPr>
          <a:xfrm>
            <a:off x="7416720" y="2900520"/>
            <a:ext cx="540000" cy="539640"/>
          </a:xfrm>
          <a:prstGeom prst="ellipse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Museo 300"/>
                <a:ea typeface="Museo 300"/>
              </a:rPr>
              <a:t>H</a:t>
            </a:r>
            <a:r>
              <a:rPr b="0" lang="en-US" sz="1200" spc="-1" strike="noStrike" baseline="-25000">
                <a:solidFill>
                  <a:srgbClr val="0070c0"/>
                </a:solidFill>
                <a:latin typeface="Museo 300"/>
                <a:ea typeface="Museo 300"/>
              </a:rPr>
              <a:t>2</a:t>
            </a:r>
            <a:r>
              <a:rPr b="0" lang="en-US" sz="1200" spc="-1" strike="noStrike">
                <a:solidFill>
                  <a:srgbClr val="0070c0"/>
                </a:solidFill>
                <a:latin typeface="Museo 300"/>
                <a:ea typeface="Museo 300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Oval 8"/>
          <p:cNvSpPr/>
          <p:nvPr/>
        </p:nvSpPr>
        <p:spPr>
          <a:xfrm>
            <a:off x="828720" y="3041640"/>
            <a:ext cx="539640" cy="539640"/>
          </a:xfrm>
          <a:prstGeom prst="ellipse">
            <a:avLst/>
          </a:prstGeom>
          <a:noFill/>
          <a:ln w="507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030a0"/>
                </a:solidFill>
                <a:latin typeface="Museo 300"/>
                <a:ea typeface="Museo 300"/>
              </a:rPr>
              <a:t>Ba</a:t>
            </a:r>
            <a:r>
              <a:rPr b="0" lang="en-US" sz="1200" spc="-1" strike="noStrike" baseline="30000">
                <a:solidFill>
                  <a:srgbClr val="7030a0"/>
                </a:solidFill>
                <a:latin typeface="Museo 300"/>
                <a:ea typeface="Museo 300"/>
              </a:rPr>
              <a:t>2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Oval 9"/>
          <p:cNvSpPr/>
          <p:nvPr/>
        </p:nvSpPr>
        <p:spPr>
          <a:xfrm>
            <a:off x="1241280" y="3462480"/>
            <a:ext cx="540000" cy="541080"/>
          </a:xfrm>
          <a:prstGeom prst="ellipse">
            <a:avLst/>
          </a:pr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f0"/>
                </a:solidFill>
                <a:latin typeface="Museo 300"/>
                <a:ea typeface="Museo 300"/>
              </a:rPr>
              <a:t>OH</a:t>
            </a:r>
            <a:r>
              <a:rPr b="0" lang="en-US" sz="1200" spc="-1" strike="noStrike" baseline="30000">
                <a:solidFill>
                  <a:srgbClr val="00b0f0"/>
                </a:solidFill>
                <a:latin typeface="Museo 300"/>
                <a:ea typeface="Museo 300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Oval 12"/>
          <p:cNvSpPr/>
          <p:nvPr/>
        </p:nvSpPr>
        <p:spPr>
          <a:xfrm>
            <a:off x="422280" y="2612880"/>
            <a:ext cx="539640" cy="540000"/>
          </a:xfrm>
          <a:prstGeom prst="ellipse">
            <a:avLst/>
          </a:pr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f0"/>
                </a:solidFill>
                <a:latin typeface="Museo 300"/>
                <a:ea typeface="Museo 300"/>
              </a:rPr>
              <a:t>OH</a:t>
            </a:r>
            <a:r>
              <a:rPr b="0" lang="en-US" sz="1200" spc="-1" strike="noStrike" baseline="30000">
                <a:solidFill>
                  <a:srgbClr val="00b0f0"/>
                </a:solidFill>
                <a:latin typeface="Museo 300"/>
                <a:ea typeface="Museo 300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Oval 13"/>
          <p:cNvSpPr/>
          <p:nvPr/>
        </p:nvSpPr>
        <p:spPr>
          <a:xfrm>
            <a:off x="417600" y="3462480"/>
            <a:ext cx="539640" cy="541080"/>
          </a:xfrm>
          <a:prstGeom prst="ellipse">
            <a:avLst/>
          </a:pr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f0"/>
                </a:solidFill>
                <a:latin typeface="Museo 300"/>
                <a:ea typeface="Museo 300"/>
              </a:rPr>
              <a:t>OH</a:t>
            </a:r>
            <a:r>
              <a:rPr b="0" lang="en-US" sz="1200" spc="-1" strike="noStrike" baseline="30000">
                <a:solidFill>
                  <a:srgbClr val="00b0f0"/>
                </a:solidFill>
                <a:latin typeface="Museo 300"/>
                <a:ea typeface="Museo 300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Oval 20"/>
          <p:cNvSpPr/>
          <p:nvPr/>
        </p:nvSpPr>
        <p:spPr>
          <a:xfrm>
            <a:off x="5829480" y="903240"/>
            <a:ext cx="539640" cy="541440"/>
          </a:xfrm>
          <a:prstGeom prst="ellipse">
            <a:avLst/>
          </a:prstGeom>
          <a:noFill/>
          <a:ln w="507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9646"/>
                </a:solidFill>
                <a:latin typeface="Museo 300"/>
                <a:ea typeface="Museo 300"/>
              </a:rPr>
              <a:t>NH</a:t>
            </a:r>
            <a:r>
              <a:rPr b="0" lang="en-US" sz="1200" spc="-1" strike="noStrike" baseline="-25000">
                <a:solidFill>
                  <a:srgbClr val="f79646"/>
                </a:solidFill>
                <a:latin typeface="Museo 300"/>
                <a:ea typeface="Museo 300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Oval 21"/>
          <p:cNvSpPr/>
          <p:nvPr/>
        </p:nvSpPr>
        <p:spPr>
          <a:xfrm>
            <a:off x="5003640" y="3476520"/>
            <a:ext cx="540000" cy="540000"/>
          </a:xfrm>
          <a:prstGeom prst="ellipse">
            <a:avLst/>
          </a:pr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Museo 300"/>
                <a:ea typeface="Museo 300"/>
              </a:rPr>
              <a:t>SCN</a:t>
            </a:r>
            <a:r>
              <a:rPr b="0" lang="en-US" sz="1200" spc="-1" strike="noStrike" baseline="30000">
                <a:solidFill>
                  <a:srgbClr val="00b050"/>
                </a:solidFill>
                <a:latin typeface="Museo 300"/>
                <a:ea typeface="Museo 300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Oval 22"/>
          <p:cNvSpPr/>
          <p:nvPr/>
        </p:nvSpPr>
        <p:spPr>
          <a:xfrm>
            <a:off x="2952720" y="3462480"/>
            <a:ext cx="539640" cy="54108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Museo 300"/>
                <a:ea typeface="Museo 300"/>
              </a:rPr>
              <a:t>NH</a:t>
            </a:r>
            <a:r>
              <a:rPr b="0" lang="en-US" sz="1200" spc="-1" strike="noStrike" baseline="-25000">
                <a:solidFill>
                  <a:srgbClr val="ff0000"/>
                </a:solidFill>
                <a:latin typeface="Museo 300"/>
                <a:ea typeface="Museo 300"/>
              </a:rPr>
              <a:t>4</a:t>
            </a:r>
            <a:r>
              <a:rPr b="0" lang="en-US" sz="1200" spc="-1" strike="noStrike" baseline="30000">
                <a:solidFill>
                  <a:srgbClr val="ff0000"/>
                </a:solidFill>
                <a:latin typeface="Museo 300"/>
                <a:ea typeface="Museo 300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Oval 23"/>
          <p:cNvSpPr/>
          <p:nvPr/>
        </p:nvSpPr>
        <p:spPr>
          <a:xfrm>
            <a:off x="2403360" y="3462480"/>
            <a:ext cx="540000" cy="541080"/>
          </a:xfrm>
          <a:prstGeom prst="ellipse">
            <a:avLst/>
          </a:pr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Museo 300"/>
                <a:ea typeface="Museo 300"/>
              </a:rPr>
              <a:t>SCN</a:t>
            </a:r>
            <a:r>
              <a:rPr b="0" lang="en-US" sz="1200" spc="-1" strike="noStrike" baseline="30000">
                <a:solidFill>
                  <a:srgbClr val="00b050"/>
                </a:solidFill>
                <a:latin typeface="Museo 300"/>
                <a:ea typeface="Museo 300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Oval 24"/>
          <p:cNvSpPr/>
          <p:nvPr/>
        </p:nvSpPr>
        <p:spPr>
          <a:xfrm>
            <a:off x="1655640" y="3051000"/>
            <a:ext cx="540000" cy="540000"/>
          </a:xfrm>
          <a:prstGeom prst="ellipse">
            <a:avLst/>
          </a:prstGeom>
          <a:noFill/>
          <a:ln w="507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030a0"/>
                </a:solidFill>
                <a:latin typeface="Museo 300"/>
                <a:ea typeface="Museo 300"/>
              </a:rPr>
              <a:t>Ba</a:t>
            </a:r>
            <a:r>
              <a:rPr b="0" lang="en-US" sz="1200" spc="-1" strike="noStrike" baseline="30000">
                <a:solidFill>
                  <a:srgbClr val="7030a0"/>
                </a:solidFill>
                <a:latin typeface="Museo 300"/>
                <a:ea typeface="Museo 300"/>
              </a:rPr>
              <a:t>2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Oval 25"/>
          <p:cNvSpPr/>
          <p:nvPr/>
        </p:nvSpPr>
        <p:spPr>
          <a:xfrm>
            <a:off x="2971800" y="2881440"/>
            <a:ext cx="539640" cy="539640"/>
          </a:xfrm>
          <a:prstGeom prst="ellipse">
            <a:avLst/>
          </a:pr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Museo 300"/>
                <a:ea typeface="Museo 300"/>
              </a:rPr>
              <a:t>SCN</a:t>
            </a:r>
            <a:r>
              <a:rPr b="0" lang="en-US" sz="1200" spc="-1" strike="noStrike" baseline="30000">
                <a:solidFill>
                  <a:srgbClr val="00b050"/>
                </a:solidFill>
                <a:latin typeface="Museo 300"/>
                <a:ea typeface="Museo 300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Oval 26"/>
          <p:cNvSpPr/>
          <p:nvPr/>
        </p:nvSpPr>
        <p:spPr>
          <a:xfrm>
            <a:off x="6416640" y="3448080"/>
            <a:ext cx="539640" cy="539640"/>
          </a:xfrm>
          <a:prstGeom prst="ellipse">
            <a:avLst/>
          </a:pr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Museo 300"/>
                <a:ea typeface="Museo 300"/>
              </a:rPr>
              <a:t>SCN</a:t>
            </a:r>
            <a:r>
              <a:rPr b="0" lang="en-US" sz="1200" spc="-1" strike="noStrike" baseline="30000">
                <a:solidFill>
                  <a:srgbClr val="00b050"/>
                </a:solidFill>
                <a:latin typeface="Museo 300"/>
                <a:ea typeface="Museo 300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Oval 27"/>
          <p:cNvSpPr/>
          <p:nvPr/>
        </p:nvSpPr>
        <p:spPr>
          <a:xfrm>
            <a:off x="2411280" y="2884320"/>
            <a:ext cx="541440" cy="5400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Museo 300"/>
                <a:ea typeface="Museo 300"/>
              </a:rPr>
              <a:t>NH</a:t>
            </a:r>
            <a:r>
              <a:rPr b="0" lang="en-US" sz="1200" spc="-1" strike="noStrike" baseline="-25000">
                <a:solidFill>
                  <a:srgbClr val="ff0000"/>
                </a:solidFill>
                <a:latin typeface="Museo 300"/>
                <a:ea typeface="Museo 300"/>
              </a:rPr>
              <a:t>4</a:t>
            </a:r>
            <a:r>
              <a:rPr b="0" lang="en-US" sz="1200" spc="-1" strike="noStrike" baseline="30000">
                <a:solidFill>
                  <a:srgbClr val="ff0000"/>
                </a:solidFill>
                <a:latin typeface="Museo 300"/>
                <a:ea typeface="Museo 300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Oval 28"/>
          <p:cNvSpPr/>
          <p:nvPr/>
        </p:nvSpPr>
        <p:spPr>
          <a:xfrm>
            <a:off x="7066080" y="3433680"/>
            <a:ext cx="539640" cy="541440"/>
          </a:xfrm>
          <a:prstGeom prst="ellipse">
            <a:avLst/>
          </a:prstGeom>
          <a:noFill/>
          <a:ln w="507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030a0"/>
                </a:solidFill>
                <a:latin typeface="Museo 300"/>
                <a:ea typeface="Museo 300"/>
              </a:rPr>
              <a:t>Ba</a:t>
            </a:r>
            <a:r>
              <a:rPr b="0" lang="en-US" sz="1200" spc="-1" strike="noStrike" baseline="30000">
                <a:solidFill>
                  <a:srgbClr val="7030a0"/>
                </a:solidFill>
                <a:latin typeface="Museo 300"/>
                <a:ea typeface="Museo 300"/>
              </a:rPr>
              <a:t>2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Oval 29"/>
          <p:cNvSpPr/>
          <p:nvPr/>
        </p:nvSpPr>
        <p:spPr>
          <a:xfrm>
            <a:off x="8172360" y="3008160"/>
            <a:ext cx="540000" cy="540000"/>
          </a:xfrm>
          <a:prstGeom prst="ellipse">
            <a:avLst/>
          </a:pr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Museo 300"/>
                <a:ea typeface="Museo 300"/>
              </a:rPr>
              <a:t>SCN</a:t>
            </a:r>
            <a:r>
              <a:rPr b="0" lang="en-US" sz="1200" spc="-1" strike="noStrike" baseline="30000">
                <a:solidFill>
                  <a:srgbClr val="00b050"/>
                </a:solidFill>
                <a:latin typeface="Museo 300"/>
                <a:ea typeface="Museo 300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Oval 30"/>
          <p:cNvSpPr/>
          <p:nvPr/>
        </p:nvSpPr>
        <p:spPr>
          <a:xfrm>
            <a:off x="6748560" y="2921040"/>
            <a:ext cx="539640" cy="539640"/>
          </a:xfrm>
          <a:prstGeom prst="ellipse">
            <a:avLst/>
          </a:pr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Museo 300"/>
                <a:ea typeface="Museo 300"/>
              </a:rPr>
              <a:t>SCN</a:t>
            </a:r>
            <a:r>
              <a:rPr b="0" lang="en-US" sz="1200" spc="-1" strike="noStrike" baseline="30000">
                <a:solidFill>
                  <a:srgbClr val="00b050"/>
                </a:solidFill>
                <a:latin typeface="Museo 300"/>
                <a:ea typeface="Museo 300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Oval 31"/>
          <p:cNvSpPr/>
          <p:nvPr/>
        </p:nvSpPr>
        <p:spPr>
          <a:xfrm>
            <a:off x="3549600" y="2303640"/>
            <a:ext cx="541440" cy="539640"/>
          </a:xfrm>
          <a:prstGeom prst="ellipse">
            <a:avLst/>
          </a:pr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Museo 300"/>
                <a:ea typeface="Museo 300"/>
              </a:rPr>
              <a:t>SCN</a:t>
            </a:r>
            <a:r>
              <a:rPr b="0" lang="en-US" sz="1200" spc="-1" strike="noStrike" baseline="30000">
                <a:solidFill>
                  <a:srgbClr val="00b050"/>
                </a:solidFill>
                <a:latin typeface="Museo 300"/>
                <a:ea typeface="Museo 300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Oval 32"/>
          <p:cNvSpPr/>
          <p:nvPr/>
        </p:nvSpPr>
        <p:spPr>
          <a:xfrm>
            <a:off x="2990880" y="2305080"/>
            <a:ext cx="539640" cy="5414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Museo 300"/>
                <a:ea typeface="Museo 300"/>
              </a:rPr>
              <a:t>NH</a:t>
            </a:r>
            <a:r>
              <a:rPr b="0" lang="en-US" sz="1200" spc="-1" strike="noStrike" baseline="-25000">
                <a:solidFill>
                  <a:srgbClr val="ff0000"/>
                </a:solidFill>
                <a:latin typeface="Museo 300"/>
                <a:ea typeface="Museo 300"/>
              </a:rPr>
              <a:t>4</a:t>
            </a:r>
            <a:r>
              <a:rPr b="0" lang="en-US" sz="1200" spc="-1" strike="noStrike" baseline="30000">
                <a:solidFill>
                  <a:srgbClr val="ff0000"/>
                </a:solidFill>
                <a:latin typeface="Museo 300"/>
                <a:ea typeface="Museo 300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Oval 33"/>
          <p:cNvSpPr/>
          <p:nvPr/>
        </p:nvSpPr>
        <p:spPr>
          <a:xfrm>
            <a:off x="3551400" y="2881440"/>
            <a:ext cx="539640" cy="5396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Museo 300"/>
                <a:ea typeface="Museo 300"/>
              </a:rPr>
              <a:t>NH</a:t>
            </a:r>
            <a:r>
              <a:rPr b="0" lang="en-US" sz="1200" spc="-1" strike="noStrike" baseline="-25000">
                <a:solidFill>
                  <a:srgbClr val="ff0000"/>
                </a:solidFill>
                <a:latin typeface="Museo 300"/>
                <a:ea typeface="Museo 300"/>
              </a:rPr>
              <a:t>4</a:t>
            </a:r>
            <a:r>
              <a:rPr b="0" lang="en-US" sz="1200" spc="-1" strike="noStrike" baseline="30000">
                <a:solidFill>
                  <a:srgbClr val="ff0000"/>
                </a:solidFill>
                <a:latin typeface="Museo 300"/>
                <a:ea typeface="Museo 300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Oval 34"/>
          <p:cNvSpPr/>
          <p:nvPr/>
        </p:nvSpPr>
        <p:spPr>
          <a:xfrm>
            <a:off x="3541680" y="3471840"/>
            <a:ext cx="539640" cy="541440"/>
          </a:xfrm>
          <a:prstGeom prst="ellipse">
            <a:avLst/>
          </a:pr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Museo 300"/>
                <a:ea typeface="Museo 300"/>
              </a:rPr>
              <a:t>SCN</a:t>
            </a:r>
            <a:r>
              <a:rPr b="0" lang="en-US" sz="1200" spc="-1" strike="noStrike" baseline="30000">
                <a:solidFill>
                  <a:srgbClr val="00b050"/>
                </a:solidFill>
                <a:latin typeface="Museo 300"/>
                <a:ea typeface="Museo 300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Oval 35"/>
          <p:cNvSpPr/>
          <p:nvPr/>
        </p:nvSpPr>
        <p:spPr>
          <a:xfrm>
            <a:off x="5114880" y="434880"/>
            <a:ext cx="541440" cy="540000"/>
          </a:xfrm>
          <a:prstGeom prst="ellipse">
            <a:avLst/>
          </a:prstGeom>
          <a:noFill/>
          <a:ln w="507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9646"/>
                </a:solidFill>
                <a:latin typeface="Museo 300"/>
                <a:ea typeface="Museo 300"/>
              </a:rPr>
              <a:t>NH</a:t>
            </a:r>
            <a:r>
              <a:rPr b="0" lang="en-US" sz="1200" spc="-1" strike="noStrike" baseline="-25000">
                <a:solidFill>
                  <a:srgbClr val="f79646"/>
                </a:solidFill>
                <a:latin typeface="Museo 300"/>
                <a:ea typeface="Museo 300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Oval 36"/>
          <p:cNvSpPr/>
          <p:nvPr/>
        </p:nvSpPr>
        <p:spPr>
          <a:xfrm>
            <a:off x="6856560" y="488880"/>
            <a:ext cx="539640" cy="540000"/>
          </a:xfrm>
          <a:prstGeom prst="ellipse">
            <a:avLst/>
          </a:prstGeom>
          <a:noFill/>
          <a:ln w="507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9646"/>
                </a:solidFill>
                <a:latin typeface="Museo 300"/>
                <a:ea typeface="Museo 300"/>
              </a:rPr>
              <a:t>NH</a:t>
            </a:r>
            <a:r>
              <a:rPr b="0" lang="en-US" sz="1200" spc="-1" strike="noStrike" baseline="-25000">
                <a:solidFill>
                  <a:srgbClr val="f79646"/>
                </a:solidFill>
                <a:latin typeface="Museo 300"/>
                <a:ea typeface="Museo 300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Oval 37"/>
          <p:cNvSpPr/>
          <p:nvPr/>
        </p:nvSpPr>
        <p:spPr>
          <a:xfrm>
            <a:off x="8058240" y="260280"/>
            <a:ext cx="539640" cy="540000"/>
          </a:xfrm>
          <a:prstGeom prst="ellipse">
            <a:avLst/>
          </a:prstGeom>
          <a:noFill/>
          <a:ln w="507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9646"/>
                </a:solidFill>
                <a:latin typeface="Museo 300"/>
                <a:ea typeface="Museo 300"/>
              </a:rPr>
              <a:t>NH</a:t>
            </a:r>
            <a:r>
              <a:rPr b="0" lang="en-US" sz="1200" spc="-1" strike="noStrike" baseline="-25000">
                <a:solidFill>
                  <a:srgbClr val="f79646"/>
                </a:solidFill>
                <a:latin typeface="Museo 300"/>
                <a:ea typeface="Museo 300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Oval 38"/>
          <p:cNvSpPr/>
          <p:nvPr/>
        </p:nvSpPr>
        <p:spPr>
          <a:xfrm>
            <a:off x="1247760" y="2602080"/>
            <a:ext cx="541440" cy="539640"/>
          </a:xfrm>
          <a:prstGeom prst="ellipse">
            <a:avLst/>
          </a:pr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f0"/>
                </a:solidFill>
                <a:latin typeface="Museo 300"/>
                <a:ea typeface="Museo 300"/>
              </a:rPr>
              <a:t>OH</a:t>
            </a:r>
            <a:r>
              <a:rPr b="0" lang="en-US" sz="1200" spc="-1" strike="noStrike" baseline="30000">
                <a:solidFill>
                  <a:srgbClr val="00b0f0"/>
                </a:solidFill>
                <a:latin typeface="Museo 300"/>
                <a:ea typeface="Museo 300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Oval 39"/>
          <p:cNvSpPr/>
          <p:nvPr/>
        </p:nvSpPr>
        <p:spPr>
          <a:xfrm>
            <a:off x="5400720" y="3008160"/>
            <a:ext cx="539640" cy="540000"/>
          </a:xfrm>
          <a:prstGeom prst="ellipse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Museo 300"/>
                <a:ea typeface="Museo 300"/>
              </a:rPr>
              <a:t>H</a:t>
            </a:r>
            <a:r>
              <a:rPr b="0" lang="en-US" sz="1200" spc="-1" strike="noStrike" baseline="-25000">
                <a:solidFill>
                  <a:srgbClr val="0070c0"/>
                </a:solidFill>
                <a:latin typeface="Museo 300"/>
                <a:ea typeface="Museo 300"/>
              </a:rPr>
              <a:t>2</a:t>
            </a:r>
            <a:r>
              <a:rPr b="0" lang="en-US" sz="1200" spc="-1" strike="noStrike">
                <a:solidFill>
                  <a:srgbClr val="0070c0"/>
                </a:solidFill>
                <a:latin typeface="Museo 300"/>
                <a:ea typeface="Museo 300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Oval 40"/>
          <p:cNvSpPr/>
          <p:nvPr/>
        </p:nvSpPr>
        <p:spPr>
          <a:xfrm>
            <a:off x="6119640" y="2971800"/>
            <a:ext cx="540000" cy="539640"/>
          </a:xfrm>
          <a:prstGeom prst="ellipse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Museo 300"/>
                <a:ea typeface="Museo 300"/>
              </a:rPr>
              <a:t>H</a:t>
            </a:r>
            <a:r>
              <a:rPr b="0" lang="en-US" sz="1200" spc="-1" strike="noStrike" baseline="-25000">
                <a:solidFill>
                  <a:srgbClr val="0070c0"/>
                </a:solidFill>
                <a:latin typeface="Museo 300"/>
                <a:ea typeface="Museo 300"/>
              </a:rPr>
              <a:t>2</a:t>
            </a:r>
            <a:r>
              <a:rPr b="0" lang="en-US" sz="1200" spc="-1" strike="noStrike">
                <a:solidFill>
                  <a:srgbClr val="0070c0"/>
                </a:solidFill>
                <a:latin typeface="Museo 300"/>
                <a:ea typeface="Museo 300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Oval 41"/>
          <p:cNvSpPr/>
          <p:nvPr/>
        </p:nvSpPr>
        <p:spPr>
          <a:xfrm>
            <a:off x="7705800" y="3416400"/>
            <a:ext cx="539640" cy="541080"/>
          </a:xfrm>
          <a:prstGeom prst="ellipse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Museo 300"/>
                <a:ea typeface="Museo 300"/>
              </a:rPr>
              <a:t>H</a:t>
            </a:r>
            <a:r>
              <a:rPr b="0" lang="en-US" sz="1200" spc="-1" strike="noStrike" baseline="-25000">
                <a:solidFill>
                  <a:srgbClr val="0070c0"/>
                </a:solidFill>
                <a:latin typeface="Museo 300"/>
                <a:ea typeface="Museo 300"/>
              </a:rPr>
              <a:t>2</a:t>
            </a:r>
            <a:r>
              <a:rPr b="0" lang="en-US" sz="1200" spc="-1" strike="noStrike">
                <a:solidFill>
                  <a:srgbClr val="0070c0"/>
                </a:solidFill>
                <a:latin typeface="Museo 300"/>
                <a:ea typeface="Museo 300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itle 2"/>
          <p:cNvSpPr/>
          <p:nvPr/>
        </p:nvSpPr>
        <p:spPr>
          <a:xfrm>
            <a:off x="392040" y="4219560"/>
            <a:ext cx="37162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05759"/>
                </a:solidFill>
                <a:latin typeface="Museo Slab 700"/>
                <a:ea typeface="Museo Slab 700"/>
              </a:rPr>
              <a:t>more heat energy, but contained in </a:t>
            </a:r>
            <a:r>
              <a:rPr b="0" lang="en-US" sz="2100" spc="-1" strike="noStrike">
                <a:solidFill>
                  <a:srgbClr val="4bacc6"/>
                </a:solidFill>
                <a:latin typeface="Museo Slab 700"/>
                <a:ea typeface="Museo Slab 700"/>
              </a:rPr>
              <a:t>ordered </a:t>
            </a:r>
            <a:r>
              <a:rPr b="0" lang="en-US" sz="2100" spc="-1" strike="noStrike">
                <a:solidFill>
                  <a:srgbClr val="505759"/>
                </a:solidFill>
                <a:latin typeface="Museo Slab 700"/>
                <a:ea typeface="Museo Slab 700"/>
              </a:rPr>
              <a:t>soli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itle 2"/>
          <p:cNvSpPr/>
          <p:nvPr/>
        </p:nvSpPr>
        <p:spPr>
          <a:xfrm>
            <a:off x="4897440" y="4226040"/>
            <a:ext cx="39178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05759"/>
                </a:solidFill>
                <a:latin typeface="Museo Slab 700"/>
                <a:ea typeface="Museo Slab 700"/>
              </a:rPr>
              <a:t>less heat energy,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05759"/>
                </a:solidFill>
                <a:latin typeface="Museo Slab 700"/>
                <a:ea typeface="Museo Slab 700"/>
              </a:rPr>
              <a:t>but spread out more in liquid and gas:</a:t>
            </a:r>
            <a:r>
              <a:rPr b="0" lang="en-US" sz="1900" spc="-1" strike="noStrike">
                <a:solidFill>
                  <a:srgbClr val="4bacc6"/>
                </a:solidFill>
                <a:latin typeface="Museo Slab 700"/>
                <a:ea typeface="Museo Slab 700"/>
              </a:rPr>
              <a:t> </a:t>
            </a:r>
            <a:r>
              <a:rPr b="1" lang="en-US" sz="1900" spc="-1" strike="noStrike" u="sng">
                <a:solidFill>
                  <a:srgbClr val="4bacc6"/>
                </a:solidFill>
                <a:uFillTx/>
                <a:latin typeface="Museo Slab 700"/>
                <a:ea typeface="Museo Slab 700"/>
              </a:rPr>
              <a:t>dis</a:t>
            </a:r>
            <a:r>
              <a:rPr b="0" lang="en-US" sz="1900" spc="-1" strike="noStrike">
                <a:solidFill>
                  <a:srgbClr val="4bacc6"/>
                </a:solidFill>
                <a:latin typeface="Museo Slab 700"/>
                <a:ea typeface="Museo Slab 700"/>
              </a:rPr>
              <a:t>order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04 0.00185 0.00104 0.00309 0.00174 0.00432 C 0.00261 0.00556 0.00452 0.00772 0.00452 0.00772 C 0.00747 0.01574 0.00729 0.01358 -0.0066 0.00926 C -0.00712 0.00926 -0.00555 0.00772 -0.00521 0.00679 C -0.00312 0.00247 -0.00469 0.00401 -0.00243 0.00278 C -0.00191 0.00216 -0.00156 0.00124 -0.00104 0.00093 C 0.00139 -0.00092 0.00208 -0.00062 0.00452 -0.00154 C 0.00538 -0.00185 0.00608 -0.00216 0.00695 -0.00247 C 0.00625 -0.00278 0.00556 -0.00309 0.00504 -0.00309 C 0.00417 -0.00339 0.00347 -0.0037 0.00278 -0.00401 C 0.00191 -0.00432 0.00122 -0.00525 0.00035 -0.00555 C -0.00087 -0.00648 -0.00208 -0.00679 -0.0033 -0.00741 L -0.00521 -0.00802 C -0.00503 -0.00741 -0.00486 -0.00648 -0.00469 -0.00555 C -0.00417 -0.0037 -0.00121 -0.00154 0 0 Z">
                                      <p:cBhvr>
                                        <p:cTn id="124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C 0.00052 0.00185 0.00121 0.00093 0.00191 0.00154 C 0.00278 0.00247 0.00347 0.00432 0.00469 0.00494 L 0.00642 0.00586 C 0.00677 0.00648 0.00798 0.00802 0.00746 0.00833 C -0.000869999999999999 0.00895 0.00121 0.00772 -0.00278 0.00586 C -0.0033 0.00556 -0.00399 0.00525 -0.00469 0.00494 C -0.00556 0.00432 -0.00729 0.00309 -0.00729 0.00309 C -0.00695 0.00247 -0.0066 0.00123 -0.00608 0.00062 C -0.00209 -0.00278 -0.00261 -0.00093 0.00087 -0.00247 C 0.00191 -0.00309 0.00278 -0.0037 0.00364 -0.00432 C 0.00416 -0.00463 0.00469 -0.00494 0.00503 -0.00494 L 0.00694 -0.00586 C 0.00486 -0.00648 0.0026 -0.00617 0.00052 -0.00741 C -0.00052 -0.00802 -0.00139 -0.00864 -0.00226 -0.00926 C -0.00295 -0.00957 -0.00486 -0.00988 -0.00417 -0.00988 C -0.00313 -0.00988 -0.00226 -0.00957 -0.00139 -0.00926 C 0.00035 -0.00802 -0.00052 -0.00185 4.16667E-006 2.22222E-006 Z">
                                      <p:cBhvr>
                                        <p:cTn id="126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3.7037E-006 C 0.00017 0.00062 0.00051 0.00247 0.00086 0.00309 C 0.00157 0.00432 0.00417 0.00648 0.00504 0.00741 C 0.00539 0.00802 0.0066 0.00957 0.00608 0.00988 C 0.00243 0.01111 0.00174 0.00988 -0.00053 0.00741 C -0.0007 0.00648 -0.00139 0.00586 -0.00139 0.00494 C -0.00122 0.00401 -0.00035 0.0037 -5E-006 0.00309 C 0.00417 -0.00185 -4.9999999999998E-006 0.00247 0.0033 -3.7037E-006 C 0.00452 -0.00124 0.00556 -0.00278 0.00695 -0.0034 C 0.00764 -0.0037 0.00816 -0.0037 0.00886 -0.00432 C 0.00938 -0.00463 0.01007 -0.00556 0.01059 -0.00586 C 0.01164 -0.00617 0.01441 -0.00648 0.01337 -0.00648 C 0.01146 -0.00648 0.00938 -0.00617 0.00747 -0.00586 C 0.00573 -0.00525 0.00417 -0.00463 0.00226 -0.00432 C 0.00105 -0.0037 -0.00053 -0.0037 -0.00174 -0.0034 C -0.00122 -0.00278 -0.00053 -0.00216 -5E-006 -0.00185 C 0.00191 -0.00031 -0.00018 -0.00093 -5E-006 -3.7037E-006 Z">
                                      <p:cBhvr>
                                        <p:cTn id="128" dur="20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5.06173E-006 C -2.77778E-007 -0.00062 -0.00121 0.00092 -0.00174 0.00092 C -0.00243 0.00092 -0.00382 0.00123 -0.00365 -5.06173E-006 C -0.0033 -0.00186 -0.00156 -0.00186 -0.00087 -0.00339 C 0.00226 -0.00896 0.0007 -0.00741 0.0033 -0.00896 C 0.00278 -0.00927 0.00243 -0.00988 0.00191 -0.00988 C -0.00069 -0.01019 -0.0033 -0.01143 -0.0059 -0.01081 C -0.00694 -0.01019 -0.00399 -0.00927 -0.00312 -0.00834 C -0.0026 -0.00741 -0.00226 -0.00649 -0.00174 -0.00587 C -0.00139 -0.00525 -0.00087 -0.00525 -0.00035 -0.00495 C 0.00538 -0.00062 -0.00174 -0.00587 0.00278 -0.00155 C 0.0033 -0.00124 0.00382 -0.00093 0.00434 -0.00093 C 0.00104 -0.00032 -0.00555 -0.00339 -0.00226 0.00246 C -0.00191 0.00308 -0.00139 0.0037 -0.00087 0.00431 C -0.00035 -0.00371 0.00017 0.00061 -2.77778E-007 -5.06173E-006 Z">
                                      <p:cBhvr>
                                        <p:cTn id="130" dur="2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6.91358E-006 C 0.00087 0.00184 0.00799 0.00061 0.00296 0.00401 C 0.00243 0.00431 0.00174 0.00462 0.00122 0.00493 C -0.00138 0.00462 -0.00434 0.00647 -0.00642 0.00401 C -0.00746 0.00277 -0.00503 0.00061 -0.00416 -0.00124 C -0.00312 -0.00309 -0.00225 -0.00495 -0.00121 -0.00649 C -2.7777800000006E-007 -0.00803 0.00139 -0.00896 0.00243 -0.0105 C 0.00278 -0.01143 0.00313 -0.01204 0.00365 -0.01266 C 0.00417 -0.01328 0.00591 -0.01359 0.00539 -0.01359 C 0.00087 -0.01359 -0.00364 -0.01297 -0.00816 -0.01266 C -0.00746 -0.01235 -0.00399 -0.01174 -0.00295 -0.0105 C -0.00243 -0.01019 -0.00225 -0.00927 -0.00173 -0.00865 C -0.00017 -0.00618 -0.00069 -0.00217 -2.77778E-007 -6.91358E-006 Z">
                                      <p:cBhvr>
                                        <p:cTn id="132" dur="2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-6.41975E-006 C -0.00035 0.00154 0.00381 0.00308 -0.00174 0.00184 C -0.004 0.00154 -0.00608 0.00123 -0.00817 0.00092 C -0.00712 -0.00124 -0.00556 -0.00402 -0.00417 -0.00525 C -0.00348 -0.00587 0.00086 -0.00742 0.00121 -0.00742 C 0.00173 -0.00803 0.00329 -0.00865 0.00295 -0.00958 C 0.00243 -0.01112 0.00104 -0.0105 -6.66667E-006 -0.0105 C -0.00174 -0.0105 -0.00348 -0.00988 -0.00521 -0.00958 C -0.00452 -0.00927 -0.0007 -0.00896 0.00069 -0.00742 C 0.00104 -0.0068 0.00034 -0.00155 -6.66667E-006 -6.41975E-006 Z">
                                      <p:cBhvr>
                                        <p:cTn id="134" dur="2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-5.92593E-006 C 0.00017 0.00215 0.00121 0.00771 0.00121 0.01172 C 0.00121 0.01295 -6.94444E-006 0.00956 -6.94444E-006 0.00833 C -6.94444E-006 0.00709 0.00069 0.00616 0.00121 0.00524 C 0.00277 0.00246 0.00381 0.00277 0.0059 0.00215 C 0.00624 0.00154 0.00763 0.0003 0.00711 -5.92593E-006 C 0.00381 -0.00248 -0.00122 0.00092 0.00416 -0.00309 C 0.00468 -0.00371 0.00538 -0.00371 0.0059 -0.00433 C 0.00416 -0.00464 0.00225 -0.00587 0.00052 -0.00526 C -6.94444000000002E-006 -0.00495 0.00017 -0.00309 -6.94444E-006 -0.00217 C -0.00018 -0.00063 -0.00122 0.00123 -0.00053 0.00215 C -0.00018 0.00308 -6.94444000000002E-006 -0.00032 0.00052 -0.00092 C 0.00156 -0.00217 -0.00018 -0.00217 -6.94444E-006 -5.92593E-006 Z">
                                      <p:cBhvr>
                                        <p:cTn id="136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35802E-006 C -0.00052 0.00123 -0.00243 0.0003 -0.00191 0.00092 C -0.0007 0.00185 0.00069 0.00123 0.00208 0.00154 C 0.0026 0.00185 0.0033 0.00216 0.00399 0.00247 C 0.00469 0.00277 0.00555 0.00308 0.00642 0.00339 C 0.00746 0.0037 0.00833 0.00493 0.00937 0.00524 C 0.01614 0.00648 0.01458 0.00617 0.00451 0.00432 C 0.00347 0.0037 0.00191 0.00277 0.00104 0.00154 C 0.00052 0.00092 0.00035 1.35802000000005E-006 5.55556E-007 -0.00093 C 0.00069 -0.00216 0.00139 -0.0034 0.00208 -0.00433 C 0.00243 -0.00494 0.00347 -0.00525 0.00347 -0.00618 C 0.00347 -0.0071 0.00243 -0.00741 0.00208 -0.00772 C -0.00295 -0.00649 0.00069 -0.00155 5.55556E-007 1.35802E-006 Z">
                                      <p:cBhvr>
                                        <p:cTn id="138" dur="2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20988E-006 C 1.11111E-006 0.00124 0.00121 0.00062 0.00191 0.00093 C 0.00278 0.00124 0.00434 0.00031 0.00469 0.00186 C 0.00607 0.00587 0.00295 0.00772 0.00191 0.00865 C 0.00035 0.00834 -0.00174 0.00957 -0.00295 0.00772 C -0.00625 0.00247 -0.00122 0.00124 -0.00052 0.00093 C 0.00017 0.00031 0.00069 -0.00061 0.00139 -0.00092 C 0.00312 -0.00154 0.00486 -0.00154 0.00677 -0.00185 C 0.00816 -0.00185 0.00955 -0.00216 0.01111 -0.00247 C 0.00746 -0.00679 0.01076 -0.00339 0.00278 -0.00524 C 0.00243 -0.00524 0.00087 -0.00586 0.00139 -0.00586 C 0.00295 -0.00586 -0.00018 -0.00123 1.11111E-006 -3.20988E-006 Z">
                                      <p:cBhvr>
                                        <p:cTn id="140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58025E-006 C -0.00087 0.00154 -0.00139 0.00247 -0.00243 0.00278 C -0.00382 0.00309 -0.00746 0.00401 -0.00677 0.00185 C -0.00607 -0.00093 -0.00347 0.00123 -0.00191 0.00093 C -0.00139 0.00062 -0.00087 0.00031 -0.00052 3.58025E-006 C 0.0007 -0.00062 0.00191 -0.00093 0.00295 -0.00154 C 0.00347 -0.00216 0.004 -0.00278 0.00452 -0.0034 C 0.00365 -0.00432 0.00278 -0.00525 0.00191 -0.00617 C 0.00104 -0.00679 1.38888999999998E-006 -0.00679 -0.00087 -0.00772 C -0.00278 -0.01019 -0.00191 -0.00926 -0.00382 -0.01049 C -0.00312 -0.0108 -0.0026 -0.01111 -0.00191 -0.01111 C -0.00052 -0.01111 0.00052 -0.01019 0.00157 -0.00864 C 0.00209 -0.00772 0.00278 -0.0071 0.00295 -0.00617 C 0.00313 -0.00556 0.00087 -0.00154 1.38889E-006 3.58025E-006 Z">
                                      <p:cBhvr>
                                        <p:cTn id="142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93827E-007 C 0.00052 0.00093 0.00156 0.00155 0.00243 0.00186 C 0.00364 0.00247 0.00503 0.00247 0.00625 0.00278 C 0.00764 0.00309 0.00937 0.00432 0.01059 0.00525 C 0.01111 0.00587 0.01163 0.00648 0.01215 0.0071 C 0.01163 0.00741 0.01111 0.00803 0.01059 0.00803 C 0.00746 0.00803 0.00712 0.00741 0.00486 0.00618 C 0.00451 0.00525 0.00399 0.00463 0.00382 0.00371 C 0.00364 0.00124 0.00503 0.00031 0.00573 -0.00061 C 0.00607 -0.00154 0.00694 -0.00247 0.00677 -0.00339 C 0.00642 -0.00432 0.00555 -0.00401 0.00486 -0.00401 C 0.00295 -0.00401 0.00104 -0.0037 -0.00087 -0.00339 C 0.00017 -0.00031 -0.00052 -0.00061 3.88889E-006 -4.93827E-007 Z">
                                      <p:cBhvr>
                                        <p:cTn id="144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07407E-006 C -0.00018 0.0003 -0.00261 0.00092 -0.00209 0.00092 C 0.00104 0.00092 0.00416 0.00092 0.00729 4.07407E-006 C 0.00798 -0.00031 0.00555 -0.00062 0.00486 -0.00093 C 0.00416 -0.00093 0.00347 -0.00124 0.00278 -0.00155 C 0.00208 -0.00278 0.00121 -0.00402 0.00035 -0.00494 C -0.00018 -0.00587 -0.00104 -0.00587 -0.00156 -0.00679 C -0.00191 -0.00741 -0.00243 -0.00895 -0.00209 -0.00926 C -0.00139 -0.00988 -0.0007 -0.00834 3.33333E-006 -0.00772 C -0.00052 -0.00494 -0.0007 -0.00186 -0.00156 0.00092 C -0.00174 0.00154 -0.0033 0.00247 -0.00295 0.00185 C -0.00243 0.00092 -0.00174 0.00061 -0.00104 4.07407E-006 C 0.00035 -0.00093 0.00017 4.07407E-006 3.33333E-006 4.07407E-006 Z">
                                      <p:cBhvr>
                                        <p:cTn id="146" dur="2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5.06173E-006 C 0.00104 -5.06173E-006 -0.00278 0.00123 0.00052 -0.00063 C 0.00104 -0.00093 0.00139 -0.00124 0.00191 -0.00155 C 0.00399 -0.00339 0.00295 -0.00279 0.00503 -0.00371 C 0.00243 -0.00711 0.00417 -0.00556 0.00139 -0.0068 C 0.00052 -0.00742 -0.00122 -0.00834 -0.00122 -0.00834 C -0.00087 -0.00618 -0.0007 -0.00371 -0.00035 -0.00155 C -0.00017 -0.00063 1.66667E-006 -5.06173000000001E-006 1.66667E-006 0.00092 C 1.66667E-006 0.00215 -0.00017 0.00339 -0.00035 0.00493 C -0.00104 0.00462 -0.00191 0.00462 -0.00261 0.004 C -0.0033 0.00339 -0.00382 0.00246 -0.00434 0.00153 C -0.00486 0.00123 -0.00521 0.00061 -0.00573 -5.06173E-006 C -0.00868 -0.00773 -0.00087 0.0003 1.66667E-006 -5.06173E-006 Z">
                                      <p:cBhvr>
                                        <p:cTn id="148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93827E-007 C 0.00087 0.00031 0.0026 0.00092 0.00295 0.00154 C 0.0033 0.00185 0.00347 0.00247 0.00382 0.00278 C 0.00434 0.0037 0.00486 0.00432 0.00555 0.00525 C 0.00382 0.00586 0.00208 0.00679 0.00052 0.00525 C -0.00052 0.00401 -0.00104 0.00185 -0.00209 0.00062 L -0.0033 -0.00093 C -0.0033 -0.00154 -0.00382 -0.00216 -0.00365 -0.00309 C -0.00365 -0.00371 -0.00313 -0.00432 -0.00278 -0.00463 C -0.00226 -0.00494 -0.00139 -0.00494 -0.0007 -0.00525 C -0.00035 -0.00556 3.33332999999999E-006 -0.00587 0.00052 -0.00587 C 0.00121 -0.00617 0.00191 -0.00648 0.0026 -0.00679 C 0.00087 -0.0071 -0.0007 -0.0071 -0.00243 -0.00741 C -0.00313 -0.00772 -0.004 -0.00895 -0.00452 -0.00834 C -0.00486 -0.00741 -0.004 -0.00617 -0.00365 -0.00525 C -0.0033 -0.00031 -0.00417 0.00092 -0.00157 -0.00093 C -0.00139 -0.00093 -0.0007 -0.00031 3.33333E-006 -4.93827E-007 Z">
                                      <p:cBhvr>
                                        <p:cTn id="150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95062E-006 L -0.05521 0.15216 L 0.025 0.43302 L 0.36701 0.22006 L 0.24323 -0.09568 L -0.0092 0.01173 E">
                                      <p:cBhvr>
                                        <p:cTn id="153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85185E-006 L 0.10261 -0.1963 L 0.29219 0.04938 L 0.1592 0.29506 L -0.125 0.14043 L 1.11111E-006 -1.85185E-006 Z">
                                      <p:cBhvr>
                                        <p:cTn id="155" dur="2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59 0.00463 L -0.0948 -0.11204 L -0.23681 0.02592 L -0.04219 0.41419 L 0.18159 0.32747 L 4.44444E-006 3.7037E-006 E">
                                      <p:cBhvr>
                                        <p:cTn id="157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5.92593E-006 L -0.37639 0.21974 L -0.21719 0.46789 L 0.05399 0.28981 L 2.5E-006 -5.92593E-006 Z">
                                      <p:cBhvr>
                                        <p:cTn id="159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8.76543E-006 L 0.05382 0.14506 L 0.13802 -0.05402 L 0.22361 0.12376 L 0.3 -0.0818 L 0.3408 -0.00709 L 0.28681 0.1216 L 0.21302 -0.05402 L 0.1316 0.11697 L 0.0658 -0.04445 L -0.02118 0.12623 L -0.0776 0.01172 L -0.03298 -0.06544 L -2.77778E-006 -8.76543E-006 Z">
                                      <p:cBhvr>
                                        <p:cTn id="161" dur="8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2.09877E-006 L -0.0552 -0.04198 L -0.16041 0.01882 L -0.0578 0.15679 L 0.10522 -0.01883 L 0.258 0.07469 L 0.1606 0.16852 L 0.01442 0.0071 E">
                                      <p:cBhvr>
                                        <p:cTn id="163" dur="8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48148E-006 L 0.03022 0.17562 L 0.09602 -0.0537 L 0.14602 0.14506 L 0.1922 0.04691 L 0.154 -0.06296 L -0.0408 0.18488 L -0.1526 -0.03272 L -0.22622 0.0821 L -0.16979 0.19444 L -0.0408 -0.02809 L 5E-006 1.48148E-006 Z">
                                      <p:cBhvr>
                                        <p:cTn id="165" dur="8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7.40741E-007 L -0.09079 0.18457 L -0.19479 -0.0213 L -0.2934 0.09352 L -0.21059 0.18457 L -0.12639 0.01173 L -0.03958 0.1895 L 0.0448 -0.03272 L 0.1106 0.08889 L 0.06042 0.17778 L 6.38889E-006 -7.40741E-007 Z">
                                      <p:cBhvr>
                                        <p:cTn id="167" dur="8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61111E-006 -2.46914E-007 L -0.39062 0.01851 L 0.03959 0.1074 L -0.3776 0.13796 L 8.61111E-006 -2.46914E-007 Z">
                                      <p:cBhvr>
                                        <p:cTn id="169" dur="8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8.64198E-006 L 0.02899 -0.12408 L 0.12639 0.06296 L 0.2092 -0.1426 L 0.28819 0.05123 L 0.35399 -0.14507 L 0.38958 -0.03982 L 0.35399 0.06759 L 0.23559 -0.13797 L 0.15798 0.07715 L 0.04878 -0.15186 L -0.02882 -0.05155 L -1.94444E-006 -8.64198E-006 Z">
                                      <p:cBhvr>
                                        <p:cTn id="171" dur="8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23457E-007 L 0.26961 -0.11203 L -0.13021 -0.06296 L 0.28819 -0.00926 L -0.125 0.01667 L 2.5E-006 -1.23457E-007 Z">
                                      <p:cBhvr>
                                        <p:cTn id="173" dur="8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45679E-006 L 0.0434 0.04939 L 0.13559 -0.13333 L 0.23177 0.02346 L 0.20017 0.06111 L 0.0118 -0.15648 L -0.18681 -0.06296 L -0.0908 0.05155 L 3.33333E-006 -3.45679E-006 Z">
                                      <p:cBhvr>
                                        <p:cTn id="175" dur="8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9.62963E-006 L 0.03022 0.07037 L 0.09081 -0.03488 L 0.0316 -0.15649 L -0.11579 0.07253 L -0.2644 -0.10062 L -0.31961 -0.01636 L -0.25399 0.07746 L -0.13419 -0.12871 L -0.0368 0.04691 L 5.27778E-006 -9.62963E-006 Z">
                                      <p:cBhvr>
                                        <p:cTn id="177" dur="8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67362E-019 -2.22222E-006 L -0.18663 -0.12994 L -0.26841 -0.03642 L -0.13785 0.07685 L 0.06771 -0.12716 L 0.15364 -0.01111 L 0.08576 0.07994 L 8.67362E-019 -2.22222E-006 Z">
                                      <p:cBhvr>
                                        <p:cTn id="179" dur="80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1T16:14:23Z</dcterms:created>
  <dc:creator>Lynsey  Thorpe</dc:creator>
  <dc:description/>
  <dc:language>en-US</dc:language>
  <cp:lastModifiedBy>David Sait</cp:lastModifiedBy>
  <dcterms:modified xsi:type="dcterms:W3CDTF">2016-10-13T13:36:19Z</dcterms:modified>
  <cp:revision>112</cp:revision>
  <dc:subject/>
  <dc:title>PPT template 16 9_pur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C1788752EB44974D994EBA0BE182464D</vt:lpwstr>
  </property>
  <property fmtid="{D5CDD505-2E9C-101B-9397-08002B2CF9AE}" pid="3" name="Template">
    <vt:lpwstr>Powerpoint presentations</vt:lpwstr>
  </property>
</Properties>
</file>