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572-642B-45AC-8D46-7B8194F3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932-FACF-4240-BDC2-3EAD3BD8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421-4393-42C9-A782-E6380A42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9F-994D-4032-8551-E7677076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41A-967C-47A2-ACE1-09041484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489-5EF2-428F-B867-47356AE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679-EBDE-4FFD-8679-7DA0F14E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044-245E-45B1-86B8-D637511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32A-DC35-4865-8005-CB104D8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2FF-4258-423B-9F61-52CFE96C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3CB-EE68-4D5D-AFFF-FA3CBB4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E32-EA1E-424C-A006-A4C1F14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E45-2971-4C42-84B0-D61EA8BB45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824040" y="1650960"/>
            <a:ext cx="825804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your favourite molec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diagram, connect the sweets or fruits together using the cocktail sti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n RSC helper check your molecule is corr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ave a mobile phone, get someone to take a photo of you with your molecu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5200" y="90792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771560" y="1728720"/>
            <a:ext cx="63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bitol is found in apples and peach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weetener which can be used as a substitute for sug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084400" y="9828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1390680" y="2878200"/>
          <a:ext cx="482904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878200"/>
                    <a:ext cx="482904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tamin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600200" y="1771560"/>
            <a:ext cx="65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tamin C is found in fruits such as strawberries and oran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n essential nutrient for a healthy di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1600200" y="2752560"/>
          <a:ext cx="454824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52560"/>
                    <a:ext cx="454824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892160" y="16146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 is found in many sweets and fizzy drink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main source of energy for the body and the br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33360" y="2863800"/>
          <a:ext cx="4310280" cy="27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3360" y="2863800"/>
                    <a:ext cx="431028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898640" y="1652760"/>
            <a:ext cx="61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ctose is found in many sweets and processed foo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sweetest type of natural sugar and is commonly added to food and drink to improve the tas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1062000" y="3014640"/>
          <a:ext cx="46036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3014640"/>
                    <a:ext cx="4603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53960" y="98280"/>
            <a:ext cx="71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353960" y="1720800"/>
            <a:ext cx="71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PEED CHALLENGE 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1353960" y="3551400"/>
            <a:ext cx="74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b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s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to make this molecule, using fruits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we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77840" y="1601640"/>
            <a:ext cx="9499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rose is naturally found in fruits such as pineapples and apricots, and is used to make a variety of sweets and desser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chemical name for table sugar and can be broken down into glucose and fructo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5803920" y="3741840"/>
            <a:ext cx="41022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 or small gem swe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582480" y="2851200"/>
          <a:ext cx="513252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80" y="2851200"/>
                    <a:ext cx="51325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51:31Z</dcterms:created>
  <dc:creator>David Sait</dc:creator>
  <dc:description/>
  <dc:language>en-US</dc:language>
  <cp:lastModifiedBy>Lee Page</cp:lastModifiedBy>
  <cp:lastPrinted>2013-03-13T15:34:27Z</cp:lastPrinted>
  <dcterms:modified xsi:type="dcterms:W3CDTF">2013-06-04T13:39:59Z</dcterms:modified>
  <cp:revision>46</cp:revision>
  <dc:subject/>
  <dc:title>Slide 1</dc:title>
</cp:coreProperties>
</file>