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AD11-C3B5-4BE5-80DA-568AFBAF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5903-E750-4EAC-B4BE-33FBC3BD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552-E109-49C4-9EF0-584F086C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65D-86AB-452D-99BB-0A9B37D9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F76B-2478-470A-989E-0F98B94A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B59-5536-43B5-8744-FF1F024E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EB7-ADEA-421E-B666-761B1E2D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ABDB-6F3E-43BB-8E3B-DCFBA705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22A-DCE8-4507-AFAB-49C8A238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FDD2-0A97-43B8-8F4B-D1B32F27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E6D2-5C4F-4816-B0ED-2D6C2D07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3929-5177-4CAD-9A7D-92941028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58CF-11B1-4FE9-96E2-7A2326FEDF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003d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62080" y="6269040"/>
            <a:ext cx="1942920" cy="3268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003d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353960" y="98280"/>
            <a:ext cx="71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824040" y="1650960"/>
            <a:ext cx="8258040" cy="35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your favourite molecu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the diagram, connect the sweets or fruits together using the cocktail stick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an RSC helper check your molecule is corre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you have a mobile phone, get someone to take a photo of you with your molecul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ec73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62080" y="6269040"/>
            <a:ext cx="1942920" cy="3268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ec73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805200" y="907920"/>
            <a:ext cx="22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rbit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771560" y="1728720"/>
            <a:ext cx="6362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rbitol is found in apples and peache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a sweetener which can be used as a substitute for suga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2084400" y="98280"/>
            <a:ext cx="573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Fruit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6867360" y="3627360"/>
            <a:ext cx="2048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691872"/>
                </a:solidFill>
                <a:latin typeface="Arial"/>
              </a:rPr>
              <a:t>C </a:t>
            </a:r>
            <a:r>
              <a:rPr b="1" lang="en-GB" sz="1700" spc="-1" strike="noStrike">
                <a:solidFill>
                  <a:srgbClr val="691872"/>
                </a:solidFill>
                <a:latin typeface="Arial"/>
                <a:ea typeface="Arial"/>
              </a:rPr>
              <a:t>= fi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c7325"/>
                </a:solidFill>
                <a:latin typeface="Arial"/>
              </a:rPr>
              <a:t>O = dried aprico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H = raisi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"/>
          <p:cNvGraphicFramePr/>
          <p:nvPr/>
        </p:nvGraphicFramePr>
        <p:xfrm>
          <a:off x="1390680" y="2878200"/>
          <a:ext cx="4829040" cy="27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0680" y="2878200"/>
                    <a:ext cx="482904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bec0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bec0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353960" y="907920"/>
            <a:ext cx="71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tamin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600200" y="1771560"/>
            <a:ext cx="653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tamin C is found in fruits such as strawberries and orang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an essential nutrient for a healthy di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353960" y="98280"/>
            <a:ext cx="71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Fruit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62080" y="6269040"/>
            <a:ext cx="194292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2"/>
          <p:cNvGraphicFramePr/>
          <p:nvPr/>
        </p:nvGraphicFramePr>
        <p:xfrm>
          <a:off x="1600200" y="2752560"/>
          <a:ext cx="4548240" cy="310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752560"/>
                    <a:ext cx="4548240" cy="31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17"/>
          <p:cNvSpPr/>
          <p:nvPr/>
        </p:nvSpPr>
        <p:spPr>
          <a:xfrm>
            <a:off x="6867360" y="3627360"/>
            <a:ext cx="2048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691872"/>
                </a:solidFill>
                <a:latin typeface="Arial"/>
              </a:rPr>
              <a:t>C </a:t>
            </a:r>
            <a:r>
              <a:rPr b="1" lang="en-GB" sz="1700" spc="-1" strike="noStrike">
                <a:solidFill>
                  <a:srgbClr val="691872"/>
                </a:solidFill>
                <a:latin typeface="Arial"/>
                <a:ea typeface="Arial"/>
              </a:rPr>
              <a:t>= fi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c7325"/>
                </a:solidFill>
                <a:latin typeface="Arial"/>
              </a:rPr>
              <a:t>O = dried aprico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H = raisi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da0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62080" y="6269040"/>
            <a:ext cx="1942920" cy="326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da0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353960" y="907920"/>
            <a:ext cx="71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805360" y="3819600"/>
            <a:ext cx="27464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691872"/>
                </a:solidFill>
                <a:latin typeface="Arial"/>
              </a:rPr>
              <a:t>C = large gumdrop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725d"/>
                </a:solidFill>
                <a:latin typeface="Arial"/>
              </a:rPr>
              <a:t>O = large gumdrop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da0065"/>
                </a:solidFill>
                <a:latin typeface="Arial"/>
              </a:rPr>
              <a:t>H = small gem sweet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892160" y="1614600"/>
            <a:ext cx="612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ucose is found in many sweets and fizzy drink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the main source of energy for the body and the bra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1353960" y="98280"/>
            <a:ext cx="71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Sweet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233360" y="2863800"/>
          <a:ext cx="4310280" cy="271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3360" y="2863800"/>
                    <a:ext cx="431028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007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62080" y="6269040"/>
            <a:ext cx="1942920" cy="326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007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353960" y="907920"/>
            <a:ext cx="71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1353960" y="98280"/>
            <a:ext cx="71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Sweet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1898640" y="1652760"/>
            <a:ext cx="612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uctose is found in many sweets and processed foo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the sweetest type of natural sugar and is commonly added to food and drink to improve the tas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"/>
          <p:cNvGraphicFramePr/>
          <p:nvPr/>
        </p:nvGraphicFramePr>
        <p:xfrm>
          <a:off x="1062000" y="3014640"/>
          <a:ext cx="460368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3014640"/>
                    <a:ext cx="46036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8"/>
          <p:cNvSpPr/>
          <p:nvPr/>
        </p:nvSpPr>
        <p:spPr>
          <a:xfrm>
            <a:off x="5805360" y="3819600"/>
            <a:ext cx="27464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691872"/>
                </a:solidFill>
                <a:latin typeface="Arial"/>
              </a:rPr>
              <a:t>C = large gumdrop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725d"/>
                </a:solidFill>
                <a:latin typeface="Arial"/>
              </a:rPr>
              <a:t>O = large gumdrop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da0065"/>
                </a:solidFill>
                <a:latin typeface="Arial"/>
              </a:rPr>
              <a:t>H = small gem sweet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009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009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353960" y="98280"/>
            <a:ext cx="71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353960" y="1720800"/>
            <a:ext cx="719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PEED CHALLENGE 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1353960" y="3551400"/>
            <a:ext cx="74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be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s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erson to make this molecule, using fruits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weet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91960" y="6275520"/>
            <a:ext cx="194328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691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691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353960" y="907920"/>
            <a:ext cx="71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77840" y="1601640"/>
            <a:ext cx="9499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crose is naturally found in fruits such as pineapples and apricots, and is used to make a variety of sweets and desser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the chemical name for table sugar and can be broken down into glucose and fructo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353960" y="98280"/>
            <a:ext cx="71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91960" y="6275520"/>
            <a:ext cx="1943280" cy="3268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7"/>
          <p:cNvSpPr/>
          <p:nvPr/>
        </p:nvSpPr>
        <p:spPr>
          <a:xfrm>
            <a:off x="5803920" y="3741840"/>
            <a:ext cx="410220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691872"/>
                </a:solidFill>
                <a:latin typeface="Arial"/>
              </a:rPr>
              <a:t>C </a:t>
            </a:r>
            <a:r>
              <a:rPr b="1" lang="en-GB" sz="1700" spc="-1" strike="noStrike">
                <a:solidFill>
                  <a:srgbClr val="691872"/>
                </a:solidFill>
                <a:latin typeface="Arial"/>
                <a:ea typeface="Arial"/>
              </a:rPr>
              <a:t>= fig or large gumdrop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c7325"/>
                </a:solidFill>
                <a:latin typeface="Arial"/>
              </a:rPr>
              <a:t>O = dried apricot or large gumdrop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H = raisin or small gem swee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"/>
          <p:cNvGraphicFramePr/>
          <p:nvPr/>
        </p:nvGraphicFramePr>
        <p:xfrm>
          <a:off x="582480" y="2851200"/>
          <a:ext cx="5132520" cy="314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2480" y="2851200"/>
                    <a:ext cx="513252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4:51:31Z</dcterms:created>
  <dc:creator>David Sait</dc:creator>
  <dc:description/>
  <dc:language>en-US</dc:language>
  <cp:lastModifiedBy>Lee Page</cp:lastModifiedBy>
  <cp:lastPrinted>2013-03-13T15:34:27Z</cp:lastPrinted>
  <dcterms:modified xsi:type="dcterms:W3CDTF">2013-06-04T13:39:59Z</dcterms:modified>
  <cp:revision>46</cp:revision>
  <dc:subject/>
  <dc:title>Slide 1</dc:title>
</cp:coreProperties>
</file>