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ABC-AA43-4CFB-BA59-AB4EAF1C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2C8-8A56-4A4E-B7D0-F326C541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79E-26DA-4B30-BD4F-89C0C4C3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2A6-B61D-4096-8D19-5F50446A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D06-4C54-484E-BE59-9672E6C2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9C3-538A-4191-AD21-7A9576E1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68F-7BCD-4A7A-959B-F0B20581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595-8874-4848-ADC1-1EB0B07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863-B497-47EE-BCE6-4D2BAC3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8CA-8BC6-4652-B575-A2C9365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D62-0977-4CD5-88D6-55AB024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39E-1CE0-42F4-8A38-F2DB899B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7F0-705C-4CC7-8250-936D6B5299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81360" y="723600"/>
            <a:ext cx="61005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ing in Perfect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04840" y="1517760"/>
            <a:ext cx="591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raph for Individual Compan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- all price ta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241280" y="2657520"/>
            <a:ext cx="7694640" cy="3639960"/>
          </a:xfrm>
          <a:custGeom>
            <a:avLst/>
            <a:gdLst>
              <a:gd name="textAreaLeft" fmla="*/ 0 w 7694640"/>
              <a:gd name="textAreaRight" fmla="*/ 7695000 w 7694640"/>
              <a:gd name="textAreaTop" fmla="*/ 0 h 3639960"/>
              <a:gd name="textAreaBottom" fmla="*/ 3640320 h 3639960"/>
            </a:gdLst>
            <a:ahLst/>
            <a:rect l="textAreaLeft" t="textAreaTop" r="textAreaRight" b="textAreaBottom"/>
            <a:pathLst>
              <a:path w="3746" h="2967">
                <a:moveTo>
                  <a:pt x="0" y="0"/>
                </a:moveTo>
                <a:lnTo>
                  <a:pt x="0" y="2966"/>
                </a:lnTo>
                <a:lnTo>
                  <a:pt x="3745" y="296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09640" y="2987640"/>
            <a:ext cx="289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7760" y="6356520"/>
            <a:ext cx="28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292400" y="4540320"/>
            <a:ext cx="727056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9"/>
          <p:cNvSpPr/>
          <p:nvPr/>
        </p:nvSpPr>
        <p:spPr>
          <a:xfrm>
            <a:off x="1982880" y="3035160"/>
            <a:ext cx="6448320" cy="1505160"/>
          </a:xfrm>
          <a:custGeom>
            <a:avLst/>
            <a:gdLst>
              <a:gd name="textAreaLeft" fmla="*/ 0 w 6448320"/>
              <a:gd name="textAreaRight" fmla="*/ 6448680 w 644832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3139" h="1226">
                <a:moveTo>
                  <a:pt x="0" y="0"/>
                </a:moveTo>
                <a:lnTo>
                  <a:pt x="98" y="257"/>
                </a:lnTo>
                <a:lnTo>
                  <a:pt x="228" y="483"/>
                </a:lnTo>
                <a:lnTo>
                  <a:pt x="386" y="681"/>
                </a:lnTo>
                <a:lnTo>
                  <a:pt x="567" y="848"/>
                </a:lnTo>
                <a:lnTo>
                  <a:pt x="767" y="986"/>
                </a:lnTo>
                <a:lnTo>
                  <a:pt x="983" y="1093"/>
                </a:lnTo>
                <a:lnTo>
                  <a:pt x="1211" y="1169"/>
                </a:lnTo>
                <a:lnTo>
                  <a:pt x="1447" y="1212"/>
                </a:lnTo>
                <a:lnTo>
                  <a:pt x="1686" y="1225"/>
                </a:lnTo>
                <a:lnTo>
                  <a:pt x="1925" y="1205"/>
                </a:lnTo>
                <a:lnTo>
                  <a:pt x="2160" y="1152"/>
                </a:lnTo>
                <a:lnTo>
                  <a:pt x="2388" y="1065"/>
                </a:lnTo>
                <a:lnTo>
                  <a:pt x="2602" y="944"/>
                </a:lnTo>
                <a:lnTo>
                  <a:pt x="2802" y="789"/>
                </a:lnTo>
                <a:lnTo>
                  <a:pt x="2982" y="600"/>
                </a:lnTo>
                <a:lnTo>
                  <a:pt x="3138" y="374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3098880" y="2894040"/>
            <a:ext cx="4722840" cy="3100320"/>
          </a:xfrm>
          <a:prstGeom prst="line">
            <a:avLst/>
          </a:prstGeom>
          <a:ln w="126720">
            <a:solidFill>
              <a:srgbClr val="a10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256600" y="3008160"/>
            <a:ext cx="949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727680" y="2781360"/>
            <a:ext cx="72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5351400" y="4554360"/>
            <a:ext cx="0" cy="16621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300320" y="4992840"/>
            <a:ext cx="727056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282680" y="4048200"/>
            <a:ext cx="7269120" cy="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6121440" y="4079880"/>
            <a:ext cx="0" cy="211464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689360" y="5013360"/>
            <a:ext cx="0" cy="12031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8670960" y="3886200"/>
            <a:ext cx="606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8629560" y="4822920"/>
            <a:ext cx="453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941560" y="35258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=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8629560" y="43909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357200" y="3525840"/>
            <a:ext cx="93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 =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037200" y="6334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243400" y="633420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24480" y="63342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8754480" y="7222680"/>
            <a:ext cx="111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Pricing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8:58Z</dcterms:modified>
  <cp:revision>126</cp:revision>
  <dc:subject/>
  <dc:title>Perfect market pricing presentation</dc:title>
</cp:coreProperties>
</file>