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D2AA-59C4-4D44-B6CC-01E88465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EEB2-3041-4CFF-A923-0CEB3EAE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A6FA-C25A-4FF2-9C84-AC6586B7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156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98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156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98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D388-CC39-462C-A60B-E392027F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17E8-FD01-4FD3-BEF2-073A11FF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7774-248A-43D7-B567-1BE89549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642B-29B4-42DC-BF99-855480D4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93EF-C4A2-4DDC-B910-860C1F73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3640" y="353880"/>
            <a:ext cx="10671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3D73-D375-4332-9DDA-66827BD1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7008-3D4B-4E35-BB59-FAFF2681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F92A-FA83-436E-B547-175DC9E0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A0F9-4A8B-4232-9E1D-E26A2757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con08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C846-2354-466E-AAFC-86EFECEB39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8"/>
          <p:cNvSpPr/>
          <p:nvPr/>
        </p:nvSpPr>
        <p:spPr>
          <a:xfrm>
            <a:off x="1428840" y="3738600"/>
            <a:ext cx="6696000" cy="3240"/>
          </a:xfrm>
          <a:custGeom>
            <a:avLst/>
            <a:gdLst>
              <a:gd name="textAreaLeft" fmla="*/ 0 w 6696000"/>
              <a:gd name="textAreaRight" fmla="*/ 6696360 w 66960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218" h="2">
                <a:moveTo>
                  <a:pt x="0" y="2"/>
                </a:moveTo>
                <a:lnTo>
                  <a:pt x="4218" y="0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333520" y="630360"/>
            <a:ext cx="5359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ligopoly Marke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395360" y="1382760"/>
            <a:ext cx="8151840" cy="5062320"/>
          </a:xfrm>
          <a:custGeom>
            <a:avLst/>
            <a:gdLst>
              <a:gd name="textAreaLeft" fmla="*/ 0 w 8151840"/>
              <a:gd name="textAreaRight" fmla="*/ 8152200 w 8151840"/>
              <a:gd name="textAreaTop" fmla="*/ 0 h 5062320"/>
              <a:gd name="textAreaBottom" fmla="*/ 5062680 h 5062320"/>
            </a:gdLst>
            <a:ahLst/>
            <a:rect l="textAreaLeft" t="textAreaTop" r="textAreaRight" b="textAreaBottom"/>
            <a:pathLst>
              <a:path w="3372" h="2387">
                <a:moveTo>
                  <a:pt x="0" y="0"/>
                </a:moveTo>
                <a:lnTo>
                  <a:pt x="0" y="2386"/>
                </a:lnTo>
                <a:lnTo>
                  <a:pt x="3371" y="2386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922320" y="1432080"/>
            <a:ext cx="338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9228240" y="6603840"/>
            <a:ext cx="3380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7261200" y="5518080"/>
            <a:ext cx="17524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GB" sz="2800" spc="-1" strike="noStrike" baseline="-25000">
                <a:solidFill>
                  <a:srgbClr val="0000ff"/>
                </a:solidFill>
                <a:latin typeface="Arial"/>
              </a:rPr>
              <a:t>1 (oligopo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5029200" y="5813280"/>
            <a:ext cx="8636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MR</a:t>
            </a:r>
            <a:r>
              <a:rPr b="1" lang="en-GB" sz="2800" spc="-1" strike="noStrike" baseline="-25000">
                <a:solidFill>
                  <a:srgbClr val="bf41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1397160" y="3765600"/>
            <a:ext cx="3902040" cy="0"/>
          </a:xfrm>
          <a:prstGeom prst="line">
            <a:avLst/>
          </a:prstGeom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>
            <a:off x="3301920" y="1649520"/>
            <a:ext cx="3814920" cy="4037040"/>
          </a:xfrm>
          <a:prstGeom prst="line">
            <a:avLst/>
          </a:prstGeom>
          <a:ln w="1267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2603520" y="2338560"/>
            <a:ext cx="5445000" cy="2887560"/>
          </a:xfrm>
          <a:prstGeom prst="line">
            <a:avLst/>
          </a:prstGeom>
          <a:ln w="1267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3000240" y="1814400"/>
            <a:ext cx="3036960" cy="4448160"/>
          </a:xfrm>
          <a:prstGeom prst="line">
            <a:avLst/>
          </a:prstGeom>
          <a:ln w="126720">
            <a:solidFill>
              <a:srgbClr val="bf4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2387520" y="2371680"/>
            <a:ext cx="4560840" cy="3535560"/>
          </a:xfrm>
          <a:prstGeom prst="line">
            <a:avLst/>
          </a:prstGeom>
          <a:ln w="126720">
            <a:solidFill>
              <a:srgbClr val="bf4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8082000" y="4794120"/>
            <a:ext cx="18432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GB" sz="2800" spc="-1" strike="noStrike" baseline="-25000">
                <a:solidFill>
                  <a:srgbClr val="0000ff"/>
                </a:solidFill>
                <a:latin typeface="Arial"/>
              </a:rPr>
              <a:t>2 (oligopo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781200" y="3457440"/>
            <a:ext cx="56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1785960" y="2475000"/>
            <a:ext cx="10731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MR</a:t>
            </a:r>
            <a:r>
              <a:rPr b="1" lang="en-GB" sz="2800" spc="-1" strike="noStrike" baseline="-25000">
                <a:solidFill>
                  <a:srgbClr val="bf41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7489800" y="1833480"/>
            <a:ext cx="8524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a1009f"/>
                </a:solidFill>
                <a:latin typeface="Arial"/>
              </a:rPr>
              <a:t>M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8"/>
          <p:cNvSpPr/>
          <p:nvPr/>
        </p:nvSpPr>
        <p:spPr>
          <a:xfrm>
            <a:off x="2778120" y="1849320"/>
            <a:ext cx="5923080" cy="3981600"/>
          </a:xfrm>
          <a:custGeom>
            <a:avLst/>
            <a:gdLst>
              <a:gd name="textAreaLeft" fmla="*/ 0 w 5923080"/>
              <a:gd name="textAreaRight" fmla="*/ 5923440 w 5923080"/>
              <a:gd name="textAreaTop" fmla="*/ 0 h 3981600"/>
              <a:gd name="textAreaBottom" fmla="*/ 3981960 h 3981600"/>
            </a:gdLst>
            <a:ahLst/>
            <a:rect l="textAreaLeft" t="textAreaTop" r="textAreaRight" b="textAreaBottom"/>
            <a:pathLst>
              <a:path w="2450" h="1876">
                <a:moveTo>
                  <a:pt x="0" y="1875"/>
                </a:moveTo>
                <a:lnTo>
                  <a:pt x="191" y="1819"/>
                </a:lnTo>
                <a:lnTo>
                  <a:pt x="379" y="1753"/>
                </a:lnTo>
                <a:lnTo>
                  <a:pt x="562" y="1679"/>
                </a:lnTo>
                <a:lnTo>
                  <a:pt x="742" y="1595"/>
                </a:lnTo>
                <a:lnTo>
                  <a:pt x="916" y="1504"/>
                </a:lnTo>
                <a:lnTo>
                  <a:pt x="1085" y="1404"/>
                </a:lnTo>
                <a:lnTo>
                  <a:pt x="1250" y="1296"/>
                </a:lnTo>
                <a:lnTo>
                  <a:pt x="1409" y="1180"/>
                </a:lnTo>
                <a:lnTo>
                  <a:pt x="1562" y="1057"/>
                </a:lnTo>
                <a:lnTo>
                  <a:pt x="1709" y="926"/>
                </a:lnTo>
                <a:lnTo>
                  <a:pt x="1850" y="789"/>
                </a:lnTo>
                <a:lnTo>
                  <a:pt x="1984" y="643"/>
                </a:lnTo>
                <a:lnTo>
                  <a:pt x="2110" y="492"/>
                </a:lnTo>
                <a:lnTo>
                  <a:pt x="2231" y="334"/>
                </a:lnTo>
                <a:lnTo>
                  <a:pt x="2343" y="170"/>
                </a:lnTo>
                <a:lnTo>
                  <a:pt x="2449" y="0"/>
                </a:lnTo>
              </a:path>
            </a:pathLst>
          </a:custGeom>
          <a:noFill/>
          <a:ln w="126720">
            <a:solidFill>
              <a:srgbClr val="a100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9"/>
          <p:cNvSpPr/>
          <p:nvPr/>
        </p:nvSpPr>
        <p:spPr>
          <a:xfrm>
            <a:off x="8269200" y="3527280"/>
            <a:ext cx="1584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7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i="1" lang="en-GB" sz="2600" spc="-1" strike="noStrike" baseline="-25000">
                <a:solidFill>
                  <a:srgbClr val="0000ff"/>
                </a:solidFill>
                <a:latin typeface="Arial"/>
              </a:rPr>
              <a:t>(perfect)</a:t>
            </a: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= </a:t>
            </a:r>
            <a:r>
              <a:rPr b="1" i="1" lang="en-GB" sz="2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i="1" lang="en-GB" sz="2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i="1" lang="en-GB" sz="2600" spc="-1" strike="noStrike">
                <a:solidFill>
                  <a:srgbClr val="0000ff"/>
                </a:solidFill>
                <a:latin typeface="Arial"/>
              </a:rPr>
              <a:t>M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8433720" y="7222680"/>
            <a:ext cx="1241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OligopolyMarketAnalysis|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61" name="TextBox 24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933200" y="571680"/>
            <a:ext cx="648036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inked Demand Curve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epped Marginal Revenue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6"/>
          <p:cNvSpPr/>
          <p:nvPr/>
        </p:nvSpPr>
        <p:spPr>
          <a:xfrm>
            <a:off x="1771560" y="1727280"/>
            <a:ext cx="6924600" cy="4886280"/>
          </a:xfrm>
          <a:custGeom>
            <a:avLst/>
            <a:gdLst>
              <a:gd name="textAreaLeft" fmla="*/ 0 w 6924600"/>
              <a:gd name="textAreaRight" fmla="*/ 6924960 w 6924600"/>
              <a:gd name="textAreaTop" fmla="*/ 0 h 4886280"/>
              <a:gd name="textAreaBottom" fmla="*/ 4886640 h 4886280"/>
            </a:gdLst>
            <a:ahLst/>
            <a:rect l="textAreaLeft" t="textAreaTop" r="textAreaRight" b="textAreaBottom"/>
            <a:pathLst>
              <a:path w="3371" h="2387">
                <a:moveTo>
                  <a:pt x="0" y="0"/>
                </a:moveTo>
                <a:lnTo>
                  <a:pt x="0" y="2386"/>
                </a:lnTo>
                <a:lnTo>
                  <a:pt x="3370" y="2386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366920" y="1776240"/>
            <a:ext cx="28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8424720" y="6764400"/>
            <a:ext cx="2905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6732720" y="5684760"/>
            <a:ext cx="1752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GB" sz="2800" spc="-1" strike="noStrike" baseline="-25000">
                <a:solidFill>
                  <a:srgbClr val="0000ff"/>
                </a:solidFill>
                <a:latin typeface="Arial"/>
              </a:rPr>
              <a:t>1 (oligopo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5530680" y="6046920"/>
            <a:ext cx="911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MR</a:t>
            </a:r>
            <a:r>
              <a:rPr b="1" lang="en-GB" sz="2800" spc="-1" strike="noStrike" baseline="-25000">
                <a:solidFill>
                  <a:srgbClr val="bf41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1773360" y="4025880"/>
            <a:ext cx="3316320" cy="0"/>
          </a:xfrm>
          <a:prstGeom prst="line">
            <a:avLst/>
          </a:prstGeom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3348000" y="2446200"/>
            <a:ext cx="1752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GB" sz="2800" spc="-1" strike="noStrike" baseline="-25000">
                <a:solidFill>
                  <a:srgbClr val="0000ff"/>
                </a:solidFill>
                <a:latin typeface="Arial"/>
              </a:rPr>
              <a:t>2 (oligopo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1249200" y="3732120"/>
            <a:ext cx="478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2316240" y="3022560"/>
            <a:ext cx="912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MR</a:t>
            </a:r>
            <a:r>
              <a:rPr b="1" lang="en-GB" sz="2800" spc="-1" strike="noStrike" baseline="-25000">
                <a:solidFill>
                  <a:srgbClr val="bf41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6543720" y="2389320"/>
            <a:ext cx="97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a1009f"/>
                </a:solidFill>
                <a:latin typeface="Arial"/>
              </a:rPr>
              <a:t>MC</a:t>
            </a:r>
            <a:r>
              <a:rPr b="1" i="1" lang="en-GB" sz="2800" spc="-1" strike="noStrike" baseline="-25000">
                <a:solidFill>
                  <a:srgbClr val="a1009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6"/>
          <p:cNvSpPr/>
          <p:nvPr/>
        </p:nvSpPr>
        <p:spPr>
          <a:xfrm>
            <a:off x="2943360" y="2232000"/>
            <a:ext cx="5033880" cy="3841920"/>
          </a:xfrm>
          <a:custGeom>
            <a:avLst/>
            <a:gdLst>
              <a:gd name="textAreaLeft" fmla="*/ 0 w 5033880"/>
              <a:gd name="textAreaRight" fmla="*/ 5034240 w 5033880"/>
              <a:gd name="textAreaTop" fmla="*/ 0 h 3841920"/>
              <a:gd name="textAreaBottom" fmla="*/ 3842280 h 3841920"/>
            </a:gdLst>
            <a:ahLst/>
            <a:rect l="textAreaLeft" t="textAreaTop" r="textAreaRight" b="textAreaBottom"/>
            <a:pathLst>
              <a:path w="2450" h="1877">
                <a:moveTo>
                  <a:pt x="0" y="1876"/>
                </a:moveTo>
                <a:lnTo>
                  <a:pt x="191" y="1819"/>
                </a:lnTo>
                <a:lnTo>
                  <a:pt x="379" y="1753"/>
                </a:lnTo>
                <a:lnTo>
                  <a:pt x="562" y="1680"/>
                </a:lnTo>
                <a:lnTo>
                  <a:pt x="742" y="1596"/>
                </a:lnTo>
                <a:lnTo>
                  <a:pt x="916" y="1505"/>
                </a:lnTo>
                <a:lnTo>
                  <a:pt x="1085" y="1405"/>
                </a:lnTo>
                <a:lnTo>
                  <a:pt x="1251" y="1297"/>
                </a:lnTo>
                <a:lnTo>
                  <a:pt x="1410" y="1181"/>
                </a:lnTo>
                <a:lnTo>
                  <a:pt x="1562" y="1058"/>
                </a:lnTo>
                <a:lnTo>
                  <a:pt x="1710" y="927"/>
                </a:lnTo>
                <a:lnTo>
                  <a:pt x="1850" y="790"/>
                </a:lnTo>
                <a:lnTo>
                  <a:pt x="1985" y="644"/>
                </a:lnTo>
                <a:lnTo>
                  <a:pt x="2111" y="493"/>
                </a:lnTo>
                <a:lnTo>
                  <a:pt x="2231" y="335"/>
                </a:lnTo>
                <a:lnTo>
                  <a:pt x="2344" y="171"/>
                </a:lnTo>
                <a:lnTo>
                  <a:pt x="2449" y="0"/>
                </a:lnTo>
              </a:path>
            </a:pathLst>
          </a:custGeom>
          <a:noFill/>
          <a:ln w="126720">
            <a:solidFill>
              <a:srgbClr val="a100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7"/>
          <p:cNvSpPr/>
          <p:nvPr/>
        </p:nvSpPr>
        <p:spPr>
          <a:xfrm>
            <a:off x="2801880" y="2643120"/>
            <a:ext cx="3759120" cy="3165480"/>
          </a:xfrm>
          <a:custGeom>
            <a:avLst/>
            <a:gdLst>
              <a:gd name="textAreaLeft" fmla="*/ 0 w 3759120"/>
              <a:gd name="textAreaRight" fmla="*/ 3759480 w 3759120"/>
              <a:gd name="textAreaTop" fmla="*/ 0 h 3165480"/>
              <a:gd name="textAreaBottom" fmla="*/ 3165840 h 3165480"/>
            </a:gdLst>
            <a:ahLst/>
            <a:rect l="textAreaLeft" t="textAreaTop" r="textAreaRight" b="textAreaBottom"/>
            <a:pathLst>
              <a:path w="1830" h="1546">
                <a:moveTo>
                  <a:pt x="0" y="0"/>
                </a:moveTo>
                <a:lnTo>
                  <a:pt x="1104" y="667"/>
                </a:lnTo>
                <a:lnTo>
                  <a:pt x="1829" y="1545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8"/>
          <p:cNvSpPr/>
          <p:nvPr/>
        </p:nvSpPr>
        <p:spPr>
          <a:xfrm>
            <a:off x="2644920" y="2701800"/>
            <a:ext cx="2863800" cy="3886200"/>
          </a:xfrm>
          <a:custGeom>
            <a:avLst/>
            <a:gdLst>
              <a:gd name="textAreaLeft" fmla="*/ 0 w 2863800"/>
              <a:gd name="textAreaRight" fmla="*/ 2864160 w 2863800"/>
              <a:gd name="textAreaTop" fmla="*/ 0 h 3886200"/>
              <a:gd name="textAreaBottom" fmla="*/ 3886560 h 3886200"/>
            </a:gdLst>
            <a:ahLst/>
            <a:rect l="textAreaLeft" t="textAreaTop" r="textAreaRight" b="textAreaBottom"/>
            <a:pathLst>
              <a:path w="1394" h="1898">
                <a:moveTo>
                  <a:pt x="0" y="0"/>
                </a:moveTo>
                <a:lnTo>
                  <a:pt x="1181" y="1054"/>
                </a:lnTo>
                <a:lnTo>
                  <a:pt x="1181" y="1503"/>
                </a:lnTo>
                <a:lnTo>
                  <a:pt x="1393" y="1897"/>
                </a:lnTo>
              </a:path>
            </a:pathLst>
          </a:custGeom>
          <a:noFill/>
          <a:ln w="126720">
            <a:solidFill>
              <a:srgbClr val="bf4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7837560" y="3262320"/>
            <a:ext cx="9698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a1009f"/>
                </a:solidFill>
                <a:latin typeface="Arial"/>
              </a:rPr>
              <a:t>MC</a:t>
            </a:r>
            <a:r>
              <a:rPr b="1" lang="en-GB" sz="2800" spc="-1" strike="noStrike" baseline="-25000">
                <a:solidFill>
                  <a:srgbClr val="a1009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0"/>
          <p:cNvSpPr/>
          <p:nvPr/>
        </p:nvSpPr>
        <p:spPr>
          <a:xfrm>
            <a:off x="3274920" y="2422440"/>
            <a:ext cx="5031000" cy="3841920"/>
          </a:xfrm>
          <a:custGeom>
            <a:avLst/>
            <a:gdLst>
              <a:gd name="textAreaLeft" fmla="*/ 0 w 5031000"/>
              <a:gd name="textAreaRight" fmla="*/ 5031360 w 5031000"/>
              <a:gd name="textAreaTop" fmla="*/ 0 h 3841920"/>
              <a:gd name="textAreaBottom" fmla="*/ 3842280 h 3841920"/>
            </a:gdLst>
            <a:ahLst/>
            <a:rect l="textAreaLeft" t="textAreaTop" r="textAreaRight" b="textAreaBottom"/>
            <a:pathLst>
              <a:path w="2449" h="1877">
                <a:moveTo>
                  <a:pt x="0" y="1876"/>
                </a:moveTo>
                <a:lnTo>
                  <a:pt x="191" y="1818"/>
                </a:lnTo>
                <a:lnTo>
                  <a:pt x="379" y="1753"/>
                </a:lnTo>
                <a:lnTo>
                  <a:pt x="562" y="1679"/>
                </a:lnTo>
                <a:lnTo>
                  <a:pt x="742" y="1596"/>
                </a:lnTo>
                <a:lnTo>
                  <a:pt x="916" y="1505"/>
                </a:lnTo>
                <a:lnTo>
                  <a:pt x="1085" y="1405"/>
                </a:lnTo>
                <a:lnTo>
                  <a:pt x="1250" y="1297"/>
                </a:lnTo>
                <a:lnTo>
                  <a:pt x="1409" y="1180"/>
                </a:lnTo>
                <a:lnTo>
                  <a:pt x="1561" y="1058"/>
                </a:lnTo>
                <a:lnTo>
                  <a:pt x="1709" y="927"/>
                </a:lnTo>
                <a:lnTo>
                  <a:pt x="1850" y="789"/>
                </a:lnTo>
                <a:lnTo>
                  <a:pt x="1984" y="644"/>
                </a:lnTo>
                <a:lnTo>
                  <a:pt x="2111" y="493"/>
                </a:lnTo>
                <a:lnTo>
                  <a:pt x="2231" y="335"/>
                </a:lnTo>
                <a:lnTo>
                  <a:pt x="2343" y="171"/>
                </a:lnTo>
                <a:lnTo>
                  <a:pt x="2448" y="0"/>
                </a:lnTo>
              </a:path>
            </a:pathLst>
          </a:custGeom>
          <a:noFill/>
          <a:ln w="126720">
            <a:solidFill>
              <a:srgbClr val="a100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21"/>
          <p:cNvSpPr/>
          <p:nvPr/>
        </p:nvSpPr>
        <p:spPr>
          <a:xfrm>
            <a:off x="4973760" y="5060880"/>
            <a:ext cx="191880" cy="209520"/>
          </a:xfrm>
          <a:prstGeom prst="ellipse">
            <a:avLst/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4973760" y="5443560"/>
            <a:ext cx="190440" cy="187200"/>
          </a:xfrm>
          <a:prstGeom prst="ellipse">
            <a:avLst/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3"/>
          <p:cNvSpPr/>
          <p:nvPr/>
        </p:nvSpPr>
        <p:spPr>
          <a:xfrm flipV="1">
            <a:off x="5065560" y="4149360"/>
            <a:ext cx="0" cy="668520"/>
          </a:xfrm>
          <a:prstGeom prst="line">
            <a:avLst/>
          </a:prstGeom>
          <a:ln w="63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8433720" y="7222680"/>
            <a:ext cx="1241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OligopolyMarketAnalysis|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83" name="TextBox 25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6:52:54Z</dcterms:created>
  <dc:creator>Brian Grievson</dc:creator>
  <dc:description/>
  <dc:language>en-US</dc:language>
  <cp:lastModifiedBy>Chris Runciman</cp:lastModifiedBy>
  <dcterms:modified xsi:type="dcterms:W3CDTF">2020-11-27T10:18:08Z</dcterms:modified>
  <cp:revision>133</cp:revision>
  <dc:subject/>
  <dc:title>Oligopoly market analysis presentation</dc:title>
</cp:coreProperties>
</file>