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FC7B-5523-4C55-96BC-0A5DD55A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9320" y="1817640"/>
            <a:ext cx="735948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9320" y="3858480"/>
            <a:ext cx="735948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5DD-5454-4007-97CE-0BD2B06C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9320" y="1817640"/>
            <a:ext cx="359136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80680" y="1817640"/>
            <a:ext cx="359136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9320" y="3858480"/>
            <a:ext cx="359136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80680" y="3858480"/>
            <a:ext cx="359136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0ABE-BDD4-4EE6-8C3E-E333CB39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9320" y="1817640"/>
            <a:ext cx="236952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7640" y="1817640"/>
            <a:ext cx="236952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85960" y="1817640"/>
            <a:ext cx="236952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9320" y="3858480"/>
            <a:ext cx="236952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7640" y="3858480"/>
            <a:ext cx="236952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85960" y="3858480"/>
            <a:ext cx="236952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71E6-121A-41AE-B83E-95D21A20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9320" y="1817640"/>
            <a:ext cx="735948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F95-7E66-4142-B352-3D0567D1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9320" y="1817640"/>
            <a:ext cx="735948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0678-6854-4188-8D6E-B9DB84F7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9320" y="1817640"/>
            <a:ext cx="359136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80680" y="1817640"/>
            <a:ext cx="359136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3F7A-7CEE-4687-A42D-6D9E0C91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72EE-E5BF-47D2-AC90-43AC54B3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9320" y="409680"/>
            <a:ext cx="7359480" cy="568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17AA-B0C7-4C81-B56F-227ABBCA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9320" y="1817640"/>
            <a:ext cx="359136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80680" y="1817640"/>
            <a:ext cx="359136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9320" y="3858480"/>
            <a:ext cx="359136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483C-3B87-42EF-9C58-91DC85AF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9320" y="1817640"/>
            <a:ext cx="359136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80680" y="1817640"/>
            <a:ext cx="359136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80680" y="3858480"/>
            <a:ext cx="359136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C120-8B2D-460C-AC6B-BF9F9CD2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9320" y="1817640"/>
            <a:ext cx="359136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80680" y="1817640"/>
            <a:ext cx="359136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9320" y="3858480"/>
            <a:ext cx="735948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9804-212C-4726-AF91-EFCB1FE5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9320" y="1817640"/>
            <a:ext cx="735948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radstrategy1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37DE-F703-4398-B4CD-C22D5CD459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2725560" y="3094200"/>
            <a:ext cx="4608720" cy="2087280"/>
          </a:xfrm>
          <a:prstGeom prst="rect">
            <a:avLst/>
          </a:prstGeom>
          <a:solidFill>
            <a:srgbClr val="ff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92480" y="356760"/>
            <a:ext cx="5976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Discovery"/>
              </a:rPr>
              <a:t>Analysing Industry Attra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Discovery"/>
              </a:rPr>
              <a:t>Porters’ Five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49200" y="7342200"/>
            <a:ext cx="1657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orter, 197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 flipV="1">
            <a:off x="276120" y="5253840"/>
            <a:ext cx="4535640" cy="2087640"/>
          </a:xfrm>
          <a:prstGeom prst="roundRect">
            <a:avLst>
              <a:gd name="adj" fmla="val 0"/>
            </a:avLst>
          </a:prstGeom>
          <a:solidFill>
            <a:srgbClr val="ccec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60360" y="5327640"/>
            <a:ext cx="43084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0000"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wer of Bu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few or large volume bu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standard undifferentiated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represents a high proportion of buyers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buyer is in a low profit indus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unimportant to quality of buyers 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product does not save the buyer mo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buyer poses a threat of backward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 flipV="1">
            <a:off x="5245200" y="1148400"/>
            <a:ext cx="4537080" cy="1873080"/>
          </a:xfrm>
          <a:prstGeom prst="roundRect">
            <a:avLst>
              <a:gd name="adj" fmla="val 0"/>
            </a:avLst>
          </a:prstGeom>
          <a:solidFill>
            <a:srgbClr val="ccffcc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0"/>
          <p:cNvSpPr/>
          <p:nvPr/>
        </p:nvSpPr>
        <p:spPr>
          <a:xfrm>
            <a:off x="6900840" y="4389480"/>
            <a:ext cx="2816280" cy="1504800"/>
          </a:xfrm>
          <a:custGeom>
            <a:avLst/>
            <a:gdLst/>
            <a:ahLst/>
            <a:rect l="l" t="t" r="r" b="b"/>
            <a:pathLst>
              <a:path w="1658" h="748">
                <a:moveTo>
                  <a:pt x="0" y="0"/>
                </a:moveTo>
                <a:lnTo>
                  <a:pt x="1657" y="0"/>
                </a:lnTo>
                <a:lnTo>
                  <a:pt x="1657" y="747"/>
                </a:lnTo>
                <a:lnTo>
                  <a:pt x="0" y="74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3"/>
          <p:cNvSpPr/>
          <p:nvPr/>
        </p:nvSpPr>
        <p:spPr>
          <a:xfrm flipV="1">
            <a:off x="5246640" y="5253840"/>
            <a:ext cx="4535640" cy="2087640"/>
          </a:xfrm>
          <a:prstGeom prst="roundRect">
            <a:avLst>
              <a:gd name="adj" fmla="val 0"/>
            </a:avLst>
          </a:prstGeom>
          <a:solidFill>
            <a:srgbClr val="ffcc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5533920" y="1293840"/>
            <a:ext cx="41752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4000"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reat of New Ent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there is economies of sc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product are differentiated e.g. bra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capital is required to enter e.g. fixed 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ccess to distribution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government policy restri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g. licensing, 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7"/>
          <p:cNvSpPr/>
          <p:nvPr/>
        </p:nvSpPr>
        <p:spPr>
          <a:xfrm flipV="1">
            <a:off x="276120" y="1148400"/>
            <a:ext cx="4537080" cy="1873080"/>
          </a:xfrm>
          <a:prstGeom prst="roundRect">
            <a:avLst>
              <a:gd name="adj" fmla="val 0"/>
            </a:avLst>
          </a:prstGeom>
          <a:solidFill>
            <a:srgbClr val="ffff99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8"/>
          <p:cNvSpPr/>
          <p:nvPr/>
        </p:nvSpPr>
        <p:spPr>
          <a:xfrm>
            <a:off x="349200" y="1293840"/>
            <a:ext cx="2814840" cy="1503360"/>
          </a:xfrm>
          <a:custGeom>
            <a:avLst/>
            <a:gdLst/>
            <a:ahLst/>
            <a:rect l="l" t="t" r="r" b="b"/>
            <a:pathLst>
              <a:path w="1657" h="747">
                <a:moveTo>
                  <a:pt x="1656" y="746"/>
                </a:moveTo>
                <a:lnTo>
                  <a:pt x="0" y="746"/>
                </a:lnTo>
                <a:lnTo>
                  <a:pt x="0" y="0"/>
                </a:lnTo>
                <a:lnTo>
                  <a:pt x="1656" y="0"/>
                </a:lnTo>
                <a:lnTo>
                  <a:pt x="1656" y="746"/>
                </a:lnTo>
                <a:lnTo>
                  <a:pt x="1656" y="74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9"/>
          <p:cNvSpPr/>
          <p:nvPr/>
        </p:nvSpPr>
        <p:spPr>
          <a:xfrm>
            <a:off x="420840" y="1149480"/>
            <a:ext cx="41749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wer of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dominated by a few large 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input is unique or differenti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input has large switching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input cannot easily be substitu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supplier poses a threat of forward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you are not important to suppli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2797200" y="3092400"/>
            <a:ext cx="47530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dustry Riva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numerous players of roughly equal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 slow rate of growth in the indus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lack of different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lack of switching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capacity can be increased only in large amou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high exit 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rivals are strategically di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389560" y="5326200"/>
            <a:ext cx="4249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3000"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reat of Substit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lternative products are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2"/>
          <p:cNvSpPr/>
          <p:nvPr/>
        </p:nvSpPr>
        <p:spPr>
          <a:xfrm>
            <a:off x="563400" y="2446200"/>
            <a:ext cx="91458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2000"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ower of Suppl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dominated by a few large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input is unique or differenti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input has large switching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input cannot easily be substitu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supplier poses a threat of forward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you are not important to supplier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3"/>
          <p:cNvSpPr/>
          <p:nvPr/>
        </p:nvSpPr>
        <p:spPr>
          <a:xfrm>
            <a:off x="781200" y="2228760"/>
            <a:ext cx="8713800" cy="38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reat of New Ent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there is economies of sc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product are differentiated e.g. bra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capital is required to enter e.g. fixed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access to distribution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government policy restri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eg. licensing,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4"/>
          <p:cNvSpPr/>
          <p:nvPr/>
        </p:nvSpPr>
        <p:spPr>
          <a:xfrm>
            <a:off x="206280" y="1941480"/>
            <a:ext cx="97916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ndustry Rival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numerous players of roughly equal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a slow rate of growth in the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lack of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lack of switching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capacity can be increased only in large am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high exit b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rivals are strategically d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5"/>
          <p:cNvSpPr/>
          <p:nvPr/>
        </p:nvSpPr>
        <p:spPr>
          <a:xfrm>
            <a:off x="708120" y="2085840"/>
            <a:ext cx="91454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ower of Bu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few or large volume bu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standard undifferentiated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represents a high proportion of buyers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buyer is in a low profit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unimportant to quality of buyers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product does not save the buyer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buyer poses a threat of backward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6"/>
          <p:cNvSpPr/>
          <p:nvPr/>
        </p:nvSpPr>
        <p:spPr>
          <a:xfrm>
            <a:off x="1355760" y="3022560"/>
            <a:ext cx="7705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7000"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reat of Substit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alternative product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8"/>
          <p:cNvSpPr/>
          <p:nvPr/>
        </p:nvSpPr>
        <p:spPr>
          <a:xfrm>
            <a:off x="8344800" y="7404840"/>
            <a:ext cx="14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rters5Forces |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62" name="TextBox 24"/>
          <p:cNvSpPr/>
          <p:nvPr/>
        </p:nvSpPr>
        <p:spPr>
          <a:xfrm>
            <a:off x="6224760" y="741348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0:38:01Z</dcterms:created>
  <dc:creator>Brian Grievson</dc:creator>
  <dc:description/>
  <dc:language>en-US</dc:language>
  <cp:lastModifiedBy>Chris Runciman</cp:lastModifiedBy>
  <dcterms:modified xsi:type="dcterms:W3CDTF">2020-11-26T11:35:39Z</dcterms:modified>
  <cp:revision>34</cp:revision>
  <dc:subject/>
  <dc:title>Porter's Five Forces presentation</dc:title>
</cp:coreProperties>
</file>