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83E-CF0D-46E3-9B79-9CA9C5AB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2BF-AE19-402D-B770-D18AF31E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2A5-BE62-4AF9-98E1-339BF470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D29-FF49-4F83-A9AD-F2F7F95E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5DB-6703-468F-9E78-27042C62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E77-AF53-4DD0-BD32-6DED7C14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0EF-1AC4-490D-A587-C61A79E5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D8A-DFDB-4CB4-BF0C-DEFACF1C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DF4-4EC6-4B6A-A0AE-A5549D45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5E4-66DB-457E-B4F3-62D7EEC7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5F0-924E-4781-825C-09CC12D0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BE3-82DE-47E0-BBA2-0A16C62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26E2-9F3B-46FA-8B8C-40C7A5A1F5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8"/>
          <p:cNvSpPr/>
          <p:nvPr/>
        </p:nvSpPr>
        <p:spPr>
          <a:xfrm>
            <a:off x="1068480" y="2976480"/>
            <a:ext cx="6696000" cy="3240"/>
          </a:xfrm>
          <a:custGeom>
            <a:avLst/>
            <a:gdLst>
              <a:gd name="textAreaLeft" fmla="*/ 0 w 6696000"/>
              <a:gd name="textAreaRight" fmla="*/ 6696360 w 66960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218" h="2">
                <a:moveTo>
                  <a:pt x="0" y="2"/>
                </a:moveTo>
                <a:lnTo>
                  <a:pt x="4218" y="0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468520" y="353880"/>
            <a:ext cx="50817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opoly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1058760" y="1263600"/>
            <a:ext cx="6927840" cy="2927520"/>
          </a:xfrm>
          <a:custGeom>
            <a:avLst/>
            <a:gdLst>
              <a:gd name="textAreaLeft" fmla="*/ 0 w 6927840"/>
              <a:gd name="textAreaRight" fmla="*/ 6928200 w 6927840"/>
              <a:gd name="textAreaTop" fmla="*/ 0 h 2927520"/>
              <a:gd name="textAreaBottom" fmla="*/ 2927880 h 292752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1060560" y="1627200"/>
            <a:ext cx="6738840" cy="1666800"/>
          </a:xfrm>
          <a:custGeom>
            <a:avLst/>
            <a:gdLst>
              <a:gd name="textAreaLeft" fmla="*/ 0 w 6738840"/>
              <a:gd name="textAreaRight" fmla="*/ 6739200 w 67388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3280" h="1360">
                <a:moveTo>
                  <a:pt x="0" y="0"/>
                </a:moveTo>
                <a:lnTo>
                  <a:pt x="161" y="168"/>
                </a:lnTo>
                <a:lnTo>
                  <a:pt x="330" y="324"/>
                </a:lnTo>
                <a:lnTo>
                  <a:pt x="507" y="471"/>
                </a:lnTo>
                <a:lnTo>
                  <a:pt x="691" y="606"/>
                </a:lnTo>
                <a:lnTo>
                  <a:pt x="881" y="732"/>
                </a:lnTo>
                <a:lnTo>
                  <a:pt x="1078" y="847"/>
                </a:lnTo>
                <a:lnTo>
                  <a:pt x="1280" y="951"/>
                </a:lnTo>
                <a:lnTo>
                  <a:pt x="1489" y="1042"/>
                </a:lnTo>
                <a:lnTo>
                  <a:pt x="1700" y="1123"/>
                </a:lnTo>
                <a:lnTo>
                  <a:pt x="1917" y="1193"/>
                </a:lnTo>
                <a:lnTo>
                  <a:pt x="2136" y="1251"/>
                </a:lnTo>
                <a:lnTo>
                  <a:pt x="2361" y="1296"/>
                </a:lnTo>
                <a:lnTo>
                  <a:pt x="2587" y="1330"/>
                </a:lnTo>
                <a:lnTo>
                  <a:pt x="2816" y="1350"/>
                </a:lnTo>
                <a:lnTo>
                  <a:pt x="3047" y="1359"/>
                </a:lnTo>
                <a:lnTo>
                  <a:pt x="3279" y="1354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1060560" y="1643040"/>
            <a:ext cx="6715080" cy="3070080"/>
          </a:xfrm>
          <a:custGeom>
            <a:avLst/>
            <a:gdLst>
              <a:gd name="textAreaLeft" fmla="*/ 0 w 6715080"/>
              <a:gd name="textAreaRight" fmla="*/ 6715440 w 6715080"/>
              <a:gd name="textAreaTop" fmla="*/ 0 h 3070080"/>
              <a:gd name="textAreaBottom" fmla="*/ 3070440 h 3070080"/>
            </a:gdLst>
            <a:ahLst/>
            <a:rect l="textAreaLeft" t="textAreaTop" r="textAreaRight" b="textAreaBottom"/>
            <a:pathLst>
              <a:path w="3268" h="2503">
                <a:moveTo>
                  <a:pt x="0" y="0"/>
                </a:moveTo>
                <a:lnTo>
                  <a:pt x="139" y="229"/>
                </a:lnTo>
                <a:lnTo>
                  <a:pt x="288" y="448"/>
                </a:lnTo>
                <a:lnTo>
                  <a:pt x="448" y="659"/>
                </a:lnTo>
                <a:lnTo>
                  <a:pt x="618" y="860"/>
                </a:lnTo>
                <a:lnTo>
                  <a:pt x="796" y="1054"/>
                </a:lnTo>
                <a:lnTo>
                  <a:pt x="984" y="1237"/>
                </a:lnTo>
                <a:lnTo>
                  <a:pt x="1179" y="1412"/>
                </a:lnTo>
                <a:lnTo>
                  <a:pt x="1385" y="1576"/>
                </a:lnTo>
                <a:lnTo>
                  <a:pt x="1596" y="1731"/>
                </a:lnTo>
                <a:lnTo>
                  <a:pt x="1815" y="1875"/>
                </a:lnTo>
                <a:lnTo>
                  <a:pt x="2042" y="2008"/>
                </a:lnTo>
                <a:lnTo>
                  <a:pt x="2275" y="2130"/>
                </a:lnTo>
                <a:lnTo>
                  <a:pt x="2514" y="2241"/>
                </a:lnTo>
                <a:lnTo>
                  <a:pt x="2759" y="2340"/>
                </a:lnTo>
                <a:lnTo>
                  <a:pt x="3010" y="2427"/>
                </a:lnTo>
                <a:lnTo>
                  <a:pt x="3267" y="2502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058760" y="4191120"/>
            <a:ext cx="0" cy="66348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57360" y="1292400"/>
            <a:ext cx="288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715160" y="4282920"/>
            <a:ext cx="2905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955880" y="1682640"/>
            <a:ext cx="177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D 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(monopoly)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5541840" y="3857760"/>
            <a:ext cx="0" cy="933480"/>
          </a:xfrm>
          <a:prstGeom prst="line">
            <a:avLst/>
          </a:prstGeom>
          <a:ln w="63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119640" y="861840"/>
            <a:ext cx="3230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a1009f"/>
                </a:solidFill>
                <a:latin typeface="Arial"/>
              </a:rPr>
              <a:t>Perfect mar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MC curve identi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a1009f"/>
                </a:solidFill>
                <a:latin typeface="Arial"/>
              </a:rPr>
              <a:t>to Supply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1143000" y="2749680"/>
            <a:ext cx="2282760" cy="136044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1360440"/>
              <a:gd name="textAreaBottom" fmla="*/ 1360800 h 1360440"/>
            </a:gdLst>
            <a:ahLst/>
            <a:rect l="textAreaLeft" t="textAreaTop" r="textAreaRight" b="textAreaBottom"/>
            <a:pathLst>
              <a:path w="1111" h="1109">
                <a:moveTo>
                  <a:pt x="1110" y="1108"/>
                </a:moveTo>
                <a:lnTo>
                  <a:pt x="1110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19040" y="2805120"/>
            <a:ext cx="64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7"/>
          <p:cNvSpPr/>
          <p:nvPr/>
        </p:nvSpPr>
        <p:spPr>
          <a:xfrm>
            <a:off x="1125360" y="2970360"/>
            <a:ext cx="3198960" cy="1160280"/>
          </a:xfrm>
          <a:custGeom>
            <a:avLst/>
            <a:gdLst>
              <a:gd name="textAreaLeft" fmla="*/ 0 w 3198960"/>
              <a:gd name="textAreaRight" fmla="*/ 3199320 w 31989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1557" h="946">
                <a:moveTo>
                  <a:pt x="1556" y="945"/>
                </a:moveTo>
                <a:lnTo>
                  <a:pt x="1556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2887200" y="4208400"/>
            <a:ext cx="528840" cy="143532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60480" y="5686560"/>
            <a:ext cx="300024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fit maximum for monopoly market. Monopolist firm is a price sett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741920" y="5686560"/>
            <a:ext cx="475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fit maximum point for perfect market. All firms are price tak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7981920" y="45338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bf4100"/>
                </a:solidFill>
                <a:latin typeface="Arial"/>
              </a:rPr>
              <a:t>MR</a:t>
            </a:r>
            <a:r>
              <a:rPr b="1" i="1" lang="en-GB" sz="2600" spc="-1" strike="noStrike" baseline="-25000">
                <a:solidFill>
                  <a:srgbClr val="bf4100"/>
                </a:solidFill>
                <a:latin typeface="Arial"/>
              </a:rPr>
              <a:t>(monopol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4349880" y="4210200"/>
            <a:ext cx="528480" cy="143496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5"/>
          <p:cNvSpPr/>
          <p:nvPr/>
        </p:nvSpPr>
        <p:spPr>
          <a:xfrm>
            <a:off x="1147680" y="1643040"/>
            <a:ext cx="5032440" cy="2301840"/>
          </a:xfrm>
          <a:custGeom>
            <a:avLst/>
            <a:gdLst>
              <a:gd name="textAreaLeft" fmla="*/ 0 w 5032440"/>
              <a:gd name="textAreaRight" fmla="*/ 5032800 w 503244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4"/>
                </a:lnTo>
                <a:lnTo>
                  <a:pt x="562" y="1679"/>
                </a:lnTo>
                <a:lnTo>
                  <a:pt x="741" y="1596"/>
                </a:lnTo>
                <a:lnTo>
                  <a:pt x="915" y="1505"/>
                </a:lnTo>
                <a:lnTo>
                  <a:pt x="1085" y="1404"/>
                </a:lnTo>
                <a:lnTo>
                  <a:pt x="1250" y="1297"/>
                </a:lnTo>
                <a:lnTo>
                  <a:pt x="1409" y="1180"/>
                </a:lnTo>
                <a:lnTo>
                  <a:pt x="1562" y="1058"/>
                </a:lnTo>
                <a:lnTo>
                  <a:pt x="1709" y="927"/>
                </a:lnTo>
                <a:lnTo>
                  <a:pt x="1849" y="790"/>
                </a:lnTo>
                <a:lnTo>
                  <a:pt x="1984" y="644"/>
                </a:lnTo>
                <a:lnTo>
                  <a:pt x="2110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6613560" y="2374920"/>
            <a:ext cx="316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(perfect)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600" spc="-1" strike="noStrike">
                <a:solidFill>
                  <a:srgbClr val="0000ff"/>
                </a:solidFill>
                <a:latin typeface="Arial"/>
              </a:rPr>
              <a:t>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(price ta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300480" y="4425840"/>
            <a:ext cx="431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186080" y="4427640"/>
            <a:ext cx="411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49200" y="2517840"/>
            <a:ext cx="64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3316320" y="32385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4216320" y="28638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378400" y="473400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8436240" y="7222680"/>
            <a:ext cx="1255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MonopolyMarketAnalysis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reeform 2"/>
          <p:cNvSpPr/>
          <p:nvPr/>
        </p:nvSpPr>
        <p:spPr>
          <a:xfrm>
            <a:off x="1335240" y="1749600"/>
            <a:ext cx="5032080" cy="2301840"/>
          </a:xfrm>
          <a:custGeom>
            <a:avLst/>
            <a:gdLst>
              <a:gd name="textAreaLeft" fmla="*/ 0 w 5032080"/>
              <a:gd name="textAreaRight" fmla="*/ 5032440 w 503208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4"/>
                </a:lnTo>
                <a:lnTo>
                  <a:pt x="562" y="1679"/>
                </a:lnTo>
                <a:lnTo>
                  <a:pt x="741" y="1596"/>
                </a:lnTo>
                <a:lnTo>
                  <a:pt x="915" y="1505"/>
                </a:lnTo>
                <a:lnTo>
                  <a:pt x="1085" y="1404"/>
                </a:lnTo>
                <a:lnTo>
                  <a:pt x="1250" y="1297"/>
                </a:lnTo>
                <a:lnTo>
                  <a:pt x="1409" y="1180"/>
                </a:lnTo>
                <a:lnTo>
                  <a:pt x="1562" y="1058"/>
                </a:lnTo>
                <a:lnTo>
                  <a:pt x="1709" y="927"/>
                </a:lnTo>
                <a:lnTo>
                  <a:pt x="1849" y="790"/>
                </a:lnTo>
                <a:lnTo>
                  <a:pt x="1984" y="644"/>
                </a:lnTo>
                <a:lnTo>
                  <a:pt x="2110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15760" y="716040"/>
            <a:ext cx="676908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opoly with Economies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1246320" y="1370160"/>
            <a:ext cx="6927840" cy="2927160"/>
          </a:xfrm>
          <a:custGeom>
            <a:avLst/>
            <a:gdLst>
              <a:gd name="textAreaLeft" fmla="*/ 0 w 6927840"/>
              <a:gd name="textAreaRight" fmla="*/ 6928200 w 6927840"/>
              <a:gd name="textAreaTop" fmla="*/ 0 h 2927160"/>
              <a:gd name="textAreaBottom" fmla="*/ 2927520 h 292716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1247760" y="1733400"/>
            <a:ext cx="6738840" cy="1667160"/>
          </a:xfrm>
          <a:custGeom>
            <a:avLst/>
            <a:gdLst>
              <a:gd name="textAreaLeft" fmla="*/ 0 w 6738840"/>
              <a:gd name="textAreaRight" fmla="*/ 6739200 w 6738840"/>
              <a:gd name="textAreaTop" fmla="*/ 0 h 1667160"/>
              <a:gd name="textAreaBottom" fmla="*/ 1667520 h 1667160"/>
            </a:gdLst>
            <a:ahLst/>
            <a:rect l="textAreaLeft" t="textAreaTop" r="textAreaRight" b="textAreaBottom"/>
            <a:pathLst>
              <a:path w="3280" h="1360">
                <a:moveTo>
                  <a:pt x="0" y="0"/>
                </a:moveTo>
                <a:lnTo>
                  <a:pt x="161" y="168"/>
                </a:lnTo>
                <a:lnTo>
                  <a:pt x="330" y="324"/>
                </a:lnTo>
                <a:lnTo>
                  <a:pt x="507" y="471"/>
                </a:lnTo>
                <a:lnTo>
                  <a:pt x="691" y="606"/>
                </a:lnTo>
                <a:lnTo>
                  <a:pt x="881" y="732"/>
                </a:lnTo>
                <a:lnTo>
                  <a:pt x="1078" y="847"/>
                </a:lnTo>
                <a:lnTo>
                  <a:pt x="1280" y="951"/>
                </a:lnTo>
                <a:lnTo>
                  <a:pt x="1489" y="1042"/>
                </a:lnTo>
                <a:lnTo>
                  <a:pt x="1700" y="1123"/>
                </a:lnTo>
                <a:lnTo>
                  <a:pt x="1917" y="1193"/>
                </a:lnTo>
                <a:lnTo>
                  <a:pt x="2136" y="1251"/>
                </a:lnTo>
                <a:lnTo>
                  <a:pt x="2361" y="1296"/>
                </a:lnTo>
                <a:lnTo>
                  <a:pt x="2587" y="1330"/>
                </a:lnTo>
                <a:lnTo>
                  <a:pt x="2816" y="1350"/>
                </a:lnTo>
                <a:lnTo>
                  <a:pt x="3047" y="1359"/>
                </a:lnTo>
                <a:lnTo>
                  <a:pt x="3279" y="1354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1247760" y="1749600"/>
            <a:ext cx="6715080" cy="3070080"/>
          </a:xfrm>
          <a:custGeom>
            <a:avLst/>
            <a:gdLst>
              <a:gd name="textAreaLeft" fmla="*/ 0 w 6715080"/>
              <a:gd name="textAreaRight" fmla="*/ 6715440 w 6715080"/>
              <a:gd name="textAreaTop" fmla="*/ 0 h 3070080"/>
              <a:gd name="textAreaBottom" fmla="*/ 3070440 h 3070080"/>
            </a:gdLst>
            <a:ahLst/>
            <a:rect l="textAreaLeft" t="textAreaTop" r="textAreaRight" b="textAreaBottom"/>
            <a:pathLst>
              <a:path w="3268" h="2503">
                <a:moveTo>
                  <a:pt x="0" y="0"/>
                </a:moveTo>
                <a:lnTo>
                  <a:pt x="139" y="229"/>
                </a:lnTo>
                <a:lnTo>
                  <a:pt x="288" y="448"/>
                </a:lnTo>
                <a:lnTo>
                  <a:pt x="448" y="659"/>
                </a:lnTo>
                <a:lnTo>
                  <a:pt x="618" y="860"/>
                </a:lnTo>
                <a:lnTo>
                  <a:pt x="796" y="1054"/>
                </a:lnTo>
                <a:lnTo>
                  <a:pt x="984" y="1237"/>
                </a:lnTo>
                <a:lnTo>
                  <a:pt x="1179" y="1412"/>
                </a:lnTo>
                <a:lnTo>
                  <a:pt x="1385" y="1576"/>
                </a:lnTo>
                <a:lnTo>
                  <a:pt x="1596" y="1731"/>
                </a:lnTo>
                <a:lnTo>
                  <a:pt x="1815" y="1875"/>
                </a:lnTo>
                <a:lnTo>
                  <a:pt x="2042" y="2008"/>
                </a:lnTo>
                <a:lnTo>
                  <a:pt x="2275" y="2130"/>
                </a:lnTo>
                <a:lnTo>
                  <a:pt x="2514" y="2241"/>
                </a:lnTo>
                <a:lnTo>
                  <a:pt x="2759" y="2340"/>
                </a:lnTo>
                <a:lnTo>
                  <a:pt x="3010" y="2427"/>
                </a:lnTo>
                <a:lnTo>
                  <a:pt x="3267" y="2502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246320" y="4297320"/>
            <a:ext cx="0" cy="663480"/>
          </a:xfrm>
          <a:prstGeom prst="line">
            <a:avLst/>
          </a:prstGeom>
          <a:ln w="47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844560" y="1398600"/>
            <a:ext cx="287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981920" y="4262400"/>
            <a:ext cx="366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739880" y="1496880"/>
            <a:ext cx="341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018120" y="1820880"/>
            <a:ext cx="1543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2"/>
          <p:cNvSpPr/>
          <p:nvPr/>
        </p:nvSpPr>
        <p:spPr>
          <a:xfrm>
            <a:off x="1338120" y="3048120"/>
            <a:ext cx="3198960" cy="1253880"/>
          </a:xfrm>
          <a:custGeom>
            <a:avLst/>
            <a:gdLst>
              <a:gd name="textAreaLeft" fmla="*/ 0 w 3198960"/>
              <a:gd name="textAreaRight" fmla="*/ 3199320 w 3198960"/>
              <a:gd name="textAreaTop" fmla="*/ 0 h 1253880"/>
              <a:gd name="textAreaBottom" fmla="*/ 1254240 h 1253880"/>
            </a:gdLst>
            <a:ahLst/>
            <a:rect l="textAreaLeft" t="textAreaTop" r="textAreaRight" b="textAreaBottom"/>
            <a:pathLst>
              <a:path w="1557" h="946">
                <a:moveTo>
                  <a:pt x="1556" y="945"/>
                </a:moveTo>
                <a:lnTo>
                  <a:pt x="1556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090880" y="5114880"/>
            <a:ext cx="207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ptimum f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erfect mar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1433520" y="2489040"/>
            <a:ext cx="720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 flipH="1">
            <a:off x="3976200" y="4314960"/>
            <a:ext cx="528840" cy="86976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827600" y="4316400"/>
            <a:ext cx="527040" cy="870120"/>
          </a:xfrm>
          <a:prstGeom prst="line">
            <a:avLst/>
          </a:prstGeom>
          <a:ln w="47160">
            <a:solidFill>
              <a:srgbClr val="7f604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7"/>
          <p:cNvSpPr/>
          <p:nvPr/>
        </p:nvSpPr>
        <p:spPr>
          <a:xfrm>
            <a:off x="1355760" y="3448080"/>
            <a:ext cx="6434280" cy="776160"/>
          </a:xfrm>
          <a:custGeom>
            <a:avLst/>
            <a:gdLst>
              <a:gd name="textAreaLeft" fmla="*/ 0 w 6434280"/>
              <a:gd name="textAreaRight" fmla="*/ 6434640 w 6434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3132" h="633">
                <a:moveTo>
                  <a:pt x="0" y="632"/>
                </a:moveTo>
                <a:lnTo>
                  <a:pt x="244" y="613"/>
                </a:lnTo>
                <a:lnTo>
                  <a:pt x="484" y="591"/>
                </a:lnTo>
                <a:lnTo>
                  <a:pt x="719" y="567"/>
                </a:lnTo>
                <a:lnTo>
                  <a:pt x="948" y="538"/>
                </a:lnTo>
                <a:lnTo>
                  <a:pt x="1171" y="508"/>
                </a:lnTo>
                <a:lnTo>
                  <a:pt x="1388" y="474"/>
                </a:lnTo>
                <a:lnTo>
                  <a:pt x="1598" y="437"/>
                </a:lnTo>
                <a:lnTo>
                  <a:pt x="1802" y="398"/>
                </a:lnTo>
                <a:lnTo>
                  <a:pt x="1997" y="357"/>
                </a:lnTo>
                <a:lnTo>
                  <a:pt x="2185" y="313"/>
                </a:lnTo>
                <a:lnTo>
                  <a:pt x="2365" y="267"/>
                </a:lnTo>
                <a:lnTo>
                  <a:pt x="2537" y="218"/>
                </a:lnTo>
                <a:lnTo>
                  <a:pt x="2699" y="167"/>
                </a:lnTo>
                <a:lnTo>
                  <a:pt x="2853" y="113"/>
                </a:lnTo>
                <a:lnTo>
                  <a:pt x="2997" y="58"/>
                </a:lnTo>
                <a:lnTo>
                  <a:pt x="3131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870600" y="3459240"/>
            <a:ext cx="2479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0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monopo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4805280" y="3209760"/>
            <a:ext cx="0" cy="104472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5173560" y="5114880"/>
            <a:ext cx="3527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ptimum for monopo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ith economies of sc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 flipH="1">
            <a:off x="1350720" y="3208320"/>
            <a:ext cx="3454200" cy="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779400" y="6550200"/>
            <a:ext cx="88581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ads to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atural Monopoly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common in the Chemical Industr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52480" y="2719440"/>
            <a:ext cx="43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852480" y="2949480"/>
            <a:ext cx="43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876840" y="446256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689360" y="4462560"/>
            <a:ext cx="411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GB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6"/>
          <p:cNvSpPr/>
          <p:nvPr/>
        </p:nvSpPr>
        <p:spPr>
          <a:xfrm>
            <a:off x="4424400" y="2952720"/>
            <a:ext cx="21600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7"/>
          <p:cNvSpPr/>
          <p:nvPr/>
        </p:nvSpPr>
        <p:spPr>
          <a:xfrm>
            <a:off x="4692600" y="38386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9"/>
          <p:cNvSpPr/>
          <p:nvPr/>
        </p:nvSpPr>
        <p:spPr>
          <a:xfrm>
            <a:off x="8436240" y="7222680"/>
            <a:ext cx="1255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MonopolyMarketAnalysis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7:19Z</dcterms:modified>
  <cp:revision>140</cp:revision>
  <dc:subject/>
  <dc:title>Monopoly market analysis presentation</dc:title>
</cp:coreProperties>
</file>