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5AC-79E7-4787-9A82-7B66A4E1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32B-1104-4B99-B4BB-D93EF3FA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0621-E9F9-45D2-BAF0-DB370937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E76-FA90-4975-A02B-10D0C66E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D9E3-6AA5-4E44-9909-4EF042CD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6DD-9B53-4374-B475-B0930C27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840-54EE-4742-8595-2C72000A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7F05-1E82-45FD-9B62-3C8B8B1A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98F6-FE20-4866-837C-75467E7A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EC50-0FF7-4BFE-A86A-6ACC87AB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9B1C-4368-4C81-8C5E-5DF483A8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CB9-6194-4C98-85D1-5313742E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con08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C412-CF4D-4213-B467-B2F6B12E36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8"/>
          <p:cNvSpPr/>
          <p:nvPr/>
        </p:nvSpPr>
        <p:spPr>
          <a:xfrm>
            <a:off x="1068480" y="2976480"/>
            <a:ext cx="6696000" cy="3240"/>
          </a:xfrm>
          <a:custGeom>
            <a:avLst/>
            <a:gdLst>
              <a:gd name="textAreaLeft" fmla="*/ 0 w 6696000"/>
              <a:gd name="textAreaRight" fmla="*/ 6696360 w 66960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218" h="2">
                <a:moveTo>
                  <a:pt x="0" y="2"/>
                </a:moveTo>
                <a:lnTo>
                  <a:pt x="4218" y="0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468520" y="353880"/>
            <a:ext cx="50817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opoly Marke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4"/>
          <p:cNvSpPr/>
          <p:nvPr/>
        </p:nvSpPr>
        <p:spPr>
          <a:xfrm>
            <a:off x="1058760" y="1263600"/>
            <a:ext cx="6927840" cy="2927520"/>
          </a:xfrm>
          <a:custGeom>
            <a:avLst/>
            <a:gdLst>
              <a:gd name="textAreaLeft" fmla="*/ 0 w 6927840"/>
              <a:gd name="textAreaRight" fmla="*/ 6928200 w 6927840"/>
              <a:gd name="textAreaTop" fmla="*/ 0 h 2927520"/>
              <a:gd name="textAreaBottom" fmla="*/ 2927880 h 2927520"/>
            </a:gdLst>
            <a:ahLst/>
            <a:rect l="textAreaLeft" t="textAreaTop" r="textAreaRight" b="textAreaBottom"/>
            <a:pathLst>
              <a:path w="3372" h="2387">
                <a:moveTo>
                  <a:pt x="0" y="0"/>
                </a:moveTo>
                <a:lnTo>
                  <a:pt x="0" y="2386"/>
                </a:lnTo>
                <a:lnTo>
                  <a:pt x="3371" y="238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5"/>
          <p:cNvSpPr/>
          <p:nvPr/>
        </p:nvSpPr>
        <p:spPr>
          <a:xfrm>
            <a:off x="1060560" y="1627200"/>
            <a:ext cx="6738840" cy="1666800"/>
          </a:xfrm>
          <a:custGeom>
            <a:avLst/>
            <a:gdLst>
              <a:gd name="textAreaLeft" fmla="*/ 0 w 6738840"/>
              <a:gd name="textAreaRight" fmla="*/ 6739200 w 673884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w="3280" h="1360">
                <a:moveTo>
                  <a:pt x="0" y="0"/>
                </a:moveTo>
                <a:lnTo>
                  <a:pt x="161" y="168"/>
                </a:lnTo>
                <a:lnTo>
                  <a:pt x="330" y="324"/>
                </a:lnTo>
                <a:lnTo>
                  <a:pt x="507" y="471"/>
                </a:lnTo>
                <a:lnTo>
                  <a:pt x="691" y="606"/>
                </a:lnTo>
                <a:lnTo>
                  <a:pt x="881" y="732"/>
                </a:lnTo>
                <a:lnTo>
                  <a:pt x="1078" y="847"/>
                </a:lnTo>
                <a:lnTo>
                  <a:pt x="1280" y="951"/>
                </a:lnTo>
                <a:lnTo>
                  <a:pt x="1489" y="1042"/>
                </a:lnTo>
                <a:lnTo>
                  <a:pt x="1700" y="1123"/>
                </a:lnTo>
                <a:lnTo>
                  <a:pt x="1917" y="1193"/>
                </a:lnTo>
                <a:lnTo>
                  <a:pt x="2136" y="1251"/>
                </a:lnTo>
                <a:lnTo>
                  <a:pt x="2361" y="1296"/>
                </a:lnTo>
                <a:lnTo>
                  <a:pt x="2587" y="1330"/>
                </a:lnTo>
                <a:lnTo>
                  <a:pt x="2816" y="1350"/>
                </a:lnTo>
                <a:lnTo>
                  <a:pt x="3047" y="1359"/>
                </a:lnTo>
                <a:lnTo>
                  <a:pt x="3279" y="1354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6"/>
          <p:cNvSpPr/>
          <p:nvPr/>
        </p:nvSpPr>
        <p:spPr>
          <a:xfrm>
            <a:off x="1060560" y="1643040"/>
            <a:ext cx="6715080" cy="3070080"/>
          </a:xfrm>
          <a:custGeom>
            <a:avLst/>
            <a:gdLst>
              <a:gd name="textAreaLeft" fmla="*/ 0 w 6715080"/>
              <a:gd name="textAreaRight" fmla="*/ 6715440 w 6715080"/>
              <a:gd name="textAreaTop" fmla="*/ 0 h 3070080"/>
              <a:gd name="textAreaBottom" fmla="*/ 3070440 h 3070080"/>
            </a:gdLst>
            <a:ahLst/>
            <a:rect l="textAreaLeft" t="textAreaTop" r="textAreaRight" b="textAreaBottom"/>
            <a:pathLst>
              <a:path w="3268" h="2503">
                <a:moveTo>
                  <a:pt x="0" y="0"/>
                </a:moveTo>
                <a:lnTo>
                  <a:pt x="139" y="229"/>
                </a:lnTo>
                <a:lnTo>
                  <a:pt x="288" y="448"/>
                </a:lnTo>
                <a:lnTo>
                  <a:pt x="448" y="659"/>
                </a:lnTo>
                <a:lnTo>
                  <a:pt x="618" y="860"/>
                </a:lnTo>
                <a:lnTo>
                  <a:pt x="796" y="1054"/>
                </a:lnTo>
                <a:lnTo>
                  <a:pt x="984" y="1237"/>
                </a:lnTo>
                <a:lnTo>
                  <a:pt x="1179" y="1412"/>
                </a:lnTo>
                <a:lnTo>
                  <a:pt x="1385" y="1576"/>
                </a:lnTo>
                <a:lnTo>
                  <a:pt x="1596" y="1731"/>
                </a:lnTo>
                <a:lnTo>
                  <a:pt x="1815" y="1875"/>
                </a:lnTo>
                <a:lnTo>
                  <a:pt x="2042" y="2008"/>
                </a:lnTo>
                <a:lnTo>
                  <a:pt x="2275" y="2130"/>
                </a:lnTo>
                <a:lnTo>
                  <a:pt x="2514" y="2241"/>
                </a:lnTo>
                <a:lnTo>
                  <a:pt x="2759" y="2340"/>
                </a:lnTo>
                <a:lnTo>
                  <a:pt x="3010" y="2427"/>
                </a:lnTo>
                <a:lnTo>
                  <a:pt x="3267" y="2502"/>
                </a:lnTo>
              </a:path>
            </a:pathLst>
          </a:custGeom>
          <a:noFill/>
          <a:ln w="126720">
            <a:solidFill>
              <a:srgbClr val="bf4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1058760" y="4191120"/>
            <a:ext cx="0" cy="66348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57360" y="1292400"/>
            <a:ext cx="288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715160" y="4282920"/>
            <a:ext cx="2905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955880" y="1682640"/>
            <a:ext cx="1778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D </a:t>
            </a:r>
            <a:r>
              <a:rPr b="1" i="1" lang="en-GB" sz="2600" spc="-1" strike="noStrike" baseline="-25000">
                <a:solidFill>
                  <a:srgbClr val="0000ff"/>
                </a:solidFill>
                <a:latin typeface="Arial"/>
              </a:rPr>
              <a:t>(monopoly)</a:t>
            </a: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5541840" y="3857760"/>
            <a:ext cx="0" cy="933480"/>
          </a:xfrm>
          <a:prstGeom prst="line">
            <a:avLst/>
          </a:prstGeom>
          <a:ln w="63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119640" y="861840"/>
            <a:ext cx="3230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a1009f"/>
                </a:solidFill>
                <a:latin typeface="Arial"/>
              </a:rPr>
              <a:t>Perfect mark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a1009f"/>
                </a:solidFill>
                <a:latin typeface="Arial"/>
              </a:rPr>
              <a:t>MC curve identi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a1009f"/>
                </a:solidFill>
                <a:latin typeface="Arial"/>
              </a:rPr>
              <a:t>to Supply 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4"/>
          <p:cNvSpPr/>
          <p:nvPr/>
        </p:nvSpPr>
        <p:spPr>
          <a:xfrm>
            <a:off x="1143000" y="2749680"/>
            <a:ext cx="2282760" cy="136044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1360440"/>
              <a:gd name="textAreaBottom" fmla="*/ 1360800 h 1360440"/>
            </a:gdLst>
            <a:ahLst/>
            <a:rect l="textAreaLeft" t="textAreaTop" r="textAreaRight" b="textAreaBottom"/>
            <a:pathLst>
              <a:path w="1111" h="1109">
                <a:moveTo>
                  <a:pt x="1110" y="1108"/>
                </a:moveTo>
                <a:lnTo>
                  <a:pt x="1110" y="0"/>
                </a:lnTo>
                <a:lnTo>
                  <a:pt x="0" y="0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419040" y="2805120"/>
            <a:ext cx="64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GB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7"/>
          <p:cNvSpPr/>
          <p:nvPr/>
        </p:nvSpPr>
        <p:spPr>
          <a:xfrm>
            <a:off x="1125360" y="2970360"/>
            <a:ext cx="3198960" cy="1160280"/>
          </a:xfrm>
          <a:custGeom>
            <a:avLst/>
            <a:gdLst>
              <a:gd name="textAreaLeft" fmla="*/ 0 w 3198960"/>
              <a:gd name="textAreaRight" fmla="*/ 3199320 w 3198960"/>
              <a:gd name="textAreaTop" fmla="*/ 0 h 1160280"/>
              <a:gd name="textAreaBottom" fmla="*/ 1160640 h 1160280"/>
            </a:gdLst>
            <a:ahLst/>
            <a:rect l="textAreaLeft" t="textAreaTop" r="textAreaRight" b="textAreaBottom"/>
            <a:pathLst>
              <a:path w="1557" h="946">
                <a:moveTo>
                  <a:pt x="1556" y="945"/>
                </a:moveTo>
                <a:lnTo>
                  <a:pt x="1556" y="0"/>
                </a:lnTo>
                <a:lnTo>
                  <a:pt x="0" y="0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2887200" y="4208400"/>
            <a:ext cx="528840" cy="1435320"/>
          </a:xfrm>
          <a:prstGeom prst="line">
            <a:avLst/>
          </a:prstGeom>
          <a:ln w="47160">
            <a:solidFill>
              <a:srgbClr val="7f604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60480" y="5686560"/>
            <a:ext cx="300024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fit maximum for monopoly market. Monopolist firm is a price sett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4741920" y="5686560"/>
            <a:ext cx="475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fit maximum point for perfect market. All firms are price tak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7981920" y="45338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bf4100"/>
                </a:solidFill>
                <a:latin typeface="Arial"/>
              </a:rPr>
              <a:t>MR</a:t>
            </a:r>
            <a:r>
              <a:rPr b="1" i="1" lang="en-GB" sz="2600" spc="-1" strike="noStrike" baseline="-25000">
                <a:solidFill>
                  <a:srgbClr val="bf4100"/>
                </a:solidFill>
                <a:latin typeface="Arial"/>
              </a:rPr>
              <a:t>(monopol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3"/>
          <p:cNvSpPr/>
          <p:nvPr/>
        </p:nvSpPr>
        <p:spPr>
          <a:xfrm>
            <a:off x="4349880" y="4210200"/>
            <a:ext cx="528480" cy="1434960"/>
          </a:xfrm>
          <a:prstGeom prst="line">
            <a:avLst/>
          </a:prstGeom>
          <a:ln w="47160">
            <a:solidFill>
              <a:srgbClr val="7f604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5"/>
          <p:cNvSpPr/>
          <p:nvPr/>
        </p:nvSpPr>
        <p:spPr>
          <a:xfrm>
            <a:off x="1147680" y="1643040"/>
            <a:ext cx="5032440" cy="2301840"/>
          </a:xfrm>
          <a:custGeom>
            <a:avLst/>
            <a:gdLst>
              <a:gd name="textAreaLeft" fmla="*/ 0 w 5032440"/>
              <a:gd name="textAreaRight" fmla="*/ 5032800 w 5032440"/>
              <a:gd name="textAreaTop" fmla="*/ 0 h 2301840"/>
              <a:gd name="textAreaBottom" fmla="*/ 2302200 h 2301840"/>
            </a:gdLst>
            <a:ahLst/>
            <a:rect l="textAreaLeft" t="textAreaTop" r="textAreaRight" b="textAreaBottom"/>
            <a:pathLst>
              <a:path w="2450" h="1877">
                <a:moveTo>
                  <a:pt x="0" y="1876"/>
                </a:moveTo>
                <a:lnTo>
                  <a:pt x="191" y="1819"/>
                </a:lnTo>
                <a:lnTo>
                  <a:pt x="379" y="1754"/>
                </a:lnTo>
                <a:lnTo>
                  <a:pt x="562" y="1679"/>
                </a:lnTo>
                <a:lnTo>
                  <a:pt x="741" y="1596"/>
                </a:lnTo>
                <a:lnTo>
                  <a:pt x="915" y="1505"/>
                </a:lnTo>
                <a:lnTo>
                  <a:pt x="1085" y="1404"/>
                </a:lnTo>
                <a:lnTo>
                  <a:pt x="1250" y="1297"/>
                </a:lnTo>
                <a:lnTo>
                  <a:pt x="1409" y="1180"/>
                </a:lnTo>
                <a:lnTo>
                  <a:pt x="1562" y="1058"/>
                </a:lnTo>
                <a:lnTo>
                  <a:pt x="1709" y="927"/>
                </a:lnTo>
                <a:lnTo>
                  <a:pt x="1849" y="790"/>
                </a:lnTo>
                <a:lnTo>
                  <a:pt x="1984" y="644"/>
                </a:lnTo>
                <a:lnTo>
                  <a:pt x="2110" y="493"/>
                </a:lnTo>
                <a:lnTo>
                  <a:pt x="2231" y="335"/>
                </a:lnTo>
                <a:lnTo>
                  <a:pt x="2343" y="171"/>
                </a:lnTo>
                <a:lnTo>
                  <a:pt x="2449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6613560" y="2374920"/>
            <a:ext cx="3168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i="1" lang="en-GB" sz="2600" spc="-1" strike="noStrike" baseline="-25000">
                <a:solidFill>
                  <a:srgbClr val="0000ff"/>
                </a:solidFill>
                <a:latin typeface="Arial"/>
              </a:rPr>
              <a:t>(perfect)</a:t>
            </a: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i="1" lang="en-GB" sz="2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Arial"/>
              </a:rPr>
              <a:t>(price ta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300480" y="4425840"/>
            <a:ext cx="431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186080" y="4427640"/>
            <a:ext cx="411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349200" y="2517840"/>
            <a:ext cx="64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GB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5"/>
          <p:cNvSpPr/>
          <p:nvPr/>
        </p:nvSpPr>
        <p:spPr>
          <a:xfrm>
            <a:off x="3316320" y="32385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6"/>
          <p:cNvSpPr/>
          <p:nvPr/>
        </p:nvSpPr>
        <p:spPr>
          <a:xfrm>
            <a:off x="4216320" y="28638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378400" y="4734000"/>
            <a:ext cx="411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8436240" y="7222680"/>
            <a:ext cx="1255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MonopolyMarketAnalysis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33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reeform 2"/>
          <p:cNvSpPr/>
          <p:nvPr/>
        </p:nvSpPr>
        <p:spPr>
          <a:xfrm>
            <a:off x="1335240" y="1749600"/>
            <a:ext cx="5032080" cy="2301840"/>
          </a:xfrm>
          <a:custGeom>
            <a:avLst/>
            <a:gdLst>
              <a:gd name="textAreaLeft" fmla="*/ 0 w 5032080"/>
              <a:gd name="textAreaRight" fmla="*/ 5032440 w 5032080"/>
              <a:gd name="textAreaTop" fmla="*/ 0 h 2301840"/>
              <a:gd name="textAreaBottom" fmla="*/ 2302200 h 2301840"/>
            </a:gdLst>
            <a:ahLst/>
            <a:rect l="textAreaLeft" t="textAreaTop" r="textAreaRight" b="textAreaBottom"/>
            <a:pathLst>
              <a:path w="2450" h="1877">
                <a:moveTo>
                  <a:pt x="0" y="1876"/>
                </a:moveTo>
                <a:lnTo>
                  <a:pt x="191" y="1819"/>
                </a:lnTo>
                <a:lnTo>
                  <a:pt x="379" y="1754"/>
                </a:lnTo>
                <a:lnTo>
                  <a:pt x="562" y="1679"/>
                </a:lnTo>
                <a:lnTo>
                  <a:pt x="741" y="1596"/>
                </a:lnTo>
                <a:lnTo>
                  <a:pt x="915" y="1505"/>
                </a:lnTo>
                <a:lnTo>
                  <a:pt x="1085" y="1404"/>
                </a:lnTo>
                <a:lnTo>
                  <a:pt x="1250" y="1297"/>
                </a:lnTo>
                <a:lnTo>
                  <a:pt x="1409" y="1180"/>
                </a:lnTo>
                <a:lnTo>
                  <a:pt x="1562" y="1058"/>
                </a:lnTo>
                <a:lnTo>
                  <a:pt x="1709" y="927"/>
                </a:lnTo>
                <a:lnTo>
                  <a:pt x="1849" y="790"/>
                </a:lnTo>
                <a:lnTo>
                  <a:pt x="1984" y="644"/>
                </a:lnTo>
                <a:lnTo>
                  <a:pt x="2110" y="493"/>
                </a:lnTo>
                <a:lnTo>
                  <a:pt x="2231" y="335"/>
                </a:lnTo>
                <a:lnTo>
                  <a:pt x="2343" y="171"/>
                </a:lnTo>
                <a:lnTo>
                  <a:pt x="2449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15760" y="716040"/>
            <a:ext cx="676908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opoly with Economies of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4"/>
          <p:cNvSpPr/>
          <p:nvPr/>
        </p:nvSpPr>
        <p:spPr>
          <a:xfrm>
            <a:off x="1246320" y="1370160"/>
            <a:ext cx="6927840" cy="2927160"/>
          </a:xfrm>
          <a:custGeom>
            <a:avLst/>
            <a:gdLst>
              <a:gd name="textAreaLeft" fmla="*/ 0 w 6927840"/>
              <a:gd name="textAreaRight" fmla="*/ 6928200 w 6927840"/>
              <a:gd name="textAreaTop" fmla="*/ 0 h 2927160"/>
              <a:gd name="textAreaBottom" fmla="*/ 2927520 h 2927160"/>
            </a:gdLst>
            <a:ahLst/>
            <a:rect l="textAreaLeft" t="textAreaTop" r="textAreaRight" b="textAreaBottom"/>
            <a:pathLst>
              <a:path w="3372" h="2387">
                <a:moveTo>
                  <a:pt x="0" y="0"/>
                </a:moveTo>
                <a:lnTo>
                  <a:pt x="0" y="2386"/>
                </a:lnTo>
                <a:lnTo>
                  <a:pt x="3371" y="238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"/>
          <p:cNvSpPr/>
          <p:nvPr/>
        </p:nvSpPr>
        <p:spPr>
          <a:xfrm>
            <a:off x="1247760" y="1733400"/>
            <a:ext cx="6738840" cy="1667160"/>
          </a:xfrm>
          <a:custGeom>
            <a:avLst/>
            <a:gdLst>
              <a:gd name="textAreaLeft" fmla="*/ 0 w 6738840"/>
              <a:gd name="textAreaRight" fmla="*/ 6739200 w 6738840"/>
              <a:gd name="textAreaTop" fmla="*/ 0 h 1667160"/>
              <a:gd name="textAreaBottom" fmla="*/ 1667520 h 1667160"/>
            </a:gdLst>
            <a:ahLst/>
            <a:rect l="textAreaLeft" t="textAreaTop" r="textAreaRight" b="textAreaBottom"/>
            <a:pathLst>
              <a:path w="3280" h="1360">
                <a:moveTo>
                  <a:pt x="0" y="0"/>
                </a:moveTo>
                <a:lnTo>
                  <a:pt x="161" y="168"/>
                </a:lnTo>
                <a:lnTo>
                  <a:pt x="330" y="324"/>
                </a:lnTo>
                <a:lnTo>
                  <a:pt x="507" y="471"/>
                </a:lnTo>
                <a:lnTo>
                  <a:pt x="691" y="606"/>
                </a:lnTo>
                <a:lnTo>
                  <a:pt x="881" y="732"/>
                </a:lnTo>
                <a:lnTo>
                  <a:pt x="1078" y="847"/>
                </a:lnTo>
                <a:lnTo>
                  <a:pt x="1280" y="951"/>
                </a:lnTo>
                <a:lnTo>
                  <a:pt x="1489" y="1042"/>
                </a:lnTo>
                <a:lnTo>
                  <a:pt x="1700" y="1123"/>
                </a:lnTo>
                <a:lnTo>
                  <a:pt x="1917" y="1193"/>
                </a:lnTo>
                <a:lnTo>
                  <a:pt x="2136" y="1251"/>
                </a:lnTo>
                <a:lnTo>
                  <a:pt x="2361" y="1296"/>
                </a:lnTo>
                <a:lnTo>
                  <a:pt x="2587" y="1330"/>
                </a:lnTo>
                <a:lnTo>
                  <a:pt x="2816" y="1350"/>
                </a:lnTo>
                <a:lnTo>
                  <a:pt x="3047" y="1359"/>
                </a:lnTo>
                <a:lnTo>
                  <a:pt x="3279" y="1354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1247760" y="1749600"/>
            <a:ext cx="6715080" cy="3070080"/>
          </a:xfrm>
          <a:custGeom>
            <a:avLst/>
            <a:gdLst>
              <a:gd name="textAreaLeft" fmla="*/ 0 w 6715080"/>
              <a:gd name="textAreaRight" fmla="*/ 6715440 w 6715080"/>
              <a:gd name="textAreaTop" fmla="*/ 0 h 3070080"/>
              <a:gd name="textAreaBottom" fmla="*/ 3070440 h 3070080"/>
            </a:gdLst>
            <a:ahLst/>
            <a:rect l="textAreaLeft" t="textAreaTop" r="textAreaRight" b="textAreaBottom"/>
            <a:pathLst>
              <a:path w="3268" h="2503">
                <a:moveTo>
                  <a:pt x="0" y="0"/>
                </a:moveTo>
                <a:lnTo>
                  <a:pt x="139" y="229"/>
                </a:lnTo>
                <a:lnTo>
                  <a:pt x="288" y="448"/>
                </a:lnTo>
                <a:lnTo>
                  <a:pt x="448" y="659"/>
                </a:lnTo>
                <a:lnTo>
                  <a:pt x="618" y="860"/>
                </a:lnTo>
                <a:lnTo>
                  <a:pt x="796" y="1054"/>
                </a:lnTo>
                <a:lnTo>
                  <a:pt x="984" y="1237"/>
                </a:lnTo>
                <a:lnTo>
                  <a:pt x="1179" y="1412"/>
                </a:lnTo>
                <a:lnTo>
                  <a:pt x="1385" y="1576"/>
                </a:lnTo>
                <a:lnTo>
                  <a:pt x="1596" y="1731"/>
                </a:lnTo>
                <a:lnTo>
                  <a:pt x="1815" y="1875"/>
                </a:lnTo>
                <a:lnTo>
                  <a:pt x="2042" y="2008"/>
                </a:lnTo>
                <a:lnTo>
                  <a:pt x="2275" y="2130"/>
                </a:lnTo>
                <a:lnTo>
                  <a:pt x="2514" y="2241"/>
                </a:lnTo>
                <a:lnTo>
                  <a:pt x="2759" y="2340"/>
                </a:lnTo>
                <a:lnTo>
                  <a:pt x="3010" y="2427"/>
                </a:lnTo>
                <a:lnTo>
                  <a:pt x="3267" y="2502"/>
                </a:lnTo>
              </a:path>
            </a:pathLst>
          </a:custGeom>
          <a:noFill/>
          <a:ln w="126720">
            <a:solidFill>
              <a:srgbClr val="bf4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1246320" y="4297320"/>
            <a:ext cx="0" cy="66348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844560" y="1398600"/>
            <a:ext cx="287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981920" y="4262400"/>
            <a:ext cx="366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1739880" y="1496880"/>
            <a:ext cx="3412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2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6018120" y="1820880"/>
            <a:ext cx="1543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a1009f"/>
                </a:solidFill>
                <a:latin typeface="Arial"/>
              </a:rPr>
              <a:t>MC</a:t>
            </a:r>
            <a:r>
              <a:rPr b="1" lang="en-GB" sz="2800" spc="-1" strike="noStrike" baseline="-25000">
                <a:solidFill>
                  <a:srgbClr val="a1009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a1009f"/>
                </a:solidFill>
                <a:latin typeface="Arial"/>
              </a:rPr>
              <a:t>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a1009f"/>
                </a:solidFill>
                <a:latin typeface="Arial"/>
              </a:rPr>
              <a:t>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2"/>
          <p:cNvSpPr/>
          <p:nvPr/>
        </p:nvSpPr>
        <p:spPr>
          <a:xfrm>
            <a:off x="1338120" y="3048120"/>
            <a:ext cx="3198960" cy="1253880"/>
          </a:xfrm>
          <a:custGeom>
            <a:avLst/>
            <a:gdLst>
              <a:gd name="textAreaLeft" fmla="*/ 0 w 3198960"/>
              <a:gd name="textAreaRight" fmla="*/ 3199320 w 3198960"/>
              <a:gd name="textAreaTop" fmla="*/ 0 h 1253880"/>
              <a:gd name="textAreaBottom" fmla="*/ 1254240 h 1253880"/>
            </a:gdLst>
            <a:ahLst/>
            <a:rect l="textAreaLeft" t="textAreaTop" r="textAreaRight" b="textAreaBottom"/>
            <a:pathLst>
              <a:path w="1557" h="946">
                <a:moveTo>
                  <a:pt x="1556" y="945"/>
                </a:moveTo>
                <a:lnTo>
                  <a:pt x="1556" y="0"/>
                </a:lnTo>
                <a:lnTo>
                  <a:pt x="0" y="0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090880" y="5114880"/>
            <a:ext cx="20746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ptimum f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erfect mark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1433520" y="2489040"/>
            <a:ext cx="720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M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 flipH="1">
            <a:off x="3976200" y="4314960"/>
            <a:ext cx="528840" cy="869760"/>
          </a:xfrm>
          <a:prstGeom prst="line">
            <a:avLst/>
          </a:prstGeom>
          <a:ln w="47160">
            <a:solidFill>
              <a:srgbClr val="7f604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4827600" y="4316400"/>
            <a:ext cx="527040" cy="870120"/>
          </a:xfrm>
          <a:prstGeom prst="line">
            <a:avLst/>
          </a:prstGeom>
          <a:ln w="47160">
            <a:solidFill>
              <a:srgbClr val="7f604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7"/>
          <p:cNvSpPr/>
          <p:nvPr/>
        </p:nvSpPr>
        <p:spPr>
          <a:xfrm>
            <a:off x="1355760" y="3448080"/>
            <a:ext cx="6434280" cy="776160"/>
          </a:xfrm>
          <a:custGeom>
            <a:avLst/>
            <a:gdLst>
              <a:gd name="textAreaLeft" fmla="*/ 0 w 6434280"/>
              <a:gd name="textAreaRight" fmla="*/ 6434640 w 643428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3132" h="633">
                <a:moveTo>
                  <a:pt x="0" y="632"/>
                </a:moveTo>
                <a:lnTo>
                  <a:pt x="244" y="613"/>
                </a:lnTo>
                <a:lnTo>
                  <a:pt x="484" y="591"/>
                </a:lnTo>
                <a:lnTo>
                  <a:pt x="719" y="567"/>
                </a:lnTo>
                <a:lnTo>
                  <a:pt x="948" y="538"/>
                </a:lnTo>
                <a:lnTo>
                  <a:pt x="1171" y="508"/>
                </a:lnTo>
                <a:lnTo>
                  <a:pt x="1388" y="474"/>
                </a:lnTo>
                <a:lnTo>
                  <a:pt x="1598" y="437"/>
                </a:lnTo>
                <a:lnTo>
                  <a:pt x="1802" y="398"/>
                </a:lnTo>
                <a:lnTo>
                  <a:pt x="1997" y="357"/>
                </a:lnTo>
                <a:lnTo>
                  <a:pt x="2185" y="313"/>
                </a:lnTo>
                <a:lnTo>
                  <a:pt x="2365" y="267"/>
                </a:lnTo>
                <a:lnTo>
                  <a:pt x="2537" y="218"/>
                </a:lnTo>
                <a:lnTo>
                  <a:pt x="2699" y="167"/>
                </a:lnTo>
                <a:lnTo>
                  <a:pt x="2853" y="113"/>
                </a:lnTo>
                <a:lnTo>
                  <a:pt x="2997" y="58"/>
                </a:lnTo>
                <a:lnTo>
                  <a:pt x="3131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6870600" y="3459240"/>
            <a:ext cx="2479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0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a1009f"/>
                </a:solidFill>
                <a:latin typeface="Arial"/>
              </a:rPr>
              <a:t>MC</a:t>
            </a:r>
            <a:r>
              <a:rPr b="1" lang="en-GB" sz="2800" spc="-1" strike="noStrike" baseline="-25000">
                <a:solidFill>
                  <a:srgbClr val="a1009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a1009f"/>
                </a:solidFill>
                <a:latin typeface="Arial"/>
              </a:rPr>
              <a:t>monopo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9"/>
          <p:cNvSpPr/>
          <p:nvPr/>
        </p:nvSpPr>
        <p:spPr>
          <a:xfrm>
            <a:off x="4805280" y="3209760"/>
            <a:ext cx="0" cy="1044720"/>
          </a:xfrm>
          <a:prstGeom prst="line">
            <a:avLst/>
          </a:prstGeom>
          <a:ln w="47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5173560" y="5114880"/>
            <a:ext cx="3527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ptimum for monopo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with economies of sca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1"/>
          <p:cNvSpPr/>
          <p:nvPr/>
        </p:nvSpPr>
        <p:spPr>
          <a:xfrm flipH="1">
            <a:off x="1350720" y="3208320"/>
            <a:ext cx="3454200" cy="0"/>
          </a:xfrm>
          <a:prstGeom prst="line">
            <a:avLst/>
          </a:prstGeom>
          <a:ln w="47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779400" y="6550200"/>
            <a:ext cx="88581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eads to a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Natural Monopoly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common in the Chemical Industr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852480" y="2719440"/>
            <a:ext cx="43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852480" y="2949480"/>
            <a:ext cx="43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876840" y="4462560"/>
            <a:ext cx="411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689360" y="4462560"/>
            <a:ext cx="411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6"/>
          <p:cNvSpPr/>
          <p:nvPr/>
        </p:nvSpPr>
        <p:spPr>
          <a:xfrm>
            <a:off x="4424400" y="2952720"/>
            <a:ext cx="21600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7"/>
          <p:cNvSpPr/>
          <p:nvPr/>
        </p:nvSpPr>
        <p:spPr>
          <a:xfrm>
            <a:off x="4692600" y="383868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9"/>
          <p:cNvSpPr/>
          <p:nvPr/>
        </p:nvSpPr>
        <p:spPr>
          <a:xfrm>
            <a:off x="8436240" y="7222680"/>
            <a:ext cx="1255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MonopolyMarketAnalysis|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3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2:54Z</dcterms:created>
  <dc:creator>Brian Grievson</dc:creator>
  <dc:description/>
  <dc:language>en-US</dc:language>
  <cp:lastModifiedBy>Chris Runciman</cp:lastModifiedBy>
  <dcterms:modified xsi:type="dcterms:W3CDTF">2020-11-27T10:17:19Z</dcterms:modified>
  <cp:revision>140</cp:revision>
  <dc:subject/>
  <dc:title>Monopoly market analysis presentation</dc:title>
</cp:coreProperties>
</file>