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77BB-C2C7-4149-BD38-311C7B111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1067112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3640" y="3340080"/>
            <a:ext cx="1067112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60AF-2DFE-4C66-AE48-6FD607E18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364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6168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14EF-47C3-46E5-A1CF-D75FAF395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01560" y="157284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809840" y="157284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3640" y="334008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01560" y="334008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809840" y="334008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5876-6A98-4655-887E-62634FC32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3640" y="1572840"/>
            <a:ext cx="1067112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C434-1672-4EA8-8998-D83641326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1067112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0D0F-FB54-4178-A247-835DE27C6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C584-A196-4B55-9522-A42CBC487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6F59-053B-4BB7-B3C1-828327A5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3640" y="353880"/>
            <a:ext cx="1067112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8ED2-0378-4D8B-8E44-BDD72A117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364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087C-2F9D-4F3B-A715-34781025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6168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2A80-288C-4D7A-9633-99F50B9D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3640" y="3340080"/>
            <a:ext cx="1067112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26EB-A8F0-4C28-91A1-7A6463CF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3640" y="1572840"/>
            <a:ext cx="1067112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kecon08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78320"/>
            <a:ext cx="318456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864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DCE73-27E3-42CA-9C4B-A8DB6550C7B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rsc.li/32MW3Gd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1447920" y="826920"/>
            <a:ext cx="6927840" cy="2792520"/>
          </a:xfrm>
          <a:custGeom>
            <a:avLst/>
            <a:gdLst>
              <a:gd name="textAreaLeft" fmla="*/ 0 w 6927840"/>
              <a:gd name="textAreaRight" fmla="*/ 6928200 w 6927840"/>
              <a:gd name="textAreaTop" fmla="*/ 0 h 2792520"/>
              <a:gd name="textAreaBottom" fmla="*/ 2792880 h 2792520"/>
            </a:gdLst>
            <a:ahLst/>
            <a:rect l="textAreaLeft" t="textAreaTop" r="textAreaRight" b="textAreaBottom"/>
            <a:pathLst>
              <a:path w="3372" h="2387">
                <a:moveTo>
                  <a:pt x="0" y="0"/>
                </a:moveTo>
                <a:lnTo>
                  <a:pt x="0" y="2386"/>
                </a:lnTo>
                <a:lnTo>
                  <a:pt x="3371" y="2386"/>
                </a:lnTo>
              </a:path>
            </a:pathLst>
          </a:custGeom>
          <a:noFill/>
          <a:ln w="47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reeform 3"/>
          <p:cNvSpPr/>
          <p:nvPr/>
        </p:nvSpPr>
        <p:spPr>
          <a:xfrm>
            <a:off x="1450800" y="1055520"/>
            <a:ext cx="6737400" cy="1667160"/>
          </a:xfrm>
          <a:custGeom>
            <a:avLst/>
            <a:gdLst>
              <a:gd name="textAreaLeft" fmla="*/ 0 w 6737400"/>
              <a:gd name="textAreaRight" fmla="*/ 6737760 w 6737400"/>
              <a:gd name="textAreaTop" fmla="*/ 0 h 1667160"/>
              <a:gd name="textAreaBottom" fmla="*/ 1667520 h 1667160"/>
            </a:gdLst>
            <a:ahLst/>
            <a:rect l="textAreaLeft" t="textAreaTop" r="textAreaRight" b="textAreaBottom"/>
            <a:pathLst>
              <a:path w="3280" h="1359">
                <a:moveTo>
                  <a:pt x="0" y="0"/>
                </a:moveTo>
                <a:lnTo>
                  <a:pt x="161" y="167"/>
                </a:lnTo>
                <a:lnTo>
                  <a:pt x="330" y="323"/>
                </a:lnTo>
                <a:lnTo>
                  <a:pt x="507" y="470"/>
                </a:lnTo>
                <a:lnTo>
                  <a:pt x="691" y="606"/>
                </a:lnTo>
                <a:lnTo>
                  <a:pt x="881" y="731"/>
                </a:lnTo>
                <a:lnTo>
                  <a:pt x="1078" y="846"/>
                </a:lnTo>
                <a:lnTo>
                  <a:pt x="1280" y="950"/>
                </a:lnTo>
                <a:lnTo>
                  <a:pt x="1489" y="1041"/>
                </a:lnTo>
                <a:lnTo>
                  <a:pt x="1700" y="1122"/>
                </a:lnTo>
                <a:lnTo>
                  <a:pt x="1917" y="1192"/>
                </a:lnTo>
                <a:lnTo>
                  <a:pt x="2136" y="1250"/>
                </a:lnTo>
                <a:lnTo>
                  <a:pt x="2360" y="1295"/>
                </a:lnTo>
                <a:lnTo>
                  <a:pt x="2587" y="1329"/>
                </a:lnTo>
                <a:lnTo>
                  <a:pt x="2816" y="1350"/>
                </a:lnTo>
                <a:lnTo>
                  <a:pt x="3047" y="1358"/>
                </a:lnTo>
                <a:lnTo>
                  <a:pt x="3279" y="1354"/>
                </a:lnTo>
              </a:path>
            </a:pathLst>
          </a:custGeom>
          <a:noFill/>
          <a:ln w="1267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reeform 4"/>
          <p:cNvSpPr/>
          <p:nvPr/>
        </p:nvSpPr>
        <p:spPr>
          <a:xfrm>
            <a:off x="1450800" y="1071720"/>
            <a:ext cx="6713640" cy="3068640"/>
          </a:xfrm>
          <a:custGeom>
            <a:avLst/>
            <a:gdLst>
              <a:gd name="textAreaLeft" fmla="*/ 0 w 6713640"/>
              <a:gd name="textAreaRight" fmla="*/ 6714000 w 6713640"/>
              <a:gd name="textAreaTop" fmla="*/ 0 h 3068640"/>
              <a:gd name="textAreaBottom" fmla="*/ 3069000 h 3068640"/>
            </a:gdLst>
            <a:ahLst/>
            <a:rect l="textAreaLeft" t="textAreaTop" r="textAreaRight" b="textAreaBottom"/>
            <a:pathLst>
              <a:path w="3268" h="2502">
                <a:moveTo>
                  <a:pt x="0" y="0"/>
                </a:moveTo>
                <a:lnTo>
                  <a:pt x="139" y="228"/>
                </a:lnTo>
                <a:lnTo>
                  <a:pt x="288" y="447"/>
                </a:lnTo>
                <a:lnTo>
                  <a:pt x="448" y="658"/>
                </a:lnTo>
                <a:lnTo>
                  <a:pt x="618" y="860"/>
                </a:lnTo>
                <a:lnTo>
                  <a:pt x="796" y="1053"/>
                </a:lnTo>
                <a:lnTo>
                  <a:pt x="984" y="1237"/>
                </a:lnTo>
                <a:lnTo>
                  <a:pt x="1179" y="1411"/>
                </a:lnTo>
                <a:lnTo>
                  <a:pt x="1384" y="1575"/>
                </a:lnTo>
                <a:lnTo>
                  <a:pt x="1596" y="1730"/>
                </a:lnTo>
                <a:lnTo>
                  <a:pt x="1815" y="1874"/>
                </a:lnTo>
                <a:lnTo>
                  <a:pt x="2042" y="2007"/>
                </a:lnTo>
                <a:lnTo>
                  <a:pt x="2275" y="2129"/>
                </a:lnTo>
                <a:lnTo>
                  <a:pt x="2514" y="2240"/>
                </a:lnTo>
                <a:lnTo>
                  <a:pt x="2759" y="2340"/>
                </a:lnTo>
                <a:lnTo>
                  <a:pt x="3010" y="2427"/>
                </a:lnTo>
                <a:lnTo>
                  <a:pt x="3267" y="2501"/>
                </a:lnTo>
              </a:path>
            </a:pathLst>
          </a:custGeom>
          <a:noFill/>
          <a:ln w="126720">
            <a:solidFill>
              <a:srgbClr val="bf4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046160" y="717480"/>
            <a:ext cx="28728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buNone/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8104320" y="3598920"/>
            <a:ext cx="287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6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8269200" y="2517840"/>
            <a:ext cx="1440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i="1" lang="en-GB" sz="2800" spc="-1" strike="noStrike" baseline="-25000">
                <a:solidFill>
                  <a:srgbClr val="0000ff"/>
                </a:solidFill>
                <a:latin typeface="Arial"/>
              </a:rPr>
              <a:t>(perfect</a:t>
            </a:r>
            <a:r>
              <a:rPr b="1" i="1" lang="en-GB" sz="2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6397560" y="1143000"/>
            <a:ext cx="30243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a1009f"/>
                </a:solidFill>
                <a:latin typeface="Arial"/>
              </a:rPr>
              <a:t>S</a:t>
            </a:r>
            <a:r>
              <a:rPr b="1" i="1" lang="en-GB" sz="2800" spc="-1" strike="noStrike" baseline="-25000">
                <a:solidFill>
                  <a:srgbClr val="a1009f"/>
                </a:solidFill>
                <a:latin typeface="Arial"/>
              </a:rPr>
              <a:t>(perfect)</a:t>
            </a:r>
            <a:r>
              <a:rPr b="1" lang="en-GB" sz="2800" spc="-1" strike="noStrike" baseline="-25000">
                <a:solidFill>
                  <a:srgbClr val="a1009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a1009f"/>
                </a:solidFill>
                <a:latin typeface="Arial"/>
              </a:rPr>
              <a:t>=</a:t>
            </a:r>
            <a:r>
              <a:rPr b="1" lang="en-GB" sz="2800" spc="-1" strike="noStrike">
                <a:solidFill>
                  <a:srgbClr val="a1009f"/>
                </a:solidFill>
                <a:latin typeface="Math A"/>
                <a:ea typeface="Math A"/>
              </a:rPr>
              <a:t></a:t>
            </a:r>
            <a:r>
              <a:rPr b="1" i="1" lang="en-GB" sz="2800" spc="-1" strike="noStrike">
                <a:solidFill>
                  <a:srgbClr val="a1009f"/>
                </a:solidFill>
                <a:latin typeface="Arial"/>
              </a:rPr>
              <a:t>M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8197920" y="4030560"/>
            <a:ext cx="720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1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bf4100"/>
                </a:solidFill>
                <a:latin typeface="Arial"/>
              </a:rPr>
              <a:t>M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11"/>
          <p:cNvSpPr/>
          <p:nvPr/>
        </p:nvSpPr>
        <p:spPr>
          <a:xfrm>
            <a:off x="1536840" y="1069920"/>
            <a:ext cx="5033880" cy="2301840"/>
          </a:xfrm>
          <a:custGeom>
            <a:avLst/>
            <a:gdLst>
              <a:gd name="textAreaLeft" fmla="*/ 0 w 5033880"/>
              <a:gd name="textAreaRight" fmla="*/ 5034240 w 5033880"/>
              <a:gd name="textAreaTop" fmla="*/ 0 h 2301840"/>
              <a:gd name="textAreaBottom" fmla="*/ 2302200 h 2301840"/>
            </a:gdLst>
            <a:ahLst/>
            <a:rect l="textAreaLeft" t="textAreaTop" r="textAreaRight" b="textAreaBottom"/>
            <a:pathLst>
              <a:path w="2450" h="1877">
                <a:moveTo>
                  <a:pt x="0" y="1876"/>
                </a:moveTo>
                <a:lnTo>
                  <a:pt x="191" y="1819"/>
                </a:lnTo>
                <a:lnTo>
                  <a:pt x="379" y="1754"/>
                </a:lnTo>
                <a:lnTo>
                  <a:pt x="562" y="1679"/>
                </a:lnTo>
                <a:lnTo>
                  <a:pt x="742" y="1596"/>
                </a:lnTo>
                <a:lnTo>
                  <a:pt x="915" y="1505"/>
                </a:lnTo>
                <a:lnTo>
                  <a:pt x="1085" y="1405"/>
                </a:lnTo>
                <a:lnTo>
                  <a:pt x="1250" y="1297"/>
                </a:lnTo>
                <a:lnTo>
                  <a:pt x="1409" y="1180"/>
                </a:lnTo>
                <a:lnTo>
                  <a:pt x="1562" y="1058"/>
                </a:lnTo>
                <a:lnTo>
                  <a:pt x="1709" y="927"/>
                </a:lnTo>
                <a:lnTo>
                  <a:pt x="1849" y="790"/>
                </a:lnTo>
                <a:lnTo>
                  <a:pt x="1984" y="644"/>
                </a:lnTo>
                <a:lnTo>
                  <a:pt x="2110" y="493"/>
                </a:lnTo>
                <a:lnTo>
                  <a:pt x="2231" y="335"/>
                </a:lnTo>
                <a:lnTo>
                  <a:pt x="2343" y="171"/>
                </a:lnTo>
                <a:lnTo>
                  <a:pt x="2449" y="0"/>
                </a:lnTo>
              </a:path>
            </a:pathLst>
          </a:custGeom>
          <a:noFill/>
          <a:ln w="126720">
            <a:solidFill>
              <a:srgbClr val="a100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12"/>
          <p:cNvSpPr/>
          <p:nvPr/>
        </p:nvSpPr>
        <p:spPr>
          <a:xfrm>
            <a:off x="1571760" y="2403360"/>
            <a:ext cx="3197160" cy="1160640"/>
          </a:xfrm>
          <a:custGeom>
            <a:avLst/>
            <a:gdLst>
              <a:gd name="textAreaLeft" fmla="*/ 0 w 3197160"/>
              <a:gd name="textAreaRight" fmla="*/ 3197520 w 3197160"/>
              <a:gd name="textAreaTop" fmla="*/ 0 h 1160640"/>
              <a:gd name="textAreaBottom" fmla="*/ 1161000 h 1160640"/>
            </a:gdLst>
            <a:ahLst/>
            <a:rect l="textAreaLeft" t="textAreaTop" r="textAreaRight" b="textAreaBottom"/>
            <a:pathLst>
              <a:path w="1556" h="946">
                <a:moveTo>
                  <a:pt x="1555" y="945"/>
                </a:moveTo>
                <a:lnTo>
                  <a:pt x="1555" y="0"/>
                </a:lnTo>
                <a:lnTo>
                  <a:pt x="0" y="0"/>
                </a:lnTo>
              </a:path>
            </a:pathLst>
          </a:custGeom>
          <a:noFill/>
          <a:ln w="47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13"/>
          <p:cNvSpPr/>
          <p:nvPr/>
        </p:nvSpPr>
        <p:spPr>
          <a:xfrm>
            <a:off x="1563840" y="2179800"/>
            <a:ext cx="2282760" cy="1360440"/>
          </a:xfrm>
          <a:custGeom>
            <a:avLst/>
            <a:gdLst>
              <a:gd name="textAreaLeft" fmla="*/ 0 w 2282760"/>
              <a:gd name="textAreaRight" fmla="*/ 2283120 w 2282760"/>
              <a:gd name="textAreaTop" fmla="*/ 0 h 1360440"/>
              <a:gd name="textAreaBottom" fmla="*/ 1360800 h 1360440"/>
            </a:gdLst>
            <a:ahLst/>
            <a:rect l="textAreaLeft" t="textAreaTop" r="textAreaRight" b="textAreaBottom"/>
            <a:pathLst>
              <a:path w="1111" h="1109">
                <a:moveTo>
                  <a:pt x="1110" y="1108"/>
                </a:moveTo>
                <a:lnTo>
                  <a:pt x="1110" y="0"/>
                </a:lnTo>
                <a:lnTo>
                  <a:pt x="0" y="0"/>
                </a:lnTo>
              </a:path>
            </a:pathLst>
          </a:custGeom>
          <a:noFill/>
          <a:ln w="47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4"/>
          <p:cNvSpPr/>
          <p:nvPr/>
        </p:nvSpPr>
        <p:spPr>
          <a:xfrm>
            <a:off x="871560" y="2259000"/>
            <a:ext cx="4777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3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5"/>
          <p:cNvSpPr/>
          <p:nvPr/>
        </p:nvSpPr>
        <p:spPr>
          <a:xfrm>
            <a:off x="853920" y="2011320"/>
            <a:ext cx="4795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3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4552920" y="3665520"/>
            <a:ext cx="47772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3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3606840" y="3672000"/>
            <a:ext cx="4795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3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8"/>
          <p:cNvSpPr/>
          <p:nvPr/>
        </p:nvSpPr>
        <p:spPr>
          <a:xfrm>
            <a:off x="2868480" y="1123920"/>
            <a:ext cx="28400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For Whole Industr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19"/>
          <p:cNvSpPr/>
          <p:nvPr/>
        </p:nvSpPr>
        <p:spPr>
          <a:xfrm>
            <a:off x="1457280" y="4297320"/>
            <a:ext cx="6929640" cy="2540160"/>
          </a:xfrm>
          <a:custGeom>
            <a:avLst/>
            <a:gdLst>
              <a:gd name="textAreaLeft" fmla="*/ 0 w 6929640"/>
              <a:gd name="textAreaRight" fmla="*/ 6930000 w 6929640"/>
              <a:gd name="textAreaTop" fmla="*/ 0 h 2540160"/>
              <a:gd name="textAreaBottom" fmla="*/ 2540160 h 2540160"/>
            </a:gdLst>
            <a:ahLst/>
            <a:rect l="textAreaLeft" t="textAreaTop" r="textAreaRight" b="textAreaBottom"/>
            <a:pathLst>
              <a:path w="3373" h="2387">
                <a:moveTo>
                  <a:pt x="0" y="0"/>
                </a:moveTo>
                <a:lnTo>
                  <a:pt x="0" y="2386"/>
                </a:lnTo>
                <a:lnTo>
                  <a:pt x="3372" y="2386"/>
                </a:lnTo>
              </a:path>
            </a:pathLst>
          </a:custGeom>
          <a:noFill/>
          <a:ln w="47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0"/>
          <p:cNvSpPr/>
          <p:nvPr/>
        </p:nvSpPr>
        <p:spPr>
          <a:xfrm>
            <a:off x="1054080" y="4030560"/>
            <a:ext cx="28908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6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1"/>
          <p:cNvSpPr/>
          <p:nvPr/>
        </p:nvSpPr>
        <p:spPr>
          <a:xfrm>
            <a:off x="8112240" y="6923160"/>
            <a:ext cx="2649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7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2"/>
          <p:cNvSpPr/>
          <p:nvPr/>
        </p:nvSpPr>
        <p:spPr>
          <a:xfrm>
            <a:off x="7424640" y="5578560"/>
            <a:ext cx="22129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lang="en-GB" sz="2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 = </a:t>
            </a:r>
            <a:r>
              <a:rPr b="1" i="1" lang="en-GB" sz="28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GB" sz="2800" spc="-1" strike="noStrike" baseline="-25000">
                <a:solidFill>
                  <a:srgbClr val="0000ff"/>
                </a:solidFill>
                <a:latin typeface="Arial"/>
              </a:rPr>
              <a:t>1 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= </a:t>
            </a:r>
            <a:r>
              <a:rPr b="1" i="1" lang="en-GB" sz="2800" spc="-1" strike="noStrike">
                <a:solidFill>
                  <a:srgbClr val="0000ff"/>
                </a:solidFill>
                <a:latin typeface="Arial"/>
              </a:rPr>
              <a:t>MR</a:t>
            </a:r>
            <a:r>
              <a:rPr b="1" i="1" lang="en-GB" sz="2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3"/>
          <p:cNvSpPr/>
          <p:nvPr/>
        </p:nvSpPr>
        <p:spPr>
          <a:xfrm>
            <a:off x="6397560" y="4361040"/>
            <a:ext cx="81936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600" spc="-1" strike="noStrike">
                <a:solidFill>
                  <a:srgbClr val="a1009f"/>
                </a:solidFill>
                <a:latin typeface="Arial"/>
              </a:rPr>
              <a:t>M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24"/>
          <p:cNvSpPr/>
          <p:nvPr/>
        </p:nvSpPr>
        <p:spPr>
          <a:xfrm>
            <a:off x="1544760" y="4287960"/>
            <a:ext cx="5033880" cy="2301840"/>
          </a:xfrm>
          <a:custGeom>
            <a:avLst/>
            <a:gdLst>
              <a:gd name="textAreaLeft" fmla="*/ 0 w 5033880"/>
              <a:gd name="textAreaRight" fmla="*/ 5034240 w 5033880"/>
              <a:gd name="textAreaTop" fmla="*/ 0 h 2301840"/>
              <a:gd name="textAreaBottom" fmla="*/ 2302200 h 2301840"/>
            </a:gdLst>
            <a:ahLst/>
            <a:rect l="textAreaLeft" t="textAreaTop" r="textAreaRight" b="textAreaBottom"/>
            <a:pathLst>
              <a:path w="2450" h="1877">
                <a:moveTo>
                  <a:pt x="0" y="1876"/>
                </a:moveTo>
                <a:lnTo>
                  <a:pt x="191" y="1818"/>
                </a:lnTo>
                <a:lnTo>
                  <a:pt x="379" y="1753"/>
                </a:lnTo>
                <a:lnTo>
                  <a:pt x="562" y="1678"/>
                </a:lnTo>
                <a:lnTo>
                  <a:pt x="742" y="1595"/>
                </a:lnTo>
                <a:lnTo>
                  <a:pt x="916" y="1503"/>
                </a:lnTo>
                <a:lnTo>
                  <a:pt x="1085" y="1403"/>
                </a:lnTo>
                <a:lnTo>
                  <a:pt x="1250" y="1295"/>
                </a:lnTo>
                <a:lnTo>
                  <a:pt x="1410" y="1180"/>
                </a:lnTo>
                <a:lnTo>
                  <a:pt x="1562" y="1056"/>
                </a:lnTo>
                <a:lnTo>
                  <a:pt x="1709" y="926"/>
                </a:lnTo>
                <a:lnTo>
                  <a:pt x="1850" y="789"/>
                </a:lnTo>
                <a:lnTo>
                  <a:pt x="1984" y="644"/>
                </a:lnTo>
                <a:lnTo>
                  <a:pt x="2111" y="493"/>
                </a:lnTo>
                <a:lnTo>
                  <a:pt x="2231" y="335"/>
                </a:lnTo>
                <a:lnTo>
                  <a:pt x="2344" y="171"/>
                </a:lnTo>
                <a:lnTo>
                  <a:pt x="2449" y="0"/>
                </a:lnTo>
              </a:path>
            </a:pathLst>
          </a:custGeom>
          <a:noFill/>
          <a:ln w="126720">
            <a:solidFill>
              <a:srgbClr val="a100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5"/>
          <p:cNvSpPr/>
          <p:nvPr/>
        </p:nvSpPr>
        <p:spPr>
          <a:xfrm>
            <a:off x="879480" y="5396040"/>
            <a:ext cx="477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3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6"/>
          <p:cNvSpPr/>
          <p:nvPr/>
        </p:nvSpPr>
        <p:spPr>
          <a:xfrm>
            <a:off x="863640" y="5148360"/>
            <a:ext cx="4795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3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7"/>
          <p:cNvSpPr/>
          <p:nvPr/>
        </p:nvSpPr>
        <p:spPr>
          <a:xfrm>
            <a:off x="4659480" y="6788160"/>
            <a:ext cx="3790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8"/>
          <p:cNvSpPr/>
          <p:nvPr/>
        </p:nvSpPr>
        <p:spPr>
          <a:xfrm>
            <a:off x="2868480" y="4576680"/>
            <a:ext cx="28306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For Individual Fir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9"/>
          <p:cNvSpPr/>
          <p:nvPr/>
        </p:nvSpPr>
        <p:spPr>
          <a:xfrm>
            <a:off x="2868480" y="349200"/>
            <a:ext cx="41767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artel Market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0"/>
          <p:cNvSpPr/>
          <p:nvPr/>
        </p:nvSpPr>
        <p:spPr>
          <a:xfrm>
            <a:off x="3710160" y="6778800"/>
            <a:ext cx="455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1"/>
          <p:cNvSpPr/>
          <p:nvPr/>
        </p:nvSpPr>
        <p:spPr>
          <a:xfrm>
            <a:off x="3805200" y="5326200"/>
            <a:ext cx="0" cy="1512720"/>
          </a:xfrm>
          <a:prstGeom prst="line">
            <a:avLst/>
          </a:prstGeom>
          <a:ln w="31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2"/>
          <p:cNvSpPr/>
          <p:nvPr/>
        </p:nvSpPr>
        <p:spPr>
          <a:xfrm>
            <a:off x="1500120" y="5578560"/>
            <a:ext cx="6837480" cy="0"/>
          </a:xfrm>
          <a:prstGeom prst="line">
            <a:avLst/>
          </a:prstGeom>
          <a:ln w="50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3"/>
          <p:cNvSpPr/>
          <p:nvPr/>
        </p:nvSpPr>
        <p:spPr>
          <a:xfrm>
            <a:off x="1515960" y="5319720"/>
            <a:ext cx="6836040" cy="0"/>
          </a:xfrm>
          <a:prstGeom prst="line">
            <a:avLst/>
          </a:prstGeom>
          <a:ln w="50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4"/>
          <p:cNvSpPr/>
          <p:nvPr/>
        </p:nvSpPr>
        <p:spPr>
          <a:xfrm>
            <a:off x="4784760" y="5586480"/>
            <a:ext cx="0" cy="1224000"/>
          </a:xfrm>
          <a:prstGeom prst="line">
            <a:avLst/>
          </a:prstGeom>
          <a:ln w="31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5"/>
          <p:cNvSpPr/>
          <p:nvPr/>
        </p:nvSpPr>
        <p:spPr>
          <a:xfrm>
            <a:off x="5203800" y="5370480"/>
            <a:ext cx="0" cy="1441440"/>
          </a:xfrm>
          <a:prstGeom prst="line">
            <a:avLst/>
          </a:prstGeom>
          <a:ln w="31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6"/>
          <p:cNvSpPr/>
          <p:nvPr/>
        </p:nvSpPr>
        <p:spPr>
          <a:xfrm>
            <a:off x="5099040" y="6804000"/>
            <a:ext cx="361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7"/>
          <p:cNvSpPr/>
          <p:nvPr/>
        </p:nvSpPr>
        <p:spPr>
          <a:xfrm>
            <a:off x="1495440" y="5576760"/>
            <a:ext cx="200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46"/>
              <p:cNvSpPr txBox="1"/>
              <p:nvPr/>
            </p:nvSpPr>
            <p:spPr>
              <a:xfrm>
                <a:off x="8196120" y="1108080"/>
                <a:ext cx="50976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  <p:sp>
        <p:nvSpPr>
          <p:cNvPr id="77" name="Text Box 22"/>
          <p:cNvSpPr/>
          <p:nvPr/>
        </p:nvSpPr>
        <p:spPr>
          <a:xfrm>
            <a:off x="7424640" y="4822920"/>
            <a:ext cx="22129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i="1" lang="en-GB" sz="28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lang="en-GB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 = </a:t>
            </a:r>
            <a:r>
              <a:rPr b="1" i="1" lang="en-GB" sz="28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GB" sz="2800" spc="-1" strike="noStrike" baseline="-25000">
                <a:solidFill>
                  <a:srgbClr val="0000ff"/>
                </a:solidFill>
                <a:latin typeface="Arial"/>
              </a:rPr>
              <a:t>2 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= </a:t>
            </a:r>
            <a:r>
              <a:rPr b="1" i="1" lang="en-GB" sz="2800" spc="-1" strike="noStrike">
                <a:solidFill>
                  <a:srgbClr val="0000ff"/>
                </a:solidFill>
                <a:latin typeface="Arial"/>
              </a:rPr>
              <a:t>MR</a:t>
            </a:r>
            <a:r>
              <a:rPr b="1" i="1" lang="en-GB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9"/>
          <p:cNvSpPr/>
          <p:nvPr/>
        </p:nvSpPr>
        <p:spPr>
          <a:xfrm>
            <a:off x="8754840" y="7222680"/>
            <a:ext cx="11332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CartelMarketAnalysis |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80" name="TextBox 43"/>
          <p:cNvSpPr/>
          <p:nvPr/>
        </p:nvSpPr>
        <p:spPr>
          <a:xfrm>
            <a:off x="519120" y="7270920"/>
            <a:ext cx="408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</a:t>
            </a:r>
            <a:r>
              <a:rPr b="0" lang="en-GB" sz="900" spc="-1" strike="noStrike" u="sng">
                <a:solidFill>
                  <a:srgbClr val="0070c0"/>
                </a:solidFill>
                <a:uFillTx/>
                <a:latin typeface="Arial"/>
                <a:hlinkClick r:id="rId2"/>
              </a:rPr>
              <a:t>https://rsc.li/32MW3Gd</a:t>
            </a: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0T16:52:54Z</dcterms:created>
  <dc:creator>Brian Grievson</dc:creator>
  <dc:description/>
  <dc:language>en-US</dc:language>
  <cp:lastModifiedBy>Chris Runciman</cp:lastModifiedBy>
  <dcterms:modified xsi:type="dcterms:W3CDTF">2020-11-27T10:14:27Z</dcterms:modified>
  <cp:revision>135</cp:revision>
  <dc:subject/>
  <dc:title>Cartel market analysis presentation</dc:title>
</cp:coreProperties>
</file>