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5C-2631-4320-B170-D526C5E7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0E9-7A7B-4F43-87B9-FC3D809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345-2C9B-4D02-BB16-1761CE0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5FB-9E9F-47DB-8004-F342C989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9AB-3F2E-42B5-92B0-4B567497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79D-2F8B-4687-AEAB-9E39062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355-CCB0-46D3-8051-7C40974E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99A-6D45-44C1-B4AE-7E81183F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24B-A919-4711-84DD-41B0B3B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C4C-F16F-4EB8-93F4-C103F1B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C3C-803B-40E8-ADE7-9CDC6AD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144-BD75-4712-BA34-23778B8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ev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C93-158D-4F76-A08A-4A252D20B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84480" y="482760"/>
            <a:ext cx="388944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03600" y="1940040"/>
            <a:ext cx="542124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Rate of Return (I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1982880" y="19922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9"/>
          <p:cNvSpPr/>
          <p:nvPr/>
        </p:nvSpPr>
        <p:spPr>
          <a:xfrm>
            <a:off x="1982880" y="654840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1982880" y="503568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1982880" y="352440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811044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68120" y="482400"/>
            <a:ext cx="42483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58960" y="1254240"/>
            <a:ext cx="7230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ph of Cumulative Present Value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245200" y="1986120"/>
            <a:ext cx="2832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647040" y="2416320"/>
            <a:ext cx="974520" cy="533160"/>
          </a:xfrm>
          <a:prstGeom prst="line">
            <a:avLst/>
          </a:prstGeom>
          <a:ln w="47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1636560" y="2373480"/>
          <a:ext cx="67057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2373480"/>
                    <a:ext cx="6705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0"/>
          <p:cNvSpPr/>
          <p:nvPr/>
        </p:nvSpPr>
        <p:spPr>
          <a:xfrm rot="16200000">
            <a:off x="-696240" y="432180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237200" y="6524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25960" y="476280"/>
            <a:ext cx="345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20800" y="1467000"/>
            <a:ext cx="56134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choi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bsolu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1068480" y="150984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16120" y="4849920"/>
            <a:ext cx="4968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relate to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1068480" y="4892760"/>
            <a:ext cx="28872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938320" y="501120"/>
            <a:ext cx="42516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20840" y="1149480"/>
            <a:ext cx="93614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ount rate that makes the NPV of the investment exactly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V    =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     Future  value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 1  +  discount rate)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For IRR: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          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Future 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lculate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must solve a  "t"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order polynomial equation theref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ill be 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n solve numerically or 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76880" y="307656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900600" y="1774800"/>
            <a:ext cx="689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400" spc="-1" strike="noStrike">
                <a:solidFill>
                  <a:srgbClr val="000000"/>
                </a:solidFill>
                <a:latin typeface="Math A"/>
                <a:ea typeface="Math A"/>
              </a:rPr>
              <a:t>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08120" y="6118200"/>
            <a:ext cx="878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nvestment Decision is to accept the project proposal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he IRR is higher than the opportunity cost of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363760" y="480960"/>
            <a:ext cx="58341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2"/>
          <p:cNvSpPr/>
          <p:nvPr/>
        </p:nvSpPr>
        <p:spPr>
          <a:xfrm>
            <a:off x="747720" y="1117440"/>
            <a:ext cx="377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3"/>
          <p:cNvSpPr/>
          <p:nvPr/>
        </p:nvSpPr>
        <p:spPr>
          <a:xfrm>
            <a:off x="5821200" y="374184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4"/>
          <p:cNvSpPr/>
          <p:nvPr/>
        </p:nvSpPr>
        <p:spPr>
          <a:xfrm>
            <a:off x="746280" y="3957480"/>
            <a:ext cx="3089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1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5830920" y="5227560"/>
            <a:ext cx="3662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£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1"/>
          <p:cNvSpPr/>
          <p:nvPr/>
        </p:nvSpPr>
        <p:spPr>
          <a:xfrm>
            <a:off x="731880" y="5483160"/>
            <a:ext cx="30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count rate 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2"/>
          <p:cNvSpPr/>
          <p:nvPr/>
        </p:nvSpPr>
        <p:spPr>
          <a:xfrm>
            <a:off x="5821200" y="6708600"/>
            <a:ext cx="36482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t Present Value = (£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2120" y="15098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92120" y="1874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92120" y="22305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92120" y="260496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92120" y="297324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2120" y="3333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2120" y="5902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92120" y="626256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92120" y="439092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2120" y="475128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2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52480" y="479160"/>
            <a:ext cx="4392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028960" y="5219640"/>
            <a:ext cx="4059000" cy="0"/>
          </a:xfrm>
          <a:prstGeom prst="line">
            <a:avLst/>
          </a:prstGeom>
          <a:ln w="88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6181560" y="5398920"/>
            <a:ext cx="9720" cy="1078200"/>
          </a:xfrm>
          <a:custGeom>
            <a:avLst/>
            <a:gdLst>
              <a:gd name="textAreaLeft" fmla="*/ 0 w 9720"/>
              <a:gd name="textAreaRight" fmla="*/ 10080 w 972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6" h="679">
                <a:moveTo>
                  <a:pt x="0" y="0"/>
                </a:moveTo>
                <a:lnTo>
                  <a:pt x="6" y="679"/>
                </a:lnTo>
              </a:path>
            </a:pathLst>
          </a:custGeom>
          <a:noFill/>
          <a:ln w="88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725560" y="1222200"/>
            <a:ext cx="444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phical Solution of I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892840" y="6478560"/>
            <a:ext cx="8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8"/>
          <p:cNvGraphicFramePr/>
          <p:nvPr/>
        </p:nvGraphicFramePr>
        <p:xfrm>
          <a:off x="1636560" y="1870200"/>
          <a:ext cx="670572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870200"/>
                    <a:ext cx="670572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11"/>
          <p:cNvSpPr/>
          <p:nvPr/>
        </p:nvSpPr>
        <p:spPr>
          <a:xfrm rot="16200000">
            <a:off x="-316440" y="390492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Present Value / £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44440" y="6021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unt Rate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868480" y="474840"/>
            <a:ext cx="4321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al Rate of Retur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44480" y="1378080"/>
            <a:ext cx="7697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the time valu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understand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995400" y="3525840"/>
            <a:ext cx="28872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996840" y="1436760"/>
            <a:ext cx="289080" cy="28872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644480" y="3467160"/>
            <a:ext cx="76978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not absolute, must be compared with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d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nores risk and will favour higher risk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s all cash generated will be reinvested 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me rate of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25560" y="482400"/>
            <a:ext cx="468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eps of a DC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"/>
          <p:cNvGrpSpPr/>
          <p:nvPr/>
        </p:nvGrpSpPr>
        <p:grpSpPr>
          <a:xfrm>
            <a:off x="1509840" y="6324480"/>
            <a:ext cx="7227360" cy="801720"/>
            <a:chOff x="1509840" y="6324480"/>
            <a:chExt cx="7227360" cy="801720"/>
          </a:xfrm>
        </p:grpSpPr>
        <p:sp>
          <p:nvSpPr>
            <p:cNvPr id="193" name="Freeform 3"/>
            <p:cNvSpPr/>
            <p:nvPr/>
          </p:nvSpPr>
          <p:spPr>
            <a:xfrm>
              <a:off x="1509840" y="6326640"/>
              <a:ext cx="7227360" cy="79956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3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1519920" y="6324480"/>
              <a:ext cx="7217280" cy="8002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1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V="1">
              <a:off x="1608480" y="6390000"/>
              <a:ext cx="703008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"/>
          <p:cNvGrpSpPr/>
          <p:nvPr/>
        </p:nvGrpSpPr>
        <p:grpSpPr>
          <a:xfrm>
            <a:off x="1522440" y="5018040"/>
            <a:ext cx="7227360" cy="803160"/>
            <a:chOff x="1522440" y="5018040"/>
            <a:chExt cx="7227360" cy="803160"/>
          </a:xfrm>
        </p:grpSpPr>
        <p:sp>
          <p:nvSpPr>
            <p:cNvPr id="197" name="Freeform 7"/>
            <p:cNvSpPr/>
            <p:nvPr/>
          </p:nvSpPr>
          <p:spPr>
            <a:xfrm>
              <a:off x="1522440" y="5020200"/>
              <a:ext cx="7227360" cy="801000"/>
            </a:xfrm>
            <a:custGeom>
              <a:avLst/>
              <a:gdLst>
                <a:gd name="textAreaLeft" fmla="*/ 0 w 7227360"/>
                <a:gd name="textAreaRight" fmla="*/ 7227720 w 722736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3518" h="730">
                  <a:moveTo>
                    <a:pt x="3517" y="0"/>
                  </a:moveTo>
                  <a:lnTo>
                    <a:pt x="3517" y="729"/>
                  </a:lnTo>
                  <a:lnTo>
                    <a:pt x="0" y="729"/>
                  </a:lnTo>
                  <a:lnTo>
                    <a:pt x="302" y="308"/>
                  </a:lnTo>
                  <a:lnTo>
                    <a:pt x="3294" y="304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1532520" y="5018040"/>
              <a:ext cx="7217280" cy="802080"/>
            </a:xfrm>
            <a:custGeom>
              <a:avLst/>
              <a:gdLst>
                <a:gd name="textAreaLeft" fmla="*/ 0 w 7217280"/>
                <a:gd name="textAreaRight" fmla="*/ 7217640 w 72172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flipV="1">
              <a:off x="1620720" y="5082840"/>
              <a:ext cx="7032600" cy="6922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"/>
          <p:cNvGrpSpPr/>
          <p:nvPr/>
        </p:nvGrpSpPr>
        <p:grpSpPr>
          <a:xfrm>
            <a:off x="1517760" y="3713040"/>
            <a:ext cx="7225920" cy="801360"/>
            <a:chOff x="1517760" y="3713040"/>
            <a:chExt cx="7225920" cy="801360"/>
          </a:xfrm>
        </p:grpSpPr>
        <p:sp>
          <p:nvSpPr>
            <p:cNvPr id="201" name="Freeform 11"/>
            <p:cNvSpPr/>
            <p:nvPr/>
          </p:nvSpPr>
          <p:spPr>
            <a:xfrm>
              <a:off x="1517760" y="371484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8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525680" y="371304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1">
                  <a:moveTo>
                    <a:pt x="0" y="730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3"/>
                  </a:lnTo>
                  <a:lnTo>
                    <a:pt x="362" y="253"/>
                  </a:lnTo>
                  <a:lnTo>
                    <a:pt x="0" y="730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3"/>
            <p:cNvSpPr/>
            <p:nvPr/>
          </p:nvSpPr>
          <p:spPr>
            <a:xfrm flipV="1">
              <a:off x="1613880" y="3778200"/>
              <a:ext cx="7032960" cy="69120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1511280" y="2408400"/>
            <a:ext cx="7225920" cy="801000"/>
            <a:chOff x="1511280" y="2408400"/>
            <a:chExt cx="7225920" cy="801000"/>
          </a:xfrm>
        </p:grpSpPr>
        <p:sp>
          <p:nvSpPr>
            <p:cNvPr id="205" name="Freeform 15"/>
            <p:cNvSpPr/>
            <p:nvPr/>
          </p:nvSpPr>
          <p:spPr>
            <a:xfrm>
              <a:off x="1511280" y="2409480"/>
              <a:ext cx="7225920" cy="79992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517" h="730">
                  <a:moveTo>
                    <a:pt x="3516" y="0"/>
                  </a:moveTo>
                  <a:lnTo>
                    <a:pt x="3516" y="729"/>
                  </a:lnTo>
                  <a:lnTo>
                    <a:pt x="0" y="729"/>
                  </a:lnTo>
                  <a:lnTo>
                    <a:pt x="301" y="309"/>
                  </a:lnTo>
                  <a:lnTo>
                    <a:pt x="3293" y="304"/>
                  </a:lnTo>
                  <a:lnTo>
                    <a:pt x="3516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519200" y="2408400"/>
              <a:ext cx="7218000" cy="800280"/>
            </a:xfrm>
            <a:custGeom>
              <a:avLst/>
              <a:gdLst>
                <a:gd name="textAreaLeft" fmla="*/ 0 w 7218000"/>
                <a:gd name="textAreaRight" fmla="*/ 7218360 w 721800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 flipV="1">
              <a:off x="1607400" y="2473560"/>
              <a:ext cx="7032600" cy="69048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8"/>
          <p:cNvGrpSpPr/>
          <p:nvPr/>
        </p:nvGrpSpPr>
        <p:grpSpPr>
          <a:xfrm>
            <a:off x="1506600" y="1123920"/>
            <a:ext cx="7225920" cy="801720"/>
            <a:chOff x="1506600" y="1123920"/>
            <a:chExt cx="7225920" cy="801720"/>
          </a:xfrm>
        </p:grpSpPr>
        <p:sp>
          <p:nvSpPr>
            <p:cNvPr id="209" name="Freeform 19"/>
            <p:cNvSpPr/>
            <p:nvPr/>
          </p:nvSpPr>
          <p:spPr>
            <a:xfrm>
              <a:off x="1506600" y="1126080"/>
              <a:ext cx="7225920" cy="799560"/>
            </a:xfrm>
            <a:custGeom>
              <a:avLst/>
              <a:gdLst>
                <a:gd name="textAreaLeft" fmla="*/ 0 w 7225920"/>
                <a:gd name="textAreaRight" fmla="*/ 7226280 w 722592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518" h="729">
                  <a:moveTo>
                    <a:pt x="3517" y="0"/>
                  </a:moveTo>
                  <a:lnTo>
                    <a:pt x="3517" y="728"/>
                  </a:lnTo>
                  <a:lnTo>
                    <a:pt x="0" y="728"/>
                  </a:lnTo>
                  <a:lnTo>
                    <a:pt x="301" y="308"/>
                  </a:lnTo>
                  <a:lnTo>
                    <a:pt x="3293" y="303"/>
                  </a:lnTo>
                  <a:lnTo>
                    <a:pt x="3517" y="0"/>
                  </a:lnTo>
                </a:path>
              </a:pathLst>
            </a:custGeom>
            <a:solidFill>
              <a:srgbClr val="00a1e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1514880" y="1123920"/>
              <a:ext cx="7215120" cy="800280"/>
            </a:xfrm>
            <a:custGeom>
              <a:avLst/>
              <a:gdLst>
                <a:gd name="textAreaLeft" fmla="*/ 0 w 7215120"/>
                <a:gd name="textAreaRight" fmla="*/ 7215480 w 72151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13" h="730">
                  <a:moveTo>
                    <a:pt x="0" y="729"/>
                  </a:moveTo>
                  <a:lnTo>
                    <a:pt x="0" y="0"/>
                  </a:lnTo>
                  <a:lnTo>
                    <a:pt x="3512" y="0"/>
                  </a:lnTo>
                  <a:lnTo>
                    <a:pt x="3137" y="502"/>
                  </a:lnTo>
                  <a:lnTo>
                    <a:pt x="362" y="252"/>
                  </a:lnTo>
                  <a:lnTo>
                    <a:pt x="0" y="729"/>
                  </a:lnTo>
                </a:path>
              </a:pathLst>
            </a:custGeom>
            <a:solidFill>
              <a:srgbClr val="a1e2ff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 flipV="1">
              <a:off x="1603440" y="1188720"/>
              <a:ext cx="7030440" cy="691560"/>
            </a:xfrm>
            <a:prstGeom prst="roundRect">
              <a:avLst>
                <a:gd name="adj" fmla="val 0"/>
              </a:avLst>
            </a:prstGeom>
            <a:solidFill>
              <a:srgbClr val="a1e2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3"/>
          <p:cNvSpPr/>
          <p:nvPr/>
        </p:nvSpPr>
        <p:spPr>
          <a:xfrm>
            <a:off x="1933560" y="1293840"/>
            <a:ext cx="61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 Assessment Hori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2097000" y="2590920"/>
            <a:ext cx="6027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e Relevant Cash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3456000" y="3886200"/>
            <a:ext cx="358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e DCF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2149560" y="5181480"/>
            <a:ext cx="588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dertake  NPV  /  IRR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1573200" y="6478560"/>
            <a:ext cx="7128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nsitivity Analysis / Scenario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4737240" y="1963800"/>
            <a:ext cx="740880" cy="420120"/>
            <a:chOff x="4737240" y="1963800"/>
            <a:chExt cx="740880" cy="420120"/>
          </a:xfrm>
        </p:grpSpPr>
        <p:sp>
          <p:nvSpPr>
            <p:cNvPr id="218" name="Freeform 29"/>
            <p:cNvSpPr/>
            <p:nvPr/>
          </p:nvSpPr>
          <p:spPr>
            <a:xfrm>
              <a:off x="4737240" y="2245320"/>
              <a:ext cx="371160" cy="1386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4737240" y="2228040"/>
              <a:ext cx="418320" cy="784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104440" y="2243160"/>
              <a:ext cx="373680" cy="14076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4905000" y="1963800"/>
              <a:ext cx="404280" cy="232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5073480" y="2225880"/>
              <a:ext cx="404280" cy="774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7" h="71">
                  <a:moveTo>
                    <a:pt x="66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7"/>
                  </a:lnTo>
                  <a:lnTo>
                    <a:pt x="0" y="70"/>
                  </a:lnTo>
                  <a:lnTo>
                    <a:pt x="6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5200560" y="1963800"/>
              <a:ext cx="111240" cy="3330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4905000" y="1963800"/>
              <a:ext cx="102600" cy="330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50" h="303">
                  <a:moveTo>
                    <a:pt x="31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49" y="302"/>
                  </a:lnTo>
                  <a:lnTo>
                    <a:pt x="31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4847760" y="1981800"/>
              <a:ext cx="521280" cy="376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54" h="345">
                  <a:moveTo>
                    <a:pt x="125" y="344"/>
                  </a:moveTo>
                  <a:lnTo>
                    <a:pt x="253" y="258"/>
                  </a:lnTo>
                  <a:lnTo>
                    <a:pt x="205" y="258"/>
                  </a:lnTo>
                  <a:lnTo>
                    <a:pt x="205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5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4743360" y="3240000"/>
            <a:ext cx="739440" cy="422280"/>
            <a:chOff x="4743360" y="3240000"/>
            <a:chExt cx="739440" cy="422280"/>
          </a:xfrm>
        </p:grpSpPr>
        <p:sp>
          <p:nvSpPr>
            <p:cNvPr id="227" name="Freeform 38"/>
            <p:cNvSpPr/>
            <p:nvPr/>
          </p:nvSpPr>
          <p:spPr>
            <a:xfrm>
              <a:off x="4743360" y="352332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8" y="126"/>
                  </a:lnTo>
                  <a:lnTo>
                    <a:pt x="180" y="85"/>
                  </a:lnTo>
                  <a:lnTo>
                    <a:pt x="77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4743360" y="3506040"/>
              <a:ext cx="419040" cy="774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04" h="71">
                  <a:moveTo>
                    <a:pt x="158" y="0"/>
                  </a:moveTo>
                  <a:lnTo>
                    <a:pt x="89" y="15"/>
                  </a:lnTo>
                  <a:lnTo>
                    <a:pt x="0" y="14"/>
                  </a:lnTo>
                  <a:lnTo>
                    <a:pt x="71" y="40"/>
                  </a:lnTo>
                  <a:lnTo>
                    <a:pt x="203" y="70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>
              <a:off x="5108760" y="3521160"/>
              <a:ext cx="373680" cy="14112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2" y="14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1"/>
            <p:cNvSpPr/>
            <p:nvPr/>
          </p:nvSpPr>
          <p:spPr>
            <a:xfrm>
              <a:off x="4909320" y="3240000"/>
              <a:ext cx="404640" cy="2329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1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2"/>
            <p:cNvSpPr/>
            <p:nvPr/>
          </p:nvSpPr>
          <p:spPr>
            <a:xfrm>
              <a:off x="5079960" y="3503520"/>
              <a:ext cx="402840" cy="774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96" h="71">
                  <a:moveTo>
                    <a:pt x="65" y="0"/>
                  </a:moveTo>
                  <a:lnTo>
                    <a:pt x="114" y="16"/>
                  </a:lnTo>
                  <a:lnTo>
                    <a:pt x="195" y="16"/>
                  </a:lnTo>
                  <a:lnTo>
                    <a:pt x="128" y="37"/>
                  </a:lnTo>
                  <a:lnTo>
                    <a:pt x="0" y="70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3"/>
            <p:cNvSpPr/>
            <p:nvPr/>
          </p:nvSpPr>
          <p:spPr>
            <a:xfrm>
              <a:off x="5205240" y="3240720"/>
              <a:ext cx="110520" cy="333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54" h="305">
                  <a:moveTo>
                    <a:pt x="29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9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4"/>
            <p:cNvSpPr/>
            <p:nvPr/>
          </p:nvSpPr>
          <p:spPr>
            <a:xfrm>
              <a:off x="4909320" y="3240000"/>
              <a:ext cx="104760" cy="33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51" h="304">
                  <a:moveTo>
                    <a:pt x="32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0" y="303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5"/>
            <p:cNvSpPr/>
            <p:nvPr/>
          </p:nvSpPr>
          <p:spPr>
            <a:xfrm>
              <a:off x="4852080" y="3259440"/>
              <a:ext cx="523440" cy="377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345">
                  <a:moveTo>
                    <a:pt x="126" y="344"/>
                  </a:moveTo>
                  <a:lnTo>
                    <a:pt x="254" y="257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8"/>
                  </a:lnTo>
                  <a:lnTo>
                    <a:pt x="126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6"/>
          <p:cNvGrpSpPr/>
          <p:nvPr/>
        </p:nvGrpSpPr>
        <p:grpSpPr>
          <a:xfrm>
            <a:off x="4748040" y="4551480"/>
            <a:ext cx="741240" cy="421920"/>
            <a:chOff x="4748040" y="4551480"/>
            <a:chExt cx="741240" cy="421920"/>
          </a:xfrm>
        </p:grpSpPr>
        <p:sp>
          <p:nvSpPr>
            <p:cNvPr id="236" name="Freeform 47"/>
            <p:cNvSpPr/>
            <p:nvPr/>
          </p:nvSpPr>
          <p:spPr>
            <a:xfrm>
              <a:off x="4748040" y="4834440"/>
              <a:ext cx="371520" cy="1389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1" h="127">
                  <a:moveTo>
                    <a:pt x="0" y="0"/>
                  </a:moveTo>
                  <a:lnTo>
                    <a:pt x="179" y="126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4748040" y="4816800"/>
              <a:ext cx="418680" cy="788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5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5117760" y="4833000"/>
              <a:ext cx="371520" cy="140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81" h="128">
                  <a:moveTo>
                    <a:pt x="180" y="0"/>
                  </a:moveTo>
                  <a:lnTo>
                    <a:pt x="0" y="127"/>
                  </a:lnTo>
                  <a:lnTo>
                    <a:pt x="0" y="89"/>
                  </a:lnTo>
                  <a:lnTo>
                    <a:pt x="110" y="13"/>
                  </a:lnTo>
                  <a:lnTo>
                    <a:pt x="180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4916160" y="4551480"/>
              <a:ext cx="404640" cy="2332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97" h="213">
                  <a:moveTo>
                    <a:pt x="196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3" y="210"/>
                  </a:lnTo>
                  <a:lnTo>
                    <a:pt x="196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5084640" y="4814640"/>
              <a:ext cx="404640" cy="788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7"/>
                  </a:lnTo>
                  <a:lnTo>
                    <a:pt x="129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5211720" y="4551480"/>
              <a:ext cx="111240" cy="334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4" h="305">
                  <a:moveTo>
                    <a:pt x="28" y="22"/>
                  </a:moveTo>
                  <a:lnTo>
                    <a:pt x="52" y="0"/>
                  </a:lnTo>
                  <a:lnTo>
                    <a:pt x="53" y="257"/>
                  </a:lnTo>
                  <a:lnTo>
                    <a:pt x="0" y="304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4916160" y="4551480"/>
              <a:ext cx="104760" cy="33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1" h="303">
                  <a:moveTo>
                    <a:pt x="32" y="28"/>
                  </a:moveTo>
                  <a:lnTo>
                    <a:pt x="0" y="0"/>
                  </a:lnTo>
                  <a:lnTo>
                    <a:pt x="0" y="257"/>
                  </a:lnTo>
                  <a:lnTo>
                    <a:pt x="50" y="302"/>
                  </a:lnTo>
                  <a:lnTo>
                    <a:pt x="32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4"/>
            <p:cNvSpPr/>
            <p:nvPr/>
          </p:nvSpPr>
          <p:spPr>
            <a:xfrm>
              <a:off x="4856760" y="4569840"/>
              <a:ext cx="523440" cy="37836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59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5"/>
          <p:cNvGrpSpPr/>
          <p:nvPr/>
        </p:nvGrpSpPr>
        <p:grpSpPr>
          <a:xfrm>
            <a:off x="4735440" y="5856120"/>
            <a:ext cx="741240" cy="425520"/>
            <a:chOff x="4735440" y="5856120"/>
            <a:chExt cx="741240" cy="425520"/>
          </a:xfrm>
        </p:grpSpPr>
        <p:sp>
          <p:nvSpPr>
            <p:cNvPr id="245" name="Freeform 56"/>
            <p:cNvSpPr/>
            <p:nvPr/>
          </p:nvSpPr>
          <p:spPr>
            <a:xfrm>
              <a:off x="4735440" y="6140160"/>
              <a:ext cx="371880" cy="14112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1" h="128">
                  <a:moveTo>
                    <a:pt x="0" y="0"/>
                  </a:moveTo>
                  <a:lnTo>
                    <a:pt x="179" y="127"/>
                  </a:lnTo>
                  <a:lnTo>
                    <a:pt x="180" y="86"/>
                  </a:lnTo>
                  <a:lnTo>
                    <a:pt x="78" y="12"/>
                  </a:lnTo>
                  <a:lnTo>
                    <a:pt x="0" y="0"/>
                  </a:lnTo>
                </a:path>
              </a:pathLst>
            </a:custGeom>
            <a:solidFill>
              <a:srgbClr val="c21212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7"/>
            <p:cNvSpPr/>
            <p:nvPr/>
          </p:nvSpPr>
          <p:spPr>
            <a:xfrm>
              <a:off x="4735440" y="6122880"/>
              <a:ext cx="419040" cy="7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4" h="72">
                  <a:moveTo>
                    <a:pt x="158" y="0"/>
                  </a:moveTo>
                  <a:lnTo>
                    <a:pt x="89" y="16"/>
                  </a:lnTo>
                  <a:lnTo>
                    <a:pt x="0" y="15"/>
                  </a:lnTo>
                  <a:lnTo>
                    <a:pt x="72" y="40"/>
                  </a:lnTo>
                  <a:lnTo>
                    <a:pt x="203" y="71"/>
                  </a:lnTo>
                  <a:lnTo>
                    <a:pt x="158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8"/>
            <p:cNvSpPr/>
            <p:nvPr/>
          </p:nvSpPr>
          <p:spPr>
            <a:xfrm>
              <a:off x="5103360" y="6139440"/>
              <a:ext cx="373320" cy="1422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2" h="129">
                  <a:moveTo>
                    <a:pt x="181" y="0"/>
                  </a:moveTo>
                  <a:lnTo>
                    <a:pt x="0" y="128"/>
                  </a:lnTo>
                  <a:lnTo>
                    <a:pt x="0" y="89"/>
                  </a:lnTo>
                  <a:lnTo>
                    <a:pt x="111" y="13"/>
                  </a:lnTo>
                  <a:lnTo>
                    <a:pt x="181" y="0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9"/>
            <p:cNvSpPr/>
            <p:nvPr/>
          </p:nvSpPr>
          <p:spPr>
            <a:xfrm>
              <a:off x="4902120" y="5856120"/>
              <a:ext cx="406440" cy="2347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98" h="213">
                  <a:moveTo>
                    <a:pt x="197" y="0"/>
                  </a:moveTo>
                  <a:lnTo>
                    <a:pt x="0" y="0"/>
                  </a:lnTo>
                  <a:lnTo>
                    <a:pt x="47" y="212"/>
                  </a:lnTo>
                  <a:lnTo>
                    <a:pt x="164" y="210"/>
                  </a:lnTo>
                  <a:lnTo>
                    <a:pt x="197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0"/>
            <p:cNvSpPr/>
            <p:nvPr/>
          </p:nvSpPr>
          <p:spPr>
            <a:xfrm>
              <a:off x="5072400" y="6120360"/>
              <a:ext cx="404280" cy="79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7" h="72">
                  <a:moveTo>
                    <a:pt x="65" y="0"/>
                  </a:moveTo>
                  <a:lnTo>
                    <a:pt x="115" y="16"/>
                  </a:lnTo>
                  <a:lnTo>
                    <a:pt x="196" y="18"/>
                  </a:lnTo>
                  <a:lnTo>
                    <a:pt x="128" y="38"/>
                  </a:lnTo>
                  <a:lnTo>
                    <a:pt x="0" y="71"/>
                  </a:lnTo>
                  <a:lnTo>
                    <a:pt x="65" y="0"/>
                  </a:lnTo>
                </a:path>
              </a:pathLst>
            </a:custGeom>
            <a:solidFill>
              <a:srgbClr val="ff81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1"/>
            <p:cNvSpPr/>
            <p:nvPr/>
          </p:nvSpPr>
          <p:spPr>
            <a:xfrm>
              <a:off x="5199480" y="5856120"/>
              <a:ext cx="110520" cy="3373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4" h="306">
                  <a:moveTo>
                    <a:pt x="28" y="22"/>
                  </a:moveTo>
                  <a:lnTo>
                    <a:pt x="52" y="0"/>
                  </a:lnTo>
                  <a:lnTo>
                    <a:pt x="53" y="258"/>
                  </a:lnTo>
                  <a:lnTo>
                    <a:pt x="0" y="305"/>
                  </a:lnTo>
                  <a:lnTo>
                    <a:pt x="28" y="22"/>
                  </a:lnTo>
                </a:path>
              </a:pathLst>
            </a:custGeom>
            <a:solidFill>
              <a:srgbClr val="ff9f7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2"/>
            <p:cNvSpPr/>
            <p:nvPr/>
          </p:nvSpPr>
          <p:spPr>
            <a:xfrm>
              <a:off x="4902120" y="5856120"/>
              <a:ext cx="106560" cy="3340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2" h="303">
                  <a:moveTo>
                    <a:pt x="33" y="28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51" y="302"/>
                  </a:lnTo>
                  <a:lnTo>
                    <a:pt x="33" y="28"/>
                  </a:lnTo>
                </a:path>
              </a:pathLst>
            </a:custGeom>
            <a:solidFill>
              <a:srgbClr val="e1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3"/>
            <p:cNvSpPr/>
            <p:nvPr/>
          </p:nvSpPr>
          <p:spPr>
            <a:xfrm>
              <a:off x="4844160" y="5874840"/>
              <a:ext cx="523800" cy="3801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55" h="345">
                  <a:moveTo>
                    <a:pt x="127" y="344"/>
                  </a:moveTo>
                  <a:lnTo>
                    <a:pt x="254" y="258"/>
                  </a:lnTo>
                  <a:lnTo>
                    <a:pt x="206" y="258"/>
                  </a:lnTo>
                  <a:lnTo>
                    <a:pt x="206" y="0"/>
                  </a:lnTo>
                  <a:lnTo>
                    <a:pt x="47" y="0"/>
                  </a:lnTo>
                  <a:lnTo>
                    <a:pt x="47" y="260"/>
                  </a:lnTo>
                  <a:lnTo>
                    <a:pt x="0" y="259"/>
                  </a:lnTo>
                  <a:lnTo>
                    <a:pt x="127" y="344"/>
                  </a:lnTo>
                </a:path>
              </a:pathLst>
            </a:custGeom>
            <a:solidFill>
              <a:srgbClr val="ff00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66"/>
          <p:cNvSpPr/>
          <p:nvPr/>
        </p:nvSpPr>
        <p:spPr>
          <a:xfrm>
            <a:off x="8033040" y="740484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08160" y="477360"/>
            <a:ext cx="40370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6840" y="1341360"/>
            <a:ext cx="85518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sh flow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scoun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ake into account the fact that £1 000 to be received some time in the future is worth less today than £1 000 receive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h-in-hand is certain therefore less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rtunities to invest cash today to earn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annual rate of return (as deci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sum of money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 +  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  A ( 1  + 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76520" y="466200"/>
            <a:ext cx="432432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36480" y="1222200"/>
            <a:ext cx="9072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 of money after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+   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  +   A (1 + r )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(1 + r ) (1 + 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 =    A ( 1 + r )</a:t>
            </a:r>
            <a:r>
              <a:rPr b="1" lang="en-GB" sz="28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e compound interes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to no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any positive number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r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quoted for any period provi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t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measured in the sam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6480" y="5110200"/>
            <a:ext cx="9072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edit card charges 2% per month for outstanding bal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interest rate being charged per annu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 1  +  0.02 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=    1.268   or   26.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300480" y="542880"/>
            <a:ext cx="36734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92120" y="1222200"/>
            <a:ext cx="92422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 “B”  always be greater than  “A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 (1970's) and Hong Kong (1990's) imposed negative interest rates to deter speculators  -  what would b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governments increase interest rates to stop speculators selling cur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present value (PV) if we know  B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alculate the future value (FV) if we know  A ,  r  and 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appraisal requires the present value so the discounting formula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870440" y="6568920"/>
            <a:ext cx="2679840" cy="0"/>
          </a:xfrm>
          <a:prstGeom prst="line">
            <a:avLst/>
          </a:prstGeom>
          <a:ln w="47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63640" y="6191280"/>
            <a:ext cx="59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esent value   =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Future 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4880" y="549360"/>
            <a:ext cx="47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2120" y="1276200"/>
            <a:ext cx="93726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won £150 000 on the national lo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1:  Buy a piece of land which you know you could sell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£250 000 in a year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 2:  Buy Government gilt-edged securities which offer a 10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annum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92120" y="4229280"/>
            <a:ext cx="937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92120" y="4948200"/>
            <a:ext cx="93726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Value of Option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e  val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£2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r )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1  +  0.1)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227 23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 amount you would need to invest toda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81240" y="477720"/>
            <a:ext cx="36036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982880" y="1353960"/>
            <a:ext cx="7627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t Present Value for land purch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£227 237  -  £150 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£77 2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Investment Decision i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positive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0000ff"/>
                </a:solidFill>
                <a:latin typeface="Arial"/>
              </a:rPr>
              <a:t>accept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If NPV is 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3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 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ccept the project with the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NP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Therefore choose Option 1: Buy the l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1284120" y="136512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1284120" y="662148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284120" y="3092400"/>
            <a:ext cx="289080" cy="289080"/>
          </a:xfrm>
          <a:prstGeom prst="ellipse">
            <a:avLst/>
          </a:prstGeom>
          <a:solidFill>
            <a:srgbClr val="0000ff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19280" y="479160"/>
            <a:ext cx="5246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08120" y="1073160"/>
            <a:ext cx="88390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hemical company is considering a project with a lifespan of 5 years which will produce an annual inflow of £1 000. The investment outlay is £3 000 and the discount rate (interest 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10%. Should the company go ahea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716120" y="6262560"/>
            <a:ext cx="720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et Present Value  =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Math A"/>
                <a:ea typeface="Math A"/>
              </a:rPr>
              <a:t>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present values)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£790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PV is positive so go ahead with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5892840" y="3065400"/>
            <a:ext cx="16588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9"/>
          <p:cNvSpPr/>
          <p:nvPr/>
        </p:nvSpPr>
        <p:spPr>
          <a:xfrm>
            <a:off x="1212840" y="2733840"/>
            <a:ext cx="66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resent value  =  Future  value  x           1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( 1  +  r )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36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0"/>
          <p:cNvSpPr/>
          <p:nvPr/>
        </p:nvSpPr>
        <p:spPr>
          <a:xfrm>
            <a:off x="5999040" y="2610000"/>
            <a:ext cx="1943280" cy="1008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7912800" y="263052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2120" y="395748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2120" y="432288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2120" y="4678200"/>
          <a:ext cx="9217080" cy="3654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 In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2120" y="50529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2120" y="542124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2120" y="5781600"/>
          <a:ext cx="9217080" cy="39708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202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8"/>
          <p:cNvSpPr/>
          <p:nvPr/>
        </p:nvSpPr>
        <p:spPr>
          <a:xfrm>
            <a:off x="509400" y="3683160"/>
            <a:ext cx="76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brackets denote  (a negative value). Cash into project is positive, Cash out of project is 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595800" y="3165480"/>
            <a:ext cx="549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: the initial investment is made in period “0”  which means that 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 not discounted (t = 0) and only future cashflows (t = &gt;1) are dis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45920" y="480600"/>
            <a:ext cx="49309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65200" y="1658880"/>
            <a:ext cx="909324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any has developed a new product and has to decide whether to start full production. The marketing department has estimated that the product could sell at a price of £25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hieve sales of 5 000 unit a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Variable costs are £14 uni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ixed costs £20 000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The initial investment in the production plant would be £100 000 with a residual value of £15 000 after 5 years when the product would probably be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full production be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9"/>
          <p:cNvSpPr/>
          <p:nvPr/>
        </p:nvSpPr>
        <p:spPr>
          <a:xfrm>
            <a:off x="2654280" y="409680"/>
            <a:ext cx="4751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2"/>
          <p:cNvSpPr/>
          <p:nvPr/>
        </p:nvSpPr>
        <p:spPr>
          <a:xfrm>
            <a:off x="1933560" y="1006560"/>
            <a:ext cx="6386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1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roject: New Product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     Discount Rate: 1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3"/>
          <p:cNvSpPr/>
          <p:nvPr/>
        </p:nvSpPr>
        <p:spPr>
          <a:xfrm>
            <a:off x="2546280" y="6832440"/>
            <a:ext cx="50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Net Present Value  =  £42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120" y="29163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2120" y="3386160"/>
          <a:ext cx="9217080" cy="63972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ves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2120" y="44910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92120" y="540216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Cash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92120" y="585468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2120" y="6310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92120" y="495144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2120" y="4035600"/>
          <a:ext cx="9217080" cy="45720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92120" y="13557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2120" y="171612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price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2120" y="2081160"/>
          <a:ext cx="9217080" cy="365040"/>
        </p:xfrm>
        <a:graphic>
          <a:graphicData uri="http://schemas.openxmlformats.org/drawingml/2006/table">
            <a:tbl>
              <a:tblPr/>
              <a:tblGrid>
                <a:gridCol w="1922400"/>
                <a:gridCol w="1203480"/>
                <a:gridCol w="1201680"/>
                <a:gridCol w="1201680"/>
                <a:gridCol w="1282680"/>
                <a:gridCol w="1203480"/>
                <a:gridCol w="120168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cost /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339"/>
          <p:cNvSpPr/>
          <p:nvPr/>
        </p:nvSpPr>
        <p:spPr>
          <a:xfrm>
            <a:off x="6110280" y="2629080"/>
            <a:ext cx="13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£000 or £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1"/>
          <p:cNvSpPr/>
          <p:nvPr/>
        </p:nvSpPr>
        <p:spPr>
          <a:xfrm>
            <a:off x="8118000" y="74048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ountCashFlow |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0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8:57Z</dcterms:created>
  <dc:creator>Brian Grievson</dc:creator>
  <dc:description/>
  <dc:language>en-US</dc:language>
  <cp:lastModifiedBy>Chris Runciman</cp:lastModifiedBy>
  <dcterms:modified xsi:type="dcterms:W3CDTF">2020-11-27T10:24:56Z</dcterms:modified>
  <cp:revision>111</cp:revision>
  <dc:subject/>
  <dc:title>Discounted cash flow presentation</dc:title>
</cp:coreProperties>
</file>