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5A6-2186-4B11-9E37-6BF2C439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373-1EA2-4C14-94FD-FB35AFD5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653-01A3-4377-B9E5-C0079038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D06-73A3-47FA-B48A-320DB524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B4B-1479-4572-AC5E-37E0426C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16C-569F-4E04-91C9-EF37407B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421-EB56-47BA-9824-3EDAA01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0F4-70DB-45BD-972F-82DFC8A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E0-4463-43B8-A31B-321B3590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F09-DD01-434D-AA33-27131D2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4F0-D0B5-4797-A1BA-DF69348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154-B507-4C36-A6C7-1F1ABBE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9B0-F87A-4619-933C-EBE4869E4B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55520" y="651960"/>
            <a:ext cx="4405320" cy="4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ing or S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 flipV="1">
            <a:off x="644400" y="2559960"/>
            <a:ext cx="169560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 flipV="1">
            <a:off x="2460600" y="2559960"/>
            <a:ext cx="194796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flipV="1">
            <a:off x="4576680" y="2559960"/>
            <a:ext cx="20192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829560" y="2017800"/>
            <a:ext cx="26143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7"/>
                </a:lnTo>
                <a:lnTo>
                  <a:pt x="0" y="442"/>
                </a:lnTo>
                <a:lnTo>
                  <a:pt x="311" y="440"/>
                </a:lnTo>
                <a:lnTo>
                  <a:pt x="311" y="0"/>
                </a:lnTo>
                <a:lnTo>
                  <a:pt x="1272" y="979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63400" y="1438200"/>
            <a:ext cx="864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0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rting poin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Focu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Means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 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97040" y="4062240"/>
            <a:ext cx="40165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Sell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28800" y="3094200"/>
            <a:ext cx="1220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725560" y="3105000"/>
            <a:ext cx="1387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741920" y="2728800"/>
            <a:ext cx="1801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116840" y="2517840"/>
            <a:ext cx="1589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flipV="1">
            <a:off x="628560" y="5368320"/>
            <a:ext cx="1697040" cy="1376280"/>
          </a:xfrm>
          <a:prstGeom prst="roundRect">
            <a:avLst>
              <a:gd name="adj" fmla="val 0"/>
            </a:avLst>
          </a:prstGeom>
          <a:solidFill>
            <a:srgbClr val="f1f180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flipV="1">
            <a:off x="2446200" y="5368320"/>
            <a:ext cx="1946520" cy="1376280"/>
          </a:xfrm>
          <a:prstGeom prst="roundRect">
            <a:avLst>
              <a:gd name="adj" fmla="val 0"/>
            </a:avLst>
          </a:prstGeom>
          <a:solidFill>
            <a:srgbClr val="c0c27c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 flipV="1">
            <a:off x="4562640" y="5368320"/>
            <a:ext cx="2017440" cy="1376280"/>
          </a:xfrm>
          <a:prstGeom prst="roundRect">
            <a:avLst>
              <a:gd name="adj" fmla="val 0"/>
            </a:avLst>
          </a:prstGeom>
          <a:solidFill>
            <a:srgbClr val="a1e2ff"/>
          </a:solidFill>
          <a:ln w="1836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6811920" y="4826160"/>
            <a:ext cx="2616120" cy="2444760"/>
          </a:xfrm>
          <a:custGeom>
            <a:avLst/>
            <a:gdLst/>
            <a:ahLst/>
            <a:rect l="l" t="t" r="r" b="b"/>
            <a:pathLst>
              <a:path w="1273" h="1993">
                <a:moveTo>
                  <a:pt x="311" y="1992"/>
                </a:moveTo>
                <a:lnTo>
                  <a:pt x="311" y="1531"/>
                </a:lnTo>
                <a:lnTo>
                  <a:pt x="0" y="1538"/>
                </a:lnTo>
                <a:lnTo>
                  <a:pt x="0" y="443"/>
                </a:lnTo>
                <a:lnTo>
                  <a:pt x="311" y="441"/>
                </a:lnTo>
                <a:lnTo>
                  <a:pt x="311" y="0"/>
                </a:lnTo>
                <a:lnTo>
                  <a:pt x="1272" y="980"/>
                </a:lnTo>
                <a:lnTo>
                  <a:pt x="311" y="1992"/>
                </a:lnTo>
                <a:lnTo>
                  <a:pt x="311" y="1992"/>
                </a:lnTo>
              </a:path>
            </a:pathLst>
          </a:custGeom>
          <a:solidFill>
            <a:srgbClr val="bfbfff"/>
          </a:solidFill>
          <a:ln w="18360">
            <a:solidFill>
              <a:srgbClr val="000000"/>
            </a:solidFill>
            <a:round/>
          </a:ln>
          <a:effectLst>
            <a:outerShdw dist="107932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352600" y="6897600"/>
            <a:ext cx="4621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Nadianne"/>
              </a:rPr>
              <a:t>The Marketing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958680" y="5913360"/>
            <a:ext cx="1117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81200" y="5686560"/>
            <a:ext cx="16779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597560" y="568656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6710400" y="5284800"/>
            <a:ext cx="19191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8092080" y="740484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tingOrSelling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3840" y="648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5"/>
          <p:cNvSpPr/>
          <p:nvPr/>
        </p:nvSpPr>
        <p:spPr>
          <a:xfrm>
            <a:off x="1716120" y="274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13:34Z</dcterms:modified>
  <cp:revision>106</cp:revision>
  <dc:subject/>
  <dc:title>Marketing or selling presentation</dc:title>
</cp:coreProperties>
</file>