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89E-9B53-428E-86BA-2DD7D9CF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643-3984-451B-A1A6-2F0507F7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069-A683-4F1B-813F-942386CB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2461-D841-424A-B455-43569C6D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6C40-CCBE-4B63-905A-23C5D586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AF0-445A-414F-8558-9F742BAE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4DC-757A-460A-8288-74E7CBD6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D1A-71E7-4634-AB8C-933544A1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C7E-91B8-4511-894B-AD6BB6F9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20A-6D78-43D4-8C6D-EC9062B7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376-11D9-4462-A8CA-44B41704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D6F-A63C-4276-90E6-74427841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con08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CEC9-E084-42B9-95A0-F6A79292AD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881360" y="723600"/>
            <a:ext cx="61005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cing in Perfect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004840" y="1517760"/>
            <a:ext cx="591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Graph for Individual Compan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- all price ta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4"/>
          <p:cNvSpPr/>
          <p:nvPr/>
        </p:nvSpPr>
        <p:spPr>
          <a:xfrm>
            <a:off x="1241280" y="2657520"/>
            <a:ext cx="7694640" cy="3639960"/>
          </a:xfrm>
          <a:custGeom>
            <a:avLst/>
            <a:gdLst>
              <a:gd name="textAreaLeft" fmla="*/ 0 w 7694640"/>
              <a:gd name="textAreaRight" fmla="*/ 7695000 w 7694640"/>
              <a:gd name="textAreaTop" fmla="*/ 0 h 3639960"/>
              <a:gd name="textAreaBottom" fmla="*/ 3640320 h 3639960"/>
            </a:gdLst>
            <a:ahLst/>
            <a:rect l="textAreaLeft" t="textAreaTop" r="textAreaRight" b="textAreaBottom"/>
            <a:pathLst>
              <a:path w="3746" h="2967">
                <a:moveTo>
                  <a:pt x="0" y="0"/>
                </a:moveTo>
                <a:lnTo>
                  <a:pt x="0" y="2966"/>
                </a:lnTo>
                <a:lnTo>
                  <a:pt x="3745" y="296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09640" y="2987640"/>
            <a:ext cx="289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7760" y="6356520"/>
            <a:ext cx="288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1292400" y="4540320"/>
            <a:ext cx="7270560" cy="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9"/>
          <p:cNvSpPr/>
          <p:nvPr/>
        </p:nvSpPr>
        <p:spPr>
          <a:xfrm>
            <a:off x="1982880" y="3035160"/>
            <a:ext cx="6448320" cy="1505160"/>
          </a:xfrm>
          <a:custGeom>
            <a:avLst/>
            <a:gdLst>
              <a:gd name="textAreaLeft" fmla="*/ 0 w 6448320"/>
              <a:gd name="textAreaRight" fmla="*/ 6448680 w 6448320"/>
              <a:gd name="textAreaTop" fmla="*/ 0 h 1505160"/>
              <a:gd name="textAreaBottom" fmla="*/ 1505520 h 1505160"/>
            </a:gdLst>
            <a:ahLst/>
            <a:rect l="textAreaLeft" t="textAreaTop" r="textAreaRight" b="textAreaBottom"/>
            <a:pathLst>
              <a:path w="3139" h="1226">
                <a:moveTo>
                  <a:pt x="0" y="0"/>
                </a:moveTo>
                <a:lnTo>
                  <a:pt x="98" y="257"/>
                </a:lnTo>
                <a:lnTo>
                  <a:pt x="228" y="483"/>
                </a:lnTo>
                <a:lnTo>
                  <a:pt x="386" y="681"/>
                </a:lnTo>
                <a:lnTo>
                  <a:pt x="567" y="848"/>
                </a:lnTo>
                <a:lnTo>
                  <a:pt x="767" y="986"/>
                </a:lnTo>
                <a:lnTo>
                  <a:pt x="983" y="1093"/>
                </a:lnTo>
                <a:lnTo>
                  <a:pt x="1211" y="1169"/>
                </a:lnTo>
                <a:lnTo>
                  <a:pt x="1447" y="1212"/>
                </a:lnTo>
                <a:lnTo>
                  <a:pt x="1686" y="1225"/>
                </a:lnTo>
                <a:lnTo>
                  <a:pt x="1925" y="1205"/>
                </a:lnTo>
                <a:lnTo>
                  <a:pt x="2160" y="1152"/>
                </a:lnTo>
                <a:lnTo>
                  <a:pt x="2388" y="1065"/>
                </a:lnTo>
                <a:lnTo>
                  <a:pt x="2602" y="944"/>
                </a:lnTo>
                <a:lnTo>
                  <a:pt x="2802" y="789"/>
                </a:lnTo>
                <a:lnTo>
                  <a:pt x="2982" y="600"/>
                </a:lnTo>
                <a:lnTo>
                  <a:pt x="3138" y="374"/>
                </a:lnTo>
              </a:path>
            </a:pathLst>
          </a:custGeom>
          <a:noFill/>
          <a:ln w="12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 flipV="1">
            <a:off x="3098880" y="2894040"/>
            <a:ext cx="4722840" cy="3100320"/>
          </a:xfrm>
          <a:prstGeom prst="line">
            <a:avLst/>
          </a:prstGeom>
          <a:ln w="126720">
            <a:solidFill>
              <a:srgbClr val="a100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8256600" y="3008160"/>
            <a:ext cx="949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A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6727680" y="2781360"/>
            <a:ext cx="7239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a1009f"/>
                </a:solidFill>
                <a:latin typeface="Arial"/>
              </a:rPr>
              <a:t>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5351400" y="4554360"/>
            <a:ext cx="0" cy="1662120"/>
          </a:xfrm>
          <a:prstGeom prst="line">
            <a:avLst/>
          </a:prstGeom>
          <a:ln w="47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1300320" y="4992840"/>
            <a:ext cx="7270560" cy="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1282680" y="4048200"/>
            <a:ext cx="7269120" cy="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6121440" y="4079880"/>
            <a:ext cx="0" cy="2114640"/>
          </a:xfrm>
          <a:prstGeom prst="line">
            <a:avLst/>
          </a:prstGeom>
          <a:ln w="47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4689360" y="5013360"/>
            <a:ext cx="0" cy="1203120"/>
          </a:xfrm>
          <a:prstGeom prst="line">
            <a:avLst/>
          </a:prstGeom>
          <a:ln w="47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8670960" y="3886200"/>
            <a:ext cx="606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0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2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8629560" y="4822920"/>
            <a:ext cx="453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2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941560" y="352584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= 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8629560" y="439092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2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357200" y="3525840"/>
            <a:ext cx="93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D = 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037200" y="63342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243400" y="6334200"/>
            <a:ext cx="43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524480" y="633420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8754480" y="7222680"/>
            <a:ext cx="111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erfectMarketPricing 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2:54Z</dcterms:created>
  <dc:creator>Brian Grievson</dc:creator>
  <dc:description/>
  <dc:language>en-US</dc:language>
  <cp:lastModifiedBy>Chris Runciman</cp:lastModifiedBy>
  <dcterms:modified xsi:type="dcterms:W3CDTF">2020-11-27T10:18:58Z</dcterms:modified>
  <cp:revision>126</cp:revision>
  <dc:subject/>
  <dc:title>Perfect market pricing presentation</dc:title>
</cp:coreProperties>
</file>