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376-124D-407A-842B-13E93886D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B87-8570-430C-9932-F066D9EC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E3B-21A9-4A61-AEA5-8970BBD8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E2A-2A5C-4A16-9E2D-EF90912F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B5E-4C02-4B08-89D4-E8F8F560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61A-0379-4B73-BA0D-B5471EB3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DBD-6F80-4CE4-8E18-7E6AEF6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E39-EE2A-4435-9225-681528D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1A3-78FC-4DA6-A223-3C6CF20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254-8EEB-4BA5-B59B-D581AF07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B60-1E5D-4DA8-A398-47CE9378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D12-FF42-4CEB-B0F4-FCF784D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4DE-F3BF-411F-9BBD-9F53860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1B0-0D5F-451D-9075-959662C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962-41B6-4FA5-AD34-2E2D2644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F73-6A0D-404C-8E96-8417FE1228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1400" y="514440"/>
            <a:ext cx="4105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8280" y="1149480"/>
            <a:ext cx="90709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samples of size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are drawn from a population with a 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 standard deviation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, then as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increases in size the distribution of sample means approaches a normal distribution with 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and a standard error of the means of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062080" y="5533920"/>
            <a:ext cx="1863720" cy="1025640"/>
          </a:xfrm>
          <a:custGeom>
            <a:avLst/>
            <a:gdLst/>
            <a:ahLst/>
            <a:rect l="l" t="t" r="r" b="b"/>
            <a:pathLst>
              <a:path w="907" h="836">
                <a:moveTo>
                  <a:pt x="0" y="827"/>
                </a:moveTo>
                <a:lnTo>
                  <a:pt x="906" y="827"/>
                </a:lnTo>
                <a:lnTo>
                  <a:pt x="885" y="821"/>
                </a:lnTo>
                <a:lnTo>
                  <a:pt x="841" y="805"/>
                </a:lnTo>
                <a:lnTo>
                  <a:pt x="804" y="774"/>
                </a:lnTo>
                <a:lnTo>
                  <a:pt x="771" y="731"/>
                </a:lnTo>
                <a:lnTo>
                  <a:pt x="743" y="677"/>
                </a:lnTo>
                <a:lnTo>
                  <a:pt x="717" y="613"/>
                </a:lnTo>
                <a:lnTo>
                  <a:pt x="695" y="544"/>
                </a:lnTo>
                <a:lnTo>
                  <a:pt x="674" y="471"/>
                </a:lnTo>
                <a:lnTo>
                  <a:pt x="654" y="396"/>
                </a:lnTo>
                <a:lnTo>
                  <a:pt x="634" y="320"/>
                </a:lnTo>
                <a:lnTo>
                  <a:pt x="615" y="248"/>
                </a:lnTo>
                <a:lnTo>
                  <a:pt x="594" y="181"/>
                </a:lnTo>
                <a:lnTo>
                  <a:pt x="571" y="122"/>
                </a:lnTo>
                <a:lnTo>
                  <a:pt x="545" y="71"/>
                </a:lnTo>
                <a:lnTo>
                  <a:pt x="517" y="33"/>
                </a:lnTo>
                <a:lnTo>
                  <a:pt x="485" y="7"/>
                </a:lnTo>
                <a:lnTo>
                  <a:pt x="449" y="0"/>
                </a:lnTo>
                <a:lnTo>
                  <a:pt x="445" y="0"/>
                </a:lnTo>
                <a:lnTo>
                  <a:pt x="406" y="7"/>
                </a:lnTo>
                <a:lnTo>
                  <a:pt x="374" y="32"/>
                </a:lnTo>
                <a:lnTo>
                  <a:pt x="345" y="70"/>
                </a:lnTo>
                <a:lnTo>
                  <a:pt x="320" y="122"/>
                </a:lnTo>
                <a:lnTo>
                  <a:pt x="296" y="182"/>
                </a:lnTo>
                <a:lnTo>
                  <a:pt x="275" y="251"/>
                </a:lnTo>
                <a:lnTo>
                  <a:pt x="255" y="324"/>
                </a:lnTo>
                <a:lnTo>
                  <a:pt x="235" y="402"/>
                </a:lnTo>
                <a:lnTo>
                  <a:pt x="214" y="478"/>
                </a:lnTo>
                <a:lnTo>
                  <a:pt x="193" y="553"/>
                </a:lnTo>
                <a:lnTo>
                  <a:pt x="170" y="624"/>
                </a:lnTo>
                <a:lnTo>
                  <a:pt x="145" y="689"/>
                </a:lnTo>
                <a:lnTo>
                  <a:pt x="115" y="744"/>
                </a:lnTo>
                <a:lnTo>
                  <a:pt x="83" y="789"/>
                </a:lnTo>
                <a:lnTo>
                  <a:pt x="46" y="819"/>
                </a:lnTo>
                <a:lnTo>
                  <a:pt x="4" y="835"/>
                </a:lnTo>
                <a:lnTo>
                  <a:pt x="0" y="827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078600" y="5532480"/>
            <a:ext cx="1865160" cy="1027080"/>
          </a:xfrm>
          <a:custGeom>
            <a:avLst/>
            <a:gdLst/>
            <a:ahLst/>
            <a:rect l="l" t="t" r="r" b="b"/>
            <a:pathLst>
              <a:path w="908" h="837">
                <a:moveTo>
                  <a:pt x="0" y="828"/>
                </a:moveTo>
                <a:lnTo>
                  <a:pt x="907" y="828"/>
                </a:lnTo>
                <a:lnTo>
                  <a:pt x="886" y="821"/>
                </a:lnTo>
                <a:lnTo>
                  <a:pt x="842" y="805"/>
                </a:lnTo>
                <a:lnTo>
                  <a:pt x="804" y="775"/>
                </a:lnTo>
                <a:lnTo>
                  <a:pt x="771" y="731"/>
                </a:lnTo>
                <a:lnTo>
                  <a:pt x="744" y="677"/>
                </a:lnTo>
                <a:lnTo>
                  <a:pt x="717" y="614"/>
                </a:lnTo>
                <a:lnTo>
                  <a:pt x="695" y="544"/>
                </a:lnTo>
                <a:lnTo>
                  <a:pt x="674" y="471"/>
                </a:lnTo>
                <a:lnTo>
                  <a:pt x="655" y="396"/>
                </a:lnTo>
                <a:lnTo>
                  <a:pt x="634" y="321"/>
                </a:lnTo>
                <a:lnTo>
                  <a:pt x="615" y="249"/>
                </a:lnTo>
                <a:lnTo>
                  <a:pt x="594" y="182"/>
                </a:lnTo>
                <a:lnTo>
                  <a:pt x="572" y="122"/>
                </a:lnTo>
                <a:lnTo>
                  <a:pt x="546" y="72"/>
                </a:lnTo>
                <a:lnTo>
                  <a:pt x="518" y="33"/>
                </a:lnTo>
                <a:lnTo>
                  <a:pt x="485" y="8"/>
                </a:lnTo>
                <a:lnTo>
                  <a:pt x="449" y="0"/>
                </a:lnTo>
                <a:lnTo>
                  <a:pt x="446" y="0"/>
                </a:lnTo>
                <a:lnTo>
                  <a:pt x="407" y="7"/>
                </a:lnTo>
                <a:lnTo>
                  <a:pt x="374" y="32"/>
                </a:lnTo>
                <a:lnTo>
                  <a:pt x="345" y="71"/>
                </a:lnTo>
                <a:lnTo>
                  <a:pt x="320" y="122"/>
                </a:lnTo>
                <a:lnTo>
                  <a:pt x="296" y="183"/>
                </a:lnTo>
                <a:lnTo>
                  <a:pt x="275" y="251"/>
                </a:lnTo>
                <a:lnTo>
                  <a:pt x="255" y="325"/>
                </a:lnTo>
                <a:lnTo>
                  <a:pt x="236" y="402"/>
                </a:lnTo>
                <a:lnTo>
                  <a:pt x="215" y="478"/>
                </a:lnTo>
                <a:lnTo>
                  <a:pt x="194" y="553"/>
                </a:lnTo>
                <a:lnTo>
                  <a:pt x="171" y="624"/>
                </a:lnTo>
                <a:lnTo>
                  <a:pt x="145" y="689"/>
                </a:lnTo>
                <a:lnTo>
                  <a:pt x="116" y="745"/>
                </a:lnTo>
                <a:lnTo>
                  <a:pt x="84" y="789"/>
                </a:lnTo>
                <a:lnTo>
                  <a:pt x="46" y="820"/>
                </a:lnTo>
                <a:lnTo>
                  <a:pt x="4" y="836"/>
                </a:lnTo>
                <a:lnTo>
                  <a:pt x="0" y="828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29876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69944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flipV="1">
            <a:off x="1957320" y="3808440"/>
            <a:ext cx="2089080" cy="985680"/>
          </a:xfrm>
          <a:prstGeom prst="roundRect">
            <a:avLst>
              <a:gd name="adj" fmla="val 0"/>
            </a:avLst>
          </a:prstGeom>
          <a:noFill/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6175440" y="3789360"/>
            <a:ext cx="3065400" cy="996840"/>
          </a:xfrm>
          <a:custGeom>
            <a:avLst/>
            <a:gdLst/>
            <a:ahLst/>
            <a:rect l="l" t="t" r="r" b="b"/>
            <a:pathLst>
              <a:path w="1492" h="813">
                <a:moveTo>
                  <a:pt x="7" y="812"/>
                </a:moveTo>
                <a:lnTo>
                  <a:pt x="1491" y="812"/>
                </a:lnTo>
                <a:lnTo>
                  <a:pt x="0" y="0"/>
                </a:lnTo>
                <a:lnTo>
                  <a:pt x="0" y="812"/>
                </a:lnTo>
                <a:lnTo>
                  <a:pt x="7" y="812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1465200" y="3602160"/>
            <a:ext cx="0" cy="11858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6200000">
            <a:off x="261000" y="3758040"/>
            <a:ext cx="1616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 flipV="1">
            <a:off x="1471680" y="5358960"/>
            <a:ext cx="0" cy="11876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 rot="16200000">
            <a:off x="280080" y="5618520"/>
            <a:ext cx="1647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58120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019320" y="2806560"/>
            <a:ext cx="17226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7035840" y="2806560"/>
            <a:ext cx="1665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465200" y="478800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1460520" y="655308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3"/>
              <p:cNvSpPr txBox="1"/>
              <p:nvPr/>
            </p:nvSpPr>
            <p:spPr>
              <a:xfrm>
                <a:off x="6800760" y="2114640"/>
                <a:ext cx="1513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4"/>
              <p:cNvSpPr txBox="1"/>
              <p:nvPr/>
            </p:nvSpPr>
            <p:spPr>
              <a:xfrm>
                <a:off x="3948120" y="1581120"/>
                <a:ext cx="336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5"/>
              <p:cNvSpPr txBox="1"/>
              <p:nvPr/>
            </p:nvSpPr>
            <p:spPr>
              <a:xfrm>
                <a:off x="1457280" y="225900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8"/>
              <p:cNvSpPr txBox="1"/>
              <p:nvPr/>
            </p:nvSpPr>
            <p:spPr>
              <a:xfrm>
                <a:off x="6789600" y="277344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2797200" y="2730600"/>
                <a:ext cx="544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41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654192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60200" y="493200"/>
            <a:ext cx="4545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2941560" y="2011320"/>
            <a:ext cx="4194360" cy="1198440"/>
          </a:xfrm>
          <a:custGeom>
            <a:avLst/>
            <a:gdLst/>
            <a:ahLst/>
            <a:rect l="l" t="t" r="r" b="b"/>
            <a:pathLst>
              <a:path w="2041" h="977">
                <a:moveTo>
                  <a:pt x="0" y="967"/>
                </a:moveTo>
                <a:lnTo>
                  <a:pt x="2040" y="967"/>
                </a:lnTo>
                <a:lnTo>
                  <a:pt x="1991" y="959"/>
                </a:lnTo>
                <a:lnTo>
                  <a:pt x="1895" y="942"/>
                </a:lnTo>
                <a:lnTo>
                  <a:pt x="1810" y="906"/>
                </a:lnTo>
                <a:lnTo>
                  <a:pt x="1737" y="856"/>
                </a:lnTo>
                <a:lnTo>
                  <a:pt x="1673" y="792"/>
                </a:lnTo>
                <a:lnTo>
                  <a:pt x="1615" y="719"/>
                </a:lnTo>
                <a:lnTo>
                  <a:pt x="1564" y="638"/>
                </a:lnTo>
                <a:lnTo>
                  <a:pt x="1517" y="552"/>
                </a:lnTo>
                <a:lnTo>
                  <a:pt x="1473" y="464"/>
                </a:lnTo>
                <a:lnTo>
                  <a:pt x="1429" y="377"/>
                </a:lnTo>
                <a:lnTo>
                  <a:pt x="1384" y="293"/>
                </a:lnTo>
                <a:lnTo>
                  <a:pt x="1337" y="215"/>
                </a:lnTo>
                <a:lnTo>
                  <a:pt x="1286" y="144"/>
                </a:lnTo>
                <a:lnTo>
                  <a:pt x="1230" y="85"/>
                </a:lnTo>
                <a:lnTo>
                  <a:pt x="1166" y="40"/>
                </a:lnTo>
                <a:lnTo>
                  <a:pt x="1093" y="11"/>
                </a:lnTo>
                <a:lnTo>
                  <a:pt x="1010" y="0"/>
                </a:lnTo>
                <a:lnTo>
                  <a:pt x="1002" y="0"/>
                </a:lnTo>
                <a:lnTo>
                  <a:pt x="917" y="10"/>
                </a:lnTo>
                <a:lnTo>
                  <a:pt x="842" y="39"/>
                </a:lnTo>
                <a:lnTo>
                  <a:pt x="777" y="85"/>
                </a:lnTo>
                <a:lnTo>
                  <a:pt x="720" y="144"/>
                </a:lnTo>
                <a:lnTo>
                  <a:pt x="667" y="216"/>
                </a:lnTo>
                <a:lnTo>
                  <a:pt x="619" y="295"/>
                </a:lnTo>
                <a:lnTo>
                  <a:pt x="574" y="382"/>
                </a:lnTo>
                <a:lnTo>
                  <a:pt x="529" y="470"/>
                </a:lnTo>
                <a:lnTo>
                  <a:pt x="484" y="561"/>
                </a:lnTo>
                <a:lnTo>
                  <a:pt x="436" y="648"/>
                </a:lnTo>
                <a:lnTo>
                  <a:pt x="384" y="731"/>
                </a:lnTo>
                <a:lnTo>
                  <a:pt x="327" y="806"/>
                </a:lnTo>
                <a:lnTo>
                  <a:pt x="261" y="871"/>
                </a:lnTo>
                <a:lnTo>
                  <a:pt x="188" y="923"/>
                </a:lnTo>
                <a:lnTo>
                  <a:pt x="104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2860560" y="200988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 rot="16200000">
            <a:off x="1703160" y="2055240"/>
            <a:ext cx="1567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855880" y="319716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3790800" y="4078440"/>
            <a:ext cx="2465640" cy="1199880"/>
          </a:xfrm>
          <a:custGeom>
            <a:avLst/>
            <a:gdLst/>
            <a:ahLst/>
            <a:rect l="l" t="t" r="r" b="b"/>
            <a:pathLst>
              <a:path w="1200" h="978">
                <a:moveTo>
                  <a:pt x="0" y="967"/>
                </a:moveTo>
                <a:lnTo>
                  <a:pt x="1199" y="967"/>
                </a:lnTo>
                <a:lnTo>
                  <a:pt x="1171" y="959"/>
                </a:lnTo>
                <a:lnTo>
                  <a:pt x="1113" y="943"/>
                </a:lnTo>
                <a:lnTo>
                  <a:pt x="1064" y="907"/>
                </a:lnTo>
                <a:lnTo>
                  <a:pt x="1020" y="856"/>
                </a:lnTo>
                <a:lnTo>
                  <a:pt x="983" y="792"/>
                </a:lnTo>
                <a:lnTo>
                  <a:pt x="949" y="719"/>
                </a:lnTo>
                <a:lnTo>
                  <a:pt x="919" y="638"/>
                </a:lnTo>
                <a:lnTo>
                  <a:pt x="891" y="552"/>
                </a:lnTo>
                <a:lnTo>
                  <a:pt x="865" y="464"/>
                </a:lnTo>
                <a:lnTo>
                  <a:pt x="839" y="377"/>
                </a:lnTo>
                <a:lnTo>
                  <a:pt x="813" y="293"/>
                </a:lnTo>
                <a:lnTo>
                  <a:pt x="785" y="215"/>
                </a:lnTo>
                <a:lnTo>
                  <a:pt x="756" y="144"/>
                </a:lnTo>
                <a:lnTo>
                  <a:pt x="722" y="85"/>
                </a:lnTo>
                <a:lnTo>
                  <a:pt x="685" y="40"/>
                </a:lnTo>
                <a:lnTo>
                  <a:pt x="642" y="11"/>
                </a:lnTo>
                <a:lnTo>
                  <a:pt x="593" y="0"/>
                </a:lnTo>
                <a:lnTo>
                  <a:pt x="589" y="0"/>
                </a:lnTo>
                <a:lnTo>
                  <a:pt x="539" y="10"/>
                </a:lnTo>
                <a:lnTo>
                  <a:pt x="495" y="39"/>
                </a:lnTo>
                <a:lnTo>
                  <a:pt x="457" y="85"/>
                </a:lnTo>
                <a:lnTo>
                  <a:pt x="423" y="144"/>
                </a:lnTo>
                <a:lnTo>
                  <a:pt x="392" y="216"/>
                </a:lnTo>
                <a:lnTo>
                  <a:pt x="364" y="295"/>
                </a:lnTo>
                <a:lnTo>
                  <a:pt x="337" y="382"/>
                </a:lnTo>
                <a:lnTo>
                  <a:pt x="311" y="470"/>
                </a:lnTo>
                <a:lnTo>
                  <a:pt x="283" y="561"/>
                </a:lnTo>
                <a:lnTo>
                  <a:pt x="255" y="649"/>
                </a:lnTo>
                <a:lnTo>
                  <a:pt x="225" y="731"/>
                </a:lnTo>
                <a:lnTo>
                  <a:pt x="192" y="806"/>
                </a:lnTo>
                <a:lnTo>
                  <a:pt x="153" y="871"/>
                </a:lnTo>
                <a:lnTo>
                  <a:pt x="110" y="923"/>
                </a:lnTo>
                <a:lnTo>
                  <a:pt x="60" y="959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V="1">
            <a:off x="2857680" y="4076280"/>
            <a:ext cx="0" cy="1187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 rot="16200000">
            <a:off x="1735200" y="4265280"/>
            <a:ext cx="154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851200" y="526428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5013360" y="1484280"/>
            <a:ext cx="0" cy="422748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840280" y="4317840"/>
            <a:ext cx="156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2004840" y="6478560"/>
            <a:ext cx="598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4"/>
              <p:cNvSpPr txBox="1"/>
              <p:nvPr/>
            </p:nvSpPr>
            <p:spPr>
              <a:xfrm>
                <a:off x="5492880" y="6176880"/>
                <a:ext cx="21286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7"/>
              <p:cNvSpPr txBox="1"/>
              <p:nvPr/>
            </p:nvSpPr>
            <p:spPr>
              <a:xfrm>
                <a:off x="5892840" y="4226040"/>
                <a:ext cx="792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Line 32"/>
          <p:cNvSpPr/>
          <p:nvPr/>
        </p:nvSpPr>
        <p:spPr>
          <a:xfrm>
            <a:off x="4064040" y="2590920"/>
            <a:ext cx="1873080" cy="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 flipV="1">
            <a:off x="4381560" y="4692600"/>
            <a:ext cx="1224000" cy="1440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5"/>
              <p:cNvSpPr txBox="1"/>
              <p:nvPr/>
            </p:nvSpPr>
            <p:spPr>
              <a:xfrm>
                <a:off x="6058080" y="2373480"/>
                <a:ext cx="483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6"/>
              <p:cNvSpPr txBox="1"/>
              <p:nvPr/>
            </p:nvSpPr>
            <p:spPr>
              <a:xfrm>
                <a:off x="4803840" y="1063800"/>
                <a:ext cx="484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38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4524480" y="5757840"/>
            <a:ext cx="92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3:00Z</dcterms:modified>
  <cp:revision>74</cp:revision>
  <dc:subject/>
  <dc:title>Central limit theorem presentation</dc:title>
</cp:coreProperties>
</file>