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C42-B47C-4425-81F1-CCAE779F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6AD-FFBE-4AFC-8D0A-131F1FA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39A-145C-4AB5-8931-C1B66B24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2AE-096A-4688-90B9-2F9761DD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90B-875C-45D4-85B8-77B62FF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CE0-42A1-4595-9579-0C65855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AB2-6CCF-4A03-8F5B-65155FA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786-9F29-4B21-847E-676C1CB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5E7-A8F7-44A8-9D20-DCFF7F1A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FAA-33C1-4F96-9A01-FEF189A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14B-8A3A-41C8-A052-2A31F28E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296-D42D-4D4D-87F1-359422F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C95-596F-4EA5-B9BA-3CE457414D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068480" y="297648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468520" y="353880"/>
            <a:ext cx="5081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058760" y="1263600"/>
            <a:ext cx="6927840" cy="2927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1060560" y="1627200"/>
            <a:ext cx="6738840" cy="166680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060560" y="164304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58760" y="41911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57360" y="129240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715160" y="4282920"/>
            <a:ext cx="290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955880" y="1682640"/>
            <a:ext cx="177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monopoly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5541840" y="3857760"/>
            <a:ext cx="0" cy="933480"/>
          </a:xfrm>
          <a:prstGeom prst="line">
            <a:avLst/>
          </a:prstGeom>
          <a:ln w="63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119640" y="861840"/>
            <a:ext cx="323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Perfect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 curve identi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to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1143000" y="274968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19040" y="280512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1125360" y="2970360"/>
            <a:ext cx="3198960" cy="11602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2887200" y="4208400"/>
            <a:ext cx="528840" cy="14353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60480" y="5686560"/>
            <a:ext cx="300024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for monopoly market. Monopolist firm is a price set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741920" y="5686560"/>
            <a:ext cx="475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point for perfect market. All firms are price ta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7981920" y="45338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i="1" lang="en-GB" sz="2600" spc="-1" strike="noStrike" baseline="-25000">
                <a:solidFill>
                  <a:srgbClr val="bf4100"/>
                </a:solidFill>
                <a:latin typeface="Arial"/>
              </a:rPr>
              <a:t>(monopo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349880" y="4210200"/>
            <a:ext cx="528480" cy="14349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1147680" y="1643040"/>
            <a:ext cx="5032440" cy="230184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613560" y="23749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(price t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300480" y="4425840"/>
            <a:ext cx="431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186080" y="4427640"/>
            <a:ext cx="411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49200" y="251784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316320" y="32385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216320" y="28638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378400" y="473400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2"/>
          <p:cNvSpPr/>
          <p:nvPr/>
        </p:nvSpPr>
        <p:spPr>
          <a:xfrm>
            <a:off x="1335240" y="1749600"/>
            <a:ext cx="5032080" cy="2301840"/>
          </a:xfrm>
          <a:custGeom>
            <a:avLst/>
            <a:gdLst>
              <a:gd name="textAreaLeft" fmla="*/ 0 w 5032080"/>
              <a:gd name="textAreaRight" fmla="*/ 5032440 w 50320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15760" y="716040"/>
            <a:ext cx="67690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with 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1246320" y="1370160"/>
            <a:ext cx="6927840" cy="292716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160"/>
              <a:gd name="textAreaBottom" fmla="*/ 2927520 h 292716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1247760" y="1733400"/>
            <a:ext cx="6738840" cy="166716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1247760" y="174960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46320" y="42973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44560" y="1398600"/>
            <a:ext cx="287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981920" y="4262400"/>
            <a:ext cx="36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739880" y="1496880"/>
            <a:ext cx="341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18120" y="1820880"/>
            <a:ext cx="1543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1338120" y="3048120"/>
            <a:ext cx="3198960" cy="12538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090880" y="5114880"/>
            <a:ext cx="207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rfect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433520" y="248904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 flipH="1">
            <a:off x="3976200" y="4314960"/>
            <a:ext cx="528840" cy="8697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827600" y="4316400"/>
            <a:ext cx="527040" cy="8701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"/>
          <p:cNvSpPr/>
          <p:nvPr/>
        </p:nvSpPr>
        <p:spPr>
          <a:xfrm>
            <a:off x="1355760" y="3448080"/>
            <a:ext cx="6434280" cy="77616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3132" h="633">
                <a:moveTo>
                  <a:pt x="0" y="632"/>
                </a:moveTo>
                <a:lnTo>
                  <a:pt x="244" y="613"/>
                </a:lnTo>
                <a:lnTo>
                  <a:pt x="484" y="591"/>
                </a:lnTo>
                <a:lnTo>
                  <a:pt x="719" y="567"/>
                </a:lnTo>
                <a:lnTo>
                  <a:pt x="948" y="538"/>
                </a:lnTo>
                <a:lnTo>
                  <a:pt x="1171" y="508"/>
                </a:lnTo>
                <a:lnTo>
                  <a:pt x="1388" y="474"/>
                </a:lnTo>
                <a:lnTo>
                  <a:pt x="1598" y="437"/>
                </a:lnTo>
                <a:lnTo>
                  <a:pt x="1802" y="398"/>
                </a:lnTo>
                <a:lnTo>
                  <a:pt x="1997" y="357"/>
                </a:lnTo>
                <a:lnTo>
                  <a:pt x="2185" y="313"/>
                </a:lnTo>
                <a:lnTo>
                  <a:pt x="2365" y="267"/>
                </a:lnTo>
                <a:lnTo>
                  <a:pt x="2537" y="218"/>
                </a:lnTo>
                <a:lnTo>
                  <a:pt x="2699" y="167"/>
                </a:lnTo>
                <a:lnTo>
                  <a:pt x="2853" y="113"/>
                </a:lnTo>
                <a:lnTo>
                  <a:pt x="2997" y="58"/>
                </a:lnTo>
                <a:lnTo>
                  <a:pt x="3131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70600" y="3459240"/>
            <a:ext cx="247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onopo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4805280" y="3209760"/>
            <a:ext cx="0" cy="10447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173560" y="5114880"/>
            <a:ext cx="352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 monopo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economies of sc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 flipH="1">
            <a:off x="1350720" y="3208320"/>
            <a:ext cx="3454200" cy="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779400" y="6550200"/>
            <a:ext cx="8858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ads to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common in the Chemical Industr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52480" y="271944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52480" y="294948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87684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8936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>
            <a:off x="4424400" y="2952720"/>
            <a:ext cx="21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4692600" y="38386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7:19Z</dcterms:modified>
  <cp:revision>140</cp:revision>
  <dc:subject/>
  <dc:title>Monopoly market analysis presentation</dc:title>
</cp:coreProperties>
</file>