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B73-5926-41A2-B89E-F3C19311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FC3-F9AA-4A9C-A8F8-3E22B2C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014-85DB-496C-A942-FAEB68D6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162-EE09-4698-818C-BCE7D001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62E-C7D0-41DB-8DC8-BD7AD26B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169-BC91-4067-8B42-B3F840CE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8EE-5DD7-466B-AA7F-93E9FE7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DEA-466A-4E4C-B634-C7E460D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F6B-B1FE-47DD-80B7-E189138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BD1-84E1-4E56-9BDA-B128FBE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57D-7DA8-4544-90B0-6977BD4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673-AE84-476A-BD67-D95538D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AF4-BB50-4B87-9DBE-7E8756B87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93440" y="795240"/>
            <a:ext cx="5099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9"/>
          <p:cNvGrpSpPr/>
          <p:nvPr/>
        </p:nvGrpSpPr>
        <p:grpSpPr>
          <a:xfrm>
            <a:off x="2868120" y="2446200"/>
            <a:ext cx="6264000" cy="2879280"/>
            <a:chOff x="2868120" y="2446200"/>
            <a:chExt cx="6264000" cy="2879280"/>
          </a:xfrm>
        </p:grpSpPr>
        <p:sp>
          <p:nvSpPr>
            <p:cNvPr id="43" name="Line 22"/>
            <p:cNvSpPr/>
            <p:nvPr/>
          </p:nvSpPr>
          <p:spPr>
            <a:xfrm flipH="1">
              <a:off x="8915760" y="2446200"/>
              <a:ext cx="216360" cy="38160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23"/>
            <p:cNvSpPr/>
            <p:nvPr/>
          </p:nvSpPr>
          <p:spPr>
            <a:xfrm flipH="1">
              <a:off x="8671320" y="2827800"/>
              <a:ext cx="24444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24"/>
            <p:cNvSpPr/>
            <p:nvPr/>
          </p:nvSpPr>
          <p:spPr>
            <a:xfrm flipH="1">
              <a:off x="8302680" y="3183480"/>
              <a:ext cx="3686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25"/>
            <p:cNvSpPr/>
            <p:nvPr/>
          </p:nvSpPr>
          <p:spPr>
            <a:xfrm flipH="1">
              <a:off x="7872480" y="3540960"/>
              <a:ext cx="42948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26"/>
            <p:cNvSpPr/>
            <p:nvPr/>
          </p:nvSpPr>
          <p:spPr>
            <a:xfrm flipH="1">
              <a:off x="7352640" y="3899160"/>
              <a:ext cx="51948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7"/>
            <p:cNvSpPr/>
            <p:nvPr/>
          </p:nvSpPr>
          <p:spPr>
            <a:xfrm flipH="1">
              <a:off x="6368760" y="4254480"/>
              <a:ext cx="984240" cy="35748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28"/>
            <p:cNvSpPr/>
            <p:nvPr/>
          </p:nvSpPr>
          <p:spPr>
            <a:xfrm flipH="1">
              <a:off x="4864320" y="4612320"/>
              <a:ext cx="1503720" cy="35532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9"/>
            <p:cNvSpPr/>
            <p:nvPr/>
          </p:nvSpPr>
          <p:spPr>
            <a:xfrm flipH="1">
              <a:off x="2868120" y="4967640"/>
              <a:ext cx="1996200" cy="357840"/>
            </a:xfrm>
            <a:prstGeom prst="line">
              <a:avLst/>
            </a:prstGeom>
            <a:ln w="126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Line 4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805120" y="49068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2805120" y="414648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05120" y="338616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2805120" y="262260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805120" y="1836720"/>
            <a:ext cx="63324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805120" y="5667480"/>
            <a:ext cx="633240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flipV="1">
            <a:off x="2805120" y="1836360"/>
            <a:ext cx="6364440" cy="3852720"/>
          </a:xfrm>
          <a:prstGeom prst="roundRect">
            <a:avLst>
              <a:gd name="adj" fmla="val 0"/>
            </a:avLst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7908840" y="5830920"/>
            <a:ext cx="1327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2805120" y="1836360"/>
            <a:ext cx="0" cy="3830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/>
          <p:cNvSpPr/>
          <p:nvPr/>
        </p:nvSpPr>
        <p:spPr>
          <a:xfrm rot="16200000">
            <a:off x="1813320" y="2276640"/>
            <a:ext cx="81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 (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373560" y="2590920"/>
            <a:ext cx="143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emand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49"/>
          <p:cNvSpPr/>
          <p:nvPr/>
        </p:nvSpPr>
        <p:spPr>
          <a:xfrm>
            <a:off x="5676840" y="4894200"/>
            <a:ext cx="6480" cy="1184400"/>
          </a:xfrm>
          <a:custGeom>
            <a:avLst/>
            <a:gdLst>
              <a:gd name="textAreaLeft" fmla="*/ 0 w 6480"/>
              <a:gd name="textAreaRight" fmla="*/ 6840 w 648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4" h="746">
                <a:moveTo>
                  <a:pt x="0" y="0"/>
                </a:moveTo>
                <a:lnTo>
                  <a:pt x="4" y="746"/>
                </a:lnTo>
              </a:path>
            </a:pathLst>
          </a:custGeom>
          <a:noFill/>
          <a:ln w="630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61"/>
          <p:cNvGrpSpPr/>
          <p:nvPr/>
        </p:nvGrpSpPr>
        <p:grpSpPr>
          <a:xfrm>
            <a:off x="2870280" y="2590920"/>
            <a:ext cx="6264000" cy="2736360"/>
            <a:chOff x="2870280" y="2590920"/>
            <a:chExt cx="6264000" cy="2736360"/>
          </a:xfrm>
        </p:grpSpPr>
        <p:sp>
          <p:nvSpPr>
            <p:cNvPr id="65" name="Line 14"/>
            <p:cNvSpPr/>
            <p:nvPr/>
          </p:nvSpPr>
          <p:spPr>
            <a:xfrm>
              <a:off x="3230640" y="3165480"/>
              <a:ext cx="216000" cy="287280"/>
            </a:xfrm>
            <a:prstGeom prst="line">
              <a:avLst/>
            </a:prstGeom>
            <a:ln w="1267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54"/>
            <p:cNvGrpSpPr/>
            <p:nvPr/>
          </p:nvGrpSpPr>
          <p:grpSpPr>
            <a:xfrm>
              <a:off x="2870280" y="2590920"/>
              <a:ext cx="6264000" cy="2736360"/>
              <a:chOff x="2870280" y="2590920"/>
              <a:chExt cx="6264000" cy="2736360"/>
            </a:xfrm>
          </p:grpSpPr>
          <p:sp>
            <p:nvSpPr>
              <p:cNvPr id="67" name="Line 12"/>
              <p:cNvSpPr/>
              <p:nvPr/>
            </p:nvSpPr>
            <p:spPr>
              <a:xfrm>
                <a:off x="2870280" y="2590920"/>
                <a:ext cx="154080" cy="30456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"/>
              <p:cNvSpPr/>
              <p:nvPr/>
            </p:nvSpPr>
            <p:spPr>
              <a:xfrm>
                <a:off x="3024360" y="2895480"/>
                <a:ext cx="21636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5"/>
              <p:cNvSpPr/>
              <p:nvPr/>
            </p:nvSpPr>
            <p:spPr>
              <a:xfrm>
                <a:off x="3453840" y="3465360"/>
                <a:ext cx="2476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6"/>
              <p:cNvSpPr/>
              <p:nvPr/>
            </p:nvSpPr>
            <p:spPr>
              <a:xfrm>
                <a:off x="3701880" y="3751200"/>
                <a:ext cx="30672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7"/>
              <p:cNvSpPr/>
              <p:nvPr/>
            </p:nvSpPr>
            <p:spPr>
              <a:xfrm>
                <a:off x="4008600" y="4035240"/>
                <a:ext cx="365040" cy="2858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4374000" y="4321080"/>
                <a:ext cx="614880" cy="2836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9"/>
              <p:cNvSpPr/>
              <p:nvPr/>
            </p:nvSpPr>
            <p:spPr>
              <a:xfrm>
                <a:off x="4989240" y="4605120"/>
                <a:ext cx="1136880" cy="28548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6126120" y="4890960"/>
                <a:ext cx="1504080" cy="28404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1"/>
              <p:cNvSpPr/>
              <p:nvPr/>
            </p:nvSpPr>
            <p:spPr>
              <a:xfrm>
                <a:off x="7630560" y="5175360"/>
                <a:ext cx="1503720" cy="151920"/>
              </a:xfrm>
              <a:prstGeom prst="line">
                <a:avLst/>
              </a:prstGeom>
              <a:ln w="1267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Text Box 48"/>
          <p:cNvSpPr/>
          <p:nvPr/>
        </p:nvSpPr>
        <p:spPr>
          <a:xfrm>
            <a:off x="7261200" y="2590920"/>
            <a:ext cx="117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Sup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2842920" y="4778280"/>
            <a:ext cx="281916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636480" y="4390920"/>
            <a:ext cx="2033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4237200" y="6262560"/>
            <a:ext cx="3066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875916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806480" y="649080"/>
            <a:ext cx="6391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nges in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663560" y="1822320"/>
            <a:ext cx="5761080" cy="2611440"/>
          </a:xfrm>
          <a:custGeom>
            <a:avLst/>
            <a:gdLst>
              <a:gd name="textAreaLeft" fmla="*/ 0 w 5761080"/>
              <a:gd name="textAreaRight" fmla="*/ 5761440 w 57610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2804" h="2129">
                <a:moveTo>
                  <a:pt x="0" y="0"/>
                </a:moveTo>
                <a:lnTo>
                  <a:pt x="121" y="193"/>
                </a:lnTo>
                <a:lnTo>
                  <a:pt x="251" y="379"/>
                </a:lnTo>
                <a:lnTo>
                  <a:pt x="389" y="558"/>
                </a:lnTo>
                <a:lnTo>
                  <a:pt x="536" y="729"/>
                </a:lnTo>
                <a:lnTo>
                  <a:pt x="690" y="893"/>
                </a:lnTo>
                <a:lnTo>
                  <a:pt x="851" y="1049"/>
                </a:lnTo>
                <a:lnTo>
                  <a:pt x="1020" y="1196"/>
                </a:lnTo>
                <a:lnTo>
                  <a:pt x="1195" y="1336"/>
                </a:lnTo>
                <a:lnTo>
                  <a:pt x="1377" y="1468"/>
                </a:lnTo>
                <a:lnTo>
                  <a:pt x="1565" y="1590"/>
                </a:lnTo>
                <a:lnTo>
                  <a:pt x="1757" y="1703"/>
                </a:lnTo>
                <a:lnTo>
                  <a:pt x="1957" y="1807"/>
                </a:lnTo>
                <a:lnTo>
                  <a:pt x="2161" y="1903"/>
                </a:lnTo>
                <a:lnTo>
                  <a:pt x="2371" y="1988"/>
                </a:lnTo>
                <a:lnTo>
                  <a:pt x="2584" y="2063"/>
                </a:lnTo>
                <a:lnTo>
                  <a:pt x="2803" y="2128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3746520" y="1805040"/>
            <a:ext cx="5079960" cy="203364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472" h="1658">
                <a:moveTo>
                  <a:pt x="0" y="0"/>
                </a:moveTo>
                <a:lnTo>
                  <a:pt x="106" y="151"/>
                </a:lnTo>
                <a:lnTo>
                  <a:pt x="221" y="295"/>
                </a:lnTo>
                <a:lnTo>
                  <a:pt x="343" y="434"/>
                </a:lnTo>
                <a:lnTo>
                  <a:pt x="472" y="567"/>
                </a:lnTo>
                <a:lnTo>
                  <a:pt x="608" y="695"/>
                </a:lnTo>
                <a:lnTo>
                  <a:pt x="750" y="817"/>
                </a:lnTo>
                <a:lnTo>
                  <a:pt x="898" y="932"/>
                </a:lnTo>
                <a:lnTo>
                  <a:pt x="1054" y="1040"/>
                </a:lnTo>
                <a:lnTo>
                  <a:pt x="1213" y="1143"/>
                </a:lnTo>
                <a:lnTo>
                  <a:pt x="1379" y="1238"/>
                </a:lnTo>
                <a:lnTo>
                  <a:pt x="1549" y="1327"/>
                </a:lnTo>
                <a:lnTo>
                  <a:pt x="1725" y="1408"/>
                </a:lnTo>
                <a:lnTo>
                  <a:pt x="1905" y="1482"/>
                </a:lnTo>
                <a:lnTo>
                  <a:pt x="2090" y="1548"/>
                </a:lnTo>
                <a:lnTo>
                  <a:pt x="2278" y="1607"/>
                </a:lnTo>
                <a:lnTo>
                  <a:pt x="2471" y="1657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666800" y="1503360"/>
            <a:ext cx="6421680" cy="1884240"/>
          </a:xfrm>
          <a:custGeom>
            <a:avLst/>
            <a:gdLst>
              <a:gd name="textAreaLeft" fmla="*/ 0 w 6421680"/>
              <a:gd name="textAreaRight" fmla="*/ 6422040 w 6421680"/>
              <a:gd name="textAreaTop" fmla="*/ 0 h 1884240"/>
              <a:gd name="textAreaBottom" fmla="*/ 1884600 h 188424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7"/>
                </a:lnTo>
                <a:lnTo>
                  <a:pt x="1085" y="1301"/>
                </a:lnTo>
                <a:lnTo>
                  <a:pt x="1294" y="1225"/>
                </a:lnTo>
                <a:lnTo>
                  <a:pt x="1499" y="1141"/>
                </a:lnTo>
                <a:lnTo>
                  <a:pt x="1699" y="1048"/>
                </a:lnTo>
                <a:lnTo>
                  <a:pt x="1895" y="946"/>
                </a:lnTo>
                <a:lnTo>
                  <a:pt x="2087" y="836"/>
                </a:lnTo>
                <a:lnTo>
                  <a:pt x="2273" y="717"/>
                </a:lnTo>
                <a:lnTo>
                  <a:pt x="2456" y="590"/>
                </a:lnTo>
                <a:lnTo>
                  <a:pt x="2631" y="455"/>
                </a:lnTo>
                <a:lnTo>
                  <a:pt x="2802" y="311"/>
                </a:lnTo>
                <a:lnTo>
                  <a:pt x="2966" y="160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2419200" y="2317680"/>
            <a:ext cx="6423120" cy="1884600"/>
          </a:xfrm>
          <a:custGeom>
            <a:avLst/>
            <a:gdLst>
              <a:gd name="textAreaLeft" fmla="*/ 0 w 6423120"/>
              <a:gd name="textAreaRight" fmla="*/ 6423480 w 6423120"/>
              <a:gd name="textAreaTop" fmla="*/ 0 h 1884600"/>
              <a:gd name="textAreaBottom" fmla="*/ 1884960 h 1884600"/>
            </a:gdLst>
            <a:ahLst/>
            <a:rect l="textAreaLeft" t="textAreaTop" r="textAreaRight" b="textAreaBottom"/>
            <a:pathLst>
              <a:path w="3126" h="1536">
                <a:moveTo>
                  <a:pt x="0" y="1535"/>
                </a:moveTo>
                <a:lnTo>
                  <a:pt x="222" y="1508"/>
                </a:lnTo>
                <a:lnTo>
                  <a:pt x="442" y="1470"/>
                </a:lnTo>
                <a:lnTo>
                  <a:pt x="659" y="1423"/>
                </a:lnTo>
                <a:lnTo>
                  <a:pt x="874" y="1366"/>
                </a:lnTo>
                <a:lnTo>
                  <a:pt x="1086" y="1300"/>
                </a:lnTo>
                <a:lnTo>
                  <a:pt x="1294" y="1225"/>
                </a:lnTo>
                <a:lnTo>
                  <a:pt x="1499" y="1141"/>
                </a:lnTo>
                <a:lnTo>
                  <a:pt x="1700" y="1047"/>
                </a:lnTo>
                <a:lnTo>
                  <a:pt x="1895" y="946"/>
                </a:lnTo>
                <a:lnTo>
                  <a:pt x="2087" y="836"/>
                </a:lnTo>
                <a:lnTo>
                  <a:pt x="2274" y="717"/>
                </a:lnTo>
                <a:lnTo>
                  <a:pt x="2456" y="589"/>
                </a:lnTo>
                <a:lnTo>
                  <a:pt x="2631" y="454"/>
                </a:lnTo>
                <a:lnTo>
                  <a:pt x="2802" y="310"/>
                </a:lnTo>
                <a:lnTo>
                  <a:pt x="2967" y="159"/>
                </a:lnTo>
                <a:lnTo>
                  <a:pt x="3125" y="0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006640" y="1581120"/>
            <a:ext cx="762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197240" y="1589040"/>
            <a:ext cx="76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51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4480" y="1436760"/>
            <a:ext cx="72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097840" y="2730600"/>
            <a:ext cx="722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5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131840" y="2752560"/>
            <a:ext cx="36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483760" y="4800600"/>
            <a:ext cx="36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484360" y="2301840"/>
            <a:ext cx="153684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6800760" y="2352600"/>
            <a:ext cx="1540080" cy="0"/>
          </a:xfrm>
          <a:prstGeom prst="line">
            <a:avLst/>
          </a:prstGeom>
          <a:ln w="630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803840" y="3938760"/>
            <a:ext cx="506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957920" y="2884320"/>
            <a:ext cx="5061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488280" y="3460680"/>
            <a:ext cx="504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585800" y="1461960"/>
            <a:ext cx="7245360" cy="3292560"/>
          </a:xfrm>
          <a:custGeom>
            <a:avLst/>
            <a:gdLst>
              <a:gd name="textAreaLeft" fmla="*/ 0 w 7245360"/>
              <a:gd name="textAreaRight" fmla="*/ 7245720 w 72453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3527" h="2684">
                <a:moveTo>
                  <a:pt x="0" y="0"/>
                </a:moveTo>
                <a:lnTo>
                  <a:pt x="0" y="2683"/>
                </a:lnTo>
                <a:lnTo>
                  <a:pt x="3526" y="2683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798560" y="6073920"/>
            <a:ext cx="65563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ces determined by "market forc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iers are "Price Taker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1716120" y="6045120"/>
            <a:ext cx="6769080" cy="936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8572680" y="7222680"/>
            <a:ext cx="117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erfectMarketAnalysis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9:33Z</dcterms:modified>
  <cp:revision>126</cp:revision>
  <dc:subject/>
  <dc:title>Perfect market analysis presentation</dc:title>
</cp:coreProperties>
</file>