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987107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504-5068-49B5-B5F1-C7B14A00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04BD-9E7A-46C4-BA14-DB9880E0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2775-2D5E-4FAA-B20E-99B7DEA7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26E-01A0-4206-83D4-C753C714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8B0-65D4-43A9-8794-B6155C90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5BF-9AA6-4437-A278-E8FD34A2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D21-3DB2-4A0D-9DE3-5D4DD728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F4C-AB4F-4E40-9506-382D42A8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172-B246-4872-A19F-9030686E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96D-B9F4-4506-AE08-9BF5DC2E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1DE-2AE1-484E-ABD6-34DE87C1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A33B-7F7A-45FF-9608-D41CD64F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et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3D0F-5AB7-46F7-A301-2EC8C7FDEF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84480" y="509760"/>
            <a:ext cx="38368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36480" y="5113440"/>
            <a:ext cx="907272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Conception and Ges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t investigation, Research &amp; Technology, Market research and test marketing, Production plant constr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c20041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20041"/>
                </a:solidFill>
                <a:latin typeface="Arial"/>
              </a:rPr>
              <a:t>Heavy expenditure, no retu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5"/>
          <p:cNvSpPr/>
          <p:nvPr/>
        </p:nvSpPr>
        <p:spPr>
          <a:xfrm>
            <a:off x="1297080" y="1138320"/>
            <a:ext cx="7748640" cy="2708280"/>
          </a:xfrm>
          <a:custGeom>
            <a:avLst/>
            <a:gdLst>
              <a:gd name="textAreaLeft" fmla="*/ 0 w 7748640"/>
              <a:gd name="textAreaRight" fmla="*/ 7749000 w 7748640"/>
              <a:gd name="textAreaTop" fmla="*/ 0 h 2708280"/>
              <a:gd name="textAreaBottom" fmla="*/ 2708640 h 2708280"/>
            </a:gdLst>
            <a:ahLst/>
            <a:rect l="textAreaLeft" t="textAreaTop" r="textAreaRight" b="textAreaBottom"/>
            <a:pathLst>
              <a:path w="3772" h="2207">
                <a:moveTo>
                  <a:pt x="0" y="0"/>
                </a:moveTo>
                <a:lnTo>
                  <a:pt x="0" y="2206"/>
                </a:lnTo>
                <a:lnTo>
                  <a:pt x="3771" y="220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6"/>
          <p:cNvSpPr/>
          <p:nvPr/>
        </p:nvSpPr>
        <p:spPr>
          <a:xfrm>
            <a:off x="1320840" y="1465200"/>
            <a:ext cx="7669080" cy="2332080"/>
          </a:xfrm>
          <a:custGeom>
            <a:avLst/>
            <a:gdLst>
              <a:gd name="textAreaLeft" fmla="*/ 0 w 7669080"/>
              <a:gd name="textAreaRight" fmla="*/ 7669440 w 7669080"/>
              <a:gd name="textAreaTop" fmla="*/ 0 h 2332080"/>
              <a:gd name="textAreaBottom" fmla="*/ 2332440 h 2332080"/>
            </a:gdLst>
            <a:ahLst/>
            <a:rect l="textAreaLeft" t="textAreaTop" r="textAreaRight" b="textAreaBottom"/>
            <a:pathLst>
              <a:path w="3733" h="1901">
                <a:moveTo>
                  <a:pt x="0" y="1900"/>
                </a:moveTo>
                <a:lnTo>
                  <a:pt x="0" y="1900"/>
                </a:lnTo>
                <a:lnTo>
                  <a:pt x="1" y="1900"/>
                </a:lnTo>
                <a:lnTo>
                  <a:pt x="2" y="1900"/>
                </a:lnTo>
                <a:lnTo>
                  <a:pt x="3" y="1900"/>
                </a:lnTo>
                <a:lnTo>
                  <a:pt x="5" y="1900"/>
                </a:lnTo>
                <a:lnTo>
                  <a:pt x="6" y="1900"/>
                </a:lnTo>
                <a:lnTo>
                  <a:pt x="7" y="1900"/>
                </a:lnTo>
                <a:lnTo>
                  <a:pt x="9" y="1900"/>
                </a:lnTo>
                <a:lnTo>
                  <a:pt x="10" y="1900"/>
                </a:lnTo>
                <a:lnTo>
                  <a:pt x="11" y="1900"/>
                </a:lnTo>
                <a:lnTo>
                  <a:pt x="12" y="1900"/>
                </a:lnTo>
                <a:lnTo>
                  <a:pt x="31" y="1900"/>
                </a:lnTo>
                <a:lnTo>
                  <a:pt x="54" y="1900"/>
                </a:lnTo>
                <a:lnTo>
                  <a:pt x="77" y="1900"/>
                </a:lnTo>
                <a:lnTo>
                  <a:pt x="102" y="1899"/>
                </a:lnTo>
                <a:lnTo>
                  <a:pt x="128" y="1899"/>
                </a:lnTo>
                <a:lnTo>
                  <a:pt x="155" y="1898"/>
                </a:lnTo>
                <a:lnTo>
                  <a:pt x="183" y="1897"/>
                </a:lnTo>
                <a:lnTo>
                  <a:pt x="212" y="1896"/>
                </a:lnTo>
                <a:lnTo>
                  <a:pt x="240" y="1896"/>
                </a:lnTo>
                <a:lnTo>
                  <a:pt x="268" y="1894"/>
                </a:lnTo>
                <a:lnTo>
                  <a:pt x="295" y="1893"/>
                </a:lnTo>
                <a:lnTo>
                  <a:pt x="322" y="1892"/>
                </a:lnTo>
                <a:lnTo>
                  <a:pt x="346" y="1892"/>
                </a:lnTo>
                <a:lnTo>
                  <a:pt x="370" y="1890"/>
                </a:lnTo>
                <a:lnTo>
                  <a:pt x="392" y="1888"/>
                </a:lnTo>
                <a:lnTo>
                  <a:pt x="412" y="1887"/>
                </a:lnTo>
                <a:lnTo>
                  <a:pt x="433" y="1885"/>
                </a:lnTo>
                <a:lnTo>
                  <a:pt x="456" y="1884"/>
                </a:lnTo>
                <a:lnTo>
                  <a:pt x="482" y="1883"/>
                </a:lnTo>
                <a:lnTo>
                  <a:pt x="509" y="1880"/>
                </a:lnTo>
                <a:lnTo>
                  <a:pt x="537" y="1878"/>
                </a:lnTo>
                <a:lnTo>
                  <a:pt x="566" y="1875"/>
                </a:lnTo>
                <a:lnTo>
                  <a:pt x="596" y="1872"/>
                </a:lnTo>
                <a:lnTo>
                  <a:pt x="626" y="1869"/>
                </a:lnTo>
                <a:lnTo>
                  <a:pt x="656" y="1866"/>
                </a:lnTo>
                <a:lnTo>
                  <a:pt x="685" y="1862"/>
                </a:lnTo>
                <a:lnTo>
                  <a:pt x="715" y="1859"/>
                </a:lnTo>
                <a:lnTo>
                  <a:pt x="743" y="1854"/>
                </a:lnTo>
                <a:lnTo>
                  <a:pt x="770" y="1850"/>
                </a:lnTo>
                <a:lnTo>
                  <a:pt x="795" y="1845"/>
                </a:lnTo>
                <a:lnTo>
                  <a:pt x="818" y="1841"/>
                </a:lnTo>
                <a:lnTo>
                  <a:pt x="839" y="1835"/>
                </a:lnTo>
                <a:lnTo>
                  <a:pt x="859" y="1830"/>
                </a:lnTo>
                <a:lnTo>
                  <a:pt x="882" y="1823"/>
                </a:lnTo>
                <a:lnTo>
                  <a:pt x="906" y="1816"/>
                </a:lnTo>
                <a:lnTo>
                  <a:pt x="933" y="1807"/>
                </a:lnTo>
                <a:lnTo>
                  <a:pt x="960" y="1798"/>
                </a:lnTo>
                <a:lnTo>
                  <a:pt x="988" y="1788"/>
                </a:lnTo>
                <a:lnTo>
                  <a:pt x="1016" y="1777"/>
                </a:lnTo>
                <a:lnTo>
                  <a:pt x="1046" y="1765"/>
                </a:lnTo>
                <a:lnTo>
                  <a:pt x="1073" y="1754"/>
                </a:lnTo>
                <a:lnTo>
                  <a:pt x="1101" y="1742"/>
                </a:lnTo>
                <a:lnTo>
                  <a:pt x="1127" y="1730"/>
                </a:lnTo>
                <a:lnTo>
                  <a:pt x="1154" y="1718"/>
                </a:lnTo>
                <a:lnTo>
                  <a:pt x="1178" y="1706"/>
                </a:lnTo>
                <a:lnTo>
                  <a:pt x="1200" y="1693"/>
                </a:lnTo>
                <a:lnTo>
                  <a:pt x="1221" y="1681"/>
                </a:lnTo>
                <a:lnTo>
                  <a:pt x="1239" y="1668"/>
                </a:lnTo>
                <a:lnTo>
                  <a:pt x="1256" y="1655"/>
                </a:lnTo>
                <a:lnTo>
                  <a:pt x="1273" y="1639"/>
                </a:lnTo>
                <a:lnTo>
                  <a:pt x="1293" y="1621"/>
                </a:lnTo>
                <a:lnTo>
                  <a:pt x="1312" y="1601"/>
                </a:lnTo>
                <a:lnTo>
                  <a:pt x="1332" y="1581"/>
                </a:lnTo>
                <a:lnTo>
                  <a:pt x="1352" y="1558"/>
                </a:lnTo>
                <a:lnTo>
                  <a:pt x="1372" y="1535"/>
                </a:lnTo>
                <a:lnTo>
                  <a:pt x="1392" y="1511"/>
                </a:lnTo>
                <a:lnTo>
                  <a:pt x="1411" y="1487"/>
                </a:lnTo>
                <a:lnTo>
                  <a:pt x="1431" y="1463"/>
                </a:lnTo>
                <a:lnTo>
                  <a:pt x="1449" y="1439"/>
                </a:lnTo>
                <a:lnTo>
                  <a:pt x="1466" y="1415"/>
                </a:lnTo>
                <a:lnTo>
                  <a:pt x="1482" y="1393"/>
                </a:lnTo>
                <a:lnTo>
                  <a:pt x="1498" y="1371"/>
                </a:lnTo>
                <a:lnTo>
                  <a:pt x="1511" y="1351"/>
                </a:lnTo>
                <a:lnTo>
                  <a:pt x="1524" y="1332"/>
                </a:lnTo>
                <a:lnTo>
                  <a:pt x="1545" y="1295"/>
                </a:lnTo>
                <a:lnTo>
                  <a:pt x="1568" y="1251"/>
                </a:lnTo>
                <a:lnTo>
                  <a:pt x="1592" y="1203"/>
                </a:lnTo>
                <a:lnTo>
                  <a:pt x="1615" y="1151"/>
                </a:lnTo>
                <a:lnTo>
                  <a:pt x="1639" y="1097"/>
                </a:lnTo>
                <a:lnTo>
                  <a:pt x="1662" y="1041"/>
                </a:lnTo>
                <a:lnTo>
                  <a:pt x="1685" y="982"/>
                </a:lnTo>
                <a:lnTo>
                  <a:pt x="1710" y="923"/>
                </a:lnTo>
                <a:lnTo>
                  <a:pt x="1733" y="865"/>
                </a:lnTo>
                <a:lnTo>
                  <a:pt x="1756" y="806"/>
                </a:lnTo>
                <a:lnTo>
                  <a:pt x="1778" y="749"/>
                </a:lnTo>
                <a:lnTo>
                  <a:pt x="1802" y="694"/>
                </a:lnTo>
                <a:lnTo>
                  <a:pt x="1823" y="642"/>
                </a:lnTo>
                <a:lnTo>
                  <a:pt x="1845" y="592"/>
                </a:lnTo>
                <a:lnTo>
                  <a:pt x="1865" y="548"/>
                </a:lnTo>
                <a:lnTo>
                  <a:pt x="1885" y="507"/>
                </a:lnTo>
                <a:lnTo>
                  <a:pt x="1895" y="489"/>
                </a:lnTo>
                <a:lnTo>
                  <a:pt x="1905" y="468"/>
                </a:lnTo>
                <a:lnTo>
                  <a:pt x="1916" y="446"/>
                </a:lnTo>
                <a:lnTo>
                  <a:pt x="1928" y="421"/>
                </a:lnTo>
                <a:lnTo>
                  <a:pt x="1941" y="396"/>
                </a:lnTo>
                <a:lnTo>
                  <a:pt x="1954" y="370"/>
                </a:lnTo>
                <a:lnTo>
                  <a:pt x="1968" y="344"/>
                </a:lnTo>
                <a:lnTo>
                  <a:pt x="1982" y="317"/>
                </a:lnTo>
                <a:lnTo>
                  <a:pt x="1997" y="291"/>
                </a:lnTo>
                <a:lnTo>
                  <a:pt x="2012" y="266"/>
                </a:lnTo>
                <a:lnTo>
                  <a:pt x="2027" y="242"/>
                </a:lnTo>
                <a:lnTo>
                  <a:pt x="2042" y="218"/>
                </a:lnTo>
                <a:lnTo>
                  <a:pt x="2057" y="197"/>
                </a:lnTo>
                <a:lnTo>
                  <a:pt x="2073" y="178"/>
                </a:lnTo>
                <a:lnTo>
                  <a:pt x="2089" y="161"/>
                </a:lnTo>
                <a:lnTo>
                  <a:pt x="2105" y="146"/>
                </a:lnTo>
                <a:lnTo>
                  <a:pt x="2117" y="137"/>
                </a:lnTo>
                <a:lnTo>
                  <a:pt x="2133" y="127"/>
                </a:lnTo>
                <a:lnTo>
                  <a:pt x="2149" y="119"/>
                </a:lnTo>
                <a:lnTo>
                  <a:pt x="2168" y="109"/>
                </a:lnTo>
                <a:lnTo>
                  <a:pt x="2188" y="100"/>
                </a:lnTo>
                <a:lnTo>
                  <a:pt x="2209" y="91"/>
                </a:lnTo>
                <a:lnTo>
                  <a:pt x="2231" y="84"/>
                </a:lnTo>
                <a:lnTo>
                  <a:pt x="2253" y="75"/>
                </a:lnTo>
                <a:lnTo>
                  <a:pt x="2275" y="68"/>
                </a:lnTo>
                <a:lnTo>
                  <a:pt x="2298" y="61"/>
                </a:lnTo>
                <a:lnTo>
                  <a:pt x="2319" y="55"/>
                </a:lnTo>
                <a:lnTo>
                  <a:pt x="2341" y="48"/>
                </a:lnTo>
                <a:lnTo>
                  <a:pt x="2361" y="44"/>
                </a:lnTo>
                <a:lnTo>
                  <a:pt x="2380" y="38"/>
                </a:lnTo>
                <a:lnTo>
                  <a:pt x="2399" y="34"/>
                </a:lnTo>
                <a:lnTo>
                  <a:pt x="2415" y="30"/>
                </a:lnTo>
                <a:lnTo>
                  <a:pt x="2431" y="27"/>
                </a:lnTo>
                <a:lnTo>
                  <a:pt x="2451" y="24"/>
                </a:lnTo>
                <a:lnTo>
                  <a:pt x="2471" y="21"/>
                </a:lnTo>
                <a:lnTo>
                  <a:pt x="2493" y="16"/>
                </a:lnTo>
                <a:lnTo>
                  <a:pt x="2516" y="14"/>
                </a:lnTo>
                <a:lnTo>
                  <a:pt x="2540" y="11"/>
                </a:lnTo>
                <a:lnTo>
                  <a:pt x="2564" y="8"/>
                </a:lnTo>
                <a:lnTo>
                  <a:pt x="2589" y="6"/>
                </a:lnTo>
                <a:lnTo>
                  <a:pt x="2613" y="4"/>
                </a:lnTo>
                <a:lnTo>
                  <a:pt x="2637" y="2"/>
                </a:lnTo>
                <a:lnTo>
                  <a:pt x="2661" y="2"/>
                </a:lnTo>
                <a:lnTo>
                  <a:pt x="2684" y="0"/>
                </a:lnTo>
                <a:lnTo>
                  <a:pt x="2706" y="1"/>
                </a:lnTo>
                <a:lnTo>
                  <a:pt x="2726" y="1"/>
                </a:lnTo>
                <a:lnTo>
                  <a:pt x="2745" y="3"/>
                </a:lnTo>
                <a:lnTo>
                  <a:pt x="2763" y="4"/>
                </a:lnTo>
                <a:lnTo>
                  <a:pt x="2781" y="8"/>
                </a:lnTo>
                <a:lnTo>
                  <a:pt x="2801" y="13"/>
                </a:lnTo>
                <a:lnTo>
                  <a:pt x="2823" y="19"/>
                </a:lnTo>
                <a:lnTo>
                  <a:pt x="2846" y="25"/>
                </a:lnTo>
                <a:lnTo>
                  <a:pt x="2869" y="34"/>
                </a:lnTo>
                <a:lnTo>
                  <a:pt x="2893" y="42"/>
                </a:lnTo>
                <a:lnTo>
                  <a:pt x="2918" y="51"/>
                </a:lnTo>
                <a:lnTo>
                  <a:pt x="2943" y="60"/>
                </a:lnTo>
                <a:lnTo>
                  <a:pt x="2967" y="72"/>
                </a:lnTo>
                <a:lnTo>
                  <a:pt x="2991" y="82"/>
                </a:lnTo>
                <a:lnTo>
                  <a:pt x="3015" y="94"/>
                </a:lnTo>
                <a:lnTo>
                  <a:pt x="3037" y="104"/>
                </a:lnTo>
                <a:lnTo>
                  <a:pt x="3058" y="116"/>
                </a:lnTo>
                <a:lnTo>
                  <a:pt x="3078" y="126"/>
                </a:lnTo>
                <a:lnTo>
                  <a:pt x="3096" y="136"/>
                </a:lnTo>
                <a:lnTo>
                  <a:pt x="3112" y="146"/>
                </a:lnTo>
                <a:lnTo>
                  <a:pt x="3124" y="155"/>
                </a:lnTo>
                <a:lnTo>
                  <a:pt x="3137" y="166"/>
                </a:lnTo>
                <a:lnTo>
                  <a:pt x="3150" y="178"/>
                </a:lnTo>
                <a:lnTo>
                  <a:pt x="3164" y="190"/>
                </a:lnTo>
                <a:lnTo>
                  <a:pt x="3178" y="205"/>
                </a:lnTo>
                <a:lnTo>
                  <a:pt x="3192" y="220"/>
                </a:lnTo>
                <a:lnTo>
                  <a:pt x="3207" y="235"/>
                </a:lnTo>
                <a:lnTo>
                  <a:pt x="3222" y="250"/>
                </a:lnTo>
                <a:lnTo>
                  <a:pt x="3235" y="266"/>
                </a:lnTo>
                <a:lnTo>
                  <a:pt x="3250" y="282"/>
                </a:lnTo>
                <a:lnTo>
                  <a:pt x="3262" y="298"/>
                </a:lnTo>
                <a:lnTo>
                  <a:pt x="3276" y="312"/>
                </a:lnTo>
                <a:lnTo>
                  <a:pt x="3287" y="327"/>
                </a:lnTo>
                <a:lnTo>
                  <a:pt x="3299" y="341"/>
                </a:lnTo>
                <a:lnTo>
                  <a:pt x="3309" y="354"/>
                </a:lnTo>
                <a:lnTo>
                  <a:pt x="3319" y="366"/>
                </a:lnTo>
                <a:lnTo>
                  <a:pt x="3327" y="378"/>
                </a:lnTo>
                <a:lnTo>
                  <a:pt x="3336" y="392"/>
                </a:lnTo>
                <a:lnTo>
                  <a:pt x="3347" y="407"/>
                </a:lnTo>
                <a:lnTo>
                  <a:pt x="3357" y="422"/>
                </a:lnTo>
                <a:lnTo>
                  <a:pt x="3367" y="440"/>
                </a:lnTo>
                <a:lnTo>
                  <a:pt x="3377" y="457"/>
                </a:lnTo>
                <a:lnTo>
                  <a:pt x="3387" y="476"/>
                </a:lnTo>
                <a:lnTo>
                  <a:pt x="3399" y="493"/>
                </a:lnTo>
                <a:lnTo>
                  <a:pt x="3409" y="512"/>
                </a:lnTo>
                <a:lnTo>
                  <a:pt x="3419" y="530"/>
                </a:lnTo>
                <a:lnTo>
                  <a:pt x="3429" y="548"/>
                </a:lnTo>
                <a:lnTo>
                  <a:pt x="3439" y="565"/>
                </a:lnTo>
                <a:lnTo>
                  <a:pt x="3448" y="582"/>
                </a:lnTo>
                <a:lnTo>
                  <a:pt x="3458" y="597"/>
                </a:lnTo>
                <a:lnTo>
                  <a:pt x="3465" y="611"/>
                </a:lnTo>
                <a:lnTo>
                  <a:pt x="3474" y="624"/>
                </a:lnTo>
                <a:lnTo>
                  <a:pt x="3479" y="634"/>
                </a:lnTo>
                <a:lnTo>
                  <a:pt x="3485" y="645"/>
                </a:lnTo>
                <a:lnTo>
                  <a:pt x="3492" y="658"/>
                </a:lnTo>
                <a:lnTo>
                  <a:pt x="3499" y="671"/>
                </a:lnTo>
                <a:lnTo>
                  <a:pt x="3506" y="685"/>
                </a:lnTo>
                <a:lnTo>
                  <a:pt x="3513" y="699"/>
                </a:lnTo>
                <a:lnTo>
                  <a:pt x="3520" y="714"/>
                </a:lnTo>
                <a:lnTo>
                  <a:pt x="3529" y="728"/>
                </a:lnTo>
                <a:lnTo>
                  <a:pt x="3537" y="744"/>
                </a:lnTo>
                <a:lnTo>
                  <a:pt x="3545" y="758"/>
                </a:lnTo>
                <a:lnTo>
                  <a:pt x="3552" y="772"/>
                </a:lnTo>
                <a:lnTo>
                  <a:pt x="3561" y="785"/>
                </a:lnTo>
                <a:lnTo>
                  <a:pt x="3568" y="798"/>
                </a:lnTo>
                <a:lnTo>
                  <a:pt x="3575" y="810"/>
                </a:lnTo>
                <a:lnTo>
                  <a:pt x="3582" y="820"/>
                </a:lnTo>
                <a:lnTo>
                  <a:pt x="3590" y="830"/>
                </a:lnTo>
                <a:lnTo>
                  <a:pt x="3596" y="839"/>
                </a:lnTo>
                <a:lnTo>
                  <a:pt x="3604" y="848"/>
                </a:lnTo>
                <a:lnTo>
                  <a:pt x="3614" y="859"/>
                </a:lnTo>
                <a:lnTo>
                  <a:pt x="3624" y="869"/>
                </a:lnTo>
                <a:lnTo>
                  <a:pt x="3636" y="881"/>
                </a:lnTo>
                <a:lnTo>
                  <a:pt x="3648" y="893"/>
                </a:lnTo>
                <a:lnTo>
                  <a:pt x="3659" y="904"/>
                </a:lnTo>
                <a:lnTo>
                  <a:pt x="3672" y="915"/>
                </a:lnTo>
                <a:lnTo>
                  <a:pt x="3683" y="927"/>
                </a:lnTo>
                <a:lnTo>
                  <a:pt x="3694" y="938"/>
                </a:lnTo>
                <a:lnTo>
                  <a:pt x="3704" y="947"/>
                </a:lnTo>
                <a:lnTo>
                  <a:pt x="3714" y="955"/>
                </a:lnTo>
                <a:lnTo>
                  <a:pt x="3720" y="963"/>
                </a:lnTo>
                <a:lnTo>
                  <a:pt x="3727" y="968"/>
                </a:lnTo>
                <a:lnTo>
                  <a:pt x="3731" y="971"/>
                </a:lnTo>
                <a:lnTo>
                  <a:pt x="3732" y="971"/>
                </a:lnTo>
              </a:path>
            </a:pathLst>
          </a:custGeom>
          <a:noFill/>
          <a:ln w="126720">
            <a:solidFill>
              <a:srgbClr val="00a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 rot="16200000">
            <a:off x="-334080" y="2264040"/>
            <a:ext cx="28227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nnual Sales Volum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7710480" y="3905280"/>
            <a:ext cx="941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2143080" y="3543480"/>
            <a:ext cx="0" cy="23796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3322800" y="3406680"/>
            <a:ext cx="0" cy="23652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4421160" y="2843280"/>
            <a:ext cx="0" cy="23652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5707080" y="1376280"/>
            <a:ext cx="0" cy="23832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7575480" y="1333440"/>
            <a:ext cx="0" cy="23832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1952640" y="3097080"/>
            <a:ext cx="3286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3119400" y="2971800"/>
            <a:ext cx="3286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4233960" y="2401920"/>
            <a:ext cx="3286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5508720" y="944640"/>
            <a:ext cx="328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7418520" y="898560"/>
            <a:ext cx="328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8825040" y="1927080"/>
            <a:ext cx="330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9023400" y="2387520"/>
            <a:ext cx="0" cy="23832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636480" y="5110200"/>
            <a:ext cx="88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 Bir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unch on commercial scale, Heavy promotional expenditure, High production costs, High pr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20041"/>
                </a:solidFill>
                <a:latin typeface="Arial"/>
              </a:rPr>
              <a:t>Costs exceed reven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8273880" y="7270920"/>
            <a:ext cx="15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LifeCycle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6"/>
          <p:cNvSpPr/>
          <p:nvPr/>
        </p:nvSpPr>
        <p:spPr>
          <a:xfrm rot="16200000">
            <a:off x="1645200" y="4245480"/>
            <a:ext cx="1008360" cy="431640"/>
          </a:xfrm>
          <a:prstGeom prst="rightArrow">
            <a:avLst>
              <a:gd name="adj1" fmla="val 50000"/>
              <a:gd name="adj2" fmla="val 58403"/>
            </a:avLst>
          </a:prstGeom>
          <a:solidFill>
            <a:srgbClr val="820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7"/>
          <p:cNvSpPr/>
          <p:nvPr/>
        </p:nvSpPr>
        <p:spPr>
          <a:xfrm rot="17514600">
            <a:off x="3242160" y="3167280"/>
            <a:ext cx="3456000" cy="4320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820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8"/>
          <p:cNvSpPr/>
          <p:nvPr/>
        </p:nvSpPr>
        <p:spPr>
          <a:xfrm rot="18539400">
            <a:off x="3977280" y="3168720"/>
            <a:ext cx="4249800" cy="432000"/>
          </a:xfrm>
          <a:prstGeom prst="rightArrow">
            <a:avLst>
              <a:gd name="adj1" fmla="val 50000"/>
              <a:gd name="adj2" fmla="val 245938"/>
            </a:avLst>
          </a:prstGeom>
          <a:solidFill>
            <a:srgbClr val="820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9"/>
          <p:cNvSpPr/>
          <p:nvPr/>
        </p:nvSpPr>
        <p:spPr>
          <a:xfrm rot="19517400">
            <a:off x="5316120" y="3669840"/>
            <a:ext cx="3818160" cy="432000"/>
          </a:xfrm>
          <a:prstGeom prst="rightArrow">
            <a:avLst>
              <a:gd name="adj1" fmla="val 50000"/>
              <a:gd name="adj2" fmla="val 220958"/>
            </a:avLst>
          </a:prstGeom>
          <a:solidFill>
            <a:srgbClr val="820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36480" y="5110200"/>
            <a:ext cx="9109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Grow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pid increase in sales. Competition appears. Prices decrea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forestall competition, in response to competition and t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mulate growth. Cost of production falls due to higher capac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economy of sc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High 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4"/>
          <p:cNvSpPr/>
          <p:nvPr/>
        </p:nvSpPr>
        <p:spPr>
          <a:xfrm>
            <a:off x="636480" y="5110200"/>
            <a:ext cx="896472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Mat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ower growth of sales. Competition for market share and trend towards oligopoly market model. Emphasis on non-price competition (brand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rices close to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5"/>
          <p:cNvSpPr/>
          <p:nvPr/>
        </p:nvSpPr>
        <p:spPr>
          <a:xfrm>
            <a:off x="601560" y="5110200"/>
            <a:ext cx="882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. Dec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tion in sales. Overcapacity common. Mergers. Clo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20041"/>
                </a:solidFill>
                <a:latin typeface="Arial"/>
              </a:rPr>
              <a:t>Low or negative pro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636480" y="5110200"/>
            <a:ext cx="39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. De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t discontinu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7"/>
          <p:cNvSpPr/>
          <p:nvPr/>
        </p:nvSpPr>
        <p:spPr>
          <a:xfrm rot="17514600">
            <a:off x="2426400" y="4158360"/>
            <a:ext cx="1296720" cy="431640"/>
          </a:xfrm>
          <a:prstGeom prst="rightArrow">
            <a:avLst>
              <a:gd name="adj1" fmla="val 50000"/>
              <a:gd name="adj2" fmla="val 75104"/>
            </a:avLst>
          </a:prstGeom>
          <a:solidFill>
            <a:srgbClr val="820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8"/>
          <p:cNvSpPr/>
          <p:nvPr/>
        </p:nvSpPr>
        <p:spPr>
          <a:xfrm rot="17514600">
            <a:off x="3061080" y="3881880"/>
            <a:ext cx="1944720" cy="432000"/>
          </a:xfrm>
          <a:prstGeom prst="rightArrow">
            <a:avLst>
              <a:gd name="adj1" fmla="val 50000"/>
              <a:gd name="adj2" fmla="val 112542"/>
            </a:avLst>
          </a:prstGeom>
          <a:solidFill>
            <a:srgbClr val="820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72" name="TextBox 34"/>
          <p:cNvSpPr/>
          <p:nvPr/>
        </p:nvSpPr>
        <p:spPr>
          <a:xfrm>
            <a:off x="4876920" y="729144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5:58Z</dcterms:created>
  <dc:creator>Brian Grievson</dc:creator>
  <dc:description/>
  <dc:language>en-US</dc:language>
  <cp:lastModifiedBy>Chris Runciman</cp:lastModifiedBy>
  <dcterms:modified xsi:type="dcterms:W3CDTF">2020-11-26T10:20:49Z</dcterms:modified>
  <cp:revision>106</cp:revision>
  <dc:subject/>
  <dc:title>Product life cycle presentation</dc:title>
</cp:coreProperties>
</file>