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AFA5-E328-4049-93AD-5E1BB420A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30C2-1B2B-4CD7-BA0A-D6A6B7A7C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91DA-7DF4-4E22-A026-DAAF7B12F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72C5-F2C2-4EA2-85F0-DBBC894DB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F773-0354-44FD-9C3C-D4E2A9E93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2A8E-88E9-4393-8744-BA1A9AD5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1840" y="33390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CE54-51CF-4213-8513-23D91D88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5736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75FA-78F6-4639-9396-5E9CF9B6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832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480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184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832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480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D64F-6DDB-4632-A3E3-D23673AE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47E4-9547-432D-90E3-D4B55D8A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6F11-C8F9-4129-8B7B-38AB10E9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3DF5-B405-4565-AF87-AD9EB8BE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F1F6-D4B5-4C28-8AC9-0000E69F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1840" y="353880"/>
            <a:ext cx="1066644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A5F9-67EE-4A0D-B407-D3E55C5B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BE3C-5F12-459F-BB1E-BE364379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5736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3E66-DE04-4F9B-AA48-601C299C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1726-1E93-403E-813B-0F848177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aqc11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D8DE-AAB8-4E88-9032-8FB388B807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446280" y="463320"/>
            <a:ext cx="323820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uSum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30360" y="1149480"/>
            <a:ext cx="9223200" cy="25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nsider the production of batches of product with a required impurity level of 4 units. The impurity level is measured for 50 batches and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oes indeed give a mean of 4 units with a standard deviation of 1.784 but was the process under control ?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alculate the cumulative sum of the deviations from the target mean value of 4 units. Figures for the first 10 samples are given below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852480" y="3814920"/>
            <a:ext cx="2065320" cy="37296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tch Numb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002040" y="3814920"/>
            <a:ext cx="2063520" cy="37296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pur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157720" y="3814920"/>
            <a:ext cx="2065320" cy="37296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viation from targe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7332840" y="3814920"/>
            <a:ext cx="2065320" cy="37296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u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852480" y="4240080"/>
            <a:ext cx="2065320" cy="23508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3002040" y="4240080"/>
            <a:ext cx="20635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157720" y="424008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7332840" y="424008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852480" y="4525920"/>
            <a:ext cx="2065320" cy="23652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3002040" y="4525920"/>
            <a:ext cx="2063520" cy="23652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157720" y="4525920"/>
            <a:ext cx="2065320" cy="23652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7332840" y="4525920"/>
            <a:ext cx="2065320" cy="23652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852480" y="4813200"/>
            <a:ext cx="2065320" cy="23508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3002040" y="4813200"/>
            <a:ext cx="20635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5157720" y="481320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7332840" y="481320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852480" y="5100480"/>
            <a:ext cx="2065320" cy="23508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3002040" y="5100480"/>
            <a:ext cx="20635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5157720" y="510048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7332840" y="510048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852480" y="5386320"/>
            <a:ext cx="2065320" cy="23508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3002040" y="5386320"/>
            <a:ext cx="20635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5157720" y="538632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7332840" y="538632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852480" y="5673600"/>
            <a:ext cx="2065320" cy="23508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3002040" y="5673600"/>
            <a:ext cx="20635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5157720" y="567360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7332840" y="567360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5"/>
          <p:cNvSpPr/>
          <p:nvPr/>
        </p:nvSpPr>
        <p:spPr>
          <a:xfrm>
            <a:off x="852480" y="5959440"/>
            <a:ext cx="2065320" cy="23508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3002040" y="5959440"/>
            <a:ext cx="20635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7"/>
          <p:cNvSpPr/>
          <p:nvPr/>
        </p:nvSpPr>
        <p:spPr>
          <a:xfrm>
            <a:off x="5157720" y="595944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8"/>
          <p:cNvSpPr/>
          <p:nvPr/>
        </p:nvSpPr>
        <p:spPr>
          <a:xfrm>
            <a:off x="7332840" y="595944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9"/>
          <p:cNvSpPr/>
          <p:nvPr/>
        </p:nvSpPr>
        <p:spPr>
          <a:xfrm>
            <a:off x="852480" y="6246720"/>
            <a:ext cx="2065320" cy="23328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0"/>
          <p:cNvSpPr/>
          <p:nvPr/>
        </p:nvSpPr>
        <p:spPr>
          <a:xfrm>
            <a:off x="3002040" y="6246720"/>
            <a:ext cx="2063520" cy="2332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1"/>
          <p:cNvSpPr/>
          <p:nvPr/>
        </p:nvSpPr>
        <p:spPr>
          <a:xfrm>
            <a:off x="5157720" y="6246720"/>
            <a:ext cx="2065320" cy="2332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2"/>
          <p:cNvSpPr/>
          <p:nvPr/>
        </p:nvSpPr>
        <p:spPr>
          <a:xfrm>
            <a:off x="7332840" y="6246720"/>
            <a:ext cx="2065320" cy="2332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3"/>
          <p:cNvSpPr/>
          <p:nvPr/>
        </p:nvSpPr>
        <p:spPr>
          <a:xfrm>
            <a:off x="852480" y="6534000"/>
            <a:ext cx="2065320" cy="23364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4"/>
          <p:cNvSpPr/>
          <p:nvPr/>
        </p:nvSpPr>
        <p:spPr>
          <a:xfrm>
            <a:off x="3002040" y="6534000"/>
            <a:ext cx="2063520" cy="23364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5"/>
          <p:cNvSpPr/>
          <p:nvPr/>
        </p:nvSpPr>
        <p:spPr>
          <a:xfrm>
            <a:off x="5157720" y="6534000"/>
            <a:ext cx="2065320" cy="23364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6"/>
          <p:cNvSpPr/>
          <p:nvPr/>
        </p:nvSpPr>
        <p:spPr>
          <a:xfrm>
            <a:off x="7332840" y="6534000"/>
            <a:ext cx="2065320" cy="23364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7"/>
          <p:cNvSpPr/>
          <p:nvPr/>
        </p:nvSpPr>
        <p:spPr>
          <a:xfrm>
            <a:off x="852480" y="6819840"/>
            <a:ext cx="2065320" cy="23508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8"/>
          <p:cNvSpPr/>
          <p:nvPr/>
        </p:nvSpPr>
        <p:spPr>
          <a:xfrm>
            <a:off x="3002040" y="6819840"/>
            <a:ext cx="20635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5157720" y="681984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0"/>
          <p:cNvSpPr/>
          <p:nvPr/>
        </p:nvSpPr>
        <p:spPr>
          <a:xfrm>
            <a:off x="7334280" y="6821640"/>
            <a:ext cx="2065320" cy="2332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2"/>
          <p:cNvSpPr/>
          <p:nvPr/>
        </p:nvSpPr>
        <p:spPr>
          <a:xfrm>
            <a:off x="8433720" y="7404840"/>
            <a:ext cx="14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73080" indent="-7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umChart |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96" name="TextBox 51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995560" y="536400"/>
            <a:ext cx="38340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uSum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968400" y="717480"/>
          <a:ext cx="8569440" cy="38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717480"/>
                    <a:ext cx="856944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5"/>
          <p:cNvGraphicFramePr/>
          <p:nvPr/>
        </p:nvGraphicFramePr>
        <p:xfrm>
          <a:off x="420840" y="4151160"/>
          <a:ext cx="9216720" cy="348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840" y="4151160"/>
                    <a:ext cx="9216720" cy="34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" name="Group 23"/>
          <p:cNvGrpSpPr/>
          <p:nvPr/>
        </p:nvGrpSpPr>
        <p:grpSpPr>
          <a:xfrm>
            <a:off x="6541920" y="4797360"/>
            <a:ext cx="2087640" cy="1393920"/>
            <a:chOff x="6541920" y="4797360"/>
            <a:chExt cx="2087640" cy="1393920"/>
          </a:xfrm>
        </p:grpSpPr>
        <p:sp>
          <p:nvSpPr>
            <p:cNvPr id="103" name="Line 6"/>
            <p:cNvSpPr/>
            <p:nvPr/>
          </p:nvSpPr>
          <p:spPr>
            <a:xfrm>
              <a:off x="6559560" y="5502240"/>
              <a:ext cx="93672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7"/>
            <p:cNvSpPr/>
            <p:nvPr/>
          </p:nvSpPr>
          <p:spPr>
            <a:xfrm flipV="1">
              <a:off x="6543720" y="5208480"/>
              <a:ext cx="927000" cy="29376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8"/>
            <p:cNvSpPr/>
            <p:nvPr/>
          </p:nvSpPr>
          <p:spPr>
            <a:xfrm flipV="1">
              <a:off x="6543720" y="4913280"/>
              <a:ext cx="914400" cy="58896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9"/>
            <p:cNvSpPr/>
            <p:nvPr/>
          </p:nvSpPr>
          <p:spPr>
            <a:xfrm>
              <a:off x="6545160" y="5497560"/>
              <a:ext cx="927000" cy="29520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0"/>
            <p:cNvSpPr/>
            <p:nvPr/>
          </p:nvSpPr>
          <p:spPr>
            <a:xfrm>
              <a:off x="6541920" y="5500440"/>
              <a:ext cx="914400" cy="58896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"/>
            <p:cNvSpPr/>
            <p:nvPr/>
          </p:nvSpPr>
          <p:spPr>
            <a:xfrm>
              <a:off x="7543800" y="5362560"/>
              <a:ext cx="108576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2000"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ean = 4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2"/>
            <p:cNvSpPr/>
            <p:nvPr/>
          </p:nvSpPr>
          <p:spPr>
            <a:xfrm>
              <a:off x="7554960" y="5097240"/>
              <a:ext cx="3556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4000"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3"/>
            <p:cNvSpPr/>
            <p:nvPr/>
          </p:nvSpPr>
          <p:spPr>
            <a:xfrm>
              <a:off x="7548480" y="4797360"/>
              <a:ext cx="35388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4000"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5.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4"/>
            <p:cNvSpPr/>
            <p:nvPr/>
          </p:nvSpPr>
          <p:spPr>
            <a:xfrm>
              <a:off x="7564320" y="5711760"/>
              <a:ext cx="3556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4000"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5"/>
            <p:cNvSpPr/>
            <p:nvPr/>
          </p:nvSpPr>
          <p:spPr>
            <a:xfrm>
              <a:off x="7562880" y="5987880"/>
              <a:ext cx="3571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4000"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16"/>
          <p:cNvSpPr/>
          <p:nvPr/>
        </p:nvSpPr>
        <p:spPr>
          <a:xfrm>
            <a:off x="5116680" y="4246560"/>
            <a:ext cx="1784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tch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2485080" y="3886200"/>
            <a:ext cx="6977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73080" indent="-7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     5      10      15      20      25     30      35      40     45     5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076480" y="1120680"/>
            <a:ext cx="288720" cy="28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1988640" y="4532400"/>
            <a:ext cx="5310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 rot="16200000">
            <a:off x="444960" y="2393280"/>
            <a:ext cx="204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urity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1"/>
          <p:cNvSpPr/>
          <p:nvPr/>
        </p:nvSpPr>
        <p:spPr>
          <a:xfrm rot="16200000">
            <a:off x="276480" y="5614200"/>
            <a:ext cx="238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mulative S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1"/>
          <p:cNvSpPr/>
          <p:nvPr/>
        </p:nvSpPr>
        <p:spPr>
          <a:xfrm>
            <a:off x="8427960" y="7404840"/>
            <a:ext cx="14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73080" indent="-7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umChart |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5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5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126880" y="861840"/>
            <a:ext cx="585468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-masks for Mean CuSum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2252520" y="3705120"/>
            <a:ext cx="553896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2413080" y="1941480"/>
            <a:ext cx="4768920" cy="828720"/>
          </a:xfrm>
          <a:prstGeom prst="line">
            <a:avLst/>
          </a:prstGeom>
          <a:ln w="1267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 flipH="1">
            <a:off x="2484360" y="4632480"/>
            <a:ext cx="4716720" cy="766440"/>
          </a:xfrm>
          <a:prstGeom prst="line">
            <a:avLst/>
          </a:prstGeom>
          <a:ln w="1267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2454120" y="3705120"/>
            <a:ext cx="0" cy="77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2922480" y="3713040"/>
            <a:ext cx="0" cy="77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3390840" y="3714840"/>
            <a:ext cx="0" cy="759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3859200" y="3714840"/>
            <a:ext cx="0" cy="77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4327560" y="3716280"/>
            <a:ext cx="0" cy="763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4795920" y="3716280"/>
            <a:ext cx="0" cy="77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5265720" y="3716280"/>
            <a:ext cx="0" cy="77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5734080" y="3716280"/>
            <a:ext cx="0" cy="79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6202440" y="3710160"/>
            <a:ext cx="0" cy="759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6670800" y="3700440"/>
            <a:ext cx="0" cy="79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7139160" y="3701880"/>
            <a:ext cx="0" cy="79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7051680" y="3797280"/>
            <a:ext cx="20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6575400" y="3807000"/>
            <a:ext cx="2001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6100920" y="3813120"/>
            <a:ext cx="199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5653080" y="3811680"/>
            <a:ext cx="20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5178600" y="3809880"/>
            <a:ext cx="199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4718160" y="3816360"/>
            <a:ext cx="199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4255920" y="3822840"/>
            <a:ext cx="20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3781440" y="3821040"/>
            <a:ext cx="20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6"/>
          <p:cNvSpPr/>
          <p:nvPr/>
        </p:nvSpPr>
        <p:spPr>
          <a:xfrm>
            <a:off x="3305160" y="3827520"/>
            <a:ext cx="20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830680" y="3817800"/>
            <a:ext cx="1998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2257560" y="3824280"/>
            <a:ext cx="390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9"/>
          <p:cNvSpPr/>
          <p:nvPr/>
        </p:nvSpPr>
        <p:spPr>
          <a:xfrm>
            <a:off x="2454120" y="2770200"/>
            <a:ext cx="4687920" cy="0"/>
          </a:xfrm>
          <a:prstGeom prst="line">
            <a:avLst/>
          </a:prstGeom>
          <a:ln w="47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0"/>
          <p:cNvSpPr/>
          <p:nvPr/>
        </p:nvSpPr>
        <p:spPr>
          <a:xfrm>
            <a:off x="7345440" y="2768760"/>
            <a:ext cx="0" cy="936360"/>
          </a:xfrm>
          <a:prstGeom prst="line">
            <a:avLst/>
          </a:prstGeom>
          <a:ln w="37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1"/>
          <p:cNvSpPr/>
          <p:nvPr/>
        </p:nvSpPr>
        <p:spPr>
          <a:xfrm>
            <a:off x="7343640" y="3716280"/>
            <a:ext cx="0" cy="934920"/>
          </a:xfrm>
          <a:prstGeom prst="line">
            <a:avLst/>
          </a:prstGeom>
          <a:ln w="37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2"/>
          <p:cNvSpPr/>
          <p:nvPr/>
        </p:nvSpPr>
        <p:spPr>
          <a:xfrm flipV="1">
            <a:off x="2454120" y="1954080"/>
            <a:ext cx="0" cy="17510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3"/>
          <p:cNvSpPr/>
          <p:nvPr/>
        </p:nvSpPr>
        <p:spPr>
          <a:xfrm>
            <a:off x="2076480" y="2766960"/>
            <a:ext cx="0" cy="936720"/>
          </a:xfrm>
          <a:prstGeom prst="line">
            <a:avLst/>
          </a:prstGeom>
          <a:ln w="37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4"/>
          <p:cNvSpPr/>
          <p:nvPr/>
        </p:nvSpPr>
        <p:spPr>
          <a:xfrm flipH="1" flipV="1">
            <a:off x="2076480" y="1870200"/>
            <a:ext cx="1440" cy="898560"/>
          </a:xfrm>
          <a:prstGeom prst="line">
            <a:avLst/>
          </a:prstGeom>
          <a:ln w="37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7596360" y="2446200"/>
            <a:ext cx="13204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v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6"/>
          <p:cNvSpPr/>
          <p:nvPr/>
        </p:nvSpPr>
        <p:spPr>
          <a:xfrm>
            <a:off x="3616200" y="4130640"/>
            <a:ext cx="24926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servation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7"/>
          <p:cNvSpPr/>
          <p:nvPr/>
        </p:nvSpPr>
        <p:spPr>
          <a:xfrm>
            <a:off x="5437080" y="1690560"/>
            <a:ext cx="23986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Upper control lin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(decision line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5450040" y="5078520"/>
            <a:ext cx="22906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ower control lin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(decision line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0"/>
          <p:cNvSpPr/>
          <p:nvPr/>
        </p:nvSpPr>
        <p:spPr>
          <a:xfrm>
            <a:off x="789120" y="5973840"/>
            <a:ext cx="86328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f the CuSum plot crosses the lower control line an increase in process mean is indicated and if it crosses the upper control line a decrease in process mean is indicated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1"/>
          <p:cNvSpPr/>
          <p:nvPr/>
        </p:nvSpPr>
        <p:spPr>
          <a:xfrm>
            <a:off x="1227240" y="2014560"/>
            <a:ext cx="272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1219320" y="2949480"/>
            <a:ext cx="280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3"/>
          <p:cNvSpPr/>
          <p:nvPr/>
        </p:nvSpPr>
        <p:spPr>
          <a:xfrm>
            <a:off x="7572240" y="4030560"/>
            <a:ext cx="704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7016760" y="3613320"/>
            <a:ext cx="216000" cy="215640"/>
          </a:xfrm>
          <a:prstGeom prst="ellipse">
            <a:avLst/>
          </a:prstGeom>
          <a:noFill/>
          <a:ln w="63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8"/>
              <p:cNvSpPr txBox="1"/>
              <p:nvPr/>
            </p:nvSpPr>
            <p:spPr>
              <a:xfrm>
                <a:off x="7796160" y="3887640"/>
                <a:ext cx="5889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49"/>
              <p:cNvSpPr txBox="1"/>
              <p:nvPr/>
            </p:nvSpPr>
            <p:spPr>
              <a:xfrm>
                <a:off x="7794720" y="3035160"/>
                <a:ext cx="5889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50"/>
              <p:cNvSpPr txBox="1"/>
              <p:nvPr/>
            </p:nvSpPr>
            <p:spPr>
              <a:xfrm>
                <a:off x="1457280" y="1870200"/>
                <a:ext cx="5889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51"/>
              <p:cNvSpPr txBox="1"/>
              <p:nvPr/>
            </p:nvSpPr>
            <p:spPr>
              <a:xfrm>
                <a:off x="1457280" y="2835360"/>
                <a:ext cx="5889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7" name="Group 73"/>
          <p:cNvGrpSpPr/>
          <p:nvPr/>
        </p:nvGrpSpPr>
        <p:grpSpPr>
          <a:xfrm>
            <a:off x="420840" y="1846440"/>
            <a:ext cx="9216720" cy="3624480"/>
            <a:chOff x="420840" y="1846440"/>
            <a:chExt cx="9216720" cy="3624480"/>
          </a:xfrm>
        </p:grpSpPr>
        <p:graphicFrame>
          <p:nvGraphicFramePr>
            <p:cNvPr id="168" name="Object 52"/>
            <p:cNvGraphicFramePr/>
            <p:nvPr/>
          </p:nvGraphicFramePr>
          <p:xfrm>
            <a:off x="420840" y="1846440"/>
            <a:ext cx="9216720" cy="3479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9" name="Object 5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0840" y="1846440"/>
                      <a:ext cx="9216720" cy="347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Text Box 64"/>
            <p:cNvSpPr/>
            <p:nvPr/>
          </p:nvSpPr>
          <p:spPr>
            <a:xfrm>
              <a:off x="5116680" y="5165640"/>
              <a:ext cx="1784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Batch numb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65"/>
            <p:cNvSpPr/>
            <p:nvPr/>
          </p:nvSpPr>
          <p:spPr>
            <a:xfrm>
              <a:off x="2485080" y="4805280"/>
              <a:ext cx="6977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73080" indent="-73080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1      5      10      15      20      25     30      35      40     45     5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66"/>
            <p:cNvSpPr/>
            <p:nvPr/>
          </p:nvSpPr>
          <p:spPr>
            <a:xfrm>
              <a:off x="1988640" y="2226960"/>
              <a:ext cx="531000" cy="25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7"/>
            <p:cNvSpPr/>
            <p:nvPr/>
          </p:nvSpPr>
          <p:spPr>
            <a:xfrm rot="16200000">
              <a:off x="487800" y="3308400"/>
              <a:ext cx="238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umulative Sum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68"/>
          <p:cNvGrpSpPr/>
          <p:nvPr/>
        </p:nvGrpSpPr>
        <p:grpSpPr>
          <a:xfrm>
            <a:off x="1068480" y="3094200"/>
            <a:ext cx="1670040" cy="1763280"/>
            <a:chOff x="1068480" y="3094200"/>
            <a:chExt cx="1670040" cy="1763280"/>
          </a:xfrm>
        </p:grpSpPr>
        <p:grpSp>
          <p:nvGrpSpPr>
            <p:cNvPr id="175" name="Group 69"/>
            <p:cNvGrpSpPr/>
            <p:nvPr/>
          </p:nvGrpSpPr>
          <p:grpSpPr>
            <a:xfrm>
              <a:off x="1068480" y="3094200"/>
              <a:ext cx="1551960" cy="1763280"/>
              <a:chOff x="1068480" y="3094200"/>
              <a:chExt cx="1551960" cy="1763280"/>
            </a:xfrm>
          </p:grpSpPr>
          <p:sp>
            <p:nvSpPr>
              <p:cNvPr id="176" name="Freeform 70"/>
              <p:cNvSpPr/>
              <p:nvPr/>
            </p:nvSpPr>
            <p:spPr>
              <a:xfrm>
                <a:off x="1070640" y="3094200"/>
                <a:ext cx="1549800" cy="88344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883440"/>
                  <a:gd name="textAreaBottom" fmla="*/ 883800 h 883440"/>
                </a:gdLst>
                <a:ahLst/>
                <a:rect l="textAreaLeft" t="textAreaTop" r="textAreaRight" b="textAreaBottom"/>
                <a:pathLst>
                  <a:path w="755" h="720">
                    <a:moveTo>
                      <a:pt x="0" y="0"/>
                    </a:moveTo>
                    <a:lnTo>
                      <a:pt x="754" y="359"/>
                    </a:lnTo>
                    <a:lnTo>
                      <a:pt x="754" y="719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71"/>
              <p:cNvSpPr/>
              <p:nvPr/>
            </p:nvSpPr>
            <p:spPr>
              <a:xfrm>
                <a:off x="1068480" y="3972600"/>
                <a:ext cx="1550160" cy="884880"/>
              </a:xfrm>
              <a:custGeom>
                <a:avLst/>
                <a:gdLst>
                  <a:gd name="textAreaLeft" fmla="*/ 0 w 1550160"/>
                  <a:gd name="textAreaRight" fmla="*/ 1550520 w 1550160"/>
                  <a:gd name="textAreaTop" fmla="*/ 0 h 884880"/>
                  <a:gd name="textAreaBottom" fmla="*/ 885240 h 884880"/>
                </a:gdLst>
                <a:ahLst/>
                <a:rect l="textAreaLeft" t="textAreaTop" r="textAreaRight" b="textAreaBottom"/>
                <a:pathLst>
                  <a:path w="755" h="721">
                    <a:moveTo>
                      <a:pt x="0" y="720"/>
                    </a:moveTo>
                    <a:lnTo>
                      <a:pt x="754" y="360"/>
                    </a:lnTo>
                    <a:lnTo>
                      <a:pt x="754" y="0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Oval 72"/>
            <p:cNvSpPr/>
            <p:nvPr/>
          </p:nvSpPr>
          <p:spPr>
            <a:xfrm>
              <a:off x="2492280" y="3857760"/>
              <a:ext cx="246240" cy="216000"/>
            </a:xfrm>
            <a:prstGeom prst="ellipse">
              <a:avLst/>
            </a:prstGeom>
            <a:solidFill>
              <a:srgbClr val="c0007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74"/>
          <p:cNvGrpSpPr/>
          <p:nvPr/>
        </p:nvGrpSpPr>
        <p:grpSpPr>
          <a:xfrm>
            <a:off x="2063880" y="2230560"/>
            <a:ext cx="1670040" cy="1763280"/>
            <a:chOff x="2063880" y="2230560"/>
            <a:chExt cx="1670040" cy="1763280"/>
          </a:xfrm>
        </p:grpSpPr>
        <p:grpSp>
          <p:nvGrpSpPr>
            <p:cNvPr id="180" name="Group 75"/>
            <p:cNvGrpSpPr/>
            <p:nvPr/>
          </p:nvGrpSpPr>
          <p:grpSpPr>
            <a:xfrm>
              <a:off x="2063880" y="2230560"/>
              <a:ext cx="1551960" cy="1763280"/>
              <a:chOff x="2063880" y="2230560"/>
              <a:chExt cx="1551960" cy="1763280"/>
            </a:xfrm>
          </p:grpSpPr>
          <p:sp>
            <p:nvSpPr>
              <p:cNvPr id="181" name="Freeform 76"/>
              <p:cNvSpPr/>
              <p:nvPr/>
            </p:nvSpPr>
            <p:spPr>
              <a:xfrm>
                <a:off x="2066040" y="2230560"/>
                <a:ext cx="1549800" cy="88344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883440"/>
                  <a:gd name="textAreaBottom" fmla="*/ 883800 h 883440"/>
                </a:gdLst>
                <a:ahLst/>
                <a:rect l="textAreaLeft" t="textAreaTop" r="textAreaRight" b="textAreaBottom"/>
                <a:pathLst>
                  <a:path w="755" h="720">
                    <a:moveTo>
                      <a:pt x="0" y="0"/>
                    </a:moveTo>
                    <a:lnTo>
                      <a:pt x="754" y="359"/>
                    </a:lnTo>
                    <a:lnTo>
                      <a:pt x="754" y="719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77"/>
              <p:cNvSpPr/>
              <p:nvPr/>
            </p:nvSpPr>
            <p:spPr>
              <a:xfrm>
                <a:off x="2063880" y="3108960"/>
                <a:ext cx="1550160" cy="884880"/>
              </a:xfrm>
              <a:custGeom>
                <a:avLst/>
                <a:gdLst>
                  <a:gd name="textAreaLeft" fmla="*/ 0 w 1550160"/>
                  <a:gd name="textAreaRight" fmla="*/ 1550520 w 1550160"/>
                  <a:gd name="textAreaTop" fmla="*/ 0 h 884880"/>
                  <a:gd name="textAreaBottom" fmla="*/ 885240 h 884880"/>
                </a:gdLst>
                <a:ahLst/>
                <a:rect l="textAreaLeft" t="textAreaTop" r="textAreaRight" b="textAreaBottom"/>
                <a:pathLst>
                  <a:path w="755" h="721">
                    <a:moveTo>
                      <a:pt x="0" y="720"/>
                    </a:moveTo>
                    <a:lnTo>
                      <a:pt x="754" y="360"/>
                    </a:lnTo>
                    <a:lnTo>
                      <a:pt x="754" y="0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Oval 78"/>
            <p:cNvSpPr/>
            <p:nvPr/>
          </p:nvSpPr>
          <p:spPr>
            <a:xfrm>
              <a:off x="3487680" y="2994120"/>
              <a:ext cx="246240" cy="216000"/>
            </a:xfrm>
            <a:prstGeom prst="ellipse">
              <a:avLst/>
            </a:prstGeom>
            <a:solidFill>
              <a:srgbClr val="c0007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79"/>
          <p:cNvGrpSpPr/>
          <p:nvPr/>
        </p:nvGrpSpPr>
        <p:grpSpPr>
          <a:xfrm>
            <a:off x="2508120" y="1798560"/>
            <a:ext cx="1670040" cy="1763280"/>
            <a:chOff x="2508120" y="1798560"/>
            <a:chExt cx="1670040" cy="1763280"/>
          </a:xfrm>
        </p:grpSpPr>
        <p:grpSp>
          <p:nvGrpSpPr>
            <p:cNvPr id="185" name="Group 80"/>
            <p:cNvGrpSpPr/>
            <p:nvPr/>
          </p:nvGrpSpPr>
          <p:grpSpPr>
            <a:xfrm>
              <a:off x="2508120" y="1798560"/>
              <a:ext cx="1551960" cy="1763280"/>
              <a:chOff x="2508120" y="1798560"/>
              <a:chExt cx="1551960" cy="1763280"/>
            </a:xfrm>
          </p:grpSpPr>
          <p:sp>
            <p:nvSpPr>
              <p:cNvPr id="186" name="Freeform 81"/>
              <p:cNvSpPr/>
              <p:nvPr/>
            </p:nvSpPr>
            <p:spPr>
              <a:xfrm>
                <a:off x="2510280" y="1798560"/>
                <a:ext cx="1549800" cy="88344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883440"/>
                  <a:gd name="textAreaBottom" fmla="*/ 883800 h 883440"/>
                </a:gdLst>
                <a:ahLst/>
                <a:rect l="textAreaLeft" t="textAreaTop" r="textAreaRight" b="textAreaBottom"/>
                <a:pathLst>
                  <a:path w="755" h="720">
                    <a:moveTo>
                      <a:pt x="0" y="0"/>
                    </a:moveTo>
                    <a:lnTo>
                      <a:pt x="754" y="359"/>
                    </a:lnTo>
                    <a:lnTo>
                      <a:pt x="754" y="719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82"/>
              <p:cNvSpPr/>
              <p:nvPr/>
            </p:nvSpPr>
            <p:spPr>
              <a:xfrm>
                <a:off x="2508120" y="2676960"/>
                <a:ext cx="1550160" cy="884880"/>
              </a:xfrm>
              <a:custGeom>
                <a:avLst/>
                <a:gdLst>
                  <a:gd name="textAreaLeft" fmla="*/ 0 w 1550160"/>
                  <a:gd name="textAreaRight" fmla="*/ 1550520 w 1550160"/>
                  <a:gd name="textAreaTop" fmla="*/ 0 h 884880"/>
                  <a:gd name="textAreaBottom" fmla="*/ 885240 h 884880"/>
                </a:gdLst>
                <a:ahLst/>
                <a:rect l="textAreaLeft" t="textAreaTop" r="textAreaRight" b="textAreaBottom"/>
                <a:pathLst>
                  <a:path w="755" h="721">
                    <a:moveTo>
                      <a:pt x="0" y="720"/>
                    </a:moveTo>
                    <a:lnTo>
                      <a:pt x="754" y="360"/>
                    </a:lnTo>
                    <a:lnTo>
                      <a:pt x="754" y="0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Oval 83"/>
            <p:cNvSpPr/>
            <p:nvPr/>
          </p:nvSpPr>
          <p:spPr>
            <a:xfrm>
              <a:off x="3931920" y="2562120"/>
              <a:ext cx="246240" cy="216000"/>
            </a:xfrm>
            <a:prstGeom prst="ellipse">
              <a:avLst/>
            </a:prstGeom>
            <a:solidFill>
              <a:srgbClr val="c0007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84"/>
          <p:cNvGrpSpPr/>
          <p:nvPr/>
        </p:nvGrpSpPr>
        <p:grpSpPr>
          <a:xfrm>
            <a:off x="3300480" y="1906560"/>
            <a:ext cx="1670040" cy="1763280"/>
            <a:chOff x="3300480" y="1906560"/>
            <a:chExt cx="1670040" cy="1763280"/>
          </a:xfrm>
        </p:grpSpPr>
        <p:grpSp>
          <p:nvGrpSpPr>
            <p:cNvPr id="190" name="Group 85"/>
            <p:cNvGrpSpPr/>
            <p:nvPr/>
          </p:nvGrpSpPr>
          <p:grpSpPr>
            <a:xfrm>
              <a:off x="3300480" y="1906560"/>
              <a:ext cx="1551960" cy="1763280"/>
              <a:chOff x="3300480" y="1906560"/>
              <a:chExt cx="1551960" cy="1763280"/>
            </a:xfrm>
          </p:grpSpPr>
          <p:sp>
            <p:nvSpPr>
              <p:cNvPr id="191" name="Freeform 86"/>
              <p:cNvSpPr/>
              <p:nvPr/>
            </p:nvSpPr>
            <p:spPr>
              <a:xfrm>
                <a:off x="3302640" y="1906560"/>
                <a:ext cx="1549800" cy="88344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883440"/>
                  <a:gd name="textAreaBottom" fmla="*/ 883800 h 883440"/>
                </a:gdLst>
                <a:ahLst/>
                <a:rect l="textAreaLeft" t="textAreaTop" r="textAreaRight" b="textAreaBottom"/>
                <a:pathLst>
                  <a:path w="755" h="720">
                    <a:moveTo>
                      <a:pt x="0" y="0"/>
                    </a:moveTo>
                    <a:lnTo>
                      <a:pt x="754" y="359"/>
                    </a:lnTo>
                    <a:lnTo>
                      <a:pt x="754" y="719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87"/>
              <p:cNvSpPr/>
              <p:nvPr/>
            </p:nvSpPr>
            <p:spPr>
              <a:xfrm>
                <a:off x="3300480" y="2784960"/>
                <a:ext cx="1550160" cy="884880"/>
              </a:xfrm>
              <a:custGeom>
                <a:avLst/>
                <a:gdLst>
                  <a:gd name="textAreaLeft" fmla="*/ 0 w 1550160"/>
                  <a:gd name="textAreaRight" fmla="*/ 1550520 w 1550160"/>
                  <a:gd name="textAreaTop" fmla="*/ 0 h 884880"/>
                  <a:gd name="textAreaBottom" fmla="*/ 885240 h 884880"/>
                </a:gdLst>
                <a:ahLst/>
                <a:rect l="textAreaLeft" t="textAreaTop" r="textAreaRight" b="textAreaBottom"/>
                <a:pathLst>
                  <a:path w="755" h="721">
                    <a:moveTo>
                      <a:pt x="0" y="720"/>
                    </a:moveTo>
                    <a:lnTo>
                      <a:pt x="754" y="360"/>
                    </a:lnTo>
                    <a:lnTo>
                      <a:pt x="754" y="0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Oval 88"/>
            <p:cNvSpPr/>
            <p:nvPr/>
          </p:nvSpPr>
          <p:spPr>
            <a:xfrm>
              <a:off x="4724280" y="2670120"/>
              <a:ext cx="246240" cy="216000"/>
            </a:xfrm>
            <a:prstGeom prst="ellipse">
              <a:avLst/>
            </a:prstGeom>
            <a:solidFill>
              <a:srgbClr val="c0007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89"/>
          <p:cNvGrpSpPr/>
          <p:nvPr/>
        </p:nvGrpSpPr>
        <p:grpSpPr>
          <a:xfrm>
            <a:off x="4813200" y="2878200"/>
            <a:ext cx="1670040" cy="1763280"/>
            <a:chOff x="4813200" y="2878200"/>
            <a:chExt cx="1670040" cy="1763280"/>
          </a:xfrm>
        </p:grpSpPr>
        <p:grpSp>
          <p:nvGrpSpPr>
            <p:cNvPr id="195" name="Group 90"/>
            <p:cNvGrpSpPr/>
            <p:nvPr/>
          </p:nvGrpSpPr>
          <p:grpSpPr>
            <a:xfrm>
              <a:off x="4813200" y="2878200"/>
              <a:ext cx="1551960" cy="1763280"/>
              <a:chOff x="4813200" y="2878200"/>
              <a:chExt cx="1551960" cy="1763280"/>
            </a:xfrm>
          </p:grpSpPr>
          <p:sp>
            <p:nvSpPr>
              <p:cNvPr id="196" name="Freeform 91"/>
              <p:cNvSpPr/>
              <p:nvPr/>
            </p:nvSpPr>
            <p:spPr>
              <a:xfrm>
                <a:off x="4815360" y="2878200"/>
                <a:ext cx="1549800" cy="88344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883440"/>
                  <a:gd name="textAreaBottom" fmla="*/ 883800 h 883440"/>
                </a:gdLst>
                <a:ahLst/>
                <a:rect l="textAreaLeft" t="textAreaTop" r="textAreaRight" b="textAreaBottom"/>
                <a:pathLst>
                  <a:path w="755" h="720">
                    <a:moveTo>
                      <a:pt x="0" y="0"/>
                    </a:moveTo>
                    <a:lnTo>
                      <a:pt x="754" y="359"/>
                    </a:lnTo>
                    <a:lnTo>
                      <a:pt x="754" y="719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92"/>
              <p:cNvSpPr/>
              <p:nvPr/>
            </p:nvSpPr>
            <p:spPr>
              <a:xfrm>
                <a:off x="4813200" y="3756600"/>
                <a:ext cx="1550160" cy="884880"/>
              </a:xfrm>
              <a:custGeom>
                <a:avLst/>
                <a:gdLst>
                  <a:gd name="textAreaLeft" fmla="*/ 0 w 1550160"/>
                  <a:gd name="textAreaRight" fmla="*/ 1550520 w 1550160"/>
                  <a:gd name="textAreaTop" fmla="*/ 0 h 884880"/>
                  <a:gd name="textAreaBottom" fmla="*/ 885240 h 884880"/>
                </a:gdLst>
                <a:ahLst/>
                <a:rect l="textAreaLeft" t="textAreaTop" r="textAreaRight" b="textAreaBottom"/>
                <a:pathLst>
                  <a:path w="755" h="721">
                    <a:moveTo>
                      <a:pt x="0" y="720"/>
                    </a:moveTo>
                    <a:lnTo>
                      <a:pt x="754" y="360"/>
                    </a:lnTo>
                    <a:lnTo>
                      <a:pt x="754" y="0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Oval 93"/>
            <p:cNvSpPr/>
            <p:nvPr/>
          </p:nvSpPr>
          <p:spPr>
            <a:xfrm>
              <a:off x="6237000" y="3641760"/>
              <a:ext cx="246240" cy="216000"/>
            </a:xfrm>
            <a:prstGeom prst="ellipse">
              <a:avLst/>
            </a:prstGeom>
            <a:solidFill>
              <a:srgbClr val="c0007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94"/>
          <p:cNvGrpSpPr/>
          <p:nvPr/>
        </p:nvGrpSpPr>
        <p:grpSpPr>
          <a:xfrm>
            <a:off x="6541920" y="3381480"/>
            <a:ext cx="1670040" cy="1763280"/>
            <a:chOff x="6541920" y="3381480"/>
            <a:chExt cx="1670040" cy="1763280"/>
          </a:xfrm>
        </p:grpSpPr>
        <p:grpSp>
          <p:nvGrpSpPr>
            <p:cNvPr id="200" name="Group 95"/>
            <p:cNvGrpSpPr/>
            <p:nvPr/>
          </p:nvGrpSpPr>
          <p:grpSpPr>
            <a:xfrm>
              <a:off x="6541920" y="3381480"/>
              <a:ext cx="1551960" cy="1763280"/>
              <a:chOff x="6541920" y="3381480"/>
              <a:chExt cx="1551960" cy="1763280"/>
            </a:xfrm>
          </p:grpSpPr>
          <p:sp>
            <p:nvSpPr>
              <p:cNvPr id="201" name="Freeform 96"/>
              <p:cNvSpPr/>
              <p:nvPr/>
            </p:nvSpPr>
            <p:spPr>
              <a:xfrm>
                <a:off x="6544080" y="3381480"/>
                <a:ext cx="1549800" cy="88344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883440"/>
                  <a:gd name="textAreaBottom" fmla="*/ 883800 h 883440"/>
                </a:gdLst>
                <a:ahLst/>
                <a:rect l="textAreaLeft" t="textAreaTop" r="textAreaRight" b="textAreaBottom"/>
                <a:pathLst>
                  <a:path w="755" h="720">
                    <a:moveTo>
                      <a:pt x="0" y="0"/>
                    </a:moveTo>
                    <a:lnTo>
                      <a:pt x="754" y="359"/>
                    </a:lnTo>
                    <a:lnTo>
                      <a:pt x="754" y="719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97"/>
              <p:cNvSpPr/>
              <p:nvPr/>
            </p:nvSpPr>
            <p:spPr>
              <a:xfrm>
                <a:off x="6541920" y="4259880"/>
                <a:ext cx="1550160" cy="884880"/>
              </a:xfrm>
              <a:custGeom>
                <a:avLst/>
                <a:gdLst>
                  <a:gd name="textAreaLeft" fmla="*/ 0 w 1550160"/>
                  <a:gd name="textAreaRight" fmla="*/ 1550520 w 1550160"/>
                  <a:gd name="textAreaTop" fmla="*/ 0 h 884880"/>
                  <a:gd name="textAreaBottom" fmla="*/ 885240 h 884880"/>
                </a:gdLst>
                <a:ahLst/>
                <a:rect l="textAreaLeft" t="textAreaTop" r="textAreaRight" b="textAreaBottom"/>
                <a:pathLst>
                  <a:path w="755" h="721">
                    <a:moveTo>
                      <a:pt x="0" y="720"/>
                    </a:moveTo>
                    <a:lnTo>
                      <a:pt x="754" y="360"/>
                    </a:lnTo>
                    <a:lnTo>
                      <a:pt x="754" y="0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Oval 98"/>
            <p:cNvSpPr/>
            <p:nvPr/>
          </p:nvSpPr>
          <p:spPr>
            <a:xfrm>
              <a:off x="7965720" y="4145040"/>
              <a:ext cx="246240" cy="216000"/>
            </a:xfrm>
            <a:prstGeom prst="ellipse">
              <a:avLst/>
            </a:prstGeom>
            <a:solidFill>
              <a:srgbClr val="c0007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105"/>
          <p:cNvSpPr/>
          <p:nvPr/>
        </p:nvSpPr>
        <p:spPr>
          <a:xfrm>
            <a:off x="8433720" y="7404840"/>
            <a:ext cx="14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73080" indent="-7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umChart |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3"/>
          <p:cNvSpPr/>
          <p:nvPr/>
        </p:nvSpPr>
        <p:spPr>
          <a:xfrm>
            <a:off x="2084400" y="4567320"/>
            <a:ext cx="0" cy="936720"/>
          </a:xfrm>
          <a:prstGeom prst="line">
            <a:avLst/>
          </a:prstGeom>
          <a:ln w="37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4"/>
          <p:cNvSpPr/>
          <p:nvPr/>
        </p:nvSpPr>
        <p:spPr>
          <a:xfrm flipH="1" flipV="1">
            <a:off x="2084400" y="3670200"/>
            <a:ext cx="1440" cy="898560"/>
          </a:xfrm>
          <a:prstGeom prst="line">
            <a:avLst/>
          </a:prstGeom>
          <a:ln w="37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1"/>
          <p:cNvSpPr/>
          <p:nvPr/>
        </p:nvSpPr>
        <p:spPr>
          <a:xfrm>
            <a:off x="1235160" y="3814920"/>
            <a:ext cx="272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2"/>
          <p:cNvSpPr/>
          <p:nvPr/>
        </p:nvSpPr>
        <p:spPr>
          <a:xfrm>
            <a:off x="1227240" y="4749840"/>
            <a:ext cx="28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50"/>
              <p:cNvSpPr txBox="1"/>
              <p:nvPr/>
            </p:nvSpPr>
            <p:spPr>
              <a:xfrm>
                <a:off x="1465200" y="3670200"/>
                <a:ext cx="5889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51"/>
              <p:cNvSpPr txBox="1"/>
              <p:nvPr/>
            </p:nvSpPr>
            <p:spPr>
              <a:xfrm>
                <a:off x="1465200" y="4635360"/>
                <a:ext cx="5889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11" name="Picture 2" descr=""/>
          <p:cNvPicPr/>
          <p:nvPr/>
        </p:nvPicPr>
        <p:blipFill>
          <a:blip r:embed="rId3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92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67677E-006 -3.26797E-006 L 0.10022 -0.11111 E">
                                      <p:cBhvr>
                                        <p:cTn id="230" dur="5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69697E-006 -3.26797E-006 L 0.04293 -0.05556 E">
                                      <p:cBhvr>
                                        <p:cTn id="240" dur="5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94949E-006 -3.26797E-006 L 0.07876 0.01859 E">
                                      <p:cBhvr>
                                        <p:cTn id="250" dur="5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32323E-006 -9.80392E-007 L 0.15026 0.1203 E">
                                      <p:cBhvr>
                                        <p:cTn id="260" dur="5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05051E-006 -3.26797E-006 L 0.16462 0.06495 E">
                                      <p:cBhvr>
                                        <p:cTn id="270" dur="5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58586E-006 -5.75163E-006 C 0.01831 -0.01941 0.03678 -0.03861 0.05808 -0.04331 C 0.07939 -0.04801 0.10369 -0.03841 0.12816 -0.0286 E">
                                      <p:cBhvr>
                                        <p:cTn id="280" dur="5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499760" y="820800"/>
            <a:ext cx="727236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ges in Construction of a CuSum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420840" y="1336680"/>
            <a:ext cx="9394560" cy="61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Estimate the mean and standard deviation  (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600" spc="-1" strike="noStrike">
                <a:solidFill>
                  <a:srgbClr val="000000"/>
                </a:solidFill>
                <a:latin typeface="Math A"/>
                <a:ea typeface="Math A"/>
              </a:rPr>
              <a:t>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Math A"/>
                <a:ea typeface="Math A"/>
              </a:rPr>
              <a:t>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)  of the process from previous data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808080"/>
              </a:buClr>
              <a:buSzPct val="90000"/>
              <a:buFont typeface="Arial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alculate the CuSum from  (observations - reference value), where the reference value i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usually the mean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hoose a convenient scale for the horizontal axis (sample number , days , batches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hoose a vertical axis scale of approximately   2 </a:t>
            </a:r>
            <a:r>
              <a:rPr b="1" lang="en-GB" sz="2600" spc="-1" strike="noStrike">
                <a:solidFill>
                  <a:srgbClr val="000000"/>
                </a:solidFill>
                <a:latin typeface="Math A"/>
                <a:ea typeface="Math A"/>
              </a:rPr>
              <a:t></a:t>
            </a:r>
            <a:r>
              <a:rPr b="0" lang="en-GB" sz="17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units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Plot the CuSum values. The y-axis scale may be adjusted to keep the chart on the page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808080"/>
              </a:buClr>
              <a:buSzPct val="90000"/>
              <a:buFont typeface="Arial"/>
              <a:buAutoNum type="arabicPeriod" startAt="6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Prepare a V-mask by drawing a vertical line equal to the distance 5</a:t>
            </a:r>
            <a:r>
              <a:rPr b="1" lang="en-GB" sz="2600" spc="-1" strike="noStrike">
                <a:solidFill>
                  <a:srgbClr val="000000"/>
                </a:solidFill>
                <a:latin typeface="Math A"/>
                <a:ea typeface="Math A"/>
              </a:rPr>
              <a:t>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on the chosen scale. Draw a horizontal line from the middle of the first vertical line back 10 scale units then draw a second vertical line equal to the distance 10</a:t>
            </a:r>
            <a:r>
              <a:rPr b="1" lang="en-GB" sz="2600" spc="-1" strike="noStrike">
                <a:solidFill>
                  <a:srgbClr val="000000"/>
                </a:solidFill>
                <a:latin typeface="Math A"/>
                <a:ea typeface="Math A"/>
              </a:rPr>
              <a:t>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entered at the end of the horizontal line.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Join up the ends of the vertical lines to produce the decision lines. Transfer this to clear film to use in real time as the data is plotted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7.  Use of the V-mask. Put the observation 0 point of the V-mask onto the latest datum point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8.  If the lower decision line crosses the CuSum plot an increase in mean is signalled. If the upper decision line crosses the CuSum plot a decrease in the mean is signalled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8"/>
              <p:cNvSpPr txBox="1"/>
              <p:nvPr/>
            </p:nvSpPr>
            <p:spPr>
              <a:xfrm>
                <a:off x="5435640" y="3166920"/>
                <a:ext cx="530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9"/>
              <p:cNvSpPr txBox="1"/>
              <p:nvPr/>
            </p:nvSpPr>
            <p:spPr>
              <a:xfrm>
                <a:off x="5900760" y="1359000"/>
                <a:ext cx="4237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0"/>
              <p:cNvSpPr txBox="1"/>
              <p:nvPr/>
            </p:nvSpPr>
            <p:spPr>
              <a:xfrm>
                <a:off x="5029200" y="4995720"/>
                <a:ext cx="530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1"/>
              <p:cNvSpPr txBox="1"/>
              <p:nvPr/>
            </p:nvSpPr>
            <p:spPr>
              <a:xfrm>
                <a:off x="7221600" y="4361040"/>
                <a:ext cx="530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2"/>
              <p:cNvSpPr txBox="1"/>
              <p:nvPr/>
            </p:nvSpPr>
            <p:spPr>
              <a:xfrm>
                <a:off x="5029200" y="1222200"/>
                <a:ext cx="530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" name="Rectangle 14"/>
          <p:cNvSpPr/>
          <p:nvPr/>
        </p:nvSpPr>
        <p:spPr>
          <a:xfrm>
            <a:off x="8433720" y="7404840"/>
            <a:ext cx="14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73080" indent="-7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umChart |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12"/>
          <p:cNvSpPr/>
          <p:nvPr/>
        </p:nvSpPr>
        <p:spPr>
          <a:xfrm>
            <a:off x="420840" y="740268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08:36:46Z</dcterms:created>
  <dc:creator>Brian Grievson</dc:creator>
  <dc:description/>
  <dc:language>en-US</dc:language>
  <cp:lastModifiedBy>Chris Runciman</cp:lastModifiedBy>
  <dcterms:modified xsi:type="dcterms:W3CDTF">2020-11-27T10:54:33Z</dcterms:modified>
  <cp:revision>79</cp:revision>
  <dc:subject/>
  <dc:title>Cumulative sum chart presentation</dc:title>
</cp:coreProperties>
</file>