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58400" cy="77724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B2C-726D-43E3-AA80-CA4CAAE4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B2F-24FE-4926-A047-3E5BF51A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041-0386-4795-9EE6-B30E5BF6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A57-F7CA-4FCE-9BE8-6735D473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138-381E-4305-A509-708A9A0D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9F6-CB22-4930-8CF4-2936C8CF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372-629B-4723-B9C6-9DE8E39D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30A-69B7-4A89-B7F4-15A38A19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AEE-E7BF-421A-AD18-C98E147D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455-AC52-4C64-B147-AA735D38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A6F-3574-40E1-B24D-A238C580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8A7-A02A-4A7D-935E-310373C7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et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BFAD-DEA2-47E0-9571-4E3768789D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8"/>
          <p:cNvSpPr/>
          <p:nvPr/>
        </p:nvSpPr>
        <p:spPr>
          <a:xfrm>
            <a:off x="5041800" y="2500200"/>
            <a:ext cx="4122720" cy="1568520"/>
          </a:xfrm>
          <a:custGeom>
            <a:avLst/>
            <a:gdLst>
              <a:gd name="textAreaLeft" fmla="*/ 0 w 4122720"/>
              <a:gd name="textAreaRight" fmla="*/ 4123080 w 4122720"/>
              <a:gd name="textAreaTop" fmla="*/ 0 h 1568520"/>
              <a:gd name="textAreaBottom" fmla="*/ 1568880 h 1568520"/>
            </a:gdLst>
            <a:ahLst/>
            <a:rect l="textAreaLeft" t="textAreaTop" r="textAreaRight" b="textAreaBottom"/>
            <a:pathLst>
              <a:path w="2007" h="790">
                <a:moveTo>
                  <a:pt x="2006" y="0"/>
                </a:moveTo>
                <a:lnTo>
                  <a:pt x="0" y="789"/>
                </a:lnTo>
                <a:lnTo>
                  <a:pt x="235" y="0"/>
                </a:lnTo>
                <a:lnTo>
                  <a:pt x="2006" y="0"/>
                </a:lnTo>
              </a:path>
            </a:pathLst>
          </a:custGeom>
          <a:gradFill rotWithShape="0">
            <a:gsLst>
              <a:gs pos="0">
                <a:srgbClr val="ff42f9"/>
              </a:gs>
              <a:gs pos="100000">
                <a:srgbClr val="a100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81200" y="3571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Marketing "4" P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925560" y="2517840"/>
            <a:ext cx="4248000" cy="154440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2007" h="787">
                <a:moveTo>
                  <a:pt x="0" y="0"/>
                </a:moveTo>
                <a:lnTo>
                  <a:pt x="2006" y="786"/>
                </a:lnTo>
                <a:lnTo>
                  <a:pt x="1765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40a0"/>
              </a:gs>
              <a:gs pos="100000">
                <a:srgbClr val="8200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 flipV="1">
            <a:off x="955800" y="1169640"/>
            <a:ext cx="3929040" cy="2068560"/>
          </a:xfrm>
          <a:prstGeom prst="roundRect">
            <a:avLst>
              <a:gd name="adj" fmla="val 0"/>
            </a:avLst>
          </a:prstGeom>
          <a:solidFill>
            <a:srgbClr val="ffe0e6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 flipV="1">
            <a:off x="5316480" y="1156320"/>
            <a:ext cx="3846600" cy="2081160"/>
          </a:xfrm>
          <a:prstGeom prst="roundRect">
            <a:avLst>
              <a:gd name="adj" fmla="val 0"/>
            </a:avLst>
          </a:prstGeom>
          <a:solidFill>
            <a:srgbClr val="ffe0ff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5100480" y="4067280"/>
            <a:ext cx="4069080" cy="1547640"/>
          </a:xfrm>
          <a:custGeom>
            <a:avLst/>
            <a:gdLst>
              <a:gd name="textAreaLeft" fmla="*/ 0 w 4069080"/>
              <a:gd name="textAreaRight" fmla="*/ 4069440 w 406908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2009" h="791">
                <a:moveTo>
                  <a:pt x="2008" y="790"/>
                </a:moveTo>
                <a:lnTo>
                  <a:pt x="0" y="0"/>
                </a:lnTo>
                <a:lnTo>
                  <a:pt x="238" y="790"/>
                </a:lnTo>
                <a:lnTo>
                  <a:pt x="2008" y="790"/>
                </a:lnTo>
              </a:path>
            </a:pathLst>
          </a:custGeom>
          <a:gradFill rotWithShape="0">
            <a:gsLst>
              <a:gs pos="0">
                <a:srgbClr val="00c1c2"/>
              </a:gs>
              <a:gs pos="100000">
                <a:srgbClr val="006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flipV="1">
            <a:off x="5316480" y="4749120"/>
            <a:ext cx="3851280" cy="2228760"/>
          </a:xfrm>
          <a:prstGeom prst="roundRect">
            <a:avLst>
              <a:gd name="adj" fmla="val 0"/>
            </a:avLst>
          </a:prstGeom>
          <a:solidFill>
            <a:srgbClr val="c1ffff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3"/>
          <p:cNvSpPr/>
          <p:nvPr/>
        </p:nvSpPr>
        <p:spPr>
          <a:xfrm>
            <a:off x="930240" y="4067280"/>
            <a:ext cx="4170240" cy="1619280"/>
          </a:xfrm>
          <a:custGeom>
            <a:avLst/>
            <a:gdLst>
              <a:gd name="textAreaLeft" fmla="*/ 0 w 4170240"/>
              <a:gd name="textAreaRight" fmla="*/ 4170600 w 4170240"/>
              <a:gd name="textAreaTop" fmla="*/ 0 h 1619280"/>
              <a:gd name="textAreaBottom" fmla="*/ 1619640 h 1619280"/>
            </a:gdLst>
            <a:ahLst/>
            <a:rect l="textAreaLeft" t="textAreaTop" r="textAreaRight" b="textAreaBottom"/>
            <a:pathLst>
              <a:path w="2003" h="791">
                <a:moveTo>
                  <a:pt x="0" y="790"/>
                </a:moveTo>
                <a:lnTo>
                  <a:pt x="2002" y="0"/>
                </a:lnTo>
                <a:lnTo>
                  <a:pt x="1768" y="790"/>
                </a:lnTo>
                <a:lnTo>
                  <a:pt x="0" y="790"/>
                </a:lnTo>
              </a:path>
            </a:pathLst>
          </a:custGeom>
          <a:gradFill rotWithShape="0">
            <a:gsLst>
              <a:gs pos="0">
                <a:srgbClr val="ff9f71"/>
              </a:gs>
              <a:gs pos="100000">
                <a:srgbClr val="c2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4"/>
          <p:cNvSpPr/>
          <p:nvPr/>
        </p:nvSpPr>
        <p:spPr>
          <a:xfrm flipV="1">
            <a:off x="960480" y="4749120"/>
            <a:ext cx="3924360" cy="2228760"/>
          </a:xfrm>
          <a:prstGeom prst="roundRect">
            <a:avLst>
              <a:gd name="adj" fmla="val 0"/>
            </a:avLst>
          </a:prstGeom>
          <a:solidFill>
            <a:srgbClr val="ffe1b0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 flipV="1">
            <a:off x="3189240" y="3637080"/>
            <a:ext cx="3638520" cy="753840"/>
          </a:xfrm>
          <a:prstGeom prst="roundRect">
            <a:avLst>
              <a:gd name="adj" fmla="val 0"/>
            </a:avLst>
          </a:prstGeom>
          <a:solidFill>
            <a:srgbClr val="f1f1b4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958680" y="1179360"/>
            <a:ext cx="3522960" cy="127980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1279800"/>
              <a:gd name="textAreaBottom" fmla="*/ 1280160 h 1279800"/>
            </a:gdLst>
            <a:ahLst/>
            <a:rect l="textAreaLeft" t="textAreaTop" r="textAreaRight" b="textAreaBottom"/>
            <a:pathLst>
              <a:path w="1715" h="644">
                <a:moveTo>
                  <a:pt x="0" y="643"/>
                </a:moveTo>
                <a:lnTo>
                  <a:pt x="1714" y="643"/>
                </a:lnTo>
                <a:lnTo>
                  <a:pt x="1714" y="0"/>
                </a:lnTo>
                <a:lnTo>
                  <a:pt x="0" y="0"/>
                </a:lnTo>
                <a:lnTo>
                  <a:pt x="0" y="64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1214280" y="1222200"/>
            <a:ext cx="331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ies, grades, markets, packages, quality specification, associated products, production facilities, brand different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0"/>
          <p:cNvSpPr/>
          <p:nvPr/>
        </p:nvSpPr>
        <p:spPr>
          <a:xfrm>
            <a:off x="5518080" y="1158840"/>
            <a:ext cx="3521160" cy="1282680"/>
          </a:xfrm>
          <a:custGeom>
            <a:avLst/>
            <a:gdLst>
              <a:gd name="textAreaLeft" fmla="*/ 0 w 3521160"/>
              <a:gd name="textAreaRight" fmla="*/ 3521520 w 352116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1714" h="645">
                <a:moveTo>
                  <a:pt x="0" y="644"/>
                </a:moveTo>
                <a:lnTo>
                  <a:pt x="1713" y="644"/>
                </a:lnTo>
                <a:lnTo>
                  <a:pt x="1713" y="0"/>
                </a:lnTo>
                <a:lnTo>
                  <a:pt x="0" y="0"/>
                </a:lnTo>
                <a:lnTo>
                  <a:pt x="0" y="6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5460840" y="1150920"/>
            <a:ext cx="36608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ing policy, full cost pricing, marginal pricing, skimming pricing, penetration pricing, target pricing, range pricing, historic pricing, service-level pricing, discou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3187800" y="3111480"/>
            <a:ext cx="3520440" cy="1771200"/>
            <a:chOff x="3187800" y="3111480"/>
            <a:chExt cx="3520440" cy="1771200"/>
          </a:xfrm>
        </p:grpSpPr>
        <p:sp>
          <p:nvSpPr>
            <p:cNvPr id="56" name="Freeform 23"/>
            <p:cNvSpPr/>
            <p:nvPr/>
          </p:nvSpPr>
          <p:spPr>
            <a:xfrm>
              <a:off x="3187800" y="3111480"/>
              <a:ext cx="3520440" cy="1771200"/>
            </a:xfrm>
            <a:custGeom>
              <a:avLst/>
              <a:gdLst>
                <a:gd name="textAreaLeft" fmla="*/ 0 w 3520440"/>
                <a:gd name="textAreaRight" fmla="*/ 3520800 w 3520440"/>
                <a:gd name="textAreaTop" fmla="*/ 0 h 1771200"/>
                <a:gd name="textAreaBottom" fmla="*/ 1771560 h 1771200"/>
              </a:gdLst>
              <a:ahLst/>
              <a:rect l="textAreaLeft" t="textAreaTop" r="textAreaRight" b="textAreaBottom"/>
              <a:pathLst>
                <a:path w="1714" h="893">
                  <a:moveTo>
                    <a:pt x="0" y="892"/>
                  </a:moveTo>
                  <a:lnTo>
                    <a:pt x="1713" y="892"/>
                  </a:lnTo>
                  <a:lnTo>
                    <a:pt x="1713" y="0"/>
                  </a:lnTo>
                  <a:lnTo>
                    <a:pt x="0" y="0"/>
                  </a:lnTo>
                  <a:lnTo>
                    <a:pt x="0" y="8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4"/>
            <p:cNvSpPr/>
            <p:nvPr/>
          </p:nvSpPr>
          <p:spPr>
            <a:xfrm>
              <a:off x="3514320" y="3373200"/>
              <a:ext cx="3007080" cy="13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The 4 P'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Freeform 26"/>
          <p:cNvSpPr/>
          <p:nvPr/>
        </p:nvSpPr>
        <p:spPr>
          <a:xfrm>
            <a:off x="958680" y="5651640"/>
            <a:ext cx="3522960" cy="128088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715" h="646">
                <a:moveTo>
                  <a:pt x="0" y="645"/>
                </a:moveTo>
                <a:lnTo>
                  <a:pt x="1714" y="645"/>
                </a:lnTo>
                <a:lnTo>
                  <a:pt x="1714" y="0"/>
                </a:lnTo>
                <a:lnTo>
                  <a:pt x="0" y="0"/>
                </a:lnTo>
                <a:lnTo>
                  <a:pt x="0" y="6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1068480" y="5254560"/>
            <a:ext cx="3673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nels of distribution (e.g. direct, retail, mail order, www), distribution speed, frequency, road/rail/s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1"/>
          <p:cNvGrpSpPr/>
          <p:nvPr/>
        </p:nvGrpSpPr>
        <p:grpSpPr>
          <a:xfrm>
            <a:off x="5491080" y="5110200"/>
            <a:ext cx="3498480" cy="1748520"/>
            <a:chOff x="5491080" y="5110200"/>
            <a:chExt cx="3498480" cy="1748520"/>
          </a:xfrm>
        </p:grpSpPr>
        <p:sp>
          <p:nvSpPr>
            <p:cNvPr id="61" name="Freeform 29"/>
            <p:cNvSpPr/>
            <p:nvPr/>
          </p:nvSpPr>
          <p:spPr>
            <a:xfrm>
              <a:off x="5491080" y="5110200"/>
              <a:ext cx="3498480" cy="1748520"/>
            </a:xfrm>
            <a:custGeom>
              <a:avLst/>
              <a:gdLst>
                <a:gd name="textAreaLeft" fmla="*/ 0 w 3498480"/>
                <a:gd name="textAreaRight" fmla="*/ 3498840 w 3498480"/>
                <a:gd name="textAreaTop" fmla="*/ 0 h 1748520"/>
                <a:gd name="textAreaBottom" fmla="*/ 1748880 h 1748520"/>
              </a:gdLst>
              <a:ahLst/>
              <a:rect l="textAreaLeft" t="textAreaTop" r="textAreaRight" b="textAreaBottom"/>
              <a:pathLst>
                <a:path w="1960" h="416">
                  <a:moveTo>
                    <a:pt x="0" y="415"/>
                  </a:moveTo>
                  <a:lnTo>
                    <a:pt x="1959" y="415"/>
                  </a:lnTo>
                  <a:lnTo>
                    <a:pt x="1959" y="0"/>
                  </a:lnTo>
                  <a:lnTo>
                    <a:pt x="0" y="0"/>
                  </a:lnTo>
                  <a:lnTo>
                    <a:pt x="0" y="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30"/>
            <p:cNvSpPr/>
            <p:nvPr/>
          </p:nvSpPr>
          <p:spPr>
            <a:xfrm>
              <a:off x="5817600" y="5366520"/>
              <a:ext cx="29862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3000"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ertising, exhibitions, sponsorship, literature, public relatio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romotion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51"/>
          <p:cNvSpPr/>
          <p:nvPr/>
        </p:nvSpPr>
        <p:spPr>
          <a:xfrm>
            <a:off x="852480" y="7126200"/>
            <a:ext cx="2232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McCarthy, 1981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5"/>
          <p:cNvSpPr/>
          <p:nvPr/>
        </p:nvSpPr>
        <p:spPr>
          <a:xfrm>
            <a:off x="8781480" y="7404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PModel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8"/>
          <p:cNvSpPr/>
          <p:nvPr/>
        </p:nvSpPr>
        <p:spPr>
          <a:xfrm>
            <a:off x="5530680" y="7429680"/>
            <a:ext cx="408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933560" y="789120"/>
            <a:ext cx="68025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“7" Ps for Service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 flipV="1">
            <a:off x="3408480" y="5271480"/>
            <a:ext cx="3247920" cy="1901880"/>
          </a:xfrm>
          <a:prstGeom prst="roundRect">
            <a:avLst>
              <a:gd name="adj" fmla="val 0"/>
            </a:avLst>
          </a:prstGeom>
          <a:solidFill>
            <a:srgbClr val="c1ffd5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5"/>
          <p:cNvSpPr/>
          <p:nvPr/>
        </p:nvSpPr>
        <p:spPr>
          <a:xfrm>
            <a:off x="3408480" y="1521000"/>
            <a:ext cx="3251160" cy="3754440"/>
          </a:xfrm>
          <a:custGeom>
            <a:avLst/>
            <a:gdLst>
              <a:gd name="textAreaLeft" fmla="*/ 0 w 3251160"/>
              <a:gd name="textAreaRight" fmla="*/ 3251520 w 3251160"/>
              <a:gd name="textAreaTop" fmla="*/ 0 h 3754440"/>
              <a:gd name="textAreaBottom" fmla="*/ 3754800 h 3754440"/>
            </a:gdLst>
            <a:ahLst/>
            <a:rect l="textAreaLeft" t="textAreaTop" r="textAreaRight" b="textAreaBottom"/>
            <a:pathLst>
              <a:path w="1582" h="1062">
                <a:moveTo>
                  <a:pt x="1581" y="1061"/>
                </a:moveTo>
                <a:lnTo>
                  <a:pt x="800" y="0"/>
                </a:lnTo>
                <a:lnTo>
                  <a:pt x="0" y="1061"/>
                </a:lnTo>
                <a:lnTo>
                  <a:pt x="1581" y="1061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003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6"/>
          <p:cNvSpPr/>
          <p:nvPr/>
        </p:nvSpPr>
        <p:spPr>
          <a:xfrm>
            <a:off x="3503520" y="4915080"/>
            <a:ext cx="3110040" cy="2501640"/>
          </a:xfrm>
          <a:custGeom>
            <a:avLst/>
            <a:gdLst>
              <a:gd name="textAreaLeft" fmla="*/ 0 w 3110040"/>
              <a:gd name="textAreaRight" fmla="*/ 3110400 w 3110040"/>
              <a:gd name="textAreaTop" fmla="*/ 0 h 2501640"/>
              <a:gd name="textAreaBottom" fmla="*/ 2502000 h 2501640"/>
            </a:gdLst>
            <a:ahLst/>
            <a:rect l="textAreaLeft" t="textAreaTop" r="textAreaRight" b="textAreaBottom"/>
            <a:pathLst>
              <a:path w="1492" h="707">
                <a:moveTo>
                  <a:pt x="0" y="706"/>
                </a:moveTo>
                <a:lnTo>
                  <a:pt x="1491" y="706"/>
                </a:lnTo>
                <a:lnTo>
                  <a:pt x="1491" y="0"/>
                </a:lnTo>
                <a:lnTo>
                  <a:pt x="0" y="0"/>
                </a:lnTo>
                <a:lnTo>
                  <a:pt x="0" y="70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3483000" y="5284800"/>
            <a:ext cx="31068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ysical evi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esign of the factory, outlet or web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8"/>
          <p:cNvSpPr/>
          <p:nvPr/>
        </p:nvSpPr>
        <p:spPr>
          <a:xfrm>
            <a:off x="5052960" y="1511280"/>
            <a:ext cx="820800" cy="3092400"/>
          </a:xfrm>
          <a:custGeom>
            <a:avLst/>
            <a:gdLst>
              <a:gd name="textAreaLeft" fmla="*/ 0 w 820800"/>
              <a:gd name="textAreaRight" fmla="*/ 821160 w 820800"/>
              <a:gd name="textAreaTop" fmla="*/ 0 h 3092400"/>
              <a:gd name="textAreaBottom" fmla="*/ 3092760 h 3092400"/>
            </a:gdLst>
            <a:ahLst/>
            <a:rect l="textAreaLeft" t="textAreaTop" r="textAreaRight" b="textAreaBottom"/>
            <a:pathLst>
              <a:path w="400" h="874">
                <a:moveTo>
                  <a:pt x="399" y="873"/>
                </a:moveTo>
                <a:lnTo>
                  <a:pt x="0" y="0"/>
                </a:lnTo>
                <a:lnTo>
                  <a:pt x="399" y="335"/>
                </a:lnTo>
                <a:lnTo>
                  <a:pt x="399" y="873"/>
                </a:lnTo>
              </a:path>
            </a:pathLst>
          </a:custGeom>
          <a:solidFill>
            <a:srgbClr val="008000"/>
          </a:solidFill>
          <a:ln w="9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5954760" y="2809800"/>
            <a:ext cx="3257640" cy="1679760"/>
          </a:xfrm>
          <a:prstGeom prst="rect">
            <a:avLst/>
          </a:prstGeom>
          <a:solidFill>
            <a:srgbClr val="ffefce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 flipV="1">
            <a:off x="5872320" y="2694600"/>
            <a:ext cx="3333600" cy="1903320"/>
          </a:xfrm>
          <a:prstGeom prst="roundRect">
            <a:avLst>
              <a:gd name="adj" fmla="val 0"/>
            </a:avLst>
          </a:prstGeom>
          <a:solidFill>
            <a:srgbClr val="c1ffd5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1"/>
          <p:cNvGrpSpPr/>
          <p:nvPr/>
        </p:nvGrpSpPr>
        <p:grpSpPr>
          <a:xfrm>
            <a:off x="5954760" y="2741760"/>
            <a:ext cx="3063600" cy="1747080"/>
            <a:chOff x="5954760" y="2741760"/>
            <a:chExt cx="3063600" cy="1747080"/>
          </a:xfrm>
        </p:grpSpPr>
        <p:sp>
          <p:nvSpPr>
            <p:cNvPr id="76" name="Freeform 22"/>
            <p:cNvSpPr/>
            <p:nvPr/>
          </p:nvSpPr>
          <p:spPr>
            <a:xfrm>
              <a:off x="5954760" y="2741760"/>
              <a:ext cx="3063600" cy="1747080"/>
            </a:xfrm>
            <a:custGeom>
              <a:avLst/>
              <a:gdLst>
                <a:gd name="textAreaLeft" fmla="*/ 0 w 3063600"/>
                <a:gd name="textAreaRight" fmla="*/ 3063960 w 3063600"/>
                <a:gd name="textAreaTop" fmla="*/ 0 h 1747080"/>
                <a:gd name="textAreaBottom" fmla="*/ 1747440 h 1747080"/>
              </a:gdLst>
              <a:ahLst/>
              <a:rect l="textAreaLeft" t="textAreaTop" r="textAreaRight" b="textAreaBottom"/>
              <a:pathLst>
                <a:path w="1492" h="494">
                  <a:moveTo>
                    <a:pt x="0" y="493"/>
                  </a:moveTo>
                  <a:lnTo>
                    <a:pt x="1491" y="493"/>
                  </a:lnTo>
                  <a:lnTo>
                    <a:pt x="1491" y="0"/>
                  </a:lnTo>
                  <a:lnTo>
                    <a:pt x="0" y="0"/>
                  </a:lnTo>
                  <a:lnTo>
                    <a:pt x="0" y="49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3"/>
            <p:cNvSpPr/>
            <p:nvPr/>
          </p:nvSpPr>
          <p:spPr>
            <a:xfrm>
              <a:off x="6239880" y="3003840"/>
              <a:ext cx="2616120" cy="12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6000"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w the service is delivered, quality, system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24"/>
          <p:cNvSpPr/>
          <p:nvPr/>
        </p:nvSpPr>
        <p:spPr>
          <a:xfrm>
            <a:off x="4226040" y="1521000"/>
            <a:ext cx="823680" cy="3082680"/>
          </a:xfrm>
          <a:custGeom>
            <a:avLst/>
            <a:gdLst>
              <a:gd name="textAreaLeft" fmla="*/ 0 w 823680"/>
              <a:gd name="textAreaRight" fmla="*/ 824040 w 82368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401" h="872">
                <a:moveTo>
                  <a:pt x="2" y="871"/>
                </a:moveTo>
                <a:lnTo>
                  <a:pt x="400" y="0"/>
                </a:lnTo>
                <a:lnTo>
                  <a:pt x="0" y="334"/>
                </a:lnTo>
                <a:lnTo>
                  <a:pt x="2" y="871"/>
                </a:lnTo>
              </a:path>
            </a:pathLst>
          </a:custGeom>
          <a:solidFill>
            <a:srgbClr val="008000"/>
          </a:solidFill>
          <a:ln w="9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5"/>
          <p:cNvSpPr/>
          <p:nvPr/>
        </p:nvSpPr>
        <p:spPr>
          <a:xfrm>
            <a:off x="974880" y="1552680"/>
            <a:ext cx="8151480" cy="1179360"/>
          </a:xfrm>
          <a:custGeom>
            <a:avLst/>
            <a:gdLst>
              <a:gd name="textAreaLeft" fmla="*/ 0 w 8151480"/>
              <a:gd name="textAreaRight" fmla="*/ 8151840 w 815148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3968" h="335">
                <a:moveTo>
                  <a:pt x="3967" y="334"/>
                </a:moveTo>
                <a:lnTo>
                  <a:pt x="1985" y="0"/>
                </a:lnTo>
                <a:lnTo>
                  <a:pt x="5" y="334"/>
                </a:lnTo>
                <a:lnTo>
                  <a:pt x="0" y="334"/>
                </a:lnTo>
                <a:lnTo>
                  <a:pt x="1585" y="334"/>
                </a:lnTo>
                <a:lnTo>
                  <a:pt x="1988" y="21"/>
                </a:lnTo>
                <a:lnTo>
                  <a:pt x="2381" y="334"/>
                </a:lnTo>
                <a:lnTo>
                  <a:pt x="3967" y="334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003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6"/>
          <p:cNvSpPr/>
          <p:nvPr/>
        </p:nvSpPr>
        <p:spPr>
          <a:xfrm flipV="1">
            <a:off x="1001880" y="2694600"/>
            <a:ext cx="3249360" cy="1903320"/>
          </a:xfrm>
          <a:prstGeom prst="roundRect">
            <a:avLst>
              <a:gd name="adj" fmla="val 0"/>
            </a:avLst>
          </a:prstGeom>
          <a:solidFill>
            <a:srgbClr val="c1ffd5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7"/>
          <p:cNvGrpSpPr/>
          <p:nvPr/>
        </p:nvGrpSpPr>
        <p:grpSpPr>
          <a:xfrm>
            <a:off x="1071720" y="2782800"/>
            <a:ext cx="3063240" cy="1737720"/>
            <a:chOff x="1071720" y="2782800"/>
            <a:chExt cx="3063240" cy="1737720"/>
          </a:xfrm>
        </p:grpSpPr>
        <p:sp>
          <p:nvSpPr>
            <p:cNvPr id="82" name="Freeform 28"/>
            <p:cNvSpPr/>
            <p:nvPr/>
          </p:nvSpPr>
          <p:spPr>
            <a:xfrm>
              <a:off x="1071720" y="2782800"/>
              <a:ext cx="3063240" cy="1737720"/>
            </a:xfrm>
            <a:custGeom>
              <a:avLst/>
              <a:gdLst>
                <a:gd name="textAreaLeft" fmla="*/ 0 w 3063240"/>
                <a:gd name="textAreaRight" fmla="*/ 3063600 w 3063240"/>
                <a:gd name="textAreaTop" fmla="*/ 0 h 1737720"/>
                <a:gd name="textAreaBottom" fmla="*/ 1738080 h 1737720"/>
              </a:gdLst>
              <a:ahLst/>
              <a:rect l="textAreaLeft" t="textAreaTop" r="textAreaRight" b="textAreaBottom"/>
              <a:pathLst>
                <a:path w="1492" h="492">
                  <a:moveTo>
                    <a:pt x="0" y="491"/>
                  </a:moveTo>
                  <a:lnTo>
                    <a:pt x="1491" y="491"/>
                  </a:lnTo>
                  <a:lnTo>
                    <a:pt x="1491" y="0"/>
                  </a:lnTo>
                  <a:lnTo>
                    <a:pt x="0" y="0"/>
                  </a:lnTo>
                  <a:lnTo>
                    <a:pt x="0" y="4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9"/>
            <p:cNvSpPr/>
            <p:nvPr/>
          </p:nvSpPr>
          <p:spPr>
            <a:xfrm>
              <a:off x="1355040" y="3040560"/>
              <a:ext cx="2617560" cy="12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6000"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 culture of dealing with employees and customer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30"/>
          <p:cNvSpPr/>
          <p:nvPr/>
        </p:nvSpPr>
        <p:spPr>
          <a:xfrm>
            <a:off x="492120" y="7054920"/>
            <a:ext cx="1809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Cowell, 1994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2"/>
          <p:cNvSpPr/>
          <p:nvPr/>
        </p:nvSpPr>
        <p:spPr>
          <a:xfrm>
            <a:off x="8785800" y="7404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PModel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3"/>
          <p:cNvSpPr/>
          <p:nvPr/>
        </p:nvSpPr>
        <p:spPr>
          <a:xfrm>
            <a:off x="5530680" y="7429680"/>
            <a:ext cx="408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3200" y="356760"/>
            <a:ext cx="3898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Marketing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74720" y="1222200"/>
            <a:ext cx="867420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"... the complexity of interacting financial and other inducements to bring about a favourable seller-buyer relationship aiming to bring satisfaction to the buyer and profit to the seller ..."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other words the combination of the 4 (7) Ps that satisfies the customer and is profitable to the sell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"Marketing is more than just selling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96840" y="5254560"/>
            <a:ext cx="8488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ix will be different for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fferent produc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same product in different mark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same product at different stages of it's life cyc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8781480" y="7404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PModel |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530680" y="7429680"/>
            <a:ext cx="408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5:58Z</dcterms:created>
  <dc:creator>Brian Grievson</dc:creator>
  <dc:description/>
  <dc:language>en-US</dc:language>
  <cp:lastModifiedBy>Chris Runciman</cp:lastModifiedBy>
  <dcterms:modified xsi:type="dcterms:W3CDTF">2020-11-24T14:42:28Z</dcterms:modified>
  <cp:revision>107</cp:revision>
  <dc:subject/>
  <dc:title>4Ps of marketing presentation</dc:title>
</cp:coreProperties>
</file>