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D17-41ED-4937-AE4F-C20B8140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C5C-C6AF-42EC-BE5A-6EB14A09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3C7-539E-4E6F-AC58-AB12567E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DF9-293E-4C3B-8746-764BEC9E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792-ADCE-4405-8EA0-71795B52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3DB-DCF7-4930-BCBC-001A3A2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448-FB35-463D-B6FD-6410E00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0E4-0553-4362-8A3F-068F91BC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C24-249E-4E9C-882E-CA87985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79F-26E3-4955-8156-E31F73A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1FE-E05C-4D94-A25B-C78A041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38-DC0B-4385-8ABF-0D93C23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B89F-2ACE-4C11-A233-ABD9CAD2A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428840" y="373860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333520" y="630360"/>
            <a:ext cx="535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lig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395360" y="1382760"/>
            <a:ext cx="8151840" cy="5062320"/>
          </a:xfrm>
          <a:custGeom>
            <a:avLst/>
            <a:gdLst>
              <a:gd name="textAreaLeft" fmla="*/ 0 w 8151840"/>
              <a:gd name="textAreaRight" fmla="*/ 8152200 w 8151840"/>
              <a:gd name="textAreaTop" fmla="*/ 0 h 5062320"/>
              <a:gd name="textAreaBottom" fmla="*/ 5062680 h 50623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22320" y="1432080"/>
            <a:ext cx="338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228240" y="6603840"/>
            <a:ext cx="338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261200" y="5518080"/>
            <a:ext cx="17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029200" y="5813280"/>
            <a:ext cx="86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397160" y="3765600"/>
            <a:ext cx="390204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301920" y="1649520"/>
            <a:ext cx="3814920" cy="40370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603520" y="2338560"/>
            <a:ext cx="5445000" cy="288756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000240" y="1814400"/>
            <a:ext cx="3036960" cy="44481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387520" y="2371680"/>
            <a:ext cx="4560840" cy="35355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8082000" y="4794120"/>
            <a:ext cx="1843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81200" y="3457440"/>
            <a:ext cx="5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785960" y="2475000"/>
            <a:ext cx="1073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489800" y="1833480"/>
            <a:ext cx="8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2778120" y="1849320"/>
            <a:ext cx="5923080" cy="3981600"/>
          </a:xfrm>
          <a:custGeom>
            <a:avLst/>
            <a:gdLst>
              <a:gd name="textAreaLeft" fmla="*/ 0 w 5923080"/>
              <a:gd name="textAreaRight" fmla="*/ 5923440 w 592308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2450" h="1876">
                <a:moveTo>
                  <a:pt x="0" y="1875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5"/>
                </a:lnTo>
                <a:lnTo>
                  <a:pt x="916" y="1504"/>
                </a:lnTo>
                <a:lnTo>
                  <a:pt x="1085" y="1404"/>
                </a:lnTo>
                <a:lnTo>
                  <a:pt x="1250" y="1296"/>
                </a:lnTo>
                <a:lnTo>
                  <a:pt x="1409" y="1180"/>
                </a:lnTo>
                <a:lnTo>
                  <a:pt x="1562" y="1057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3"/>
                </a:lnTo>
                <a:lnTo>
                  <a:pt x="2110" y="492"/>
                </a:lnTo>
                <a:lnTo>
                  <a:pt x="2231" y="334"/>
                </a:lnTo>
                <a:lnTo>
                  <a:pt x="2343" y="170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8269200" y="3527280"/>
            <a:ext cx="158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33200" y="571680"/>
            <a:ext cx="64803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nked Demand Curv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ped Marginal Revenu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1771560" y="1727280"/>
            <a:ext cx="6924600" cy="4886280"/>
          </a:xfrm>
          <a:custGeom>
            <a:avLst/>
            <a:gdLst>
              <a:gd name="textAreaLeft" fmla="*/ 0 w 6924600"/>
              <a:gd name="textAreaRight" fmla="*/ 6924960 w 6924600"/>
              <a:gd name="textAreaTop" fmla="*/ 0 h 4886280"/>
              <a:gd name="textAreaBottom" fmla="*/ 4886640 h 4886280"/>
            </a:gdLst>
            <a:ahLst/>
            <a:rect l="textAreaLeft" t="textAreaTop" r="textAreaRight" b="textAreaBottom"/>
            <a:pathLst>
              <a:path w="3371" h="2387">
                <a:moveTo>
                  <a:pt x="0" y="0"/>
                </a:moveTo>
                <a:lnTo>
                  <a:pt x="0" y="2386"/>
                </a:lnTo>
                <a:lnTo>
                  <a:pt x="3370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366920" y="1776240"/>
            <a:ext cx="28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424720" y="6764400"/>
            <a:ext cx="290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32720" y="568476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530680" y="6046920"/>
            <a:ext cx="911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1773360" y="4025880"/>
            <a:ext cx="331632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348000" y="244620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249200" y="3732120"/>
            <a:ext cx="47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316240" y="3022560"/>
            <a:ext cx="912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543720" y="2389320"/>
            <a:ext cx="9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2943360" y="2232000"/>
            <a:ext cx="5033880" cy="384192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80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1" y="1297"/>
                </a:lnTo>
                <a:lnTo>
                  <a:pt x="1410" y="1181"/>
                </a:lnTo>
                <a:lnTo>
                  <a:pt x="1562" y="1058"/>
                </a:lnTo>
                <a:lnTo>
                  <a:pt x="1710" y="927"/>
                </a:lnTo>
                <a:lnTo>
                  <a:pt x="1850" y="790"/>
                </a:lnTo>
                <a:lnTo>
                  <a:pt x="1985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2801880" y="2643120"/>
            <a:ext cx="3759120" cy="316548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3165480"/>
              <a:gd name="textAreaBottom" fmla="*/ 3165840 h 3165480"/>
            </a:gdLst>
            <a:ahLst/>
            <a:rect l="textAreaLeft" t="textAreaTop" r="textAreaRight" b="textAreaBottom"/>
            <a:pathLst>
              <a:path w="1830" h="1546">
                <a:moveTo>
                  <a:pt x="0" y="0"/>
                </a:moveTo>
                <a:lnTo>
                  <a:pt x="1104" y="667"/>
                </a:lnTo>
                <a:lnTo>
                  <a:pt x="1829" y="154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2644920" y="2701800"/>
            <a:ext cx="2863800" cy="388620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1394" h="1898">
                <a:moveTo>
                  <a:pt x="0" y="0"/>
                </a:moveTo>
                <a:lnTo>
                  <a:pt x="1181" y="1054"/>
                </a:lnTo>
                <a:lnTo>
                  <a:pt x="1181" y="1503"/>
                </a:lnTo>
                <a:lnTo>
                  <a:pt x="1393" y="1897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7837560" y="3262320"/>
            <a:ext cx="969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3274920" y="2422440"/>
            <a:ext cx="5031000" cy="384192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49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1" y="1058"/>
                </a:lnTo>
                <a:lnTo>
                  <a:pt x="1709" y="927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8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4973760" y="5060880"/>
            <a:ext cx="191880" cy="20952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4973760" y="5443560"/>
            <a:ext cx="190440" cy="1872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5065560" y="4149360"/>
            <a:ext cx="0" cy="668520"/>
          </a:xfrm>
          <a:prstGeom prst="line">
            <a:avLst/>
          </a:prstGeom>
          <a:ln w="63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08Z</dcterms:modified>
  <cp:revision>133</cp:revision>
  <dc:subject/>
  <dc:title>Oligopoly market analysis presentation</dc:title>
</cp:coreProperties>
</file>