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F86-D5C9-4FB0-9D84-2E51CBE0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735948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9320" y="3858480"/>
            <a:ext cx="735948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44E-5554-434E-8569-C0DAEE73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8068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9320" y="385848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80680" y="385848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E65-BB27-4090-845B-5BBCAA30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7640" y="181764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85960" y="181764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9320" y="385848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7640" y="385848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85960" y="385848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7C6-9162-412A-853F-7269C580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9320" y="1817640"/>
            <a:ext cx="735948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8E0-7362-4B06-9CCE-5792919F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735948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0E7-072E-4BAA-BC8F-BD42F8BF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359136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80680" y="1817640"/>
            <a:ext cx="359136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68D-F612-468C-9CBA-C9C83842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7EC-F8C5-4815-8ED2-8780B2D7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9320" y="409680"/>
            <a:ext cx="7359480" cy="56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DC0-9261-4709-9C01-AD590738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80680" y="1817640"/>
            <a:ext cx="359136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9320" y="385848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D6B-D579-4B65-B3D2-6B564309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359136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8068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0680" y="385848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7CC-AFAC-4D0E-9553-647D2450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8068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9320" y="3858480"/>
            <a:ext cx="735948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669-A7A9-402E-AD0E-68A8F5CE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9320" y="1817640"/>
            <a:ext cx="735948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adstrategy1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38DB-FE15-46CD-A8EE-4555C0D16C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2725560" y="3094200"/>
            <a:ext cx="4608720" cy="2087280"/>
          </a:xfrm>
          <a:prstGeom prst="rect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92480" y="356760"/>
            <a:ext cx="5976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Discovery"/>
              </a:rPr>
              <a:t>Analysing Industry Attra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Discovery"/>
              </a:rPr>
              <a:t>Porters’ Fiv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49200" y="7342200"/>
            <a:ext cx="1657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orter, 19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 flipV="1">
            <a:off x="276120" y="5253840"/>
            <a:ext cx="4535640" cy="2087640"/>
          </a:xfrm>
          <a:prstGeom prst="roundRect">
            <a:avLst>
              <a:gd name="adj" fmla="val 0"/>
            </a:avLst>
          </a:prstGeom>
          <a:solidFill>
            <a:srgbClr val="ccec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60360" y="5327640"/>
            <a:ext cx="43084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0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ew or large volume bu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standard undifferentiated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represents a high proportion of buyers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uyer is in a low profit indu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unimportant to quality of buyers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product does not save the buyer 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uyer poses a threat of backward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 flipV="1">
            <a:off x="5245200" y="1148400"/>
            <a:ext cx="4537080" cy="1873080"/>
          </a:xfrm>
          <a:prstGeom prst="roundRect">
            <a:avLst>
              <a:gd name="adj" fmla="val 0"/>
            </a:avLst>
          </a:prstGeom>
          <a:solidFill>
            <a:srgbClr val="ccffcc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6900840" y="4389480"/>
            <a:ext cx="2816280" cy="1504800"/>
          </a:xfrm>
          <a:custGeom>
            <a:avLst/>
            <a:gdLst/>
            <a:ahLst/>
            <a:rect l="l" t="t" r="r" b="b"/>
            <a:pathLst>
              <a:path w="1658" h="748">
                <a:moveTo>
                  <a:pt x="0" y="0"/>
                </a:moveTo>
                <a:lnTo>
                  <a:pt x="1657" y="0"/>
                </a:lnTo>
                <a:lnTo>
                  <a:pt x="1657" y="747"/>
                </a:lnTo>
                <a:lnTo>
                  <a:pt x="0" y="74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 flipV="1">
            <a:off x="5246640" y="5253840"/>
            <a:ext cx="4535640" cy="2087640"/>
          </a:xfrm>
          <a:prstGeom prst="roundRect">
            <a:avLst>
              <a:gd name="adj" fmla="val 0"/>
            </a:avLst>
          </a:prstGeom>
          <a:solidFill>
            <a:srgbClr val="ffcc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5533920" y="1293840"/>
            <a:ext cx="4175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4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there is economies of sc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product are differentiated e.g. br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apital is required to enter e.g. fixed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ccess to distribution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government policy restri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g. licensing,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7"/>
          <p:cNvSpPr/>
          <p:nvPr/>
        </p:nvSpPr>
        <p:spPr>
          <a:xfrm flipV="1">
            <a:off x="276120" y="1148400"/>
            <a:ext cx="4537080" cy="1873080"/>
          </a:xfrm>
          <a:prstGeom prst="roundRect">
            <a:avLst>
              <a:gd name="adj" fmla="val 0"/>
            </a:avLst>
          </a:prstGeom>
          <a:solidFill>
            <a:srgbClr val="ffff99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8"/>
          <p:cNvSpPr/>
          <p:nvPr/>
        </p:nvSpPr>
        <p:spPr>
          <a:xfrm>
            <a:off x="349200" y="1293840"/>
            <a:ext cx="2814840" cy="1503360"/>
          </a:xfrm>
          <a:custGeom>
            <a:avLst/>
            <a:gdLst/>
            <a:ahLst/>
            <a:rect l="l" t="t" r="r" b="b"/>
            <a:pathLst>
              <a:path w="1657" h="747">
                <a:moveTo>
                  <a:pt x="1656" y="746"/>
                </a:moveTo>
                <a:lnTo>
                  <a:pt x="0" y="746"/>
                </a:lnTo>
                <a:lnTo>
                  <a:pt x="0" y="0"/>
                </a:lnTo>
                <a:lnTo>
                  <a:pt x="1656" y="0"/>
                </a:lnTo>
                <a:lnTo>
                  <a:pt x="1656" y="746"/>
                </a:lnTo>
                <a:lnTo>
                  <a:pt x="1656" y="74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420840" y="1149480"/>
            <a:ext cx="41749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dominated by a few large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input is unique or differenti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input has large switching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input cannot easily be substitu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supplier poses a threat of forward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you are not important to suppli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2797200" y="3092400"/>
            <a:ext cx="4753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ustry Ri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numerous players of roughly equal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 slow rate of growth in the indu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ack of differen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ack of switching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apacity can be increased only in large am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high exit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rivals are strategically di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389560" y="5326200"/>
            <a:ext cx="4249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3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reat of Sub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lternative products are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2"/>
          <p:cNvSpPr/>
          <p:nvPr/>
        </p:nvSpPr>
        <p:spPr>
          <a:xfrm>
            <a:off x="563400" y="2446200"/>
            <a:ext cx="9145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2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ower of Supp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dominated by a few large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input is unique or different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input has large switching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input cannot easily be substitu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supplier poses a threat of forward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you are not important to supplie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3"/>
          <p:cNvSpPr/>
          <p:nvPr/>
        </p:nvSpPr>
        <p:spPr>
          <a:xfrm>
            <a:off x="781200" y="2228760"/>
            <a:ext cx="871380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reat of New Ent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there is economies of sc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product are differentiated e.g. br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capital is required to enter e.g. fixed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access to distribu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government policy restri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eg. licensing,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4"/>
          <p:cNvSpPr/>
          <p:nvPr/>
        </p:nvSpPr>
        <p:spPr>
          <a:xfrm>
            <a:off x="206280" y="1941480"/>
            <a:ext cx="9791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dustry Rival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numerous players of roughly equal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a slow rate of growth in the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lack of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lack of switching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capacity can be increased only in large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high exit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rivals are strategically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5"/>
          <p:cNvSpPr/>
          <p:nvPr/>
        </p:nvSpPr>
        <p:spPr>
          <a:xfrm>
            <a:off x="708120" y="2085840"/>
            <a:ext cx="91454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ower of Bu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few or large volume bu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standard undifferentiat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represents a high proportion of buyers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buyer is in a low profit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unimportant to quality of buyers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product does not save the buyer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buyer poses a threat of backward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6"/>
          <p:cNvSpPr/>
          <p:nvPr/>
        </p:nvSpPr>
        <p:spPr>
          <a:xfrm>
            <a:off x="1355760" y="302256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7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reat of Substit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alternative product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8"/>
          <p:cNvSpPr/>
          <p:nvPr/>
        </p:nvSpPr>
        <p:spPr>
          <a:xfrm>
            <a:off x="8344800" y="740484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rters5Forces 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24"/>
          <p:cNvSpPr/>
          <p:nvPr/>
        </p:nvSpPr>
        <p:spPr>
          <a:xfrm>
            <a:off x="6224760" y="741348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0:38:01Z</dcterms:created>
  <dc:creator>Brian Grievson</dc:creator>
  <dc:description/>
  <dc:language>en-US</dc:language>
  <cp:lastModifiedBy>Chris Runciman</cp:lastModifiedBy>
  <dcterms:modified xsi:type="dcterms:W3CDTF">2020-11-26T11:35:39Z</dcterms:modified>
  <cp:revision>34</cp:revision>
  <dc:subject/>
  <dc:title>Porter's Five Forces presentation</dc:title>
</cp:coreProperties>
</file>