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BAE-969B-4DA0-A362-FB5B3FFD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8C2-BBAF-4D59-BE1F-548F2FAB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DC3-C16C-4634-857D-2939596D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B8A-B197-4890-97B0-D4BCCB72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AC0-513E-402C-9346-C0CBBB9B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3E8-AA42-4EB6-8FC7-DBDF57F2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E05-5F88-43FA-B677-C6E032FB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186-D730-47AE-B4EC-371993F9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A3B-5105-4154-B667-D645EF8D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1AA-351F-4277-A660-53B4AE57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8B5-5CDD-4755-AFDB-F3663E2D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039-3D21-43A5-8A70-E0F8D81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6810-589E-4315-97E1-F66A184C29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963520" y="493200"/>
            <a:ext cx="379404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ntity to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000080" y="933480"/>
            <a:ext cx="8228160" cy="3908520"/>
          </a:xfrm>
          <a:custGeom>
            <a:avLst/>
            <a:gdLst>
              <a:gd name="textAreaLeft" fmla="*/ 0 w 8228160"/>
              <a:gd name="textAreaRight" fmla="*/ 8228520 w 8228160"/>
              <a:gd name="textAreaTop" fmla="*/ 0 h 3908520"/>
              <a:gd name="textAreaBottom" fmla="*/ 3908880 h 3908520"/>
            </a:gdLst>
            <a:ahLst/>
            <a:rect l="textAreaLeft" t="textAreaTop" r="textAreaRight" b="textAreaBottom"/>
            <a:pathLst>
              <a:path w="4005" h="3187">
                <a:moveTo>
                  <a:pt x="0" y="0"/>
                </a:moveTo>
                <a:lnTo>
                  <a:pt x="0" y="3186"/>
                </a:lnTo>
                <a:lnTo>
                  <a:pt x="4004" y="31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98320" y="1181160"/>
            <a:ext cx="265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478720" y="4932360"/>
            <a:ext cx="265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1797120" y="1295280"/>
            <a:ext cx="6794280" cy="2094120"/>
          </a:xfrm>
          <a:custGeom>
            <a:avLst/>
            <a:gdLst>
              <a:gd name="textAreaLeft" fmla="*/ 0 w 6794280"/>
              <a:gd name="textAreaRight" fmla="*/ 6794640 w 679428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3307" h="1706">
                <a:moveTo>
                  <a:pt x="0" y="0"/>
                </a:moveTo>
                <a:lnTo>
                  <a:pt x="69" y="278"/>
                </a:lnTo>
                <a:lnTo>
                  <a:pt x="170" y="534"/>
                </a:lnTo>
                <a:lnTo>
                  <a:pt x="302" y="769"/>
                </a:lnTo>
                <a:lnTo>
                  <a:pt x="460" y="979"/>
                </a:lnTo>
                <a:lnTo>
                  <a:pt x="641" y="1166"/>
                </a:lnTo>
                <a:lnTo>
                  <a:pt x="843" y="1326"/>
                </a:lnTo>
                <a:lnTo>
                  <a:pt x="1061" y="1460"/>
                </a:lnTo>
                <a:lnTo>
                  <a:pt x="1296" y="1566"/>
                </a:lnTo>
                <a:lnTo>
                  <a:pt x="1540" y="1643"/>
                </a:lnTo>
                <a:lnTo>
                  <a:pt x="1793" y="1689"/>
                </a:lnTo>
                <a:lnTo>
                  <a:pt x="2050" y="1705"/>
                </a:lnTo>
                <a:lnTo>
                  <a:pt x="2310" y="1686"/>
                </a:lnTo>
                <a:lnTo>
                  <a:pt x="2568" y="1635"/>
                </a:lnTo>
                <a:lnTo>
                  <a:pt x="2822" y="1548"/>
                </a:lnTo>
                <a:lnTo>
                  <a:pt x="3069" y="1425"/>
                </a:lnTo>
                <a:lnTo>
                  <a:pt x="3306" y="1265"/>
                </a:lnTo>
              </a:path>
            </a:pathLst>
          </a:custGeom>
          <a:noFill/>
          <a:ln w="12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1824120" y="1360440"/>
            <a:ext cx="6235560" cy="2860560"/>
          </a:xfrm>
          <a:custGeom>
            <a:avLst/>
            <a:gdLst>
              <a:gd name="textAreaLeft" fmla="*/ 0 w 6235560"/>
              <a:gd name="textAreaRight" fmla="*/ 6235920 w 6235560"/>
              <a:gd name="textAreaTop" fmla="*/ 0 h 2860560"/>
              <a:gd name="textAreaBottom" fmla="*/ 2860920 h 2860560"/>
            </a:gdLst>
            <a:ahLst/>
            <a:rect l="textAreaLeft" t="textAreaTop" r="textAreaRight" b="textAreaBottom"/>
            <a:pathLst>
              <a:path w="3035" h="2332">
                <a:moveTo>
                  <a:pt x="0" y="2322"/>
                </a:moveTo>
                <a:lnTo>
                  <a:pt x="270" y="2331"/>
                </a:lnTo>
                <a:lnTo>
                  <a:pt x="536" y="2314"/>
                </a:lnTo>
                <a:lnTo>
                  <a:pt x="796" y="2274"/>
                </a:lnTo>
                <a:lnTo>
                  <a:pt x="1049" y="2209"/>
                </a:lnTo>
                <a:lnTo>
                  <a:pt x="1293" y="2123"/>
                </a:lnTo>
                <a:lnTo>
                  <a:pt x="1527" y="2016"/>
                </a:lnTo>
                <a:lnTo>
                  <a:pt x="1750" y="1888"/>
                </a:lnTo>
                <a:lnTo>
                  <a:pt x="1961" y="1742"/>
                </a:lnTo>
                <a:lnTo>
                  <a:pt x="2156" y="1577"/>
                </a:lnTo>
                <a:lnTo>
                  <a:pt x="2338" y="1395"/>
                </a:lnTo>
                <a:lnTo>
                  <a:pt x="2502" y="1197"/>
                </a:lnTo>
                <a:lnTo>
                  <a:pt x="2650" y="984"/>
                </a:lnTo>
                <a:lnTo>
                  <a:pt x="2777" y="757"/>
                </a:lnTo>
                <a:lnTo>
                  <a:pt x="2885" y="517"/>
                </a:lnTo>
                <a:lnTo>
                  <a:pt x="2970" y="265"/>
                </a:lnTo>
                <a:lnTo>
                  <a:pt x="3034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09960" y="1327320"/>
            <a:ext cx="950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898640" y="4278240"/>
            <a:ext cx="7221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1573200" y="1835280"/>
            <a:ext cx="732312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237200" y="13352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bf4100"/>
                </a:solidFill>
                <a:latin typeface="Arial"/>
              </a:rPr>
              <a:t>  =  </a:t>
            </a: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1573200" y="2349360"/>
            <a:ext cx="732312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1573200" y="2865600"/>
            <a:ext cx="732456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1573200" y="3379680"/>
            <a:ext cx="732456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9015480" y="2055960"/>
            <a:ext cx="47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9015480" y="2617920"/>
            <a:ext cx="477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9015480" y="3121200"/>
            <a:ext cx="477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388280" y="140796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7713720" y="1755720"/>
            <a:ext cx="291960" cy="17460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0"/>
          <p:cNvSpPr/>
          <p:nvPr/>
        </p:nvSpPr>
        <p:spPr>
          <a:xfrm>
            <a:off x="7378560" y="2270160"/>
            <a:ext cx="292320" cy="17460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1"/>
          <p:cNvSpPr/>
          <p:nvPr/>
        </p:nvSpPr>
        <p:spPr>
          <a:xfrm>
            <a:off x="6805440" y="2786040"/>
            <a:ext cx="292320" cy="17316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5915160" y="3314880"/>
            <a:ext cx="291960" cy="17280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7101000" y="19112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6526080" y="2416320"/>
            <a:ext cx="5191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5802480" y="29192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7862760" y="1851120"/>
            <a:ext cx="0" cy="291780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7515360" y="2355840"/>
            <a:ext cx="0" cy="240516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8"/>
          <p:cNvSpPr/>
          <p:nvPr/>
        </p:nvSpPr>
        <p:spPr>
          <a:xfrm>
            <a:off x="6945480" y="2862360"/>
            <a:ext cx="0" cy="18986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6041880" y="3384720"/>
            <a:ext cx="0" cy="137628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1573200" y="3811680"/>
            <a:ext cx="732312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9013680" y="3567240"/>
            <a:ext cx="479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5029200" y="3998880"/>
            <a:ext cx="0" cy="12254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3373560" y="5224320"/>
            <a:ext cx="331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upply this amoun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ill result in a lo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1501920" y="6219720"/>
            <a:ext cx="705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ly cur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ginal cost curve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ll outputs greater than  A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1184400" y="6118200"/>
            <a:ext cx="7589880" cy="1036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759800" y="4791240"/>
            <a:ext cx="438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397640" y="4791240"/>
            <a:ext cx="439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29560" y="4791240"/>
            <a:ext cx="439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958000" y="4791240"/>
            <a:ext cx="439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668840" y="4788000"/>
            <a:ext cx="500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9057240" y="7222680"/>
            <a:ext cx="546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Supply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797200" y="501480"/>
            <a:ext cx="42480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et Supply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20840" y="1293840"/>
            <a:ext cx="936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Horizontal Summation of Supply Curves of all Firms in the Mar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644480" y="2517840"/>
            <a:ext cx="67694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 supplied by an individual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 supplied by the market as a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firms in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868480" y="1700280"/>
            <a:ext cx="4321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5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1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5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5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3"/>
          <p:cNvGrpSpPr/>
          <p:nvPr/>
        </p:nvGrpSpPr>
        <p:grpSpPr>
          <a:xfrm>
            <a:off x="923760" y="3814920"/>
            <a:ext cx="8209080" cy="3241080"/>
            <a:chOff x="923760" y="3814920"/>
            <a:chExt cx="8209080" cy="3241080"/>
          </a:xfrm>
        </p:grpSpPr>
        <p:sp>
          <p:nvSpPr>
            <p:cNvPr id="88" name="Freeform 7"/>
            <p:cNvSpPr/>
            <p:nvPr/>
          </p:nvSpPr>
          <p:spPr>
            <a:xfrm>
              <a:off x="1327320" y="4579920"/>
              <a:ext cx="6688080" cy="2103120"/>
            </a:xfrm>
            <a:custGeom>
              <a:avLst/>
              <a:gdLst>
                <a:gd name="textAreaLeft" fmla="*/ 0 w 6688080"/>
                <a:gd name="textAreaRight" fmla="*/ 6688440 w 6688080"/>
                <a:gd name="textAreaTop" fmla="*/ 0 h 2103120"/>
                <a:gd name="textAreaBottom" fmla="*/ 2103480 h 2103120"/>
              </a:gdLst>
              <a:ahLst/>
              <a:rect l="textAreaLeft" t="textAreaTop" r="textAreaRight" b="textAreaBottom"/>
              <a:pathLst>
                <a:path w="3256" h="1714">
                  <a:moveTo>
                    <a:pt x="0" y="0"/>
                  </a:moveTo>
                  <a:lnTo>
                    <a:pt x="0" y="1713"/>
                  </a:lnTo>
                  <a:lnTo>
                    <a:pt x="3255" y="1713"/>
                  </a:lnTo>
                </a:path>
              </a:pathLst>
            </a:custGeom>
            <a:noFill/>
            <a:ln w="47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4132440" y="6788160"/>
              <a:ext cx="12888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6000"/>
            </a:bodyPr>
            <a:p>
              <a:pPr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i="1" lang="en-GB" sz="23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  or  </a:t>
              </a:r>
              <a:r>
                <a:rPr b="0" i="1" lang="en-GB" sz="23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9"/>
            <p:cNvSpPr/>
            <p:nvPr/>
          </p:nvSpPr>
          <p:spPr>
            <a:xfrm>
              <a:off x="923760" y="4857840"/>
              <a:ext cx="2430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6000"/>
            </a:bodyPr>
            <a:p>
              <a:pPr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i="1" lang="en-GB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>
              <a:off x="1790640" y="4638600"/>
              <a:ext cx="1508040" cy="178236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782360"/>
                <a:gd name="textAreaBottom" fmla="*/ 1782720 h 1782360"/>
              </a:gdLst>
              <a:ahLst/>
              <a:rect l="textAreaLeft" t="textAreaTop" r="textAreaRight" b="textAreaBottom"/>
              <a:pathLst>
                <a:path w="734" h="1453">
                  <a:moveTo>
                    <a:pt x="0" y="1452"/>
                  </a:moveTo>
                  <a:lnTo>
                    <a:pt x="73" y="1381"/>
                  </a:lnTo>
                  <a:lnTo>
                    <a:pt x="144" y="1307"/>
                  </a:lnTo>
                  <a:lnTo>
                    <a:pt x="211" y="1230"/>
                  </a:lnTo>
                  <a:lnTo>
                    <a:pt x="275" y="1151"/>
                  </a:lnTo>
                  <a:lnTo>
                    <a:pt x="334" y="1068"/>
                  </a:lnTo>
                  <a:lnTo>
                    <a:pt x="390" y="982"/>
                  </a:lnTo>
                  <a:lnTo>
                    <a:pt x="442" y="894"/>
                  </a:lnTo>
                  <a:lnTo>
                    <a:pt x="491" y="802"/>
                  </a:lnTo>
                  <a:lnTo>
                    <a:pt x="536" y="709"/>
                  </a:lnTo>
                  <a:lnTo>
                    <a:pt x="576" y="613"/>
                  </a:lnTo>
                  <a:lnTo>
                    <a:pt x="613" y="515"/>
                  </a:lnTo>
                  <a:lnTo>
                    <a:pt x="645" y="415"/>
                  </a:lnTo>
                  <a:lnTo>
                    <a:pt x="673" y="314"/>
                  </a:lnTo>
                  <a:lnTo>
                    <a:pt x="697" y="211"/>
                  </a:lnTo>
                  <a:lnTo>
                    <a:pt x="717" y="106"/>
                  </a:lnTo>
                  <a:lnTo>
                    <a:pt x="733" y="0"/>
                  </a:lnTo>
                </a:path>
              </a:pathLst>
            </a:custGeom>
            <a:noFill/>
            <a:ln w="126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2152800" y="4676760"/>
              <a:ext cx="1734840" cy="173628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1736280"/>
                <a:gd name="textAreaBottom" fmla="*/ 1736640 h 1736280"/>
              </a:gdLst>
              <a:ahLst/>
              <a:rect l="textAreaLeft" t="textAreaTop" r="textAreaRight" b="textAreaBottom"/>
              <a:pathLst>
                <a:path w="845" h="1415">
                  <a:moveTo>
                    <a:pt x="0" y="1414"/>
                  </a:moveTo>
                  <a:lnTo>
                    <a:pt x="85" y="1344"/>
                  </a:lnTo>
                  <a:lnTo>
                    <a:pt x="166" y="1273"/>
                  </a:lnTo>
                  <a:lnTo>
                    <a:pt x="243" y="1198"/>
                  </a:lnTo>
                  <a:lnTo>
                    <a:pt x="317" y="1120"/>
                  </a:lnTo>
                  <a:lnTo>
                    <a:pt x="385" y="1039"/>
                  </a:lnTo>
                  <a:lnTo>
                    <a:pt x="450" y="956"/>
                  </a:lnTo>
                  <a:lnTo>
                    <a:pt x="510" y="870"/>
                  </a:lnTo>
                  <a:lnTo>
                    <a:pt x="566" y="781"/>
                  </a:lnTo>
                  <a:lnTo>
                    <a:pt x="617" y="690"/>
                  </a:lnTo>
                  <a:lnTo>
                    <a:pt x="664" y="597"/>
                  </a:lnTo>
                  <a:lnTo>
                    <a:pt x="706" y="502"/>
                  </a:lnTo>
                  <a:lnTo>
                    <a:pt x="744" y="404"/>
                  </a:lnTo>
                  <a:lnTo>
                    <a:pt x="776" y="306"/>
                  </a:lnTo>
                  <a:lnTo>
                    <a:pt x="803" y="205"/>
                  </a:lnTo>
                  <a:lnTo>
                    <a:pt x="826" y="103"/>
                  </a:lnTo>
                  <a:lnTo>
                    <a:pt x="844" y="0"/>
                  </a:lnTo>
                </a:path>
              </a:pathLst>
            </a:custGeom>
            <a:noFill/>
            <a:ln w="126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>
              <a:off x="1592280" y="4575240"/>
              <a:ext cx="2063880" cy="1733040"/>
            </a:xfrm>
            <a:custGeom>
              <a:avLst/>
              <a:gdLst>
                <a:gd name="textAreaLeft" fmla="*/ 0 w 2063880"/>
                <a:gd name="textAreaRight" fmla="*/ 2064240 w 2063880"/>
                <a:gd name="textAreaTop" fmla="*/ 0 h 1733040"/>
                <a:gd name="textAreaBottom" fmla="*/ 1733400 h 1733040"/>
              </a:gdLst>
              <a:ahLst/>
              <a:rect l="textAreaLeft" t="textAreaTop" r="textAreaRight" b="textAreaBottom"/>
              <a:pathLst>
                <a:path w="1005" h="1414">
                  <a:moveTo>
                    <a:pt x="0" y="1413"/>
                  </a:moveTo>
                  <a:lnTo>
                    <a:pt x="101" y="1344"/>
                  </a:lnTo>
                  <a:lnTo>
                    <a:pt x="197" y="1272"/>
                  </a:lnTo>
                  <a:lnTo>
                    <a:pt x="289" y="1197"/>
                  </a:lnTo>
                  <a:lnTo>
                    <a:pt x="376" y="1120"/>
                  </a:lnTo>
                  <a:lnTo>
                    <a:pt x="458" y="1040"/>
                  </a:lnTo>
                  <a:lnTo>
                    <a:pt x="535" y="956"/>
                  </a:lnTo>
                  <a:lnTo>
                    <a:pt x="607" y="870"/>
                  </a:lnTo>
                  <a:lnTo>
                    <a:pt x="674" y="781"/>
                  </a:lnTo>
                  <a:lnTo>
                    <a:pt x="734" y="690"/>
                  </a:lnTo>
                  <a:lnTo>
                    <a:pt x="790" y="597"/>
                  </a:lnTo>
                  <a:lnTo>
                    <a:pt x="840" y="502"/>
                  </a:lnTo>
                  <a:lnTo>
                    <a:pt x="885" y="404"/>
                  </a:lnTo>
                  <a:lnTo>
                    <a:pt x="922" y="306"/>
                  </a:lnTo>
                  <a:lnTo>
                    <a:pt x="956" y="205"/>
                  </a:lnTo>
                  <a:lnTo>
                    <a:pt x="982" y="103"/>
                  </a:lnTo>
                  <a:lnTo>
                    <a:pt x="1004" y="0"/>
                  </a:lnTo>
                </a:path>
              </a:pathLst>
            </a:custGeom>
            <a:noFill/>
            <a:ln w="126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>
              <a:off x="2971800" y="4718160"/>
              <a:ext cx="4749840" cy="1691640"/>
            </a:xfrm>
            <a:custGeom>
              <a:avLst/>
              <a:gdLst>
                <a:gd name="textAreaLeft" fmla="*/ 0 w 4749840"/>
                <a:gd name="textAreaRight" fmla="*/ 4750200 w 4749840"/>
                <a:gd name="textAreaTop" fmla="*/ 0 h 1691640"/>
                <a:gd name="textAreaBottom" fmla="*/ 1692000 h 1691640"/>
              </a:gdLst>
              <a:ahLst/>
              <a:rect l="textAreaLeft" t="textAreaTop" r="textAreaRight" b="textAreaBottom"/>
              <a:pathLst>
                <a:path w="2312" h="1380">
                  <a:moveTo>
                    <a:pt x="0" y="1379"/>
                  </a:moveTo>
                  <a:lnTo>
                    <a:pt x="168" y="1341"/>
                  </a:lnTo>
                  <a:lnTo>
                    <a:pt x="335" y="1297"/>
                  </a:lnTo>
                  <a:lnTo>
                    <a:pt x="498" y="1246"/>
                  </a:lnTo>
                  <a:lnTo>
                    <a:pt x="660" y="1188"/>
                  </a:lnTo>
                  <a:lnTo>
                    <a:pt x="818" y="1122"/>
                  </a:lnTo>
                  <a:lnTo>
                    <a:pt x="973" y="1052"/>
                  </a:lnTo>
                  <a:lnTo>
                    <a:pt x="1125" y="974"/>
                  </a:lnTo>
                  <a:lnTo>
                    <a:pt x="1274" y="890"/>
                  </a:lnTo>
                  <a:lnTo>
                    <a:pt x="1418" y="800"/>
                  </a:lnTo>
                  <a:lnTo>
                    <a:pt x="1559" y="702"/>
                  </a:lnTo>
                  <a:lnTo>
                    <a:pt x="1696" y="600"/>
                  </a:lnTo>
                  <a:lnTo>
                    <a:pt x="1828" y="491"/>
                  </a:lnTo>
                  <a:lnTo>
                    <a:pt x="1956" y="377"/>
                  </a:lnTo>
                  <a:lnTo>
                    <a:pt x="2079" y="257"/>
                  </a:lnTo>
                  <a:lnTo>
                    <a:pt x="2197" y="132"/>
                  </a:lnTo>
                  <a:lnTo>
                    <a:pt x="2311" y="0"/>
                  </a:lnTo>
                </a:path>
              </a:pathLst>
            </a:custGeom>
            <a:noFill/>
            <a:ln w="126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6729480" y="5327640"/>
              <a:ext cx="240336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Whole marke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supply cur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1390680" y="3814920"/>
              <a:ext cx="167796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Fi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individu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supply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curv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>
              <a:off x="4059360" y="4906800"/>
              <a:ext cx="3076560" cy="0"/>
            </a:xfrm>
            <a:prstGeom prst="line">
              <a:avLst/>
            </a:prstGeom>
            <a:ln w="47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7"/>
            <p:cNvSpPr/>
            <p:nvPr/>
          </p:nvSpPr>
          <p:spPr>
            <a:xfrm>
              <a:off x="4640400" y="4174920"/>
              <a:ext cx="20588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1000"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horizont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summatio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18"/>
          <p:cNvSpPr/>
          <p:nvPr/>
        </p:nvSpPr>
        <p:spPr>
          <a:xfrm>
            <a:off x="9057240" y="7222680"/>
            <a:ext cx="546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Supply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3:07Z</dcterms:modified>
  <cp:revision>121</cp:revision>
  <dc:subject/>
  <dc:title>Market supply presentation</dc:title>
</cp:coreProperties>
</file>