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260-2ED6-4E75-B12A-3B9D8F3F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30F-3F85-47B4-BDBA-2D7449AA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D40-38AD-4390-899F-FAFBF689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3C1-1759-4D26-B976-0D6B995A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9BE-020B-41C5-BBC4-FBB171B1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57A-8C58-455F-ABF5-42960D02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239-C29F-4269-B010-3F54D5C0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D72-15FE-4705-A49E-64859673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036-D4D9-4871-BD85-D4D3D18F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EB4-8890-489A-887E-7B0FE458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93F-7BFA-477F-8876-CAC1317D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B7C-972E-4B50-BAA1-70ABF748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et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EA97-C45D-459B-B2AB-F2DA6F9B23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855520" y="651960"/>
            <a:ext cx="4405320" cy="4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eting or Se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 flipV="1">
            <a:off x="644400" y="2559960"/>
            <a:ext cx="1695600" cy="1376280"/>
          </a:xfrm>
          <a:prstGeom prst="roundRect">
            <a:avLst>
              <a:gd name="adj" fmla="val 0"/>
            </a:avLst>
          </a:prstGeom>
          <a:solidFill>
            <a:srgbClr val="f1f180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 flipV="1">
            <a:off x="2460600" y="2559960"/>
            <a:ext cx="1947960" cy="1376280"/>
          </a:xfrm>
          <a:prstGeom prst="roundRect">
            <a:avLst>
              <a:gd name="adj" fmla="val 0"/>
            </a:avLst>
          </a:prstGeom>
          <a:solidFill>
            <a:srgbClr val="c0c27c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 flipV="1">
            <a:off x="4576680" y="2559960"/>
            <a:ext cx="2019240" cy="1376280"/>
          </a:xfrm>
          <a:prstGeom prst="roundRect">
            <a:avLst>
              <a:gd name="adj" fmla="val 0"/>
            </a:avLst>
          </a:prstGeom>
          <a:solidFill>
            <a:srgbClr val="a1e2ff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829560" y="2017800"/>
            <a:ext cx="2614320" cy="2444760"/>
          </a:xfrm>
          <a:custGeom>
            <a:avLst/>
            <a:gdLst/>
            <a:ahLst/>
            <a:rect l="l" t="t" r="r" b="b"/>
            <a:pathLst>
              <a:path w="1273" h="1993">
                <a:moveTo>
                  <a:pt x="311" y="1992"/>
                </a:moveTo>
                <a:lnTo>
                  <a:pt x="311" y="1531"/>
                </a:lnTo>
                <a:lnTo>
                  <a:pt x="0" y="1537"/>
                </a:lnTo>
                <a:lnTo>
                  <a:pt x="0" y="442"/>
                </a:lnTo>
                <a:lnTo>
                  <a:pt x="311" y="440"/>
                </a:lnTo>
                <a:lnTo>
                  <a:pt x="311" y="0"/>
                </a:lnTo>
                <a:lnTo>
                  <a:pt x="1272" y="979"/>
                </a:lnTo>
                <a:lnTo>
                  <a:pt x="311" y="1992"/>
                </a:lnTo>
                <a:lnTo>
                  <a:pt x="311" y="1992"/>
                </a:lnTo>
              </a:path>
            </a:pathLst>
          </a:custGeom>
          <a:solidFill>
            <a:srgbClr val="bfbfff"/>
          </a:solidFill>
          <a:ln w="18360">
            <a:solidFill>
              <a:srgbClr val="000000"/>
            </a:solidFill>
            <a:round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63400" y="1438200"/>
            <a:ext cx="8642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tarting point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Focus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 Means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  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597040" y="4062240"/>
            <a:ext cx="40165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Nadianne"/>
              </a:rPr>
              <a:t>The Selling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928800" y="3094200"/>
            <a:ext cx="1220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725560" y="3105000"/>
            <a:ext cx="1387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4741920" y="2728800"/>
            <a:ext cx="18018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7116840" y="2517840"/>
            <a:ext cx="158904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 flipV="1">
            <a:off x="628560" y="5368320"/>
            <a:ext cx="1697040" cy="1376280"/>
          </a:xfrm>
          <a:prstGeom prst="roundRect">
            <a:avLst>
              <a:gd name="adj" fmla="val 0"/>
            </a:avLst>
          </a:prstGeom>
          <a:solidFill>
            <a:srgbClr val="f1f180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 flipV="1">
            <a:off x="2446200" y="5368320"/>
            <a:ext cx="1946520" cy="1376280"/>
          </a:xfrm>
          <a:prstGeom prst="roundRect">
            <a:avLst>
              <a:gd name="adj" fmla="val 0"/>
            </a:avLst>
          </a:prstGeom>
          <a:solidFill>
            <a:srgbClr val="c0c27c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 flipV="1">
            <a:off x="4562640" y="5368320"/>
            <a:ext cx="2017440" cy="1376280"/>
          </a:xfrm>
          <a:prstGeom prst="roundRect">
            <a:avLst>
              <a:gd name="adj" fmla="val 0"/>
            </a:avLst>
          </a:prstGeom>
          <a:solidFill>
            <a:srgbClr val="a1e2ff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7"/>
          <p:cNvSpPr/>
          <p:nvPr/>
        </p:nvSpPr>
        <p:spPr>
          <a:xfrm>
            <a:off x="6811920" y="4826160"/>
            <a:ext cx="2616120" cy="2444760"/>
          </a:xfrm>
          <a:custGeom>
            <a:avLst/>
            <a:gdLst/>
            <a:ahLst/>
            <a:rect l="l" t="t" r="r" b="b"/>
            <a:pathLst>
              <a:path w="1273" h="1993">
                <a:moveTo>
                  <a:pt x="311" y="1992"/>
                </a:moveTo>
                <a:lnTo>
                  <a:pt x="311" y="1531"/>
                </a:lnTo>
                <a:lnTo>
                  <a:pt x="0" y="1538"/>
                </a:lnTo>
                <a:lnTo>
                  <a:pt x="0" y="443"/>
                </a:lnTo>
                <a:lnTo>
                  <a:pt x="311" y="441"/>
                </a:lnTo>
                <a:lnTo>
                  <a:pt x="311" y="0"/>
                </a:lnTo>
                <a:lnTo>
                  <a:pt x="1272" y="980"/>
                </a:lnTo>
                <a:lnTo>
                  <a:pt x="311" y="1992"/>
                </a:lnTo>
                <a:lnTo>
                  <a:pt x="311" y="1992"/>
                </a:lnTo>
              </a:path>
            </a:pathLst>
          </a:custGeom>
          <a:solidFill>
            <a:srgbClr val="bfbfff"/>
          </a:solidFill>
          <a:ln w="18360">
            <a:solidFill>
              <a:srgbClr val="000000"/>
            </a:solidFill>
            <a:round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352600" y="6897600"/>
            <a:ext cx="4621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Nadianne"/>
              </a:rPr>
              <a:t>The Marketing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958680" y="5913360"/>
            <a:ext cx="1117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581200" y="5686560"/>
            <a:ext cx="167796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597560" y="5686560"/>
            <a:ext cx="1938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6710400" y="5284800"/>
            <a:ext cx="19191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6"/>
          <p:cNvSpPr/>
          <p:nvPr/>
        </p:nvSpPr>
        <p:spPr>
          <a:xfrm>
            <a:off x="8092080" y="7404840"/>
            <a:ext cx="16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tingOrSelling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93840" y="648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5"/>
          <p:cNvSpPr/>
          <p:nvPr/>
        </p:nvSpPr>
        <p:spPr>
          <a:xfrm>
            <a:off x="1716120" y="27468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5:58Z</dcterms:created>
  <dc:creator>Brian Grievson</dc:creator>
  <dc:description/>
  <dc:language>en-US</dc:language>
  <cp:lastModifiedBy>Chris Runciman</cp:lastModifiedBy>
  <dcterms:modified xsi:type="dcterms:W3CDTF">2020-11-24T14:13:34Z</dcterms:modified>
  <cp:revision>106</cp:revision>
  <dc:subject/>
  <dc:title>Marketing or selling presentation</dc:title>
</cp:coreProperties>
</file>