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3286-5F78-476C-8E2D-B8C5F6D90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A9B8-97D0-420F-9765-4A805A1A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1A05-5564-4164-B7AA-F0D293E2D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8667-1D5D-451F-A495-F3FF08A8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A4AA-CCED-4131-A15E-940827114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D76-AF8D-4411-AE2A-D546D17D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028-A135-49AB-95BB-AD498879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ABE-A63A-42BE-8BA9-0917B2F4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A05-068D-4086-A726-41CE6DFB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E89-F602-45B9-A459-C66F4BF2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3A8-C726-4F27-91CF-FF7F6C6D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DA1-B281-44A2-8F9E-90FF5A76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7CC-6542-40CB-A6E5-9C157919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69C-E3EF-4D2A-B930-EEF6CC39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C3C-AC1F-4139-B971-D3440D2F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4CE-41A6-401C-B8BE-090D24AC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BE0-2920-4D10-91D2-F56D173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C22E-0653-4BC9-836C-C5B16419B3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46280" y="463320"/>
            <a:ext cx="323820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Sum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30360" y="1149480"/>
            <a:ext cx="922320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ider the production of batches of product with a required impurity level of 4 units. The impurity level is measured for 50 batches an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oes indeed give a mean of 4 units with a standard deviation of 1.784 but was the process under control ?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culate the cumulative sum of the deviations from the target mean value of 4 units. Figures for the first 10 samples are given below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852480" y="3814920"/>
            <a:ext cx="2065320" cy="37296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tch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002040" y="3814920"/>
            <a:ext cx="2063520" cy="3729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157720" y="3814920"/>
            <a:ext cx="2065320" cy="3729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viation from targe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332840" y="3814920"/>
            <a:ext cx="2065320" cy="3729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852480" y="424008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002040" y="424008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157720" y="42400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332840" y="42400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852480" y="4525920"/>
            <a:ext cx="2065320" cy="23652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002040" y="4525920"/>
            <a:ext cx="2063520" cy="23652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157720" y="4525920"/>
            <a:ext cx="2065320" cy="23652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7332840" y="4525920"/>
            <a:ext cx="2065320" cy="23652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852480" y="481320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3002040" y="481320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5157720" y="48132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332840" y="48132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52480" y="510048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3002040" y="510048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157720" y="51004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7332840" y="510048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852480" y="538632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3002040" y="538632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5157720" y="538632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7332840" y="538632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852480" y="567360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3002040" y="567360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157720" y="56736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7332840" y="567360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852480" y="595944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3002040" y="595944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5157720" y="595944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7332840" y="595944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852480" y="6246720"/>
            <a:ext cx="2065320" cy="2332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3002040" y="6246720"/>
            <a:ext cx="20635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5157720" y="6246720"/>
            <a:ext cx="20653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2"/>
          <p:cNvSpPr/>
          <p:nvPr/>
        </p:nvSpPr>
        <p:spPr>
          <a:xfrm>
            <a:off x="7332840" y="6246720"/>
            <a:ext cx="20653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3"/>
          <p:cNvSpPr/>
          <p:nvPr/>
        </p:nvSpPr>
        <p:spPr>
          <a:xfrm>
            <a:off x="852480" y="6534000"/>
            <a:ext cx="2065320" cy="23364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3002040" y="6534000"/>
            <a:ext cx="2063520" cy="23364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5157720" y="6534000"/>
            <a:ext cx="2065320" cy="23364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332840" y="6534000"/>
            <a:ext cx="2065320" cy="23364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852480" y="6819840"/>
            <a:ext cx="2065320" cy="235080"/>
          </a:xfrm>
          <a:prstGeom prst="rect">
            <a:avLst/>
          </a:prstGeom>
          <a:noFill/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8"/>
          <p:cNvSpPr/>
          <p:nvPr/>
        </p:nvSpPr>
        <p:spPr>
          <a:xfrm>
            <a:off x="3002040" y="6819840"/>
            <a:ext cx="20635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5157720" y="6819840"/>
            <a:ext cx="2065320" cy="2350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7334280" y="6821640"/>
            <a:ext cx="2065320" cy="23328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2"/>
          <p:cNvSpPr/>
          <p:nvPr/>
        </p:nvSpPr>
        <p:spPr>
          <a:xfrm>
            <a:off x="843372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1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995560" y="536400"/>
            <a:ext cx="38340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Sum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968400" y="717480"/>
          <a:ext cx="856944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717480"/>
                    <a:ext cx="856944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420840" y="4151160"/>
          <a:ext cx="9216720" cy="348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840" y="4151160"/>
                    <a:ext cx="9216720" cy="34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Group 23"/>
          <p:cNvGrpSpPr/>
          <p:nvPr/>
        </p:nvGrpSpPr>
        <p:grpSpPr>
          <a:xfrm>
            <a:off x="6541920" y="4797360"/>
            <a:ext cx="2087640" cy="1393920"/>
            <a:chOff x="6541920" y="4797360"/>
            <a:chExt cx="2087640" cy="1393920"/>
          </a:xfrm>
        </p:grpSpPr>
        <p:sp>
          <p:nvSpPr>
            <p:cNvPr id="103" name="Line 6"/>
            <p:cNvSpPr/>
            <p:nvPr/>
          </p:nvSpPr>
          <p:spPr>
            <a:xfrm>
              <a:off x="6559560" y="5502240"/>
              <a:ext cx="9367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 flipV="1">
              <a:off x="6543720" y="5208480"/>
              <a:ext cx="927000" cy="29376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 flipV="1">
              <a:off x="6543720" y="4913280"/>
              <a:ext cx="914400" cy="58896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"/>
            <p:cNvSpPr/>
            <p:nvPr/>
          </p:nvSpPr>
          <p:spPr>
            <a:xfrm>
              <a:off x="6545160" y="5497560"/>
              <a:ext cx="927000" cy="29520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6541920" y="5500440"/>
              <a:ext cx="914400" cy="58896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7543800" y="5362560"/>
              <a:ext cx="108576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2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ean = 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7554960" y="5097240"/>
              <a:ext cx="35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7548480" y="4797360"/>
              <a:ext cx="3538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7564320" y="5711760"/>
              <a:ext cx="35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7562880" y="5987880"/>
              <a:ext cx="3571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6"/>
          <p:cNvSpPr/>
          <p:nvPr/>
        </p:nvSpPr>
        <p:spPr>
          <a:xfrm>
            <a:off x="5116680" y="4246560"/>
            <a:ext cx="178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tch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485080" y="3886200"/>
            <a:ext cx="697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     5      10      15      20      25     30      35      40     45     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076480" y="1120680"/>
            <a:ext cx="2887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988640" y="4532400"/>
            <a:ext cx="53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16200000">
            <a:off x="444960" y="2393280"/>
            <a:ext cx="204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urit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 rot="16200000">
            <a:off x="276480" y="5614200"/>
            <a:ext cx="23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mulative S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842796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5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5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6880" y="861840"/>
            <a:ext cx="58546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-masks for Mean CuSum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252520" y="3705120"/>
            <a:ext cx="553896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413080" y="1941480"/>
            <a:ext cx="4768920" cy="82872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2484360" y="4632480"/>
            <a:ext cx="4716720" cy="766440"/>
          </a:xfrm>
          <a:prstGeom prst="line">
            <a:avLst/>
          </a:prstGeom>
          <a:ln w="126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454120" y="370512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2922480" y="371304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3390840" y="3714840"/>
            <a:ext cx="0" cy="75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859200" y="371484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327560" y="3716280"/>
            <a:ext cx="0" cy="76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4795920" y="371628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265720" y="3716280"/>
            <a:ext cx="0" cy="77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734080" y="3716280"/>
            <a:ext cx="0" cy="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202440" y="3710160"/>
            <a:ext cx="0" cy="75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670800" y="3700440"/>
            <a:ext cx="0" cy="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7139160" y="3701880"/>
            <a:ext cx="0" cy="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7051680" y="379728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75400" y="3807000"/>
            <a:ext cx="2001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100920" y="3813120"/>
            <a:ext cx="19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653080" y="381168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178600" y="3809880"/>
            <a:ext cx="19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4718160" y="3816360"/>
            <a:ext cx="19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255920" y="382284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781440" y="382104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3305160" y="3827520"/>
            <a:ext cx="20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830680" y="3817800"/>
            <a:ext cx="1998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2257560" y="3824280"/>
            <a:ext cx="390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2454120" y="2770200"/>
            <a:ext cx="4687920" cy="0"/>
          </a:xfrm>
          <a:prstGeom prst="line">
            <a:avLst/>
          </a:prstGeom>
          <a:ln w="47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0"/>
          <p:cNvSpPr/>
          <p:nvPr/>
        </p:nvSpPr>
        <p:spPr>
          <a:xfrm>
            <a:off x="7345440" y="2768760"/>
            <a:ext cx="0" cy="93636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7343640" y="3716280"/>
            <a:ext cx="0" cy="93492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2"/>
          <p:cNvSpPr/>
          <p:nvPr/>
        </p:nvSpPr>
        <p:spPr>
          <a:xfrm flipV="1">
            <a:off x="2454120" y="1954080"/>
            <a:ext cx="0" cy="17510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3"/>
          <p:cNvSpPr/>
          <p:nvPr/>
        </p:nvSpPr>
        <p:spPr>
          <a:xfrm>
            <a:off x="2076480" y="2766960"/>
            <a:ext cx="0" cy="93672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4"/>
          <p:cNvSpPr/>
          <p:nvPr/>
        </p:nvSpPr>
        <p:spPr>
          <a:xfrm flipH="1" flipV="1">
            <a:off x="2076480" y="1870200"/>
            <a:ext cx="1440" cy="89856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7596360" y="2446200"/>
            <a:ext cx="1320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3616200" y="4130640"/>
            <a:ext cx="2492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5437080" y="1690560"/>
            <a:ext cx="23986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pper control 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ecision lin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5450040" y="5078520"/>
            <a:ext cx="2290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ower control 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ecision lin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789120" y="5973840"/>
            <a:ext cx="863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the CuSum plot crosses the lower control line an increase in process mean is indicated and if it crosses the upper control line a decrease in process mean is indicate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1227240" y="2014560"/>
            <a:ext cx="27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1219320" y="2949480"/>
            <a:ext cx="28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7572240" y="4030560"/>
            <a:ext cx="70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7016760" y="3613320"/>
            <a:ext cx="216000" cy="215640"/>
          </a:xfrm>
          <a:prstGeom prst="ellipse">
            <a:avLst/>
          </a:prstGeom>
          <a:noFill/>
          <a:ln w="63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8"/>
              <p:cNvSpPr txBox="1"/>
              <p:nvPr/>
            </p:nvSpPr>
            <p:spPr>
              <a:xfrm>
                <a:off x="7796160" y="388764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9"/>
              <p:cNvSpPr txBox="1"/>
              <p:nvPr/>
            </p:nvSpPr>
            <p:spPr>
              <a:xfrm>
                <a:off x="7794720" y="303516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0"/>
              <p:cNvSpPr txBox="1"/>
              <p:nvPr/>
            </p:nvSpPr>
            <p:spPr>
              <a:xfrm>
                <a:off x="1457280" y="1870200"/>
                <a:ext cx="588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1"/>
              <p:cNvSpPr txBox="1"/>
              <p:nvPr/>
            </p:nvSpPr>
            <p:spPr>
              <a:xfrm>
                <a:off x="1457280" y="2835360"/>
                <a:ext cx="588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7" name="Group 73"/>
          <p:cNvGrpSpPr/>
          <p:nvPr/>
        </p:nvGrpSpPr>
        <p:grpSpPr>
          <a:xfrm>
            <a:off x="420840" y="1846440"/>
            <a:ext cx="9216720" cy="3624480"/>
            <a:chOff x="420840" y="1846440"/>
            <a:chExt cx="9216720" cy="3624480"/>
          </a:xfrm>
        </p:grpSpPr>
        <p:graphicFrame>
          <p:nvGraphicFramePr>
            <p:cNvPr id="168" name="Object 52"/>
            <p:cNvGraphicFramePr/>
            <p:nvPr/>
          </p:nvGraphicFramePr>
          <p:xfrm>
            <a:off x="420840" y="1846440"/>
            <a:ext cx="9216720" cy="347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Object 5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0840" y="1846440"/>
                      <a:ext cx="9216720" cy="34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Text Box 64"/>
            <p:cNvSpPr/>
            <p:nvPr/>
          </p:nvSpPr>
          <p:spPr>
            <a:xfrm>
              <a:off x="5116680" y="5165640"/>
              <a:ext cx="1784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atch numb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5"/>
            <p:cNvSpPr/>
            <p:nvPr/>
          </p:nvSpPr>
          <p:spPr>
            <a:xfrm>
              <a:off x="2485080" y="4805280"/>
              <a:ext cx="697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73080" indent="-73080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      5      10      15      20      25     30      35      40     45     5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6"/>
            <p:cNvSpPr/>
            <p:nvPr/>
          </p:nvSpPr>
          <p:spPr>
            <a:xfrm>
              <a:off x="1988640" y="2226960"/>
              <a:ext cx="53100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7"/>
            <p:cNvSpPr/>
            <p:nvPr/>
          </p:nvSpPr>
          <p:spPr>
            <a:xfrm rot="16200000">
              <a:off x="487800" y="3308400"/>
              <a:ext cx="238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73080" indent="-7308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umulative Su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8"/>
          <p:cNvGrpSpPr/>
          <p:nvPr/>
        </p:nvGrpSpPr>
        <p:grpSpPr>
          <a:xfrm>
            <a:off x="1068480" y="3094200"/>
            <a:ext cx="1670040" cy="1763280"/>
            <a:chOff x="1068480" y="3094200"/>
            <a:chExt cx="1670040" cy="1763280"/>
          </a:xfrm>
        </p:grpSpPr>
        <p:grpSp>
          <p:nvGrpSpPr>
            <p:cNvPr id="175" name="Group 69"/>
            <p:cNvGrpSpPr/>
            <p:nvPr/>
          </p:nvGrpSpPr>
          <p:grpSpPr>
            <a:xfrm>
              <a:off x="1068480" y="3094200"/>
              <a:ext cx="1551960" cy="1763280"/>
              <a:chOff x="1068480" y="3094200"/>
              <a:chExt cx="1551960" cy="1763280"/>
            </a:xfrm>
          </p:grpSpPr>
          <p:sp>
            <p:nvSpPr>
              <p:cNvPr id="176" name="Freeform 70"/>
              <p:cNvSpPr/>
              <p:nvPr/>
            </p:nvSpPr>
            <p:spPr>
              <a:xfrm>
                <a:off x="1070640" y="309420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71"/>
              <p:cNvSpPr/>
              <p:nvPr/>
            </p:nvSpPr>
            <p:spPr>
              <a:xfrm>
                <a:off x="1068480" y="397260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Oval 72"/>
            <p:cNvSpPr/>
            <p:nvPr/>
          </p:nvSpPr>
          <p:spPr>
            <a:xfrm>
              <a:off x="2492280" y="385776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74"/>
          <p:cNvGrpSpPr/>
          <p:nvPr/>
        </p:nvGrpSpPr>
        <p:grpSpPr>
          <a:xfrm>
            <a:off x="2063880" y="2230560"/>
            <a:ext cx="1670040" cy="1763280"/>
            <a:chOff x="2063880" y="2230560"/>
            <a:chExt cx="1670040" cy="1763280"/>
          </a:xfrm>
        </p:grpSpPr>
        <p:grpSp>
          <p:nvGrpSpPr>
            <p:cNvPr id="180" name="Group 75"/>
            <p:cNvGrpSpPr/>
            <p:nvPr/>
          </p:nvGrpSpPr>
          <p:grpSpPr>
            <a:xfrm>
              <a:off x="2063880" y="2230560"/>
              <a:ext cx="1551960" cy="1763280"/>
              <a:chOff x="2063880" y="2230560"/>
              <a:chExt cx="1551960" cy="1763280"/>
            </a:xfrm>
          </p:grpSpPr>
          <p:sp>
            <p:nvSpPr>
              <p:cNvPr id="181" name="Freeform 76"/>
              <p:cNvSpPr/>
              <p:nvPr/>
            </p:nvSpPr>
            <p:spPr>
              <a:xfrm>
                <a:off x="2066040" y="223056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77"/>
              <p:cNvSpPr/>
              <p:nvPr/>
            </p:nvSpPr>
            <p:spPr>
              <a:xfrm>
                <a:off x="2063880" y="310896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Oval 78"/>
            <p:cNvSpPr/>
            <p:nvPr/>
          </p:nvSpPr>
          <p:spPr>
            <a:xfrm>
              <a:off x="3487680" y="299412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9"/>
          <p:cNvGrpSpPr/>
          <p:nvPr/>
        </p:nvGrpSpPr>
        <p:grpSpPr>
          <a:xfrm>
            <a:off x="2508120" y="1798560"/>
            <a:ext cx="1670040" cy="1763280"/>
            <a:chOff x="2508120" y="1798560"/>
            <a:chExt cx="1670040" cy="1763280"/>
          </a:xfrm>
        </p:grpSpPr>
        <p:grpSp>
          <p:nvGrpSpPr>
            <p:cNvPr id="185" name="Group 80"/>
            <p:cNvGrpSpPr/>
            <p:nvPr/>
          </p:nvGrpSpPr>
          <p:grpSpPr>
            <a:xfrm>
              <a:off x="2508120" y="1798560"/>
              <a:ext cx="1551960" cy="1763280"/>
              <a:chOff x="2508120" y="1798560"/>
              <a:chExt cx="1551960" cy="1763280"/>
            </a:xfrm>
          </p:grpSpPr>
          <p:sp>
            <p:nvSpPr>
              <p:cNvPr id="186" name="Freeform 81"/>
              <p:cNvSpPr/>
              <p:nvPr/>
            </p:nvSpPr>
            <p:spPr>
              <a:xfrm>
                <a:off x="2510280" y="179856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82"/>
              <p:cNvSpPr/>
              <p:nvPr/>
            </p:nvSpPr>
            <p:spPr>
              <a:xfrm>
                <a:off x="2508120" y="267696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Oval 83"/>
            <p:cNvSpPr/>
            <p:nvPr/>
          </p:nvSpPr>
          <p:spPr>
            <a:xfrm>
              <a:off x="3931920" y="256212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84"/>
          <p:cNvGrpSpPr/>
          <p:nvPr/>
        </p:nvGrpSpPr>
        <p:grpSpPr>
          <a:xfrm>
            <a:off x="3300480" y="1906560"/>
            <a:ext cx="1670040" cy="1763280"/>
            <a:chOff x="3300480" y="1906560"/>
            <a:chExt cx="1670040" cy="1763280"/>
          </a:xfrm>
        </p:grpSpPr>
        <p:grpSp>
          <p:nvGrpSpPr>
            <p:cNvPr id="190" name="Group 85"/>
            <p:cNvGrpSpPr/>
            <p:nvPr/>
          </p:nvGrpSpPr>
          <p:grpSpPr>
            <a:xfrm>
              <a:off x="3300480" y="1906560"/>
              <a:ext cx="1551960" cy="1763280"/>
              <a:chOff x="3300480" y="1906560"/>
              <a:chExt cx="1551960" cy="1763280"/>
            </a:xfrm>
          </p:grpSpPr>
          <p:sp>
            <p:nvSpPr>
              <p:cNvPr id="191" name="Freeform 86"/>
              <p:cNvSpPr/>
              <p:nvPr/>
            </p:nvSpPr>
            <p:spPr>
              <a:xfrm>
                <a:off x="3302640" y="190656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87"/>
              <p:cNvSpPr/>
              <p:nvPr/>
            </p:nvSpPr>
            <p:spPr>
              <a:xfrm>
                <a:off x="3300480" y="278496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Oval 88"/>
            <p:cNvSpPr/>
            <p:nvPr/>
          </p:nvSpPr>
          <p:spPr>
            <a:xfrm>
              <a:off x="4724280" y="267012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89"/>
          <p:cNvGrpSpPr/>
          <p:nvPr/>
        </p:nvGrpSpPr>
        <p:grpSpPr>
          <a:xfrm>
            <a:off x="4813200" y="2878200"/>
            <a:ext cx="1670040" cy="1763280"/>
            <a:chOff x="4813200" y="2878200"/>
            <a:chExt cx="1670040" cy="1763280"/>
          </a:xfrm>
        </p:grpSpPr>
        <p:grpSp>
          <p:nvGrpSpPr>
            <p:cNvPr id="195" name="Group 90"/>
            <p:cNvGrpSpPr/>
            <p:nvPr/>
          </p:nvGrpSpPr>
          <p:grpSpPr>
            <a:xfrm>
              <a:off x="4813200" y="2878200"/>
              <a:ext cx="1551960" cy="1763280"/>
              <a:chOff x="4813200" y="2878200"/>
              <a:chExt cx="1551960" cy="1763280"/>
            </a:xfrm>
          </p:grpSpPr>
          <p:sp>
            <p:nvSpPr>
              <p:cNvPr id="196" name="Freeform 91"/>
              <p:cNvSpPr/>
              <p:nvPr/>
            </p:nvSpPr>
            <p:spPr>
              <a:xfrm>
                <a:off x="4815360" y="287820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92"/>
              <p:cNvSpPr/>
              <p:nvPr/>
            </p:nvSpPr>
            <p:spPr>
              <a:xfrm>
                <a:off x="4813200" y="375660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Oval 93"/>
            <p:cNvSpPr/>
            <p:nvPr/>
          </p:nvSpPr>
          <p:spPr>
            <a:xfrm>
              <a:off x="6237000" y="364176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94"/>
          <p:cNvGrpSpPr/>
          <p:nvPr/>
        </p:nvGrpSpPr>
        <p:grpSpPr>
          <a:xfrm>
            <a:off x="6541920" y="3381480"/>
            <a:ext cx="1670040" cy="1763280"/>
            <a:chOff x="6541920" y="3381480"/>
            <a:chExt cx="1670040" cy="1763280"/>
          </a:xfrm>
        </p:grpSpPr>
        <p:grpSp>
          <p:nvGrpSpPr>
            <p:cNvPr id="200" name="Group 95"/>
            <p:cNvGrpSpPr/>
            <p:nvPr/>
          </p:nvGrpSpPr>
          <p:grpSpPr>
            <a:xfrm>
              <a:off x="6541920" y="3381480"/>
              <a:ext cx="1551960" cy="1763280"/>
              <a:chOff x="6541920" y="3381480"/>
              <a:chExt cx="1551960" cy="1763280"/>
            </a:xfrm>
          </p:grpSpPr>
          <p:sp>
            <p:nvSpPr>
              <p:cNvPr id="201" name="Freeform 96"/>
              <p:cNvSpPr/>
              <p:nvPr/>
            </p:nvSpPr>
            <p:spPr>
              <a:xfrm>
                <a:off x="6544080" y="3381480"/>
                <a:ext cx="1549800" cy="88344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883440"/>
                  <a:gd name="textAreaBottom" fmla="*/ 883800 h 883440"/>
                </a:gdLst>
                <a:ahLst/>
                <a:rect l="textAreaLeft" t="textAreaTop" r="textAreaRight" b="textAreaBottom"/>
                <a:pathLst>
                  <a:path w="755" h="720">
                    <a:moveTo>
                      <a:pt x="0" y="0"/>
                    </a:moveTo>
                    <a:lnTo>
                      <a:pt x="754" y="359"/>
                    </a:lnTo>
                    <a:lnTo>
                      <a:pt x="754" y="719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97"/>
              <p:cNvSpPr/>
              <p:nvPr/>
            </p:nvSpPr>
            <p:spPr>
              <a:xfrm>
                <a:off x="6541920" y="4259880"/>
                <a:ext cx="1550160" cy="88488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755" h="721">
                    <a:moveTo>
                      <a:pt x="0" y="720"/>
                    </a:moveTo>
                    <a:lnTo>
                      <a:pt x="754" y="360"/>
                    </a:lnTo>
                    <a:lnTo>
                      <a:pt x="754" y="0"/>
                    </a:lnTo>
                  </a:path>
                </a:pathLst>
              </a:custGeom>
              <a:noFill/>
              <a:ln w="126720">
                <a:solidFill>
                  <a:srgbClr val="c000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Oval 98"/>
            <p:cNvSpPr/>
            <p:nvPr/>
          </p:nvSpPr>
          <p:spPr>
            <a:xfrm>
              <a:off x="7965720" y="4145040"/>
              <a:ext cx="246240" cy="216000"/>
            </a:xfrm>
            <a:prstGeom prst="ellipse">
              <a:avLst/>
            </a:prstGeom>
            <a:solidFill>
              <a:srgbClr val="c0007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105"/>
          <p:cNvSpPr/>
          <p:nvPr/>
        </p:nvSpPr>
        <p:spPr>
          <a:xfrm>
            <a:off x="843372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>
            <a:off x="2084400" y="4567320"/>
            <a:ext cx="0" cy="93672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 flipV="1">
            <a:off x="2084400" y="3670200"/>
            <a:ext cx="1440" cy="898560"/>
          </a:xfrm>
          <a:prstGeom prst="line">
            <a:avLst/>
          </a:prstGeom>
          <a:ln w="37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1235160" y="3814920"/>
            <a:ext cx="27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1227240" y="4749840"/>
            <a:ext cx="28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50"/>
              <p:cNvSpPr txBox="1"/>
              <p:nvPr/>
            </p:nvSpPr>
            <p:spPr>
              <a:xfrm>
                <a:off x="1465200" y="367020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51"/>
              <p:cNvSpPr txBox="1"/>
              <p:nvPr/>
            </p:nvSpPr>
            <p:spPr>
              <a:xfrm>
                <a:off x="1465200" y="4635360"/>
                <a:ext cx="588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2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7677E-006 -3.26797E-006 L 0.10022 -0.11111 E">
                                      <p:cBhvr>
                                        <p:cTn id="230" dur="5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9697E-006 -3.26797E-006 L 0.04293 -0.05556 E">
                                      <p:cBhvr>
                                        <p:cTn id="240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94949E-006 -3.26797E-006 L 0.07876 0.01859 E">
                                      <p:cBhvr>
                                        <p:cTn id="250" dur="5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32323E-006 -9.80392E-007 L 0.15026 0.1203 E">
                                      <p:cBhvr>
                                        <p:cTn id="260" dur="5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05051E-006 -3.26797E-006 L 0.16462 0.06495 E">
                                      <p:cBhvr>
                                        <p:cTn id="270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8586E-006 -5.75163E-006 C 0.01831 -0.01941 0.03678 -0.03861 0.05808 -0.04331 C 0.07939 -0.04801 0.10369 -0.03841 0.12816 -0.0286 E">
                                      <p:cBhvr>
                                        <p:cTn id="280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499760" y="820800"/>
            <a:ext cx="72723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ges in Construction of a CuSum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20840" y="1336680"/>
            <a:ext cx="939456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stimate the mean and standard deviation  (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)  of the process from previous data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808080"/>
              </a:buClr>
              <a:buSzPct val="90000"/>
              <a:buFont typeface="Arial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alculate the CuSum from  (observations - reference value), where the reference value i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sually the mean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hoose a convenient scale for the horizontal axis (sample number , days , batche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hoose a vertical axis scale of approximately   2 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</a:t>
            </a:r>
            <a:r>
              <a:rPr b="0" lang="en-GB" sz="17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units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lot the CuSum values. The y-axis scale may be adjusted to keep the chart on the page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808080"/>
              </a:buClr>
              <a:buSzPct val="90000"/>
              <a:buFont typeface="Arial"/>
              <a:buAutoNum type="arabicPeriod" startAt="6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epare a V-mask by drawing a vertical line equal to the distance 5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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on the chosen scale. Draw a horizontal line from the middle of the first vertical line back 10 scale units then draw a second vertical line equal to the distance 10</a:t>
            </a:r>
            <a:r>
              <a:rPr b="1" lang="en-GB" sz="2600" spc="-1" strike="noStrike">
                <a:solidFill>
                  <a:srgbClr val="000000"/>
                </a:solidFill>
                <a:latin typeface="Math A"/>
                <a:ea typeface="Math A"/>
              </a:rPr>
              <a:t>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entered at the end of the horizontal line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Join up the ends of the vertical lines to produce the decision lines. Transfer this to clear film to use in real time as the data is plotted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7.  Use of the V-mask. Put the observation 0 point of the V-mask onto the latest datum point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8.  If the lower decision line crosses the CuSum plot an increase in mean is signalled. If the upper decision line crosses the CuSum plot a decrease in the mean is signalled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8"/>
              <p:cNvSpPr txBox="1"/>
              <p:nvPr/>
            </p:nvSpPr>
            <p:spPr>
              <a:xfrm>
                <a:off x="5435640" y="3166920"/>
                <a:ext cx="530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900760" y="1359000"/>
                <a:ext cx="423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5029200" y="4995720"/>
                <a:ext cx="530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1"/>
              <p:cNvSpPr txBox="1"/>
              <p:nvPr/>
            </p:nvSpPr>
            <p:spPr>
              <a:xfrm>
                <a:off x="7221600" y="4361040"/>
                <a:ext cx="53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5029200" y="1222200"/>
                <a:ext cx="530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Rectangle 14"/>
          <p:cNvSpPr/>
          <p:nvPr/>
        </p:nvSpPr>
        <p:spPr>
          <a:xfrm>
            <a:off x="8433720" y="74048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umChart |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2"/>
          <p:cNvSpPr/>
          <p:nvPr/>
        </p:nvSpPr>
        <p:spPr>
          <a:xfrm>
            <a:off x="420840" y="740268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https://rsc.li/32MW3Gd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4:33Z</dcterms:modified>
  <cp:revision>79</cp:revision>
  <dc:subject/>
  <dc:title>Cumulative sum chart presentation</dc:title>
</cp:coreProperties>
</file>