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895-894E-4DB9-8DE9-67F9F6CF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693-90D1-4725-8848-80918A3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D7C-BFFC-428A-BB4E-B4931FD9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257-2495-4F7B-9DC5-9FB9AA70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4E4-EE76-41D8-96EF-6CACEEE5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E0C-350D-45DC-9792-84B15337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92F-1F11-4B98-AF20-4CA954FB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13A-DEC5-43D3-8DEC-B8F0F3D6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365-E24F-4B49-9148-87A7AE1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A06-22AD-40C0-988C-36993DE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93B-5E36-43D3-9841-F190E09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EF5-378D-4291-ADBC-92A5CCD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852D-E8E0-4CF5-A572-05F4D47299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8"/>
          <p:cNvSpPr/>
          <p:nvPr/>
        </p:nvSpPr>
        <p:spPr>
          <a:xfrm>
            <a:off x="1428840" y="3738600"/>
            <a:ext cx="6696000" cy="324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218" h="2">
                <a:moveTo>
                  <a:pt x="0" y="2"/>
                </a:moveTo>
                <a:lnTo>
                  <a:pt x="4218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333520" y="630360"/>
            <a:ext cx="5359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ligopoly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395360" y="1382760"/>
            <a:ext cx="8151840" cy="5062320"/>
          </a:xfrm>
          <a:custGeom>
            <a:avLst/>
            <a:gdLst>
              <a:gd name="textAreaLeft" fmla="*/ 0 w 8151840"/>
              <a:gd name="textAreaRight" fmla="*/ 8152200 w 8151840"/>
              <a:gd name="textAreaTop" fmla="*/ 0 h 5062320"/>
              <a:gd name="textAreaBottom" fmla="*/ 5062680 h 50623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22320" y="1432080"/>
            <a:ext cx="338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228240" y="6603840"/>
            <a:ext cx="338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261200" y="5518080"/>
            <a:ext cx="175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029200" y="5813280"/>
            <a:ext cx="863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397160" y="3765600"/>
            <a:ext cx="3902040" cy="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301920" y="1649520"/>
            <a:ext cx="3814920" cy="403704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603520" y="2338560"/>
            <a:ext cx="5445000" cy="288756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000240" y="1814400"/>
            <a:ext cx="3036960" cy="444816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387520" y="2371680"/>
            <a:ext cx="4560840" cy="353556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8082000" y="4794120"/>
            <a:ext cx="1843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81200" y="3457440"/>
            <a:ext cx="56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785960" y="2475000"/>
            <a:ext cx="1073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489800" y="1833480"/>
            <a:ext cx="8524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2778120" y="1849320"/>
            <a:ext cx="5923080" cy="3981600"/>
          </a:xfrm>
          <a:custGeom>
            <a:avLst/>
            <a:gdLst>
              <a:gd name="textAreaLeft" fmla="*/ 0 w 5923080"/>
              <a:gd name="textAreaRight" fmla="*/ 5923440 w 592308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2450" h="1876">
                <a:moveTo>
                  <a:pt x="0" y="1875"/>
                </a:moveTo>
                <a:lnTo>
                  <a:pt x="191" y="1819"/>
                </a:lnTo>
                <a:lnTo>
                  <a:pt x="379" y="1753"/>
                </a:lnTo>
                <a:lnTo>
                  <a:pt x="562" y="1679"/>
                </a:lnTo>
                <a:lnTo>
                  <a:pt x="742" y="1595"/>
                </a:lnTo>
                <a:lnTo>
                  <a:pt x="916" y="1504"/>
                </a:lnTo>
                <a:lnTo>
                  <a:pt x="1085" y="1404"/>
                </a:lnTo>
                <a:lnTo>
                  <a:pt x="1250" y="1296"/>
                </a:lnTo>
                <a:lnTo>
                  <a:pt x="1409" y="1180"/>
                </a:lnTo>
                <a:lnTo>
                  <a:pt x="1562" y="1057"/>
                </a:lnTo>
                <a:lnTo>
                  <a:pt x="1709" y="926"/>
                </a:lnTo>
                <a:lnTo>
                  <a:pt x="1850" y="789"/>
                </a:lnTo>
                <a:lnTo>
                  <a:pt x="1984" y="643"/>
                </a:lnTo>
                <a:lnTo>
                  <a:pt x="2110" y="492"/>
                </a:lnTo>
                <a:lnTo>
                  <a:pt x="2231" y="334"/>
                </a:lnTo>
                <a:lnTo>
                  <a:pt x="2343" y="170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8269200" y="3527280"/>
            <a:ext cx="158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perfect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8433720" y="72226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OligopolyMarketAnalysis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4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33200" y="571680"/>
            <a:ext cx="648036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nked Demand Curv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pped Marginal Revenue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1771560" y="1727280"/>
            <a:ext cx="6924600" cy="4886280"/>
          </a:xfrm>
          <a:custGeom>
            <a:avLst/>
            <a:gdLst>
              <a:gd name="textAreaLeft" fmla="*/ 0 w 6924600"/>
              <a:gd name="textAreaRight" fmla="*/ 6924960 w 6924600"/>
              <a:gd name="textAreaTop" fmla="*/ 0 h 4886280"/>
              <a:gd name="textAreaBottom" fmla="*/ 4886640 h 4886280"/>
            </a:gdLst>
            <a:ahLst/>
            <a:rect l="textAreaLeft" t="textAreaTop" r="textAreaRight" b="textAreaBottom"/>
            <a:pathLst>
              <a:path w="3371" h="2387">
                <a:moveTo>
                  <a:pt x="0" y="0"/>
                </a:moveTo>
                <a:lnTo>
                  <a:pt x="0" y="2386"/>
                </a:lnTo>
                <a:lnTo>
                  <a:pt x="3370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366920" y="1776240"/>
            <a:ext cx="28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424720" y="6764400"/>
            <a:ext cx="290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732720" y="5684760"/>
            <a:ext cx="1752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530680" y="6046920"/>
            <a:ext cx="911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1773360" y="4025880"/>
            <a:ext cx="3316320" cy="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348000" y="2446200"/>
            <a:ext cx="175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(oligopo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249200" y="3732120"/>
            <a:ext cx="47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316240" y="3022560"/>
            <a:ext cx="912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543720" y="2389320"/>
            <a:ext cx="9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i="1" lang="en-GB" sz="2800" spc="-1" strike="noStrike" baseline="-25000">
                <a:solidFill>
                  <a:srgbClr val="a1009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2943360" y="2232000"/>
            <a:ext cx="5033880" cy="384192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3841920"/>
              <a:gd name="textAreaBottom" fmla="*/ 3842280 h 384192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3"/>
                </a:lnTo>
                <a:lnTo>
                  <a:pt x="562" y="1680"/>
                </a:lnTo>
                <a:lnTo>
                  <a:pt x="742" y="1596"/>
                </a:lnTo>
                <a:lnTo>
                  <a:pt x="916" y="1505"/>
                </a:lnTo>
                <a:lnTo>
                  <a:pt x="1085" y="1405"/>
                </a:lnTo>
                <a:lnTo>
                  <a:pt x="1251" y="1297"/>
                </a:lnTo>
                <a:lnTo>
                  <a:pt x="1410" y="1181"/>
                </a:lnTo>
                <a:lnTo>
                  <a:pt x="1562" y="1058"/>
                </a:lnTo>
                <a:lnTo>
                  <a:pt x="1710" y="927"/>
                </a:lnTo>
                <a:lnTo>
                  <a:pt x="1850" y="790"/>
                </a:lnTo>
                <a:lnTo>
                  <a:pt x="1985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4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2801880" y="2643120"/>
            <a:ext cx="3759120" cy="316548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3165480"/>
              <a:gd name="textAreaBottom" fmla="*/ 3165840 h 3165480"/>
            </a:gdLst>
            <a:ahLst/>
            <a:rect l="textAreaLeft" t="textAreaTop" r="textAreaRight" b="textAreaBottom"/>
            <a:pathLst>
              <a:path w="1830" h="1546">
                <a:moveTo>
                  <a:pt x="0" y="0"/>
                </a:moveTo>
                <a:lnTo>
                  <a:pt x="1104" y="667"/>
                </a:lnTo>
                <a:lnTo>
                  <a:pt x="1829" y="1545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2644920" y="2701800"/>
            <a:ext cx="2863800" cy="388620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1394" h="1898">
                <a:moveTo>
                  <a:pt x="0" y="0"/>
                </a:moveTo>
                <a:lnTo>
                  <a:pt x="1181" y="1054"/>
                </a:lnTo>
                <a:lnTo>
                  <a:pt x="1181" y="1503"/>
                </a:lnTo>
                <a:lnTo>
                  <a:pt x="1393" y="1897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7837560" y="3262320"/>
            <a:ext cx="969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3274920" y="2422440"/>
            <a:ext cx="5031000" cy="384192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841920"/>
              <a:gd name="textAreaBottom" fmla="*/ 3842280 h 3841920"/>
            </a:gdLst>
            <a:ahLst/>
            <a:rect l="textAreaLeft" t="textAreaTop" r="textAreaRight" b="textAreaBottom"/>
            <a:pathLst>
              <a:path w="2449" h="1877">
                <a:moveTo>
                  <a:pt x="0" y="1876"/>
                </a:moveTo>
                <a:lnTo>
                  <a:pt x="191" y="1818"/>
                </a:lnTo>
                <a:lnTo>
                  <a:pt x="379" y="1753"/>
                </a:lnTo>
                <a:lnTo>
                  <a:pt x="562" y="1679"/>
                </a:lnTo>
                <a:lnTo>
                  <a:pt x="742" y="1596"/>
                </a:lnTo>
                <a:lnTo>
                  <a:pt x="916" y="1505"/>
                </a:lnTo>
                <a:lnTo>
                  <a:pt x="1085" y="1405"/>
                </a:lnTo>
                <a:lnTo>
                  <a:pt x="1250" y="1297"/>
                </a:lnTo>
                <a:lnTo>
                  <a:pt x="1409" y="1180"/>
                </a:lnTo>
                <a:lnTo>
                  <a:pt x="1561" y="1058"/>
                </a:lnTo>
                <a:lnTo>
                  <a:pt x="1709" y="927"/>
                </a:lnTo>
                <a:lnTo>
                  <a:pt x="1850" y="789"/>
                </a:lnTo>
                <a:lnTo>
                  <a:pt x="1984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8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4973760" y="5060880"/>
            <a:ext cx="191880" cy="20952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4973760" y="5443560"/>
            <a:ext cx="190440" cy="1872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5065560" y="4149360"/>
            <a:ext cx="0" cy="668520"/>
          </a:xfrm>
          <a:prstGeom prst="line">
            <a:avLst/>
          </a:prstGeom>
          <a:ln w="63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8433720" y="72226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OligopolyMarketAnalysis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8:08Z</dcterms:modified>
  <cp:revision>133</cp:revision>
  <dc:subject/>
  <dc:title>Oligopoly market analysis presentation</dc:title>
</cp:coreProperties>
</file>