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0188-CA65-4BC7-BFF2-FE46DD707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2150-AED8-4495-9437-E6412541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B350-4DD4-4058-B9A8-E94CC5F91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156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098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36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156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098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CC33-E048-47E8-A71F-32088991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BC24-9478-4A6D-9520-938B73B2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1A5C-A74E-40E3-BA85-6343317B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B06F-C8FA-4C63-BF9F-D32D1C0B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7369-1979-44E0-8E4B-3A5B06B2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3640" y="353880"/>
            <a:ext cx="10671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63A9-2FD4-4C09-8248-4BE14182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EF7E-BA4A-4576-9909-C4CEEF3F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F7EF-B3EE-47BD-A28B-8D336A54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C4F9-B729-4D10-BE82-C4A786D6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con08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14C0-8970-4944-804D-037130138C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881360" y="723600"/>
            <a:ext cx="610056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icing in Perfect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004840" y="1517760"/>
            <a:ext cx="591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Graph for Individual Compan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- all price tak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4"/>
          <p:cNvSpPr/>
          <p:nvPr/>
        </p:nvSpPr>
        <p:spPr>
          <a:xfrm>
            <a:off x="1241280" y="2657520"/>
            <a:ext cx="7694640" cy="3639960"/>
          </a:xfrm>
          <a:custGeom>
            <a:avLst/>
            <a:gdLst>
              <a:gd name="textAreaLeft" fmla="*/ 0 w 7694640"/>
              <a:gd name="textAreaRight" fmla="*/ 7695000 w 7694640"/>
              <a:gd name="textAreaTop" fmla="*/ 0 h 3639960"/>
              <a:gd name="textAreaBottom" fmla="*/ 3640320 h 3639960"/>
            </a:gdLst>
            <a:ahLst/>
            <a:rect l="textAreaLeft" t="textAreaTop" r="textAreaRight" b="textAreaBottom"/>
            <a:pathLst>
              <a:path w="3746" h="2967">
                <a:moveTo>
                  <a:pt x="0" y="0"/>
                </a:moveTo>
                <a:lnTo>
                  <a:pt x="0" y="2966"/>
                </a:lnTo>
                <a:lnTo>
                  <a:pt x="3745" y="2966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09640" y="2987640"/>
            <a:ext cx="289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8267760" y="6356520"/>
            <a:ext cx="2887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1292400" y="4540320"/>
            <a:ext cx="7270560" cy="0"/>
          </a:xfrm>
          <a:prstGeom prst="line">
            <a:avLst/>
          </a:prstGeom>
          <a:ln w="1267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9"/>
          <p:cNvSpPr/>
          <p:nvPr/>
        </p:nvSpPr>
        <p:spPr>
          <a:xfrm>
            <a:off x="1982880" y="3035160"/>
            <a:ext cx="6448320" cy="1505160"/>
          </a:xfrm>
          <a:custGeom>
            <a:avLst/>
            <a:gdLst>
              <a:gd name="textAreaLeft" fmla="*/ 0 w 6448320"/>
              <a:gd name="textAreaRight" fmla="*/ 6448680 w 6448320"/>
              <a:gd name="textAreaTop" fmla="*/ 0 h 1505160"/>
              <a:gd name="textAreaBottom" fmla="*/ 1505520 h 1505160"/>
            </a:gdLst>
            <a:ahLst/>
            <a:rect l="textAreaLeft" t="textAreaTop" r="textAreaRight" b="textAreaBottom"/>
            <a:pathLst>
              <a:path w="3139" h="1226">
                <a:moveTo>
                  <a:pt x="0" y="0"/>
                </a:moveTo>
                <a:lnTo>
                  <a:pt x="98" y="257"/>
                </a:lnTo>
                <a:lnTo>
                  <a:pt x="228" y="483"/>
                </a:lnTo>
                <a:lnTo>
                  <a:pt x="386" y="681"/>
                </a:lnTo>
                <a:lnTo>
                  <a:pt x="567" y="848"/>
                </a:lnTo>
                <a:lnTo>
                  <a:pt x="767" y="986"/>
                </a:lnTo>
                <a:lnTo>
                  <a:pt x="983" y="1093"/>
                </a:lnTo>
                <a:lnTo>
                  <a:pt x="1211" y="1169"/>
                </a:lnTo>
                <a:lnTo>
                  <a:pt x="1447" y="1212"/>
                </a:lnTo>
                <a:lnTo>
                  <a:pt x="1686" y="1225"/>
                </a:lnTo>
                <a:lnTo>
                  <a:pt x="1925" y="1205"/>
                </a:lnTo>
                <a:lnTo>
                  <a:pt x="2160" y="1152"/>
                </a:lnTo>
                <a:lnTo>
                  <a:pt x="2388" y="1065"/>
                </a:lnTo>
                <a:lnTo>
                  <a:pt x="2602" y="944"/>
                </a:lnTo>
                <a:lnTo>
                  <a:pt x="2802" y="789"/>
                </a:lnTo>
                <a:lnTo>
                  <a:pt x="2982" y="600"/>
                </a:lnTo>
                <a:lnTo>
                  <a:pt x="3138" y="374"/>
                </a:lnTo>
              </a:path>
            </a:pathLst>
          </a:custGeom>
          <a:noFill/>
          <a:ln w="1267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"/>
          <p:cNvSpPr/>
          <p:nvPr/>
        </p:nvSpPr>
        <p:spPr>
          <a:xfrm flipV="1">
            <a:off x="3098880" y="2894040"/>
            <a:ext cx="4722840" cy="3100320"/>
          </a:xfrm>
          <a:prstGeom prst="line">
            <a:avLst/>
          </a:prstGeom>
          <a:ln w="126720">
            <a:solidFill>
              <a:srgbClr val="a100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8256600" y="3008160"/>
            <a:ext cx="949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ff0000"/>
                </a:solidFill>
                <a:latin typeface="Arial"/>
              </a:rPr>
              <a:t>A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6727680" y="2781360"/>
            <a:ext cx="7239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7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a1009f"/>
                </a:solidFill>
                <a:latin typeface="Arial"/>
              </a:rPr>
              <a:t>M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3"/>
          <p:cNvSpPr/>
          <p:nvPr/>
        </p:nvSpPr>
        <p:spPr>
          <a:xfrm>
            <a:off x="5351400" y="4554360"/>
            <a:ext cx="0" cy="1662120"/>
          </a:xfrm>
          <a:prstGeom prst="line">
            <a:avLst/>
          </a:prstGeom>
          <a:ln w="47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4"/>
          <p:cNvSpPr/>
          <p:nvPr/>
        </p:nvSpPr>
        <p:spPr>
          <a:xfrm>
            <a:off x="1300320" y="4992840"/>
            <a:ext cx="7270560" cy="0"/>
          </a:xfrm>
          <a:prstGeom prst="line">
            <a:avLst/>
          </a:prstGeom>
          <a:ln w="1267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>
            <a:off x="1282680" y="4048200"/>
            <a:ext cx="7269120" cy="0"/>
          </a:xfrm>
          <a:prstGeom prst="line">
            <a:avLst/>
          </a:prstGeom>
          <a:ln w="1267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6"/>
          <p:cNvSpPr/>
          <p:nvPr/>
        </p:nvSpPr>
        <p:spPr>
          <a:xfrm>
            <a:off x="6121440" y="4079880"/>
            <a:ext cx="0" cy="2114640"/>
          </a:xfrm>
          <a:prstGeom prst="line">
            <a:avLst/>
          </a:prstGeom>
          <a:ln w="47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7"/>
          <p:cNvSpPr/>
          <p:nvPr/>
        </p:nvSpPr>
        <p:spPr>
          <a:xfrm>
            <a:off x="4689360" y="5013360"/>
            <a:ext cx="0" cy="1203120"/>
          </a:xfrm>
          <a:prstGeom prst="line">
            <a:avLst/>
          </a:prstGeom>
          <a:ln w="47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8670960" y="3886200"/>
            <a:ext cx="606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0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GB" sz="2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8629560" y="4822920"/>
            <a:ext cx="4539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3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GB" sz="26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2941560" y="3525840"/>
            <a:ext cx="100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= M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8629560" y="439092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GB" sz="2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1357200" y="3525840"/>
            <a:ext cx="93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D = 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037200" y="633420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GB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5243400" y="6334200"/>
            <a:ext cx="433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GB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524480" y="6334200"/>
            <a:ext cx="50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GB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5"/>
          <p:cNvSpPr/>
          <p:nvPr/>
        </p:nvSpPr>
        <p:spPr>
          <a:xfrm>
            <a:off x="8754480" y="7222680"/>
            <a:ext cx="111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PerfectMarketPricing |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29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6:52:54Z</dcterms:created>
  <dc:creator>Brian Grievson</dc:creator>
  <dc:description/>
  <dc:language>en-US</dc:language>
  <cp:lastModifiedBy>Chris Runciman</cp:lastModifiedBy>
  <dcterms:modified xsi:type="dcterms:W3CDTF">2020-11-27T10:18:58Z</dcterms:modified>
  <cp:revision>126</cp:revision>
  <dc:subject/>
  <dc:title>Perfect market pricing presentation</dc:title>
</cp:coreProperties>
</file>