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59D-FA4C-4CD9-9070-206F9630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8A9-49A4-4045-9367-035CA1D9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1BE-A2F2-4C3E-8A63-39E893F6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29A-568D-41BB-8AE0-86E91BF0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7AA-ED2E-4B0B-91D2-ABD0FF86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BF0-6D3F-401C-9892-C4C5219B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E7B-E553-44B9-BE75-9EA6842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9F3-C32F-47A7-86B4-B93832B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51D-F9D6-418A-AFD0-CC5EFB8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C08-EEF7-49C2-9008-11E66660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DAE-7C6A-4212-A586-D749B45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7A0-0A1C-43BF-9412-3F120BB6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5E82-905E-482B-878F-D52CA8EB8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447920" y="826920"/>
            <a:ext cx="6927840" cy="2792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450800" y="1055520"/>
            <a:ext cx="6737400" cy="1667160"/>
          </a:xfrm>
          <a:custGeom>
            <a:avLst/>
            <a:gdLst>
              <a:gd name="textAreaLeft" fmla="*/ 0 w 6737400"/>
              <a:gd name="textAreaRight" fmla="*/ 6737760 w 673740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59">
                <a:moveTo>
                  <a:pt x="0" y="0"/>
                </a:moveTo>
                <a:lnTo>
                  <a:pt x="161" y="167"/>
                </a:lnTo>
                <a:lnTo>
                  <a:pt x="330" y="323"/>
                </a:lnTo>
                <a:lnTo>
                  <a:pt x="507" y="470"/>
                </a:lnTo>
                <a:lnTo>
                  <a:pt x="691" y="606"/>
                </a:lnTo>
                <a:lnTo>
                  <a:pt x="881" y="731"/>
                </a:lnTo>
                <a:lnTo>
                  <a:pt x="1078" y="846"/>
                </a:lnTo>
                <a:lnTo>
                  <a:pt x="1280" y="950"/>
                </a:lnTo>
                <a:lnTo>
                  <a:pt x="1489" y="1041"/>
                </a:lnTo>
                <a:lnTo>
                  <a:pt x="1700" y="1122"/>
                </a:lnTo>
                <a:lnTo>
                  <a:pt x="1917" y="1192"/>
                </a:lnTo>
                <a:lnTo>
                  <a:pt x="2136" y="1250"/>
                </a:lnTo>
                <a:lnTo>
                  <a:pt x="2360" y="1295"/>
                </a:lnTo>
                <a:lnTo>
                  <a:pt x="2587" y="1329"/>
                </a:lnTo>
                <a:lnTo>
                  <a:pt x="2816" y="1350"/>
                </a:lnTo>
                <a:lnTo>
                  <a:pt x="3047" y="1358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450800" y="1071720"/>
            <a:ext cx="6713640" cy="3068640"/>
          </a:xfrm>
          <a:custGeom>
            <a:avLst/>
            <a:gdLst>
              <a:gd name="textAreaLeft" fmla="*/ 0 w 6713640"/>
              <a:gd name="textAreaRight" fmla="*/ 6714000 w 6713640"/>
              <a:gd name="textAreaTop" fmla="*/ 0 h 3068640"/>
              <a:gd name="textAreaBottom" fmla="*/ 3069000 h 3068640"/>
            </a:gdLst>
            <a:ahLst/>
            <a:rect l="textAreaLeft" t="textAreaTop" r="textAreaRight" b="textAreaBottom"/>
            <a:pathLst>
              <a:path w="3268" h="2502">
                <a:moveTo>
                  <a:pt x="0" y="0"/>
                </a:moveTo>
                <a:lnTo>
                  <a:pt x="139" y="228"/>
                </a:lnTo>
                <a:lnTo>
                  <a:pt x="288" y="447"/>
                </a:lnTo>
                <a:lnTo>
                  <a:pt x="448" y="658"/>
                </a:lnTo>
                <a:lnTo>
                  <a:pt x="618" y="860"/>
                </a:lnTo>
                <a:lnTo>
                  <a:pt x="796" y="1053"/>
                </a:lnTo>
                <a:lnTo>
                  <a:pt x="984" y="1237"/>
                </a:lnTo>
                <a:lnTo>
                  <a:pt x="1179" y="1411"/>
                </a:lnTo>
                <a:lnTo>
                  <a:pt x="1384" y="1575"/>
                </a:lnTo>
                <a:lnTo>
                  <a:pt x="1596" y="1730"/>
                </a:lnTo>
                <a:lnTo>
                  <a:pt x="1815" y="1874"/>
                </a:lnTo>
                <a:lnTo>
                  <a:pt x="2042" y="2007"/>
                </a:lnTo>
                <a:lnTo>
                  <a:pt x="2275" y="2129"/>
                </a:lnTo>
                <a:lnTo>
                  <a:pt x="2514" y="2240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1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6160" y="717480"/>
            <a:ext cx="2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104320" y="3598920"/>
            <a:ext cx="287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69200" y="251784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(perfect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397560" y="1143000"/>
            <a:ext cx="30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S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(perfect)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a1009f"/>
                </a:solidFill>
                <a:latin typeface="Math A"/>
                <a:ea typeface="Math A"/>
              </a:rPr>
              <a:t></a:t>
            </a: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8197920" y="403056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1536840" y="106992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2" y="1596"/>
                </a:lnTo>
                <a:lnTo>
                  <a:pt x="915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1571760" y="2403360"/>
            <a:ext cx="3197160" cy="11606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1160640"/>
              <a:gd name="textAreaBottom" fmla="*/ 1161000 h 1160640"/>
            </a:gdLst>
            <a:ahLst/>
            <a:rect l="textAreaLeft" t="textAreaTop" r="textAreaRight" b="textAreaBottom"/>
            <a:pathLst>
              <a:path w="1556" h="946">
                <a:moveTo>
                  <a:pt x="1555" y="945"/>
                </a:moveTo>
                <a:lnTo>
                  <a:pt x="1555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1563840" y="217980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871560" y="2259000"/>
            <a:ext cx="477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853920" y="2011320"/>
            <a:ext cx="479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552920" y="3665520"/>
            <a:ext cx="477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606840" y="367200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868480" y="1123920"/>
            <a:ext cx="28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Whole Indus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1457280" y="4297320"/>
            <a:ext cx="6929640" cy="2540160"/>
          </a:xfrm>
          <a:custGeom>
            <a:avLst/>
            <a:gdLst>
              <a:gd name="textAreaLeft" fmla="*/ 0 w 6929640"/>
              <a:gd name="textAreaRight" fmla="*/ 6930000 w 692964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3373" h="2387">
                <a:moveTo>
                  <a:pt x="0" y="0"/>
                </a:moveTo>
                <a:lnTo>
                  <a:pt x="0" y="2386"/>
                </a:lnTo>
                <a:lnTo>
                  <a:pt x="3372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054080" y="4030560"/>
            <a:ext cx="289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8112240" y="6923160"/>
            <a:ext cx="264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424640" y="557856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397560" y="4361040"/>
            <a:ext cx="819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1544760" y="428796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8"/>
                </a:lnTo>
                <a:lnTo>
                  <a:pt x="742" y="1595"/>
                </a:lnTo>
                <a:lnTo>
                  <a:pt x="916" y="1503"/>
                </a:lnTo>
                <a:lnTo>
                  <a:pt x="1085" y="1403"/>
                </a:lnTo>
                <a:lnTo>
                  <a:pt x="1250" y="1295"/>
                </a:lnTo>
                <a:lnTo>
                  <a:pt x="1410" y="1180"/>
                </a:lnTo>
                <a:lnTo>
                  <a:pt x="1562" y="1056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879480" y="5396040"/>
            <a:ext cx="477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863640" y="514836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659480" y="6788160"/>
            <a:ext cx="37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868480" y="4576680"/>
            <a:ext cx="2830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Individual Fi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868480" y="349200"/>
            <a:ext cx="4176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rtel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3710160" y="6778800"/>
            <a:ext cx="455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3805200" y="5326200"/>
            <a:ext cx="0" cy="15127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00120" y="5578560"/>
            <a:ext cx="68374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1515960" y="5319720"/>
            <a:ext cx="683604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4784760" y="5586480"/>
            <a:ext cx="0" cy="12240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5203800" y="5370480"/>
            <a:ext cx="0" cy="1441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5099040" y="6804000"/>
            <a:ext cx="36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1495440" y="557676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6"/>
              <p:cNvSpPr txBox="1"/>
              <p:nvPr/>
            </p:nvSpPr>
            <p:spPr>
              <a:xfrm>
                <a:off x="8196120" y="1108080"/>
                <a:ext cx="509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Text Box 22"/>
          <p:cNvSpPr/>
          <p:nvPr/>
        </p:nvSpPr>
        <p:spPr>
          <a:xfrm>
            <a:off x="7424640" y="482292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8754840" y="7222680"/>
            <a:ext cx="113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Cartel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4:27Z</dcterms:modified>
  <cp:revision>135</cp:revision>
  <dc:subject/>
  <dc:title>Cartel market analysis presentation</dc:title>
</cp:coreProperties>
</file>