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D56B-C27C-4331-BD43-FAD98929A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97EA-8365-46F6-8486-F9A666EF5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A6DB-3DB4-4E4F-8C4C-4908EA071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908440" y="514440"/>
            <a:ext cx="3327120" cy="2571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EECA-41B7-4F68-8AD8-0458855A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9F6C-898F-4E05-A363-6AF9D15E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7CE8-66DA-47D1-B65B-154383FE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832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4800" y="15732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184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832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4800" y="3339000"/>
            <a:ext cx="343440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1765-5FE4-41A0-8BF9-790348E8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F377-0352-472B-929C-85360258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C079-EB60-476B-B009-0D64AE88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95AF-4BDC-4FF2-8160-DF9C8FB9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475E-2BC3-4C02-AE8F-A391BC65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1840" y="353880"/>
            <a:ext cx="1066644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EF11-C4F0-4E94-BCFE-6A0E8954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3EE-19D6-44E6-B533-5CC1DF5A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57360" y="33390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13F5-B452-47E2-BD32-1780A6D4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184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57360" y="1573200"/>
            <a:ext cx="520488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1840" y="3339000"/>
            <a:ext cx="10666440" cy="16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3E8-522D-4924-B1BE-3CD6D4AD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1840" y="353880"/>
            <a:ext cx="1066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1840" y="1573200"/>
            <a:ext cx="106664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aqc11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BFAD-E3D1-4DFF-BC8A-CFFE834C9F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11400" y="514440"/>
            <a:ext cx="41054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entral Limit The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38280" y="1149480"/>
            <a:ext cx="907092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f samples of size  </a:t>
            </a: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 are drawn from a population with a mean  </a:t>
            </a:r>
            <a:r>
              <a:rPr b="1" lang="en-GB" sz="2300" spc="-1" strike="noStrike">
                <a:solidFill>
                  <a:srgbClr val="000000"/>
                </a:solidFill>
                <a:latin typeface="Math A"/>
                <a:ea typeface="Math A"/>
              </a:rPr>
              <a:t>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nd a standard deviation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Math A"/>
                <a:ea typeface="Math A"/>
              </a:rPr>
              <a:t>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, then as  </a:t>
            </a:r>
            <a:r>
              <a:rPr b="1" i="1" lang="en-GB" sz="23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 increases in size the distribution of sample means approaches a normal distribution with 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ean  </a:t>
            </a:r>
            <a:r>
              <a:rPr b="1" lang="en-GB" sz="2300" spc="-1" strike="noStrike">
                <a:solidFill>
                  <a:srgbClr val="000000"/>
                </a:solidFill>
                <a:latin typeface="Math A"/>
                <a:ea typeface="Math A"/>
              </a:rPr>
              <a:t>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  and a standard error of the means of 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2062080" y="5533920"/>
            <a:ext cx="1863720" cy="1025640"/>
          </a:xfrm>
          <a:custGeom>
            <a:avLst/>
            <a:gdLst/>
            <a:ahLst/>
            <a:rect l="l" t="t" r="r" b="b"/>
            <a:pathLst>
              <a:path w="907" h="836">
                <a:moveTo>
                  <a:pt x="0" y="827"/>
                </a:moveTo>
                <a:lnTo>
                  <a:pt x="906" y="827"/>
                </a:lnTo>
                <a:lnTo>
                  <a:pt x="885" y="821"/>
                </a:lnTo>
                <a:lnTo>
                  <a:pt x="841" y="805"/>
                </a:lnTo>
                <a:lnTo>
                  <a:pt x="804" y="774"/>
                </a:lnTo>
                <a:lnTo>
                  <a:pt x="771" y="731"/>
                </a:lnTo>
                <a:lnTo>
                  <a:pt x="743" y="677"/>
                </a:lnTo>
                <a:lnTo>
                  <a:pt x="717" y="613"/>
                </a:lnTo>
                <a:lnTo>
                  <a:pt x="695" y="544"/>
                </a:lnTo>
                <a:lnTo>
                  <a:pt x="674" y="471"/>
                </a:lnTo>
                <a:lnTo>
                  <a:pt x="654" y="396"/>
                </a:lnTo>
                <a:lnTo>
                  <a:pt x="634" y="320"/>
                </a:lnTo>
                <a:lnTo>
                  <a:pt x="615" y="248"/>
                </a:lnTo>
                <a:lnTo>
                  <a:pt x="594" y="181"/>
                </a:lnTo>
                <a:lnTo>
                  <a:pt x="571" y="122"/>
                </a:lnTo>
                <a:lnTo>
                  <a:pt x="545" y="71"/>
                </a:lnTo>
                <a:lnTo>
                  <a:pt x="517" y="33"/>
                </a:lnTo>
                <a:lnTo>
                  <a:pt x="485" y="7"/>
                </a:lnTo>
                <a:lnTo>
                  <a:pt x="449" y="0"/>
                </a:lnTo>
                <a:lnTo>
                  <a:pt x="445" y="0"/>
                </a:lnTo>
                <a:lnTo>
                  <a:pt x="406" y="7"/>
                </a:lnTo>
                <a:lnTo>
                  <a:pt x="374" y="32"/>
                </a:lnTo>
                <a:lnTo>
                  <a:pt x="345" y="70"/>
                </a:lnTo>
                <a:lnTo>
                  <a:pt x="320" y="122"/>
                </a:lnTo>
                <a:lnTo>
                  <a:pt x="296" y="182"/>
                </a:lnTo>
                <a:lnTo>
                  <a:pt x="275" y="251"/>
                </a:lnTo>
                <a:lnTo>
                  <a:pt x="255" y="324"/>
                </a:lnTo>
                <a:lnTo>
                  <a:pt x="235" y="402"/>
                </a:lnTo>
                <a:lnTo>
                  <a:pt x="214" y="478"/>
                </a:lnTo>
                <a:lnTo>
                  <a:pt x="193" y="553"/>
                </a:lnTo>
                <a:lnTo>
                  <a:pt x="170" y="624"/>
                </a:lnTo>
                <a:lnTo>
                  <a:pt x="145" y="689"/>
                </a:lnTo>
                <a:lnTo>
                  <a:pt x="115" y="744"/>
                </a:lnTo>
                <a:lnTo>
                  <a:pt x="83" y="789"/>
                </a:lnTo>
                <a:lnTo>
                  <a:pt x="46" y="819"/>
                </a:lnTo>
                <a:lnTo>
                  <a:pt x="4" y="835"/>
                </a:lnTo>
                <a:lnTo>
                  <a:pt x="0" y="827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6078600" y="5532480"/>
            <a:ext cx="1865160" cy="1027080"/>
          </a:xfrm>
          <a:custGeom>
            <a:avLst/>
            <a:gdLst/>
            <a:ahLst/>
            <a:rect l="l" t="t" r="r" b="b"/>
            <a:pathLst>
              <a:path w="908" h="837">
                <a:moveTo>
                  <a:pt x="0" y="828"/>
                </a:moveTo>
                <a:lnTo>
                  <a:pt x="907" y="828"/>
                </a:lnTo>
                <a:lnTo>
                  <a:pt x="886" y="821"/>
                </a:lnTo>
                <a:lnTo>
                  <a:pt x="842" y="805"/>
                </a:lnTo>
                <a:lnTo>
                  <a:pt x="804" y="775"/>
                </a:lnTo>
                <a:lnTo>
                  <a:pt x="771" y="731"/>
                </a:lnTo>
                <a:lnTo>
                  <a:pt x="744" y="677"/>
                </a:lnTo>
                <a:lnTo>
                  <a:pt x="717" y="614"/>
                </a:lnTo>
                <a:lnTo>
                  <a:pt x="695" y="544"/>
                </a:lnTo>
                <a:lnTo>
                  <a:pt x="674" y="471"/>
                </a:lnTo>
                <a:lnTo>
                  <a:pt x="655" y="396"/>
                </a:lnTo>
                <a:lnTo>
                  <a:pt x="634" y="321"/>
                </a:lnTo>
                <a:lnTo>
                  <a:pt x="615" y="249"/>
                </a:lnTo>
                <a:lnTo>
                  <a:pt x="594" y="182"/>
                </a:lnTo>
                <a:lnTo>
                  <a:pt x="572" y="122"/>
                </a:lnTo>
                <a:lnTo>
                  <a:pt x="546" y="72"/>
                </a:lnTo>
                <a:lnTo>
                  <a:pt x="518" y="33"/>
                </a:lnTo>
                <a:lnTo>
                  <a:pt x="485" y="8"/>
                </a:lnTo>
                <a:lnTo>
                  <a:pt x="449" y="0"/>
                </a:lnTo>
                <a:lnTo>
                  <a:pt x="446" y="0"/>
                </a:lnTo>
                <a:lnTo>
                  <a:pt x="407" y="7"/>
                </a:lnTo>
                <a:lnTo>
                  <a:pt x="374" y="32"/>
                </a:lnTo>
                <a:lnTo>
                  <a:pt x="345" y="71"/>
                </a:lnTo>
                <a:lnTo>
                  <a:pt x="320" y="122"/>
                </a:lnTo>
                <a:lnTo>
                  <a:pt x="296" y="183"/>
                </a:lnTo>
                <a:lnTo>
                  <a:pt x="275" y="251"/>
                </a:lnTo>
                <a:lnTo>
                  <a:pt x="255" y="325"/>
                </a:lnTo>
                <a:lnTo>
                  <a:pt x="236" y="402"/>
                </a:lnTo>
                <a:lnTo>
                  <a:pt x="215" y="478"/>
                </a:lnTo>
                <a:lnTo>
                  <a:pt x="194" y="553"/>
                </a:lnTo>
                <a:lnTo>
                  <a:pt x="171" y="624"/>
                </a:lnTo>
                <a:lnTo>
                  <a:pt x="145" y="689"/>
                </a:lnTo>
                <a:lnTo>
                  <a:pt x="116" y="745"/>
                </a:lnTo>
                <a:lnTo>
                  <a:pt x="84" y="789"/>
                </a:lnTo>
                <a:lnTo>
                  <a:pt x="46" y="820"/>
                </a:lnTo>
                <a:lnTo>
                  <a:pt x="4" y="836"/>
                </a:lnTo>
                <a:lnTo>
                  <a:pt x="0" y="828"/>
                </a:lnTo>
              </a:path>
            </a:pathLst>
          </a:custGeom>
          <a:noFill/>
          <a:ln w="126720">
            <a:solidFill>
              <a:srgbClr val="e26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 flipV="1">
            <a:off x="2987640" y="3046320"/>
            <a:ext cx="0" cy="3726000"/>
          </a:xfrm>
          <a:prstGeom prst="line">
            <a:avLst/>
          </a:prstGeom>
          <a:ln w="31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 flipV="1">
            <a:off x="6994440" y="3046320"/>
            <a:ext cx="0" cy="3726000"/>
          </a:xfrm>
          <a:prstGeom prst="line">
            <a:avLst/>
          </a:prstGeom>
          <a:ln w="31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 flipV="1">
            <a:off x="1957320" y="3808440"/>
            <a:ext cx="2089080" cy="985680"/>
          </a:xfrm>
          <a:prstGeom prst="roundRect">
            <a:avLst>
              <a:gd name="adj" fmla="val 0"/>
            </a:avLst>
          </a:prstGeom>
          <a:noFill/>
          <a:ln w="126720">
            <a:solidFill>
              <a:srgbClr val="a100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1"/>
          <p:cNvSpPr/>
          <p:nvPr/>
        </p:nvSpPr>
        <p:spPr>
          <a:xfrm>
            <a:off x="6175440" y="3789360"/>
            <a:ext cx="3065400" cy="996840"/>
          </a:xfrm>
          <a:custGeom>
            <a:avLst/>
            <a:gdLst/>
            <a:ahLst/>
            <a:rect l="l" t="t" r="r" b="b"/>
            <a:pathLst>
              <a:path w="1492" h="813">
                <a:moveTo>
                  <a:pt x="7" y="812"/>
                </a:moveTo>
                <a:lnTo>
                  <a:pt x="1491" y="812"/>
                </a:lnTo>
                <a:lnTo>
                  <a:pt x="0" y="0"/>
                </a:lnTo>
                <a:lnTo>
                  <a:pt x="0" y="812"/>
                </a:lnTo>
                <a:lnTo>
                  <a:pt x="7" y="812"/>
                </a:lnTo>
              </a:path>
            </a:pathLst>
          </a:custGeom>
          <a:noFill/>
          <a:ln w="126720">
            <a:solidFill>
              <a:srgbClr val="e26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1465200" y="3602160"/>
            <a:ext cx="0" cy="118584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6200000">
            <a:off x="261000" y="3758040"/>
            <a:ext cx="16160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 of individu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 flipV="1">
            <a:off x="1471680" y="5358960"/>
            <a:ext cx="0" cy="118764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 rot="16200000">
            <a:off x="280080" y="5618520"/>
            <a:ext cx="1647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 of batch me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2581200" y="6838920"/>
            <a:ext cx="8636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019320" y="2806560"/>
            <a:ext cx="172260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ul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7035840" y="2806560"/>
            <a:ext cx="166536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iangul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1465200" y="4788000"/>
            <a:ext cx="792324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6"/>
          <p:cNvSpPr/>
          <p:nvPr/>
        </p:nvSpPr>
        <p:spPr>
          <a:xfrm>
            <a:off x="1460520" y="6553080"/>
            <a:ext cx="792324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3"/>
              <p:cNvSpPr txBox="1"/>
              <p:nvPr/>
            </p:nvSpPr>
            <p:spPr>
              <a:xfrm>
                <a:off x="6800760" y="2114640"/>
                <a:ext cx="1513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34"/>
              <p:cNvSpPr txBox="1"/>
              <p:nvPr/>
            </p:nvSpPr>
            <p:spPr>
              <a:xfrm>
                <a:off x="3948120" y="1581120"/>
                <a:ext cx="3366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35"/>
              <p:cNvSpPr txBox="1"/>
              <p:nvPr/>
            </p:nvSpPr>
            <p:spPr>
              <a:xfrm>
                <a:off x="1457280" y="2259000"/>
                <a:ext cx="5446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38"/>
              <p:cNvSpPr txBox="1"/>
              <p:nvPr/>
            </p:nvSpPr>
            <p:spPr>
              <a:xfrm>
                <a:off x="6789600" y="2773440"/>
                <a:ext cx="5446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39"/>
              <p:cNvSpPr txBox="1"/>
              <p:nvPr/>
            </p:nvSpPr>
            <p:spPr>
              <a:xfrm>
                <a:off x="2797200" y="2730600"/>
                <a:ext cx="5443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Rectangle 41"/>
          <p:cNvSpPr/>
          <p:nvPr/>
        </p:nvSpPr>
        <p:spPr>
          <a:xfrm>
            <a:off x="7892280" y="7404840"/>
            <a:ext cx="196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LimitTheorem |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2"/>
          <p:cNvSpPr/>
          <p:nvPr/>
        </p:nvSpPr>
        <p:spPr>
          <a:xfrm>
            <a:off x="6541920" y="6838920"/>
            <a:ext cx="8636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28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860200" y="493200"/>
            <a:ext cx="4545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ndard Error of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4"/>
          <p:cNvSpPr/>
          <p:nvPr/>
        </p:nvSpPr>
        <p:spPr>
          <a:xfrm>
            <a:off x="2941560" y="2011320"/>
            <a:ext cx="4194360" cy="1198440"/>
          </a:xfrm>
          <a:custGeom>
            <a:avLst/>
            <a:gdLst/>
            <a:ahLst/>
            <a:rect l="l" t="t" r="r" b="b"/>
            <a:pathLst>
              <a:path w="2041" h="977">
                <a:moveTo>
                  <a:pt x="0" y="967"/>
                </a:moveTo>
                <a:lnTo>
                  <a:pt x="2040" y="967"/>
                </a:lnTo>
                <a:lnTo>
                  <a:pt x="1991" y="959"/>
                </a:lnTo>
                <a:lnTo>
                  <a:pt x="1895" y="942"/>
                </a:lnTo>
                <a:lnTo>
                  <a:pt x="1810" y="906"/>
                </a:lnTo>
                <a:lnTo>
                  <a:pt x="1737" y="856"/>
                </a:lnTo>
                <a:lnTo>
                  <a:pt x="1673" y="792"/>
                </a:lnTo>
                <a:lnTo>
                  <a:pt x="1615" y="719"/>
                </a:lnTo>
                <a:lnTo>
                  <a:pt x="1564" y="638"/>
                </a:lnTo>
                <a:lnTo>
                  <a:pt x="1517" y="552"/>
                </a:lnTo>
                <a:lnTo>
                  <a:pt x="1473" y="464"/>
                </a:lnTo>
                <a:lnTo>
                  <a:pt x="1429" y="377"/>
                </a:lnTo>
                <a:lnTo>
                  <a:pt x="1384" y="293"/>
                </a:lnTo>
                <a:lnTo>
                  <a:pt x="1337" y="215"/>
                </a:lnTo>
                <a:lnTo>
                  <a:pt x="1286" y="144"/>
                </a:lnTo>
                <a:lnTo>
                  <a:pt x="1230" y="85"/>
                </a:lnTo>
                <a:lnTo>
                  <a:pt x="1166" y="40"/>
                </a:lnTo>
                <a:lnTo>
                  <a:pt x="1093" y="11"/>
                </a:lnTo>
                <a:lnTo>
                  <a:pt x="1010" y="0"/>
                </a:lnTo>
                <a:lnTo>
                  <a:pt x="1002" y="0"/>
                </a:lnTo>
                <a:lnTo>
                  <a:pt x="917" y="10"/>
                </a:lnTo>
                <a:lnTo>
                  <a:pt x="842" y="39"/>
                </a:lnTo>
                <a:lnTo>
                  <a:pt x="777" y="85"/>
                </a:lnTo>
                <a:lnTo>
                  <a:pt x="720" y="144"/>
                </a:lnTo>
                <a:lnTo>
                  <a:pt x="667" y="216"/>
                </a:lnTo>
                <a:lnTo>
                  <a:pt x="619" y="295"/>
                </a:lnTo>
                <a:lnTo>
                  <a:pt x="574" y="382"/>
                </a:lnTo>
                <a:lnTo>
                  <a:pt x="529" y="470"/>
                </a:lnTo>
                <a:lnTo>
                  <a:pt x="484" y="561"/>
                </a:lnTo>
                <a:lnTo>
                  <a:pt x="436" y="648"/>
                </a:lnTo>
                <a:lnTo>
                  <a:pt x="384" y="731"/>
                </a:lnTo>
                <a:lnTo>
                  <a:pt x="327" y="806"/>
                </a:lnTo>
                <a:lnTo>
                  <a:pt x="261" y="871"/>
                </a:lnTo>
                <a:lnTo>
                  <a:pt x="188" y="923"/>
                </a:lnTo>
                <a:lnTo>
                  <a:pt x="104" y="959"/>
                </a:lnTo>
                <a:lnTo>
                  <a:pt x="8" y="976"/>
                </a:lnTo>
                <a:lnTo>
                  <a:pt x="0" y="967"/>
                </a:lnTo>
              </a:path>
            </a:pathLst>
          </a:custGeom>
          <a:solidFill>
            <a:srgbClr val="ffe118"/>
          </a:solidFill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2860560" y="2009880"/>
            <a:ext cx="0" cy="118728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 rot="16200000">
            <a:off x="1703160" y="2055240"/>
            <a:ext cx="15670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 of individu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855880" y="3197160"/>
            <a:ext cx="4621320" cy="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8"/>
          <p:cNvSpPr/>
          <p:nvPr/>
        </p:nvSpPr>
        <p:spPr>
          <a:xfrm>
            <a:off x="3790800" y="4078440"/>
            <a:ext cx="2465640" cy="1199880"/>
          </a:xfrm>
          <a:custGeom>
            <a:avLst/>
            <a:gdLst/>
            <a:ahLst/>
            <a:rect l="l" t="t" r="r" b="b"/>
            <a:pathLst>
              <a:path w="1200" h="978">
                <a:moveTo>
                  <a:pt x="0" y="967"/>
                </a:moveTo>
                <a:lnTo>
                  <a:pt x="1199" y="967"/>
                </a:lnTo>
                <a:lnTo>
                  <a:pt x="1171" y="959"/>
                </a:lnTo>
                <a:lnTo>
                  <a:pt x="1113" y="943"/>
                </a:lnTo>
                <a:lnTo>
                  <a:pt x="1064" y="907"/>
                </a:lnTo>
                <a:lnTo>
                  <a:pt x="1020" y="856"/>
                </a:lnTo>
                <a:lnTo>
                  <a:pt x="983" y="792"/>
                </a:lnTo>
                <a:lnTo>
                  <a:pt x="949" y="719"/>
                </a:lnTo>
                <a:lnTo>
                  <a:pt x="919" y="638"/>
                </a:lnTo>
                <a:lnTo>
                  <a:pt x="891" y="552"/>
                </a:lnTo>
                <a:lnTo>
                  <a:pt x="865" y="464"/>
                </a:lnTo>
                <a:lnTo>
                  <a:pt x="839" y="377"/>
                </a:lnTo>
                <a:lnTo>
                  <a:pt x="813" y="293"/>
                </a:lnTo>
                <a:lnTo>
                  <a:pt x="785" y="215"/>
                </a:lnTo>
                <a:lnTo>
                  <a:pt x="756" y="144"/>
                </a:lnTo>
                <a:lnTo>
                  <a:pt x="722" y="85"/>
                </a:lnTo>
                <a:lnTo>
                  <a:pt x="685" y="40"/>
                </a:lnTo>
                <a:lnTo>
                  <a:pt x="642" y="11"/>
                </a:lnTo>
                <a:lnTo>
                  <a:pt x="593" y="0"/>
                </a:lnTo>
                <a:lnTo>
                  <a:pt x="589" y="0"/>
                </a:lnTo>
                <a:lnTo>
                  <a:pt x="539" y="10"/>
                </a:lnTo>
                <a:lnTo>
                  <a:pt x="495" y="39"/>
                </a:lnTo>
                <a:lnTo>
                  <a:pt x="457" y="85"/>
                </a:lnTo>
                <a:lnTo>
                  <a:pt x="423" y="144"/>
                </a:lnTo>
                <a:lnTo>
                  <a:pt x="392" y="216"/>
                </a:lnTo>
                <a:lnTo>
                  <a:pt x="364" y="295"/>
                </a:lnTo>
                <a:lnTo>
                  <a:pt x="337" y="382"/>
                </a:lnTo>
                <a:lnTo>
                  <a:pt x="311" y="470"/>
                </a:lnTo>
                <a:lnTo>
                  <a:pt x="283" y="561"/>
                </a:lnTo>
                <a:lnTo>
                  <a:pt x="255" y="649"/>
                </a:lnTo>
                <a:lnTo>
                  <a:pt x="225" y="731"/>
                </a:lnTo>
                <a:lnTo>
                  <a:pt x="192" y="806"/>
                </a:lnTo>
                <a:lnTo>
                  <a:pt x="153" y="871"/>
                </a:lnTo>
                <a:lnTo>
                  <a:pt x="110" y="923"/>
                </a:lnTo>
                <a:lnTo>
                  <a:pt x="60" y="959"/>
                </a:lnTo>
                <a:lnTo>
                  <a:pt x="4" y="977"/>
                </a:lnTo>
                <a:lnTo>
                  <a:pt x="0" y="967"/>
                </a:lnTo>
              </a:path>
            </a:pathLst>
          </a:custGeom>
          <a:solidFill>
            <a:srgbClr val="00c200"/>
          </a:solidFill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 flipV="1">
            <a:off x="2857680" y="4076280"/>
            <a:ext cx="0" cy="118764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 rot="16200000">
            <a:off x="1735200" y="4265280"/>
            <a:ext cx="154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 of batch me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2851200" y="5264280"/>
            <a:ext cx="4621320" cy="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5013360" y="1484280"/>
            <a:ext cx="0" cy="4227480"/>
          </a:xfrm>
          <a:prstGeom prst="line">
            <a:avLst/>
          </a:prstGeom>
          <a:ln w="47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5840280" y="4317840"/>
            <a:ext cx="1565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2"/>
          <p:cNvSpPr/>
          <p:nvPr/>
        </p:nvSpPr>
        <p:spPr>
          <a:xfrm>
            <a:off x="2004840" y="6478560"/>
            <a:ext cx="5981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andard error of mean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24"/>
              <p:cNvSpPr txBox="1"/>
              <p:nvPr/>
            </p:nvSpPr>
            <p:spPr>
              <a:xfrm>
                <a:off x="5492880" y="6176880"/>
                <a:ext cx="21286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27"/>
              <p:cNvSpPr txBox="1"/>
              <p:nvPr/>
            </p:nvSpPr>
            <p:spPr>
              <a:xfrm>
                <a:off x="5892840" y="4226040"/>
                <a:ext cx="7920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8" name="Line 32"/>
          <p:cNvSpPr/>
          <p:nvPr/>
        </p:nvSpPr>
        <p:spPr>
          <a:xfrm>
            <a:off x="4064040" y="2590920"/>
            <a:ext cx="1873080" cy="0"/>
          </a:xfrm>
          <a:prstGeom prst="line">
            <a:avLst/>
          </a:prstGeom>
          <a:ln w="37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3"/>
          <p:cNvSpPr/>
          <p:nvPr/>
        </p:nvSpPr>
        <p:spPr>
          <a:xfrm flipV="1">
            <a:off x="4381560" y="4692600"/>
            <a:ext cx="1224000" cy="14400"/>
          </a:xfrm>
          <a:prstGeom prst="line">
            <a:avLst/>
          </a:prstGeom>
          <a:ln w="37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35"/>
              <p:cNvSpPr txBox="1"/>
              <p:nvPr/>
            </p:nvSpPr>
            <p:spPr>
              <a:xfrm>
                <a:off x="6058080" y="2373480"/>
                <a:ext cx="4838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36"/>
              <p:cNvSpPr txBox="1"/>
              <p:nvPr/>
            </p:nvSpPr>
            <p:spPr>
              <a:xfrm>
                <a:off x="4803840" y="1063800"/>
                <a:ext cx="484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Rectangle 38"/>
          <p:cNvSpPr/>
          <p:nvPr/>
        </p:nvSpPr>
        <p:spPr>
          <a:xfrm>
            <a:off x="7892280" y="7404840"/>
            <a:ext cx="196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73080" indent="-7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LimitTheorem |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9"/>
          <p:cNvSpPr/>
          <p:nvPr/>
        </p:nvSpPr>
        <p:spPr>
          <a:xfrm>
            <a:off x="4524480" y="5757840"/>
            <a:ext cx="925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3080" indent="-7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95" name="TextBox 24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8:36:46Z</dcterms:created>
  <dc:creator>Brian Grievson</dc:creator>
  <dc:description/>
  <dc:language>en-US</dc:language>
  <cp:lastModifiedBy>Chris Runciman</cp:lastModifiedBy>
  <dcterms:modified xsi:type="dcterms:W3CDTF">2020-11-27T10:53:00Z</dcterms:modified>
  <cp:revision>74</cp:revision>
  <dc:subject/>
  <dc:title>Central limit theorem presentation</dc:title>
</cp:coreProperties>
</file>