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7407-CF1A-4063-9E49-6CFCEDA197AA}" type="datetime">
              <a:rPr b="0" lang="en-GB" sz="13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007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5007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8A43-1718-40C6-919D-A2A869FD876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s://money.cnn.com/magazines/fortune/fortune_archive/2001/08/13/308077/index.htm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www.marketingteacher.com/lesson-store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4A5D-2A4A-4AB9-9086-9AE38D8CFBF0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A2FA-3A51-4F16-A442-6B05C5A61E4D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7B46-3710-4A51-AFA2-3DDD80E99102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6C29-C873-4DC1-991D-80F7310468A1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money.cnn.com/magazines/fortune/fortune_archive/2001/08/13/308077/index.ht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ED4-6F06-4AAE-BA7B-3B91AA039367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ood marketing website resource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arketingteacher.com/lesson-store/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C30C-3F55-489B-B9F2-1A4CDE57464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067A-4979-495F-9C18-1D365DFAA762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EEE9-6A24-4FDD-9617-851189FABACA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B125-7163-458A-B5FB-BBA703D58B4D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D8E5-8971-420A-A1B6-58D6EF6AAE9E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6EC-6642-489A-8594-18891970F96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D9F-8F55-4A79-9517-FC4B80658710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18CC-08C9-4F7A-856A-0830BC6F69C2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850C-8982-4BD0-A0BF-C3B768F4C5AB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B950-0A1A-4835-8566-0EAF00810B15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BCF4-A846-4315-93D6-1CACFADD077C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F1B8-B678-4374-8BBD-C3EC619A530C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95560" y="950112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2556-58A4-44D3-A931-34272C85A83F}" type="slidenum">
              <a:rPr b="0" lang="en-GB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244-17D0-4868-A178-45FAE722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C57-E9B6-40D5-8129-FA00EA97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8FE-B001-4A04-9683-82D43570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6EE-CC3F-4350-A65A-28B901F9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A5B-80B3-438B-B161-816A362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F33-CC73-4BA2-A36B-6E9BBF66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37E-CB1A-4247-AFEF-96A5E062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BBC-E7DA-40F5-A05A-8D54738E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555-2F26-4158-BC87-F22A693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F30-9670-4621-9E12-A07E3351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5BB-A1E1-43AE-97F1-F33C2EF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4A4-637F-41B2-9D6F-87DAFAB2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174C-C4A0-4831-9DFB-D81647625918}" type="datetime">
              <a:rPr b="0" lang="en-GB" sz="1200" spc="-1" strike="noStrike">
                <a:solidFill>
                  <a:srgbClr val="ffffff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78E5-3FB4-4828-A9BA-255C5731DE0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sc.li/3840bDs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3a74"/>
                </a:solidFill>
                <a:latin typeface="Arial"/>
                <a:ea typeface="Arial"/>
              </a:rPr>
              <a:t>Business Skills for Chemical Scientis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6" descr="http://www.brewersguardian.com/files.php?file=/Uni_of_Nott_logo_798923080.jpg"/>
          <p:cNvPicPr/>
          <p:nvPr/>
        </p:nvPicPr>
        <p:blipFill>
          <a:blip r:embed="rId1"/>
          <a:stretch/>
        </p:blipFill>
        <p:spPr>
          <a:xfrm>
            <a:off x="7524720" y="6093000"/>
            <a:ext cx="1530360" cy="68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ottingham.ac.uk/xpert/attribution/pictureattrib/mangle.php?url=http://farm5.static.flickr.com/4016/4712925031_76d0cecdf3_b.jpg&amp;original_url=http://www.flickr.com/49503002894@N01/4712925031/&amp;license=flickr_1&amp;flickr_id=4712925031&amp;size=full&amp;picturename=A%20Gulf%20Oil%20Rig"/>
          <p:cNvPicPr/>
          <p:nvPr/>
        </p:nvPicPr>
        <p:blipFill>
          <a:blip r:embed="rId2"/>
          <a:stretch/>
        </p:blipFill>
        <p:spPr>
          <a:xfrm>
            <a:off x="826920" y="2781360"/>
            <a:ext cx="2160720" cy="160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nottingham.ac.uk/xpert/attribution/pictureattrib/mangle.php?url=http://farm5.static.flickr.com/5011/5513586978_0a09f8e7d7_b.jpg&amp;original_url=http://www.flickr.com/88651026@N00/5513586978/&amp;license=flickr_1&amp;flickr_id=5513586978&amp;size=full&amp;picturename=Art%20Store%20Lust"/>
          <p:cNvPicPr/>
          <p:nvPr/>
        </p:nvPicPr>
        <p:blipFill>
          <a:blip r:embed="rId3"/>
          <a:stretch/>
        </p:blipFill>
        <p:spPr>
          <a:xfrm>
            <a:off x="4427640" y="4797360"/>
            <a:ext cx="222084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nottingham.ac.uk/xpert/attribution/pictureattrib/mangle.php?url=http://farm5.static.flickr.com/7002/6469183731_5c557818ff_b.jpg&amp;original_url=http://www.flickr.com/28011375@N04/6469183731/&amp;license=flickr_1&amp;flickr_id=6469183731&amp;size=full&amp;picturename=green%20monster"/>
          <p:cNvPicPr/>
          <p:nvPr/>
        </p:nvPicPr>
        <p:blipFill>
          <a:blip r:embed="rId4"/>
          <a:stretch/>
        </p:blipFill>
        <p:spPr>
          <a:xfrm>
            <a:off x="6227640" y="2781360"/>
            <a:ext cx="216072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5"/>
          <a:stretch/>
        </p:blipFill>
        <p:spPr>
          <a:xfrm>
            <a:off x="3924360" y="1989000"/>
            <a:ext cx="1326960" cy="1800360"/>
          </a:xfrm>
          <a:prstGeom prst="rect">
            <a:avLst/>
          </a:prstGeom>
          <a:ln w="0">
            <a:noFill/>
          </a:ln>
        </p:spPr>
      </p:pic>
      <p:sp>
        <p:nvSpPr>
          <p:cNvPr id="54" name="Bent Arrow 10"/>
          <p:cNvSpPr/>
          <p:nvPr/>
        </p:nvSpPr>
        <p:spPr>
          <a:xfrm>
            <a:off x="1692360" y="2205000"/>
            <a:ext cx="1942920" cy="432000"/>
          </a:xfrm>
          <a:custGeom>
            <a:avLst/>
            <a:gdLst/>
            <a:ahLst/>
            <a:rect l="l" t="t" r="r" b="b"/>
            <a:pathLst>
              <a:path w="1943100" h="431800">
                <a:moveTo>
                  <a:pt x="0" y="431800"/>
                </a:moveTo>
                <a:lnTo>
                  <a:pt x="0" y="242888"/>
                </a:lnTo>
                <a:cubicBezTo>
                  <a:pt x="0" y="138554"/>
                  <a:pt x="84579" y="53975"/>
                  <a:pt x="188913" y="53975"/>
                </a:cubicBezTo>
                <a:lnTo>
                  <a:pt x="1835150" y="53975"/>
                </a:lnTo>
                <a:lnTo>
                  <a:pt x="1835150" y="0"/>
                </a:lnTo>
                <a:lnTo>
                  <a:pt x="1943100" y="107950"/>
                </a:lnTo>
                <a:lnTo>
                  <a:pt x="1835150" y="215900"/>
                </a:lnTo>
                <a:lnTo>
                  <a:pt x="1835150" y="161925"/>
                </a:lnTo>
                <a:lnTo>
                  <a:pt x="188913" y="161925"/>
                </a:lnTo>
                <a:cubicBezTo>
                  <a:pt x="144198" y="161925"/>
                  <a:pt x="107950" y="198173"/>
                  <a:pt x="107950" y="242888"/>
                </a:cubicBezTo>
                <a:lnTo>
                  <a:pt x="107950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Bent Arrow 11"/>
          <p:cNvSpPr/>
          <p:nvPr/>
        </p:nvSpPr>
        <p:spPr>
          <a:xfrm rot="10800000">
            <a:off x="6732720" y="4508280"/>
            <a:ext cx="792000" cy="1152360"/>
          </a:xfrm>
          <a:custGeom>
            <a:avLst/>
            <a:gdLst/>
            <a:ahLst/>
            <a:rect l="l" t="t" r="r" b="b"/>
            <a:pathLst>
              <a:path w="792162" h="1152525">
                <a:moveTo>
                  <a:pt x="0" y="1152525"/>
                </a:moveTo>
                <a:lnTo>
                  <a:pt x="0" y="401646"/>
                </a:lnTo>
                <a:cubicBezTo>
                  <a:pt x="0" y="210240"/>
                  <a:pt x="155165" y="55075"/>
                  <a:pt x="346571" y="55075"/>
                </a:cubicBezTo>
                <a:lnTo>
                  <a:pt x="652718" y="55075"/>
                </a:lnTo>
                <a:lnTo>
                  <a:pt x="652718" y="0"/>
                </a:lnTo>
                <a:lnTo>
                  <a:pt x="792162" y="105262"/>
                </a:lnTo>
                <a:lnTo>
                  <a:pt x="652718" y="210525"/>
                </a:lnTo>
                <a:lnTo>
                  <a:pt x="652718" y="155450"/>
                </a:lnTo>
                <a:lnTo>
                  <a:pt x="346571" y="155450"/>
                </a:lnTo>
                <a:cubicBezTo>
                  <a:pt x="210601" y="155450"/>
                  <a:pt x="100375" y="265676"/>
                  <a:pt x="100375" y="401646"/>
                </a:cubicBezTo>
                <a:lnTo>
                  <a:pt x="100375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Bent Arrow 13"/>
          <p:cNvSpPr/>
          <p:nvPr/>
        </p:nvSpPr>
        <p:spPr>
          <a:xfrm rot="5400000">
            <a:off x="6299640" y="1411920"/>
            <a:ext cx="360360" cy="2089080"/>
          </a:xfrm>
          <a:custGeom>
            <a:avLst/>
            <a:gdLst/>
            <a:ahLst/>
            <a:rect l="l" t="t" r="r" b="b"/>
            <a:pathLst>
              <a:path w="360363" h="2089150">
                <a:moveTo>
                  <a:pt x="0" y="2089150"/>
                </a:moveTo>
                <a:lnTo>
                  <a:pt x="0" y="202704"/>
                </a:lnTo>
                <a:cubicBezTo>
                  <a:pt x="0" y="115631"/>
                  <a:pt x="70586" y="45045"/>
                  <a:pt x="157659" y="45045"/>
                </a:cubicBezTo>
                <a:lnTo>
                  <a:pt x="270272" y="45045"/>
                </a:lnTo>
                <a:lnTo>
                  <a:pt x="270272" y="0"/>
                </a:lnTo>
                <a:lnTo>
                  <a:pt x="360363" y="90091"/>
                </a:lnTo>
                <a:lnTo>
                  <a:pt x="270272" y="180182"/>
                </a:lnTo>
                <a:lnTo>
                  <a:pt x="270272" y="135136"/>
                </a:lnTo>
                <a:lnTo>
                  <a:pt x="157659" y="135136"/>
                </a:lnTo>
                <a:cubicBezTo>
                  <a:pt x="120342" y="135136"/>
                  <a:pt x="90091" y="165387"/>
                  <a:pt x="90091" y="202704"/>
                </a:cubicBezTo>
                <a:lnTo>
                  <a:pt x="90091" y="2089150"/>
                </a:lnTo>
                <a:lnTo>
                  <a:pt x="0" y="2089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8" descr="http://www.nottingham.ac.uk/xpert/attribution/pictureattrib/mangle.php?url=http://farm5.static.flickr.com/7022/6669125419_24704f37c5_b.jpg&amp;original_url=http://www.flickr.com/50653067@N06/6669125419/&amp;license=flickr_1&amp;flickr_id=6669125419&amp;size=full&amp;picturename=economize%20(3)"/>
          <p:cNvPicPr/>
          <p:nvPr/>
        </p:nvPicPr>
        <p:blipFill>
          <a:blip r:embed="rId6"/>
          <a:stretch/>
        </p:blipFill>
        <p:spPr>
          <a:xfrm>
            <a:off x="2340000" y="4797360"/>
            <a:ext cx="1368360" cy="1724040"/>
          </a:xfrm>
          <a:prstGeom prst="rect">
            <a:avLst/>
          </a:prstGeom>
          <a:ln w="0">
            <a:noFill/>
          </a:ln>
        </p:spPr>
      </p:pic>
      <p:sp>
        <p:nvSpPr>
          <p:cNvPr id="58" name="Bent Arrow 15"/>
          <p:cNvSpPr/>
          <p:nvPr/>
        </p:nvSpPr>
        <p:spPr>
          <a:xfrm rot="16200000">
            <a:off x="1366920" y="4760640"/>
            <a:ext cx="1081080" cy="576360"/>
          </a:xfrm>
          <a:custGeom>
            <a:avLst/>
            <a:gdLst/>
            <a:ahLst/>
            <a:rect l="l" t="t" r="r" b="b"/>
            <a:pathLst>
              <a:path w="1081088" h="576263">
                <a:moveTo>
                  <a:pt x="0" y="576263"/>
                </a:moveTo>
                <a:lnTo>
                  <a:pt x="0" y="314386"/>
                </a:lnTo>
                <a:cubicBezTo>
                  <a:pt x="0" y="175147"/>
                  <a:pt x="112876" y="62271"/>
                  <a:pt x="252115" y="62271"/>
                </a:cubicBezTo>
                <a:lnTo>
                  <a:pt x="970768" y="62271"/>
                </a:lnTo>
                <a:lnTo>
                  <a:pt x="970768" y="0"/>
                </a:lnTo>
                <a:lnTo>
                  <a:pt x="1081088" y="112100"/>
                </a:lnTo>
                <a:lnTo>
                  <a:pt x="970768" y="224201"/>
                </a:lnTo>
                <a:lnTo>
                  <a:pt x="970768" y="161930"/>
                </a:lnTo>
                <a:lnTo>
                  <a:pt x="252115" y="161930"/>
                </a:lnTo>
                <a:cubicBezTo>
                  <a:pt x="167916" y="161930"/>
                  <a:pt x="99659" y="230187"/>
                  <a:pt x="99659" y="314386"/>
                </a:cubicBezTo>
                <a:lnTo>
                  <a:pt x="99659" y="576263"/>
                </a:lnTo>
                <a:lnTo>
                  <a:pt x="0" y="5762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eft Arrow 16"/>
          <p:cNvSpPr/>
          <p:nvPr/>
        </p:nvSpPr>
        <p:spPr>
          <a:xfrm>
            <a:off x="3780000" y="5445000"/>
            <a:ext cx="504720" cy="216000"/>
          </a:xfrm>
          <a:prstGeom prst="leftArrow">
            <a:avLst>
              <a:gd name="adj1" fmla="val 50000"/>
              <a:gd name="adj2" fmla="val 4996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7"/>
          <a:stretch/>
        </p:blipFill>
        <p:spPr>
          <a:xfrm>
            <a:off x="8325000" y="123840"/>
            <a:ext cx="78408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8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za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3160" y="126828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zac is an anti-depressant dru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developed by Eli Lilly in 1974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was submitted to the FDA in 1977 and approved in 1987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came off patent in 200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Q.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b3b5b"/>
                </a:solidFill>
                <a:latin typeface="Arial"/>
                <a:ea typeface="Arial"/>
              </a:rPr>
              <a:t> What was the marketing position of Prozac in 1987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is that Prozac addresse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t improves the quality of people’s liv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jor depression, OCD, bulimia nervosa, panic disor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Eli Lilly’s solu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ke (through considerable R&amp;D) a new anti-depressant dru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8" descr="http://www.nottingham.ac.uk/xpert/attribution/pictureattrib/mangle.php?url=http://farm5.static.flickr.com/3382/3185754948_140ec71cbc_b.jpg&amp;original_url=http://www.flickr.com/10389914@N05/3185754948/&amp;license=flickr_1&amp;flickr_id=3185754948&amp;size=full&amp;picturename=new%20day"/>
          <p:cNvPicPr/>
          <p:nvPr/>
        </p:nvPicPr>
        <p:blipFill>
          <a:blip r:embed="rId1"/>
          <a:stretch/>
        </p:blipFill>
        <p:spPr>
          <a:xfrm>
            <a:off x="263520" y="189000"/>
            <a:ext cx="2795760" cy="173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is the market for Prozac (i.e. who benefits)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ociety &amp; the people with depression and other related disord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ere is the market for Prozac? What is the market size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ople worldwide suffer from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7% of Americans have major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743040" indent="-3430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8 – 12% of the population worldwide, or 500 – 800 million people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market be access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, but drug regulations will restrict access to different markets worldw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the market growing or declin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zac is the first and only treatment for depression on the marke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market will grow through better awareness and diagnosis of depress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long can Eli Lilly stay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an dominate this market until the patent expires in 20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o are Eli Lilly’s competitors in this marke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ne in 1987 – Eli Lilly had a patent stopping others making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, non-related anti-depressant drugs may be develope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Yes &amp; these costs are significant (R&amp;D, clinical trials, patents etc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sts need to be recouped before profit is m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Eli Lilly expect to mak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dicted to be no more tha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$70 mill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 year in 198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Prozac – Looking Back from Toda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it’s first year, Prozac too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350 m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sal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987 – 2001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li Lilly mad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1 billi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zac sa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came off patent in 200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i Lilly could not longer exclusively make Proza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range of generic drugs were released onto the marke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cost Eli Lilly $2.4 billion per year in sa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zac generics are still popular toda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 2010 there were 24.4 million prescriptions of Prozac generic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ill the 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most prescribed anti-depress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280"/>
            <a:ext cx="88567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needs of your market/custom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akes considerable market resear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s…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don’t want things,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4857840" y="1979640"/>
            <a:ext cx="3457440" cy="3607560"/>
            <a:chOff x="4857840" y="1979640"/>
            <a:chExt cx="3457440" cy="3607560"/>
          </a:xfrm>
        </p:grpSpPr>
        <p:sp>
          <p:nvSpPr>
            <p:cNvPr id="114" name="Text Box 8"/>
            <p:cNvSpPr/>
            <p:nvPr/>
          </p:nvSpPr>
          <p:spPr>
            <a:xfrm>
              <a:off x="49114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48578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922080" y="306648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6"/>
            <p:cNvSpPr/>
            <p:nvPr/>
          </p:nvSpPr>
          <p:spPr>
            <a:xfrm>
              <a:off x="636732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59774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8"/>
            <p:cNvSpPr/>
            <p:nvPr/>
          </p:nvSpPr>
          <p:spPr>
            <a:xfrm>
              <a:off x="55879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4008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22"/>
            <p:cNvSpPr/>
            <p:nvPr/>
          </p:nvSpPr>
          <p:spPr>
            <a:xfrm>
              <a:off x="6010200" y="197964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Down Arrow 21"/>
            <p:cNvSpPr/>
            <p:nvPr/>
          </p:nvSpPr>
          <p:spPr>
            <a:xfrm>
              <a:off x="651348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Rectangle 9"/>
          <p:cNvSpPr/>
          <p:nvPr/>
        </p:nvSpPr>
        <p:spPr>
          <a:xfrm>
            <a:off x="503280" y="2165400"/>
            <a:ext cx="39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capability to develop and deliver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usiness strategy to achieve your goal and make 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ment of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cep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you have a proven technical concept with unique attribute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these attributes match the market ne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ill it sell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nufacture, distribute and marke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any regulatory issues to overcome (e.g. FDA approval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freedom to operate from pat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you have a sustainable competitive advantag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s your technology protected through patents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 will your competitors respond?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es this product fit in your existing product portfoli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Assessing </a:t>
            </a:r>
            <a:r>
              <a:rPr b="0" i="1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Your</a:t>
            </a: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WOT analysis is a strategic planning method used to asses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capability to develop and deliver your product to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assesses the Strengths, Weaknesses, Opportunities and Threats to a project o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9"/>
          <p:cNvGrpSpPr/>
          <p:nvPr/>
        </p:nvGrpSpPr>
        <p:grpSpPr>
          <a:xfrm>
            <a:off x="1692360" y="692280"/>
            <a:ext cx="5040360" cy="5040360"/>
            <a:chOff x="1692360" y="692280"/>
            <a:chExt cx="5040360" cy="5040360"/>
          </a:xfrm>
        </p:grpSpPr>
        <p:pic>
          <p:nvPicPr>
            <p:cNvPr id="132" name="Rectangle 6" descr=""/>
            <p:cNvPicPr/>
            <p:nvPr/>
          </p:nvPicPr>
          <p:blipFill>
            <a:blip r:embed="rId1"/>
            <a:stretch/>
          </p:blipFill>
          <p:spPr>
            <a:xfrm>
              <a:off x="240048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7"/>
            <p:cNvSpPr/>
            <p:nvPr/>
          </p:nvSpPr>
          <p:spPr>
            <a:xfrm>
              <a:off x="4566600" y="140976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8"/>
            <p:cNvSpPr/>
            <p:nvPr/>
          </p:nvSpPr>
          <p:spPr>
            <a:xfrm>
              <a:off x="240984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566600" y="3566520"/>
              <a:ext cx="2156400" cy="2156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0"/>
            <p:cNvSpPr/>
            <p:nvPr/>
          </p:nvSpPr>
          <p:spPr>
            <a:xfrm>
              <a:off x="240984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Box 11"/>
            <p:cNvSpPr/>
            <p:nvPr/>
          </p:nvSpPr>
          <p:spPr>
            <a:xfrm>
              <a:off x="2409840" y="692280"/>
              <a:ext cx="215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ELP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2"/>
            <p:cNvSpPr/>
            <p:nvPr/>
          </p:nvSpPr>
          <p:spPr>
            <a:xfrm>
              <a:off x="4566600" y="6922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Box 14"/>
            <p:cNvSpPr/>
            <p:nvPr/>
          </p:nvSpPr>
          <p:spPr>
            <a:xfrm>
              <a:off x="4566600" y="692280"/>
              <a:ext cx="215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HARMFU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o achieve the objecti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Rectangle 15" descr=""/>
            <p:cNvPicPr/>
            <p:nvPr/>
          </p:nvPicPr>
          <p:blipFill>
            <a:blip r:embed="rId2"/>
            <a:stretch/>
          </p:blipFill>
          <p:spPr>
            <a:xfrm>
              <a:off x="4554360" y="140076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6" descr=""/>
            <p:cNvPicPr/>
            <p:nvPr/>
          </p:nvPicPr>
          <p:blipFill>
            <a:blip r:embed="rId3"/>
            <a:stretch/>
          </p:blipFill>
          <p:spPr>
            <a:xfrm>
              <a:off x="240048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7" descr=""/>
            <p:cNvPicPr/>
            <p:nvPr/>
          </p:nvPicPr>
          <p:blipFill>
            <a:blip r:embed="rId4"/>
            <a:stretch/>
          </p:blipFill>
          <p:spPr>
            <a:xfrm>
              <a:off x="4554360" y="3554640"/>
              <a:ext cx="217836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18"/>
            <p:cNvSpPr/>
            <p:nvPr/>
          </p:nvSpPr>
          <p:spPr>
            <a:xfrm rot="16200000">
              <a:off x="901440" y="220032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Box 19"/>
            <p:cNvSpPr/>
            <p:nvPr/>
          </p:nvSpPr>
          <p:spPr>
            <a:xfrm rot="16200000">
              <a:off x="914040" y="2331720"/>
              <a:ext cx="215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 rot="16200000">
              <a:off x="901440" y="4357080"/>
              <a:ext cx="2156400" cy="5749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Box 21"/>
            <p:cNvSpPr/>
            <p:nvPr/>
          </p:nvSpPr>
          <p:spPr>
            <a:xfrm rot="16200000">
              <a:off x="914760" y="4487760"/>
              <a:ext cx="214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EXTERNAL ORIG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15560"/>
            <a:ext cx="864216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ength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advantages does your company hav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you do better than anyone els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do people in your market see as your strength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kn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ould be improved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people in the market likely to see as weaknesse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portun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nteresting trends you are aware of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seful opportunities can come from megatrends e.g. social patterns (population,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festyle changes etc.), markets, government policy, changes in technology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re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obstacles do you face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 is the competition do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re the required specifications for products or services changing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uld any of the weaknesses seriously threaten the business?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9"/>
          <p:cNvGrpSpPr/>
          <p:nvPr/>
        </p:nvGrpSpPr>
        <p:grpSpPr>
          <a:xfrm>
            <a:off x="6516720" y="115920"/>
            <a:ext cx="2468520" cy="2346120"/>
            <a:chOff x="6516720" y="115920"/>
            <a:chExt cx="2468520" cy="2346120"/>
          </a:xfrm>
        </p:grpSpPr>
        <p:pic>
          <p:nvPicPr>
            <p:cNvPr id="150" name="Rectangle 5" descr=""/>
            <p:cNvPicPr/>
            <p:nvPr/>
          </p:nvPicPr>
          <p:blipFill>
            <a:blip r:embed="rId1"/>
            <a:stretch/>
          </p:blipFill>
          <p:spPr>
            <a:xfrm>
              <a:off x="6516720" y="115920"/>
              <a:ext cx="1243440" cy="118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6"/>
            <p:cNvSpPr/>
            <p:nvPr/>
          </p:nvSpPr>
          <p:spPr>
            <a:xfrm>
              <a:off x="7750080" y="127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6528600" y="1288800"/>
              <a:ext cx="12211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750080" y="1288800"/>
              <a:ext cx="1222920" cy="1160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Rectangle 13" descr=""/>
            <p:cNvPicPr/>
            <p:nvPr/>
          </p:nvPicPr>
          <p:blipFill>
            <a:blip r:embed="rId2"/>
            <a:stretch/>
          </p:blipFill>
          <p:spPr>
            <a:xfrm>
              <a:off x="7736040" y="115920"/>
              <a:ext cx="1249200" cy="11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Rectangle 14" descr=""/>
            <p:cNvPicPr/>
            <p:nvPr/>
          </p:nvPicPr>
          <p:blipFill>
            <a:blip r:embed="rId3"/>
            <a:stretch/>
          </p:blipFill>
          <p:spPr>
            <a:xfrm>
              <a:off x="6516720" y="1274040"/>
              <a:ext cx="124344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Rectangle 15" descr=""/>
            <p:cNvPicPr/>
            <p:nvPr/>
          </p:nvPicPr>
          <p:blipFill>
            <a:blip r:embed="rId4"/>
            <a:stretch/>
          </p:blipFill>
          <p:spPr>
            <a:xfrm>
              <a:off x="7736040" y="1274040"/>
              <a:ext cx="1249200" cy="11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2" descr=""/>
          <p:cNvPicPr/>
          <p:nvPr/>
        </p:nvPicPr>
        <p:blipFill>
          <a:blip r:embed="rId5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a74"/>
                </a:solidFill>
                <a:latin typeface="Arial"/>
                <a:ea typeface="Arial"/>
              </a:rPr>
              <a:t>The Basic Rules of Busin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7" descr="http://www.nottingham.ac.uk/xpert/attribution/pictureattrib/mangle.php?url=http://farm5.static.flickr.com/7164/6467037789_61a5d66b93_b.jpg&amp;original_url=http://www.flickr.com/45462355@N07/6467037789/&amp;license=flickr_3&amp;flickr_id=6467037789&amp;size=full&amp;picturename=Y%20Archives%20-%2012/1953%20-%20Photographer%20Warren%20Moody%20-%20Sherwood%20Eddy%20Pete%20Ingalls%20Dean%20Leeper%20shake%20hands"/>
          <p:cNvPicPr/>
          <p:nvPr/>
        </p:nvPicPr>
        <p:blipFill>
          <a:blip r:embed="rId1"/>
          <a:stretch/>
        </p:blipFill>
        <p:spPr>
          <a:xfrm>
            <a:off x="2193840" y="2209680"/>
            <a:ext cx="4753080" cy="3903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2506680" y="6270480"/>
            <a:ext cx="282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resource was downloaded from Business Skills for Chemists (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rsc.li/3840bD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Capa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8701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must understand the capability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pany to develop and delive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roduct t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assesses the Strengths, Weaknesses, Opportunities and Threats to a business or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 are influenced by both internal and external factors, some of which are helpful and some harmful to your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at next….?? 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W</a:t>
            </a:r>
            <a:r>
              <a:rPr b="0" lang="en-GB" sz="2400" spc="-1" strike="noStrike">
                <a:solidFill>
                  <a:srgbClr val="00b050"/>
                </a:solidFill>
                <a:latin typeface="Arial"/>
                <a:ea typeface="Arial"/>
              </a:rPr>
              <a:t>O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  <a:ea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alysis must lead to the development of a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lan or set of recommendations to achieve your chosen go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(budget)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tage–Gate Model of Project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roject is divided into manageable 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separated b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Sta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 planned actions take place to achieve planned deliverab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alyse the deliverable, and propose an action plan for the next s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 G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decision point      </a:t>
            </a:r>
            <a:r>
              <a:rPr b="0" lang="en-GB" sz="2800" spc="-1" strike="noStrike">
                <a:solidFill>
                  <a:srgbClr val="00b050"/>
                </a:solidFill>
                <a:latin typeface="Arial"/>
                <a:ea typeface="Arial"/>
              </a:rPr>
              <a:t>G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i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ffc000"/>
                </a:solidFill>
                <a:latin typeface="Arial"/>
                <a:ea typeface="Arial"/>
              </a:rPr>
              <a:t>Hol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2800" spc="-1" strike="noStrike">
                <a:solidFill>
                  <a:srgbClr val="00b0f0"/>
                </a:solidFill>
                <a:latin typeface="Arial"/>
                <a:ea typeface="Arial"/>
              </a:rPr>
              <a:t>Recy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 the quality of deliverables – does the project make business sense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403280" y="371628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Isosceles Triangle 7"/>
          <p:cNvSpPr/>
          <p:nvPr/>
        </p:nvSpPr>
        <p:spPr>
          <a:xfrm flipV="1" rot="16200000">
            <a:off x="1655280" y="483300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ight Arrow 105"/>
          <p:cNvSpPr/>
          <p:nvPr/>
        </p:nvSpPr>
        <p:spPr>
          <a:xfrm rot="5400000">
            <a:off x="2447640" y="87300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3"/>
          <p:cNvSpPr/>
          <p:nvPr/>
        </p:nvSpPr>
        <p:spPr>
          <a:xfrm>
            <a:off x="2195640" y="1197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74"/>
          <p:cNvSpPr/>
          <p:nvPr/>
        </p:nvSpPr>
        <p:spPr>
          <a:xfrm>
            <a:off x="2195640" y="126828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9"/>
          <p:cNvGrpSpPr/>
          <p:nvPr/>
        </p:nvGrpSpPr>
        <p:grpSpPr>
          <a:xfrm>
            <a:off x="2325600" y="260280"/>
            <a:ext cx="595080" cy="425520"/>
            <a:chOff x="2325600" y="260280"/>
            <a:chExt cx="595080" cy="425520"/>
          </a:xfrm>
        </p:grpSpPr>
        <p:sp>
          <p:nvSpPr>
            <p:cNvPr id="170" name="Oval 20"/>
            <p:cNvSpPr/>
            <p:nvPr/>
          </p:nvSpPr>
          <p:spPr>
            <a:xfrm>
              <a:off x="2325600" y="260280"/>
              <a:ext cx="59508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1"/>
            <p:cNvSpPr/>
            <p:nvPr/>
          </p:nvSpPr>
          <p:spPr>
            <a:xfrm>
              <a:off x="2370960" y="3315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de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19"/>
          <p:cNvGrpSpPr/>
          <p:nvPr/>
        </p:nvGrpSpPr>
        <p:grpSpPr>
          <a:xfrm>
            <a:off x="2411280" y="6237360"/>
            <a:ext cx="425520" cy="425520"/>
            <a:chOff x="2411280" y="6237360"/>
            <a:chExt cx="425520" cy="425520"/>
          </a:xfrm>
        </p:grpSpPr>
        <p:sp>
          <p:nvSpPr>
            <p:cNvPr id="173" name="Oval 20"/>
            <p:cNvSpPr/>
            <p:nvPr/>
          </p:nvSpPr>
          <p:spPr>
            <a:xfrm>
              <a:off x="2411280" y="6237360"/>
              <a:ext cx="425520" cy="425520"/>
            </a:xfrm>
            <a:prstGeom prst="ellipse">
              <a:avLst/>
            </a:prstGeom>
            <a:solidFill>
              <a:srgbClr val="d9319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2445480" y="6302520"/>
              <a:ext cx="363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££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Isosceles Triangle 107"/>
          <p:cNvSpPr/>
          <p:nvPr/>
        </p:nvSpPr>
        <p:spPr>
          <a:xfrm flipV="1" rot="16200000">
            <a:off x="2231640" y="65628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08"/>
          <p:cNvSpPr/>
          <p:nvPr/>
        </p:nvSpPr>
        <p:spPr>
          <a:xfrm>
            <a:off x="1042920" y="69228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29"/>
          <p:cNvSpPr/>
          <p:nvPr/>
        </p:nvSpPr>
        <p:spPr>
          <a:xfrm>
            <a:off x="3211200" y="1197000"/>
            <a:ext cx="3054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liminary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e the product, market &amp; compet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31"/>
          <p:cNvSpPr/>
          <p:nvPr/>
        </p:nvSpPr>
        <p:spPr>
          <a:xfrm>
            <a:off x="3215520" y="2133720"/>
            <a:ext cx="53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 definition, market research, production costs, legal &amp; regulatory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imate time, personnel, financial resources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ASIBILITY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ight Arrow 140"/>
          <p:cNvSpPr/>
          <p:nvPr/>
        </p:nvSpPr>
        <p:spPr>
          <a:xfrm rot="5400000">
            <a:off x="2447640" y="1881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41"/>
          <p:cNvSpPr/>
          <p:nvPr/>
        </p:nvSpPr>
        <p:spPr>
          <a:xfrm>
            <a:off x="2195640" y="2205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42"/>
          <p:cNvSpPr/>
          <p:nvPr/>
        </p:nvSpPr>
        <p:spPr>
          <a:xfrm>
            <a:off x="2195640" y="2276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48"/>
          <p:cNvSpPr/>
          <p:nvPr/>
        </p:nvSpPr>
        <p:spPr>
          <a:xfrm>
            <a:off x="3203640" y="3141720"/>
            <a:ext cx="511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 plans from stage 2 – make a prototype and develop a marketing and sales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49"/>
          <p:cNvSpPr/>
          <p:nvPr/>
        </p:nvSpPr>
        <p:spPr>
          <a:xfrm rot="5400000">
            <a:off x="2447640" y="2889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0"/>
          <p:cNvSpPr/>
          <p:nvPr/>
        </p:nvSpPr>
        <p:spPr>
          <a:xfrm>
            <a:off x="2195640" y="3213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51"/>
          <p:cNvSpPr/>
          <p:nvPr/>
        </p:nvSpPr>
        <p:spPr>
          <a:xfrm>
            <a:off x="2195640" y="3284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54"/>
          <p:cNvSpPr/>
          <p:nvPr/>
        </p:nvSpPr>
        <p:spPr>
          <a:xfrm>
            <a:off x="3203640" y="4149720"/>
            <a:ext cx="518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sting &amp; Valid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te the project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he product (field testing), manufacture, customers, financial mer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ight Arrow 155"/>
          <p:cNvSpPr/>
          <p:nvPr/>
        </p:nvSpPr>
        <p:spPr>
          <a:xfrm rot="5400000">
            <a:off x="2447640" y="3897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56"/>
          <p:cNvSpPr/>
          <p:nvPr/>
        </p:nvSpPr>
        <p:spPr>
          <a:xfrm>
            <a:off x="2195640" y="422100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57"/>
          <p:cNvSpPr/>
          <p:nvPr/>
        </p:nvSpPr>
        <p:spPr>
          <a:xfrm>
            <a:off x="2195640" y="4292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60"/>
          <p:cNvSpPr/>
          <p:nvPr/>
        </p:nvSpPr>
        <p:spPr>
          <a:xfrm>
            <a:off x="3235320" y="5300640"/>
            <a:ext cx="49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 marketing, sales, distribution, pricing, estimate the initial de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ight Arrow 161"/>
          <p:cNvSpPr/>
          <p:nvPr/>
        </p:nvSpPr>
        <p:spPr>
          <a:xfrm rot="5400000">
            <a:off x="2447640" y="4905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62"/>
          <p:cNvSpPr/>
          <p:nvPr/>
        </p:nvSpPr>
        <p:spPr>
          <a:xfrm>
            <a:off x="2195640" y="5229360"/>
            <a:ext cx="86364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63"/>
          <p:cNvSpPr/>
          <p:nvPr/>
        </p:nvSpPr>
        <p:spPr>
          <a:xfrm>
            <a:off x="2195640" y="5300640"/>
            <a:ext cx="8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ge 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ight Arrow 166"/>
          <p:cNvSpPr/>
          <p:nvPr/>
        </p:nvSpPr>
        <p:spPr>
          <a:xfrm rot="5400000">
            <a:off x="2447640" y="5913360"/>
            <a:ext cx="360360" cy="14436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68"/>
          <p:cNvSpPr/>
          <p:nvPr/>
        </p:nvSpPr>
        <p:spPr>
          <a:xfrm>
            <a:off x="112680" y="2708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69"/>
          <p:cNvSpPr/>
          <p:nvPr/>
        </p:nvSpPr>
        <p:spPr>
          <a:xfrm>
            <a:off x="3211920" y="6308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 of th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Isosceles Triangle 172"/>
          <p:cNvSpPr/>
          <p:nvPr/>
        </p:nvSpPr>
        <p:spPr>
          <a:xfrm flipV="1" rot="16200000">
            <a:off x="2231640" y="1664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173"/>
          <p:cNvSpPr/>
          <p:nvPr/>
        </p:nvSpPr>
        <p:spPr>
          <a:xfrm>
            <a:off x="900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ond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Isosceles Triangle 174"/>
          <p:cNvSpPr/>
          <p:nvPr/>
        </p:nvSpPr>
        <p:spPr>
          <a:xfrm flipV="1" rot="16200000">
            <a:off x="2231640" y="2672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75"/>
          <p:cNvSpPr/>
          <p:nvPr/>
        </p:nvSpPr>
        <p:spPr>
          <a:xfrm>
            <a:off x="1258920" y="2781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Isosceles Triangle 176"/>
          <p:cNvSpPr/>
          <p:nvPr/>
        </p:nvSpPr>
        <p:spPr>
          <a:xfrm flipV="1" rot="16200000">
            <a:off x="2231640" y="3680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77"/>
          <p:cNvSpPr/>
          <p:nvPr/>
        </p:nvSpPr>
        <p:spPr>
          <a:xfrm>
            <a:off x="125892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Isosceles Triangle 178"/>
          <p:cNvSpPr/>
          <p:nvPr/>
        </p:nvSpPr>
        <p:spPr>
          <a:xfrm flipV="1" rot="16200000">
            <a:off x="2231640" y="4688640"/>
            <a:ext cx="360360" cy="576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79"/>
          <p:cNvSpPr/>
          <p:nvPr/>
        </p:nvSpPr>
        <p:spPr>
          <a:xfrm>
            <a:off x="1258920" y="4797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ate 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Bent Arrow 180"/>
          <p:cNvSpPr/>
          <p:nvPr/>
        </p:nvSpPr>
        <p:spPr>
          <a:xfrm>
            <a:off x="539640" y="1341360"/>
            <a:ext cx="1511280" cy="1295640"/>
          </a:xfrm>
          <a:custGeom>
            <a:avLst/>
            <a:gdLst/>
            <a:ahLst/>
            <a:rect l="l" t="t" r="r" b="b"/>
            <a:pathLst>
              <a:path w="1511300" h="1295400">
                <a:moveTo>
                  <a:pt x="0" y="1295400"/>
                </a:moveTo>
                <a:lnTo>
                  <a:pt x="0" y="617135"/>
                </a:lnTo>
                <a:cubicBezTo>
                  <a:pt x="0" y="298568"/>
                  <a:pt x="258249" y="40319"/>
                  <a:pt x="576816" y="40319"/>
                </a:cubicBezTo>
                <a:lnTo>
                  <a:pt x="1354466" y="40319"/>
                </a:lnTo>
                <a:lnTo>
                  <a:pt x="1354466" y="0"/>
                </a:lnTo>
                <a:lnTo>
                  <a:pt x="1511300" y="94901"/>
                </a:lnTo>
                <a:lnTo>
                  <a:pt x="1354466" y="189802"/>
                </a:lnTo>
                <a:lnTo>
                  <a:pt x="1354466" y="149483"/>
                </a:lnTo>
                <a:lnTo>
                  <a:pt x="576816" y="149483"/>
                </a:lnTo>
                <a:cubicBezTo>
                  <a:pt x="318539" y="149483"/>
                  <a:pt x="109164" y="358858"/>
                  <a:pt x="109164" y="617135"/>
                </a:cubicBezTo>
                <a:cubicBezTo>
                  <a:pt x="109164" y="843223"/>
                  <a:pt x="109163" y="1069312"/>
                  <a:pt x="109163" y="1295400"/>
                </a:cubicBezTo>
                <a:lnTo>
                  <a:pt x="0" y="129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81"/>
          <p:cNvSpPr/>
          <p:nvPr/>
        </p:nvSpPr>
        <p:spPr>
          <a:xfrm rot="10800000">
            <a:off x="1115640" y="285264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168"/>
          <p:cNvSpPr/>
          <p:nvPr/>
        </p:nvSpPr>
        <p:spPr>
          <a:xfrm>
            <a:off x="112680" y="371628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LL o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ight Arrow 45"/>
          <p:cNvSpPr/>
          <p:nvPr/>
        </p:nvSpPr>
        <p:spPr>
          <a:xfrm rot="10800000">
            <a:off x="1096560" y="3863880"/>
            <a:ext cx="360360" cy="14472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ight Arrow 46"/>
          <p:cNvSpPr/>
          <p:nvPr/>
        </p:nvSpPr>
        <p:spPr>
          <a:xfrm rot="16200000">
            <a:off x="304920" y="3336840"/>
            <a:ext cx="574560" cy="18432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ailure….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928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3b5b"/>
                </a:solidFill>
                <a:latin typeface="Arial"/>
                <a:ea typeface="Arial"/>
              </a:rPr>
              <a:t>Don’t be scared to exit or recycle a project if it doesn’t make business sen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6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Dr. Spencer Silver, a 3M chemist was trying to develop a strong adhesive glue – this project failed resulting in a low-tack, reusable adhesiv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five years, Dr. Silver promoted his invention within 3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A 3M colleague, Art Fry, came up with the idea of using the adhesive to anchor his bookmark into his hymnbook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y developed the idea within 3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7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The "Press 'n Peel” note was launched – but it’s sales were disappoint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Following market-research, the “Post-It Note” was launched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00 m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3b5b"/>
                </a:solidFill>
                <a:latin typeface="Arial"/>
                <a:ea typeface="Arial"/>
              </a:rPr>
              <a:t>198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– sales topped $1 billion per ye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yellow colour was chosen by accident; a lab next-door to the Post-It team had scrap yellow paper which the team initially used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Project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 is the planning, organising and management of resources to achieve a specific goa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jects are usually constrained by time, funding and resour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ge–Gate Model divides the project into a series of manageable act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ag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eparated by decisi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at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o not be scared to exit an idea/project or recycle it if the project no longer makes business sense – it may save your company in the long run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Financial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5192640" y="1979640"/>
            <a:ext cx="3457800" cy="3607560"/>
            <a:chOff x="5192640" y="1979640"/>
            <a:chExt cx="3457800" cy="3607560"/>
          </a:xfrm>
        </p:grpSpPr>
        <p:sp>
          <p:nvSpPr>
            <p:cNvPr id="219" name="Text Box 8"/>
            <p:cNvSpPr/>
            <p:nvPr/>
          </p:nvSpPr>
          <p:spPr>
            <a:xfrm>
              <a:off x="5246280" y="3066480"/>
              <a:ext cx="9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4"/>
            <p:cNvSpPr/>
            <p:nvPr/>
          </p:nvSpPr>
          <p:spPr>
            <a:xfrm>
              <a:off x="519264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7257240" y="3066480"/>
              <a:ext cx="134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6"/>
            <p:cNvSpPr/>
            <p:nvPr/>
          </p:nvSpPr>
          <p:spPr>
            <a:xfrm>
              <a:off x="6702480" y="24238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312240" y="494460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18"/>
            <p:cNvSpPr/>
            <p:nvPr/>
          </p:nvSpPr>
          <p:spPr>
            <a:xfrm>
              <a:off x="5922720" y="361008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9"/>
            <p:cNvSpPr/>
            <p:nvPr/>
          </p:nvSpPr>
          <p:spPr>
            <a:xfrm>
              <a:off x="6735600" y="361944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Box 22"/>
            <p:cNvSpPr/>
            <p:nvPr/>
          </p:nvSpPr>
          <p:spPr>
            <a:xfrm>
              <a:off x="6345000" y="1979640"/>
              <a:ext cx="12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Down Arrow 21"/>
            <p:cNvSpPr/>
            <p:nvPr/>
          </p:nvSpPr>
          <p:spPr>
            <a:xfrm>
              <a:off x="6848640" y="232560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263520" y="1281240"/>
            <a:ext cx="55958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stimating your financial re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a balancing ac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Money ta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        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Outgoings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ey taken =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any could we expect to sel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would the customer p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utgoings = capability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much will it cost to develop, protect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, promote, distribu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ital investment, operating and IP cos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long will you have a competitive ed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st, Price and Valu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052640"/>
            <a:ext cx="85676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it cos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duce/manufacture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are selling the product for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How much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ustom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prepared to pay for it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to each customer depends up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ir specific 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the seller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identified three potential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buyers”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the oi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owner of an oil refine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Middle-Eastern Sheik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24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05280" indent="-305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o will you sell your oil to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2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20000" y="3068640"/>
            <a:ext cx="1901880" cy="2846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The Selle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,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seller”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ave bought 10,000 barrels of crude oil at a price of $9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What is 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crude oil to you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be an acceptable profit for the sale of 10,000 barrel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 50,000 (~ 5% profi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t wha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$ per barrel) should you aim to sell the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95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63520" y="1268280"/>
            <a:ext cx="87724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s to make a quick profit – he see the oil as a tradable ass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 does have expertise in oil so knows that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oil is $100 per barrel, but is constantly rising allowing him to make a prof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he offers $100 per barrel how much will this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him?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 If the seller accepts $100 per barrel what would his profit be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0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trader says that he can’t get the money until tomorrow…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ake a depos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egotiate a percentage of his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052280"/>
            <a:ext cx="85676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has the capability to refine the oil into more valuable products with a final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2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f the refined products 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refinery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the refining proce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or marketing and distribu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0% of the marke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in sales ta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oil was bought for $100 per barrel, how much profit will the refinery make from the 10,000 barrels of crude oi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7390440" y="33210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7390440" y="37353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90440" y="40734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08000" y="609444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94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Business Starts with a Plan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business plan gives credibility to your propos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statement of business goa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asons these goals are attain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plan for reaching those goals over the next 3 –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business plan typically contains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company &amp;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information about the product/serv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the market and a marketing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i.e. how you will implement the pla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forecast of the financial profit and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197000"/>
            <a:ext cx="856764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Sheikh owns one of the largest oil reserves in the world – 10,000 barrels is insignificant to hi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im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lift his oil from the groun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5 per barrel to drill for new oil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tax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10 per barrel in marketing, distribution and other cos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Sheikh’s breakeven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per barrel of crude oil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3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ill he buy your crude oil at a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pric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which is acceptable to you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o would you sell to at this point…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63160" y="1413000"/>
            <a:ext cx="862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most likely that you would sell to the oil refinery at this poi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s you a profit of $100,000 which is greater than your target of $50,00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room for further negotiation to enhance this (i.e. cut into their profit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have the money to give you unlike the commodity trad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uying the oil, the owner of the oil refi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ists upon testing the crude oil for quality…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se tests showed that what you thought was crud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il was in fact refined aviation fu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1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164360" y="3429000"/>
            <a:ext cx="1643040" cy="2457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68000" y="1268280"/>
            <a:ext cx="8567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oil refinery sells refined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will still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$20 per barrel for them to sell the fuel (marketing and tax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s the total marke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the refined barrels of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are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s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(inc. taxes) payable by the refinery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fuel was bought for $100 per barrel, how much profit will the refinery make from the 10,000 barrels of aviation fuel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 + 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2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2</a:t>
            </a:r>
            <a:br>
              <a:rPr sz="24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Owner of an Oil Refin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263520" y="1197000"/>
            <a:ext cx="8772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trader does not have expertise in aviation fuel so he does not know the current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this product. He will not pay more than $100 per barr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he now has the money availab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the trader offers $100 per barrel how much will this cost him?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If you,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ccept $100 per barrel what would your profit b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value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of aviation fuel is in fact $140 per barrel – what would the traders profit be if he sold at this price? </a:t>
            </a:r>
            <a:r>
              <a:rPr b="1" lang="en-GB" sz="2000" spc="-1" strike="noStrike">
                <a:solidFill>
                  <a:srgbClr val="376092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1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Commodity Tr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000" y="1143000"/>
            <a:ext cx="856764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ituatio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ile the Sheikh had no interest in your crude oil, he does however own his own private jet. He buys aviation fuel at a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40 per barr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him 10,000 barrels has 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f $1.4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he Sheikh would happily pay $130 per barrel. What is the total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cos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o him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.3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003a74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How much money will this save the Sheikh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1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would your profit as the 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“seller”</a:t>
            </a: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be on this sal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$4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would sell to the Sheik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itle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Buyer 3 </a:t>
            </a:r>
            <a:br>
              <a:rPr sz="3200"/>
            </a:br>
            <a:r>
              <a:rPr b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e Sheik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a74"/>
                </a:solidFill>
                <a:latin typeface="Arial"/>
                <a:ea typeface="Arial"/>
              </a:rPr>
              <a:t>Summary – Cost, Price and Va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000" y="141300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factors affect the cost, price and value of an i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Customers are buying the (perceived) benefits of the produc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t the products themselv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nsider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riteri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uy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er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criteria is key to securing the best deal and maximising your financial return – this may require considerable resear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6" descr="http://www.nottingham.ac.uk/xpert/attribution/pictureattrib/mangle.php?url=http://farm5.static.flickr.com/2601/3755006104_fb54b57562_b.jpg&amp;original_url=http://www.flickr.com/35166455@N00/3755006104/&amp;license=flickr_4&amp;flickr_id=3755006104&amp;size=full&amp;picturename=Colorful%20Old%20Oil%20Barrels"/>
          <p:cNvPicPr/>
          <p:nvPr/>
        </p:nvPicPr>
        <p:blipFill>
          <a:blip r:embed="rId1"/>
          <a:stretch/>
        </p:blipFill>
        <p:spPr>
          <a:xfrm>
            <a:off x="7093080" y="2852640"/>
            <a:ext cx="1401480" cy="2097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naging Risk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640" y="1052280"/>
            <a:ext cx="8947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innovation is about managing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isk is made up of commercial and technical unknow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Commercial Unknown (Market Need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 we understand our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Technical Unknown (Your Capabil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we sure we can develop, manufacture and distribute the produc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strong is the threat that our competitors will get there firs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well does it fit with our existing business activitie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additional resources will we need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balance the risk against the potential reward and your commitment (time and £) – this involves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, Reward &amp; Investment…An Examp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197000"/>
            <a:ext cx="8353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this building was built, a metal box containing cash was buried under the grass outside….”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Q.   Would you go and find the box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No. There is high risk that you may not find the box and the rewar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s unknow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told you the box contained £500,000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Yes you would look, but still there is a high risk that you may no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find the bo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What if I gave you £200, how could you improve this situ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Invest the £200 in a metal detector and a spade – this decrease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risk giving you a better chance of finding the £500,000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Risk and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result of good risk management is that as we increase investment, the risk decreases rapid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 comes in many forms e.g. capital (£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ime and resour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4" name="Group 5"/>
          <p:cNvGrpSpPr/>
          <p:nvPr/>
        </p:nvGrpSpPr>
        <p:grpSpPr>
          <a:xfrm>
            <a:off x="1502280" y="2421000"/>
            <a:ext cx="5925240" cy="2928240"/>
            <a:chOff x="1502280" y="2421000"/>
            <a:chExt cx="5925240" cy="2928240"/>
          </a:xfrm>
        </p:grpSpPr>
        <p:sp>
          <p:nvSpPr>
            <p:cNvPr id="275" name="Line 3"/>
            <p:cNvSpPr/>
            <p:nvPr/>
          </p:nvSpPr>
          <p:spPr>
            <a:xfrm>
              <a:off x="2294280" y="2421000"/>
              <a:ext cx="0" cy="2828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4"/>
            <p:cNvSpPr/>
            <p:nvPr/>
          </p:nvSpPr>
          <p:spPr>
            <a:xfrm>
              <a:off x="1833840" y="4919760"/>
              <a:ext cx="55893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"/>
            <p:cNvSpPr/>
            <p:nvPr/>
          </p:nvSpPr>
          <p:spPr>
            <a:xfrm>
              <a:off x="1502280" y="355536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s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Text Box 8"/>
            <p:cNvSpPr/>
            <p:nvPr/>
          </p:nvSpPr>
          <p:spPr>
            <a:xfrm>
              <a:off x="4021560" y="498096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s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2294280" y="2656440"/>
              <a:ext cx="4274280" cy="1980360"/>
            </a:xfrm>
            <a:custGeom>
              <a:avLst/>
              <a:gdLst>
                <a:gd name="textAreaLeft" fmla="*/ 0 w 4274280"/>
                <a:gd name="textAreaRight" fmla="*/ 4274640 w 427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3120" h="2016">
                  <a:moveTo>
                    <a:pt x="0" y="0"/>
                  </a:moveTo>
                  <a:cubicBezTo>
                    <a:pt x="172" y="528"/>
                    <a:pt x="344" y="1056"/>
                    <a:pt x="864" y="1392"/>
                  </a:cubicBezTo>
                  <a:cubicBezTo>
                    <a:pt x="1384" y="1728"/>
                    <a:pt x="2252" y="1872"/>
                    <a:pt x="3120" y="2016"/>
                  </a:cubicBezTo>
                </a:path>
              </a:pathLst>
            </a:custGeom>
            <a:noFill/>
            <a:ln cap="sq" w="2556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12"/>
            <p:cNvSpPr/>
            <p:nvPr/>
          </p:nvSpPr>
          <p:spPr>
            <a:xfrm>
              <a:off x="6623640" y="448092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b050"/>
                  </a:solidFill>
                  <a:latin typeface="Arial"/>
                  <a:ea typeface="Arial"/>
                </a:rPr>
                <a:t>Goo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3"/>
            <p:cNvSpPr/>
            <p:nvPr/>
          </p:nvSpPr>
          <p:spPr>
            <a:xfrm>
              <a:off x="2294280" y="2656440"/>
              <a:ext cx="4274280" cy="61272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14"/>
            <p:cNvSpPr/>
            <p:nvPr/>
          </p:nvSpPr>
          <p:spPr>
            <a:xfrm>
              <a:off x="6662880" y="3175200"/>
              <a:ext cx="6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How to Gain Inves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o are typical investor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unders of the compan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mily memb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Angels &amp; Venture Capitalis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What do investors typically look fo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management te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al with sustainable competitive advant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llectual property rights, patents and freedom-to-opera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marke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his will all have to be demonstrated in </a:t>
            </a:r>
            <a:r>
              <a:rPr b="0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asic Business Plan Struc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ition 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Research 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Validation – proof the customer will buy your product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ing Plan 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rational Plan 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it Strategy 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anci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22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e hand out for an 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Every Investor Has Different Need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3160" y="1413000"/>
            <a:ext cx="86295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Ban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gular interest repayments, trading business, personal guarante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Venture Capitalists (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holder, board position or appoint a Director, will take a business from A to B and want a exit strategy agreed at the start of the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is important to understand your inves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VC is looking to make a 10x return on their investment in 5 ye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 exit strategy is very important as this is how they get their money bac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Tailor your proposal to the investor you are target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Key Financial Repor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160" y="1197000"/>
            <a:ext cx="8629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Profit/Loss Statement (shows past performance) – like a bank stat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ws the performance of the business over a given time peri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The Profit/Loss = Total Income – Total Expendi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Balance Sheet (shows present positi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 balance sheet is a summary of the financial balances of a business on a specific date, such as the end of the financial year. It typically includes a list of the business assets, liabilities and ownership equ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Cash Flow Forecast (shows future liquidity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the short-term cash requirements of a business to ensure the future availability of a suitable quantity of liquid cas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Liquid (available) cash = cash in the bank + short-term investments – short-term debts (e.g. bills, payroll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Why are these Importa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7640" y="1413000"/>
            <a:ext cx="894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will look at each of these financial reports to assess if a business is a viable and ‘safe’ invest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a74"/>
                </a:solidFill>
                <a:latin typeface="Arial"/>
                <a:ea typeface="Arial"/>
              </a:rPr>
              <a:t>These repots show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t performance of the business (Profit/Loss Statemen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current financial position of the business (Balance Shee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ability of the business to stay afloat (Cash Flow Foreca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Many businesses make a profit </a:t>
            </a:r>
            <a:r>
              <a:rPr b="1" i="1" lang="en-GB" sz="2000" spc="-1" strike="noStrike" u="sng">
                <a:solidFill>
                  <a:srgbClr val="003a74"/>
                </a:solidFill>
                <a:uFillTx/>
                <a:latin typeface="Arial"/>
                <a:ea typeface="Arial"/>
              </a:rPr>
              <a:t>but</a:t>
            </a:r>
            <a:r>
              <a:rPr b="1" i="1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 fail because they run out of CASH to pay running expenses (e.g. invoices, salaries and make purchas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Arial"/>
              </a:rPr>
              <a:t>CASH IS KING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cash your business can’t oper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– Finance &amp; Rewar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9036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ward = Money taken vs Outgoings over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it worth it?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aging risk is critical to the success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isk can be reduced to an acceptable level through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vestors are different, but they look for similar things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curate financial information is one of the keys to gaining inves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ethods of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In-House Commercialis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Owning a house and living in i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 and sell a product through the inventors existing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must have access to the required capability and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full control and maximises the inventors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for Rapid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ar all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core busi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6084720" y="4302000"/>
            <a:ext cx="2671920" cy="1791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Joint Venture – i.e. Find a Partn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har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some capability and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rtners have the missing el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e of risk, costs &amp;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aring of the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4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Licensing Your Product / IP to a 3</a:t>
            </a:r>
            <a:r>
              <a:rPr b="1" lang="en-GB" sz="2800" spc="-1" strike="noStrike" baseline="30000">
                <a:solidFill>
                  <a:srgbClr val="003a74"/>
                </a:solidFill>
                <a:latin typeface="Arial"/>
                <a:ea typeface="Arial"/>
              </a:rPr>
              <a:t>rd</a:t>
            </a: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Rent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little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e bears all the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al input from the inven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 &amp; on-going royal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find appropriate partn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ssignment of your 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Selling a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no capability or access to mark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ll the intellectual property to another par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ash immediatel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ss of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further share of rewar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85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Form Your Own Compan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(Building your own hou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assembles capability (acquisition or investmen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ntor has credibility, drive and commitment to succe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ward must be high enough to warrant the effort, investment &amp;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eward for the invento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ta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 ris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uge investment of time and eff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5940360" y="3860640"/>
            <a:ext cx="2987640" cy="200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Summary - Commercialisa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methods of commercialising an idea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-house develop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oint ven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icense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ign your I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m your own compan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t is key that you choose the method which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  <a:ea typeface="Arial"/>
              </a:rPr>
              <a:t>MAKES YOU THE MOST MONEY!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Picture 13" descr="http://www.nottingham.ac.uk/xpert/attribution/pictureattrib/mangle.php?url=http://farm5.static.flickr.com/7002/6683541565_a91bfc85d0_b.jpg&amp;original_url=http://www.flickr.com/54238124@N00/6683541565/&amp;license=flickr_4&amp;flickr_id=6683541565&amp;size=full&amp;picturename=Wesley%20House,%20Leatherhead%20-%20Surrey."/>
          <p:cNvPicPr/>
          <p:nvPr/>
        </p:nvPicPr>
        <p:blipFill>
          <a:blip r:embed="rId1"/>
          <a:stretch/>
        </p:blipFill>
        <p:spPr>
          <a:xfrm>
            <a:off x="4537080" y="2276640"/>
            <a:ext cx="2987640" cy="20016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Communicating Your Pla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methods of communicating your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‘Elevator Pitch’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tching to investors (e.g. the ‘Dragons’ Den’ pitch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ritten report (typically 20 – 40 pag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ry business plan is different and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e tailored to it’s audience. Typical audi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estors (e.g. banks, venture capitalists etc.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manage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Now Back To </a:t>
            </a:r>
            <a:r>
              <a:rPr b="0" i="1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Your </a:t>
            </a: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Business Plan…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3280" y="1323720"/>
            <a:ext cx="77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itle, legal notices, company detail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xecutive Summa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The Propos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description of the product/service/technolog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Research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size, structure, drivers and competi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  <a:ea typeface="Arial"/>
              </a:rPr>
              <a:t>Market Valid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proof the customer will buy and at your pri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Marketing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how you will get your product to the custo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ing, PR, promotion, sales, sales forecas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eating the competition, IP protection, paten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perational Pl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he nuts and bolts of your busine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ing, distribution, premises, personnel, management team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Exit Strateg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timescale, forecast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Financial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– cash flow, P&amp;L, balance sheet, investment needed and whe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pendices – full CVs of management team, external reports et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200160" y="2181240"/>
            <a:ext cx="122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</a:rPr>
              <a:t>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30240" y="386064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174600" y="5072040"/>
            <a:ext cx="125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</a:rPr>
              <a:t>RE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Straight Connector 24"/>
          <p:cNvSpPr/>
          <p:nvPr/>
        </p:nvSpPr>
        <p:spPr>
          <a:xfrm>
            <a:off x="1428840" y="2071800"/>
            <a:ext cx="0" cy="86508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31"/>
          <p:cNvSpPr/>
          <p:nvPr/>
        </p:nvSpPr>
        <p:spPr>
          <a:xfrm>
            <a:off x="1428840" y="3009960"/>
            <a:ext cx="0" cy="1738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Straight Connector 33"/>
          <p:cNvSpPr/>
          <p:nvPr/>
        </p:nvSpPr>
        <p:spPr>
          <a:xfrm>
            <a:off x="1428840" y="4870440"/>
            <a:ext cx="0" cy="74304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4"/>
          <p:cNvSpPr/>
          <p:nvPr/>
        </p:nvSpPr>
        <p:spPr>
          <a:xfrm>
            <a:off x="1547640" y="1413000"/>
            <a:ext cx="561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156360" y="6237360"/>
            <a:ext cx="1274760" cy="482400"/>
          </a:xfrm>
          <a:prstGeom prst="rect">
            <a:avLst/>
          </a:prstGeom>
          <a:ln w="0">
            <a:noFill/>
          </a:ln>
        </p:spPr>
      </p:pic>
      <p:sp>
        <p:nvSpPr>
          <p:cNvPr id="331" name="TextBox 7"/>
          <p:cNvSpPr/>
          <p:nvPr/>
        </p:nvSpPr>
        <p:spPr>
          <a:xfrm>
            <a:off x="250920" y="333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Auth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Dr. Trevor Farren, Dr. Simon Mosey &amp; Dr. William Dre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228600" y="167652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a74"/>
                </a:solidFill>
                <a:latin typeface="Arial"/>
                <a:ea typeface="Arial"/>
              </a:rPr>
              <a:t>School of Chemistry, University of Nottingham, U.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250920" y="5589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Suppor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http://www.cibit.url.tw/APBITM(New)/images/UoN%20logo.jpg"/>
          <p:cNvPicPr/>
          <p:nvPr/>
        </p:nvPicPr>
        <p:blipFill>
          <a:blip r:embed="rId2"/>
          <a:stretch/>
        </p:blipFill>
        <p:spPr>
          <a:xfrm>
            <a:off x="2590920" y="3157560"/>
            <a:ext cx="4032000" cy="1795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2050920" y="6094440"/>
            <a:ext cx="17560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a74"/>
                </a:solidFill>
                <a:latin typeface="Arial"/>
                <a:ea typeface="Arial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94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ims to introduce some of the basic skills, concepts and understanding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need to develo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business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any of these skills will form the basis of your group’s ‘Dragons’ Den’ Pitch at the end of this cour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se skills includ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awareness (i.e.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ne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strategy – understanding you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pabil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wa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risk manag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iderations for gaining invest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hods of commercialising your ide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 all have ideas, but how do w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ick winner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ximise progress and financial retur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nimise the risk of failur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a74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451400" y="2851200"/>
            <a:ext cx="3457440" cy="3607560"/>
            <a:chOff x="4451400" y="2851200"/>
            <a:chExt cx="3457440" cy="3607560"/>
          </a:xfrm>
        </p:grpSpPr>
        <p:sp>
          <p:nvSpPr>
            <p:cNvPr id="81" name="Text Box 8"/>
            <p:cNvSpPr/>
            <p:nvPr/>
          </p:nvSpPr>
          <p:spPr>
            <a:xfrm>
              <a:off x="4506120" y="393804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Marke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Ne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7"/>
            <p:cNvSpPr/>
            <p:nvPr/>
          </p:nvSpPr>
          <p:spPr>
            <a:xfrm>
              <a:off x="445140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6642360" y="393804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Yo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Capabi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9"/>
            <p:cNvSpPr/>
            <p:nvPr/>
          </p:nvSpPr>
          <p:spPr>
            <a:xfrm>
              <a:off x="5960880" y="32954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5571000" y="5816160"/>
              <a:ext cx="12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Rew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a74"/>
                  </a:solidFill>
                  <a:latin typeface="Arial"/>
                </a:rPr>
                <a:t>£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1"/>
            <p:cNvSpPr/>
            <p:nvPr/>
          </p:nvSpPr>
          <p:spPr>
            <a:xfrm>
              <a:off x="5181480" y="4481640"/>
              <a:ext cx="1947960" cy="19764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5994360" y="4491000"/>
              <a:ext cx="369720" cy="404640"/>
            </a:xfrm>
            <a:custGeom>
              <a:avLst/>
              <a:gdLst/>
              <a:ahLst/>
              <a:rect l="l" t="t" r="r" b="b"/>
              <a:pathLst>
                <a:path w="545306" h="590550">
                  <a:moveTo>
                    <a:pt x="0" y="21431"/>
                  </a:moveTo>
                  <a:lnTo>
                    <a:pt x="97631" y="7144"/>
                  </a:lnTo>
                  <a:lnTo>
                    <a:pt x="180975" y="0"/>
                  </a:lnTo>
                  <a:lnTo>
                    <a:pt x="278606" y="2381"/>
                  </a:lnTo>
                  <a:lnTo>
                    <a:pt x="352425" y="7144"/>
                  </a:lnTo>
                  <a:lnTo>
                    <a:pt x="431006" y="11906"/>
                  </a:lnTo>
                  <a:lnTo>
                    <a:pt x="502444" y="23812"/>
                  </a:lnTo>
                  <a:lnTo>
                    <a:pt x="545306" y="33337"/>
                  </a:lnTo>
                  <a:lnTo>
                    <a:pt x="526256" y="119062"/>
                  </a:lnTo>
                  <a:lnTo>
                    <a:pt x="500063" y="200025"/>
                  </a:lnTo>
                  <a:lnTo>
                    <a:pt x="445294" y="319087"/>
                  </a:lnTo>
                  <a:lnTo>
                    <a:pt x="395288" y="416719"/>
                  </a:lnTo>
                  <a:lnTo>
                    <a:pt x="338138" y="504825"/>
                  </a:lnTo>
                  <a:lnTo>
                    <a:pt x="276225" y="590550"/>
                  </a:lnTo>
                  <a:lnTo>
                    <a:pt x="214313" y="507206"/>
                  </a:lnTo>
                  <a:lnTo>
                    <a:pt x="138113" y="388144"/>
                  </a:lnTo>
                  <a:lnTo>
                    <a:pt x="85725" y="278606"/>
                  </a:lnTo>
                  <a:lnTo>
                    <a:pt x="45244" y="183356"/>
                  </a:lnTo>
                  <a:lnTo>
                    <a:pt x="21431" y="102394"/>
                  </a:lnTo>
                  <a:lnTo>
                    <a:pt x="0" y="2143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22"/>
            <p:cNvSpPr/>
            <p:nvPr/>
          </p:nvSpPr>
          <p:spPr>
            <a:xfrm>
              <a:off x="5603760" y="2851200"/>
              <a:ext cx="123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ccess!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Down Arrow 14"/>
            <p:cNvSpPr/>
            <p:nvPr/>
          </p:nvSpPr>
          <p:spPr>
            <a:xfrm>
              <a:off x="6107040" y="3197160"/>
              <a:ext cx="145800" cy="1235160"/>
            </a:xfrm>
            <a:prstGeom prst="downArrow">
              <a:avLst>
                <a:gd name="adj1" fmla="val 50000"/>
                <a:gd name="adj2" fmla="val 50830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Rectangle 9"/>
          <p:cNvSpPr/>
          <p:nvPr/>
        </p:nvSpPr>
        <p:spPr>
          <a:xfrm>
            <a:off x="479520" y="3695760"/>
            <a:ext cx="34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Success start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understand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needs of your mark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Market Ne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Megatrends in society drive market ne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rowing &amp; Aging Popul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ergy Demand &amp; Climate Protec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ase and Urbanis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bility and Trans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Changes….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You can only sell things if people want to buy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74"/>
                </a:solidFill>
                <a:latin typeface="Arial"/>
                <a:ea typeface="Arial"/>
              </a:rPr>
              <a:t>People (largely) don’t want things, they want what those things do for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a74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b3b5b"/>
                </a:solidFill>
                <a:latin typeface="Arial"/>
                <a:ea typeface="Arial"/>
              </a:rPr>
              <a:t>Understanding Your Marke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need to understan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the problem that you are address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your solu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is your market (i.e. who benefits)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is your market, what is it’s size and can you access i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your market growing or declining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long can you stay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o are your competitors in this market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e there significant regulatory costs &amp; requirement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ow much money can you expect to make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a74"/>
                </a:solidFill>
                <a:latin typeface="Arial"/>
                <a:ea typeface="Arial"/>
              </a:rPr>
              <a:t>It takes much research to get a good picture of your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8000" y="6010200"/>
            <a:ext cx="1755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4:15:45Z</dcterms:created>
  <dc:creator>Information Services</dc:creator>
  <dc:description/>
  <dc:language>en-US</dc:language>
  <cp:lastModifiedBy>Chris Runciman</cp:lastModifiedBy>
  <cp:lastPrinted>2012-02-15T15:04:15Z</cp:lastPrinted>
  <dcterms:modified xsi:type="dcterms:W3CDTF">2020-12-15T09:02:00Z</dcterms:modified>
  <cp:revision>214</cp:revision>
  <dc:subject/>
  <dc:title>Basic rules of business presentation</dc:title>
</cp:coreProperties>
</file>