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6.jpeg" ContentType="image/jpeg"/>
  <Override PartName="/ppt/media/image5.jpeg" ContentType="image/jpeg"/>
  <Override PartName="/ppt/media/image29.png" ContentType="image/png"/>
  <Override PartName="/ppt/media/image6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1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3.png" ContentType="image/png"/>
  <Override PartName="/ppt/media/image3.png" ContentType="image/png"/>
  <Override PartName="/ppt/media/image23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4F94-1681-4AB1-87A3-E638125B6BBF}" type="datetime">
              <a:rPr b="0" lang="en-GB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B26D-24FB-4C8B-87F6-CEEDA86E07F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9167-7DC2-4E1C-A917-E5911939FAB0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5DF1-F6E0-4607-92CB-0432215D451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3AD1-E5A4-4CD2-9E47-25B093C80E91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326D-EB8B-4EB3-BC75-F554991DA56F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8C9B-56D7-4F80-A6D9-7880402490E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2113-59A4-4B2F-AC5C-78EA2820BE35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8535-44D1-44C3-8B78-603D954532B2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7502-69D8-46D9-B177-47E321CA31B1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8EB1-4FA4-41DD-A0DB-B09D5AFBC5E6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46A4-A09C-4862-9BDF-9AE945EF9D93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9BE1-A1C7-460F-BB18-0F37FDE2FD50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74FC-0577-4B60-8B9D-AFA65413A748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928F-890D-41AA-B72B-257463CE325A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1D4E-E914-4146-842C-AB9581629AAC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F10C-CCFC-4C65-BF73-0333C6E91846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841A-1C71-46A4-A3B4-6615FD57A186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13E3-6DEF-4CFE-8A2D-912FE0F6579D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C066-A493-4557-9CDA-3DAE631E3231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5786-902E-45A0-8280-D8B02144E188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B9F2-60DF-4A40-BB15-D4E271C308D2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BF41-E6D5-49E0-85EB-4097E47E87E8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8683-100A-47F3-922E-2A4AFFC47DD7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8234-DC9F-4B17-87EE-6B470894329A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2AB1-18E1-4AF1-9832-D39A1630A590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DC29-A244-46C4-9F34-B32B7D06DC3C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22CE-3D48-4D9E-BC1E-2DAA51305A9A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29DE-8BC0-4BDA-BCFB-3D4D2A106831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7333-65C7-45FE-B578-36E8F6AED0B3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9E1E-4BE7-49AC-826F-21BF40943E78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1CDA-7773-424F-9DD0-B9774DF49CB3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C094-BA41-49F3-99AA-EEACB1028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0261-0729-4BA3-951C-D4C6AA1B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730C-C26A-4E9D-8E65-E9F33CFF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E7A9-BC16-4B56-93D0-14ADB628A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FB66-1613-4D91-8295-4A8BCD72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D863-9746-4BA8-9E16-A569DE27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D2F4-9B86-4B74-9A73-0B0566EA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4F14-2E6C-48ED-82B1-0EEFE506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6DC2-68B3-46B1-86D7-78F72B3A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B83D-C1E3-4DB8-BEF1-DEE6D436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A357-D694-41E1-8B7D-E0F7D758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103F-99A9-45F2-8FB4-9D46B5ED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8C70-B0AA-497F-AD0E-11CE877D65F9}" type="datetime">
              <a:rPr b="0" lang="en-GB" sz="12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2230-373B-4CB3-BAB4-7E0536E70994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s://rsc.li/3840bDs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An Introduction to the Chemistry Using Indust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www.nottingham.ac.uk/xpert/attribution/pictureattrib/mangle.php?url=http://farm5.static.flickr.com/7002/6469183731_5c557818ff_b.jpg&amp;original_url=http://www.flickr.com/28011375@N04/6469183731/&amp;license=flickr_1&amp;flickr_id=6469183731&amp;size=full&amp;picturename=green%20monster"/>
          <p:cNvPicPr/>
          <p:nvPr/>
        </p:nvPicPr>
        <p:blipFill>
          <a:blip r:embed="rId2"/>
          <a:stretch/>
        </p:blipFill>
        <p:spPr>
          <a:xfrm>
            <a:off x="1908000" y="2133720"/>
            <a:ext cx="5288040" cy="39560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2506680" y="6270480"/>
            <a:ext cx="282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resource was downloaded from Business Skills for Chemists (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rsc.li/3840bD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4"/>
          <a:stretch/>
        </p:blipFill>
        <p:spPr>
          <a:xfrm>
            <a:off x="136440" y="605808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6840" y="260280"/>
            <a:ext cx="8218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jobs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600,00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people in the U.K. depend upon the chemicals industry – these workers are highly skilled and earn on averag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40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more than employees in other areas of manufactur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se facts demonstrate that the chemicals industry is at the heart of the U.K.’s econom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http://www.nottingham.ac.uk/xpert/attribution/pictureattrib/mangle.php?url=http://farm5.static.flickr.com/7017/6594070941_e87505001b_b.jpg&amp;original_url=http://www.flickr.com/39388148@N04/6594070941/&amp;license=flickr_4&amp;flickr_id=6594070941&amp;size=full&amp;picturename=Blue%20Grass%20Chemical%20Agent-Destruction%20Pilot%20Plant%20Utility%20Building"/>
          <p:cNvPicPr/>
          <p:nvPr/>
        </p:nvPicPr>
        <p:blipFill>
          <a:blip r:embed="rId1"/>
          <a:stretch/>
        </p:blipFill>
        <p:spPr>
          <a:xfrm>
            <a:off x="2195640" y="333360"/>
            <a:ext cx="4784760" cy="3325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Content Placeholder 2"/>
          <p:cNvSpPr/>
          <p:nvPr/>
        </p:nvSpPr>
        <p:spPr>
          <a:xfrm>
            <a:off x="4572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ina was the biggest producer of chemicals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U.K. made sales of approximately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€ 45 bill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The Global Chemical Econom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908000" y="2133720"/>
            <a:ext cx="5381640" cy="3305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4000" y="260280"/>
            <a:ext cx="84960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tween 2000 – 2010, Asia and particularly China have dominated world chemicals sales taking over from the E.U. and North Americ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uring this period, total global chemicals sales hav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isen by 60%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908000" y="1052640"/>
            <a:ext cx="5391360" cy="4066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Content Placeholder 2"/>
          <p:cNvSpPr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ia’s dominance in the chemicals market is shown by the output of chemicals produced over the last 5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te that all regions showed negative chemical production growth for 2008/9, but are recovering at pre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835280" y="1197000"/>
            <a:ext cx="5467320" cy="3819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Content Placeholder 2"/>
          <p:cNvSpPr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trend can be explained by the significant investment in the chemicals industry that China has received in the last 10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457600" cy="3743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Content Placeholder 2"/>
          <p:cNvSpPr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ever the E.U. has continued to invest in it’s chemicals industry with the sector receiving the second highest manufacturing investment in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076480" y="1844640"/>
            <a:ext cx="4991040" cy="3619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Content Placeholder 2"/>
          <p:cNvSpPr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U.K. contributed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9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the total E.U. chemicals sales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total chemicals market value in the E.U. wa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€ 491 bill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se sales cover a range of products, with 75% of the E.U. market made up of petrochemicals, polymers and specia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2952720" cy="3327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5219640" y="1557360"/>
            <a:ext cx="2955960" cy="2882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Content Placeholder 2"/>
          <p:cNvSpPr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E.U. dominates the world chemicals export mar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majority of these exports are to other E.U. coun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5292720" y="907920"/>
            <a:ext cx="2820960" cy="3259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900000" y="981000"/>
            <a:ext cx="2880000" cy="4113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Content Placeholder 2"/>
          <p:cNvSpPr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ther important E.U. chemical trade partners are North America and Asia (inc. China and Jap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835280" y="1197000"/>
            <a:ext cx="5429160" cy="4133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Where does this leave the U.K. in the Global Market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ince the chemistry using industries are one of the largest manufacturing sectors in the U.K., it is positioned at the heart of the U.K.’s econom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ia and China are now dominating the global chemicals market, lead by heavy investment over the last 10 yea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hemicals market is still very strong in the U.K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lead by strong chemicals exports mostly to other E.U. nations, North America and Asi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Learning Outcom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o highlight how chemistry impacts on our everyday liv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o highlight the economic position of the U.K.’s chemistry using industries both at home, in the E.U and within the global economy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o highlight the current and future challenges which face the chemistry using industri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o show where chemistry research is making a difference to solve some of the global challenges which face this industry, contributing to the </a:t>
            </a:r>
            <a:r>
              <a:rPr b="0" lang="en-GB" sz="2200" spc="-1" strike="noStrike">
                <a:solidFill>
                  <a:srgbClr val="00b050"/>
                </a:solidFill>
                <a:latin typeface="Arial"/>
                <a:ea typeface="Arial"/>
              </a:rPr>
              <a:t>“</a:t>
            </a:r>
            <a:r>
              <a:rPr b="0" i="1" lang="en-GB" sz="2200" spc="-1" strike="noStrike">
                <a:solidFill>
                  <a:srgbClr val="00b050"/>
                </a:solidFill>
                <a:latin typeface="Arial"/>
                <a:ea typeface="Arial"/>
              </a:rPr>
              <a:t>green economy”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Current Challenges for the</a:t>
            </a:r>
            <a:br>
              <a:rPr sz="4400"/>
            </a:b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Chemistry Using Indust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emistry using industries convert energy &amp; raw materials into useful products which impact upon our everyday liv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future price and availability of energy resources is a key issu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hemicals industry is one of the most energy intensive secto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consume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22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U.K.’s total industrial use of energy at a cost of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£4 bill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er yea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can represent up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30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a businesses total cost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7" descr="http://www.nottingham.ac.uk/xpert/attribution/pictureattrib/mangle.php?url=http://farm5.static.flickr.com/7157/6387909297_02f3be9880_b.jpg&amp;original_url=http://www.flickr.com/49432141@N00/6387909297/&amp;license=flickr_1&amp;flickr_id=6387909297&amp;size=full&amp;picturename=127/365%20power"/>
          <p:cNvPicPr/>
          <p:nvPr/>
        </p:nvPicPr>
        <p:blipFill>
          <a:blip r:embed="rId1"/>
          <a:stretch/>
        </p:blipFill>
        <p:spPr>
          <a:xfrm>
            <a:off x="2916360" y="4869000"/>
            <a:ext cx="3240000" cy="187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50920" y="549360"/>
            <a:ext cx="868680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upply of Raw Material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future price and availability of the raw materials used in the manufacturing processes (i.e. gas and oil) is also a key issu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il and gas supplies are beginning to run low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competition through the new petrochemical capacity in the Middle East threatens the supply and availability of these raw materials at an affordable pri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addition, the supply of other resources (e.g. metals) is also drying u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all impacts the future sustainability of the chemistry using industr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6" descr="http://www.nottingham.ac.uk/xpert/attribution/pictureattrib/mangle.php?url=http://farm5.static.flickr.com/4016/4712925031_76d0cecdf3_b.jpg&amp;original_url=http://www.flickr.com/49503002894@N01/4712925031/&amp;license=flickr_1&amp;flickr_id=4712925031&amp;size=full&amp;picturename=A%20Gulf%20Oil%20Rig"/>
          <p:cNvPicPr/>
          <p:nvPr/>
        </p:nvPicPr>
        <p:blipFill>
          <a:blip r:embed="rId1"/>
          <a:stretch/>
        </p:blipFill>
        <p:spPr>
          <a:xfrm>
            <a:off x="2627280" y="3933720"/>
            <a:ext cx="3814920" cy="2664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50920" y="549360"/>
            <a:ext cx="578808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limate chang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ing a highly energy intensive industry, the chemicals industry is in part contributing to the emission of greenhouse gas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contribution is either direct through burning of raw materials (e.g. oil and gas) or indirect through the use of energy supply and transport of raw materials around the worl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the industry was an ‘early starter’ in setting aggressive targets for efficiency and reduction of harmful emissio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is also a provider of solutions to this problem and is investing into R&amp;D for many new products and processes aimed at cutting greenhouse gas emissio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Picture 6" descr="http://www.nottingham.ac.uk/xpert/attribution/pictureattrib/mangle.php?url=http://farm5.static.flickr.com/7174/6717620889_e0c6987c85_b.jpg&amp;original_url=http://www.flickr.com/22057747@N07/6717620889/&amp;license=flickr_1&amp;flickr_id=6717620889&amp;size=full&amp;picturename=global_village_2"/>
          <p:cNvPicPr/>
          <p:nvPr/>
        </p:nvPicPr>
        <p:blipFill>
          <a:blip r:embed="rId1"/>
          <a:stretch/>
        </p:blipFill>
        <p:spPr>
          <a:xfrm>
            <a:off x="6039000" y="765000"/>
            <a:ext cx="2920680" cy="5185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50920" y="549360"/>
            <a:ext cx="868680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aste management and environmental impa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or environmental and economic reason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dustry strives for efficiency to minimis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aste production and emissions into th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nvironment i.e. the less waste you produc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less it costs get rid of/sto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.There are many other issues and challenges facing the chemicals industry over the coming years – these are just a few examples…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se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hallenges offer opportunities for innov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address and solve the key issues. Since chemistry is an enabling science, it is well placed to make a direct impact through investment, innovation and R&amp;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7" name="Picture 6" descr="http://www.nottingham.ac.uk/xpert/attribution/pictureattrib/mangle.php?url=http://farm5.static.flickr.com/3561/3354740193_1bca3ed524_b.jpg&amp;original_url=http://www.flickr.com/53326337@N00/3354740193/&amp;license=flickr_5&amp;flickr_id=3354740193&amp;size=full&amp;picturename=Nuclear%20waste....%20er..."/>
          <p:cNvPicPr/>
          <p:nvPr/>
        </p:nvPicPr>
        <p:blipFill>
          <a:blip r:embed="rId1"/>
          <a:stretch/>
        </p:blipFill>
        <p:spPr>
          <a:xfrm>
            <a:off x="6175440" y="566640"/>
            <a:ext cx="2879640" cy="3078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Where is Chemistry Making a Difference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5092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aving energy and reducing environmental impa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re has been a strong focus on maximising cost effective use of energy resulting in an improved energy efficiency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35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from 1990 – 2006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27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for E.U. from 1990 – 2009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E.U. is a long way ahead of the U.S.A. on this issu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8360" y="3573360"/>
            <a:ext cx="3816360" cy="2239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4932360" y="3573360"/>
            <a:ext cx="3816360" cy="2452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250920" y="188640"/>
            <a:ext cx="8686800" cy="59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duced emission of greenhouse gas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ing a highly energy intensive industry, the chemicals industry is contributing to the emission of greenhouse gas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the industry was an ‘early starter’ in setting aggressive targets for efficiency and reduction of harmful emissio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reenhouse gas emissions have falle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49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since 199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68800" cy="3097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50920" y="188640"/>
            <a:ext cx="8686800" cy="59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an chemistry offer further solutions to these problems?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emistry is a provider of solution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ince chemistry is an ‘enabling science’ it allows for the development of new processes and technologies to address these issues through R&amp;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top products which achieve carbon savings are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>
              <a:lnSpc>
                <a:spcPct val="100000"/>
              </a:lnSpc>
              <a:spcBef>
                <a:spcPts val="4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building insulation material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>
              <a:lnSpc>
                <a:spcPct val="100000"/>
              </a:lnSpc>
              <a:spcBef>
                <a:spcPts val="4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More efficient lightin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>
              <a:lnSpc>
                <a:spcPct val="100000"/>
              </a:lnSpc>
              <a:spcBef>
                <a:spcPts val="4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Lightweight yet strong plastics for more fuel efficient modes of transport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>
              <a:lnSpc>
                <a:spcPct val="100000"/>
              </a:lnSpc>
              <a:spcBef>
                <a:spcPts val="4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evelopment of low-temperature detergents to save energy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>
              <a:lnSpc>
                <a:spcPct val="100000"/>
              </a:lnSpc>
              <a:spcBef>
                <a:spcPts val="4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fuel and engine efficiency….etc…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8" name="Picture 6" descr="http://www.nottingham.ac.uk/xpert/attribution/pictureattrib/mangle.php?url=http://farm5.static.flickr.com/4083/4837264929_c72f52bc90_b.jpg&amp;original_url=http://www.flickr.com/73295603@N00/4837264929/&amp;license=flickr_3&amp;flickr_id=4837264929&amp;size=full&amp;picturename=Neopor:%20an%20innovative%20insulating%20material%20–%20Pilot%20plant"/>
          <p:cNvPicPr/>
          <p:nvPr/>
        </p:nvPicPr>
        <p:blipFill>
          <a:blip r:embed="rId1"/>
          <a:stretch/>
        </p:blipFill>
        <p:spPr>
          <a:xfrm>
            <a:off x="644400" y="3932280"/>
            <a:ext cx="3127680" cy="2176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http://www.nottingham.ac.uk/xpert/attribution/pictureattrib/mangle.php?url=http://farm5.static.flickr.com/7174/6446901067_fc0e8a5811_b.jpg&amp;original_url=http://www.flickr.com/12299874@N08/6446901067/&amp;license=flickr_3&amp;flickr_id=6446901067&amp;size=full&amp;picturename=Light"/>
          <p:cNvPicPr/>
          <p:nvPr/>
        </p:nvPicPr>
        <p:blipFill>
          <a:blip r:embed="rId2"/>
          <a:stretch/>
        </p:blipFill>
        <p:spPr>
          <a:xfrm>
            <a:off x="5364000" y="3932280"/>
            <a:ext cx="3094200" cy="2176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50920" y="188640"/>
            <a:ext cx="8686800" cy="59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has been estimated that fo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ach 1 unit of greenhouse gas which the chemistry using industry emit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production processes, the resulting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ew products save 2-3 units of greenhouse gas emiss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positions the chemistry using industries at the heart of th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933c"/>
                </a:solidFill>
                <a:latin typeface="Arial"/>
                <a:ea typeface="Arial"/>
              </a:rPr>
              <a:t>‘</a:t>
            </a:r>
            <a:r>
              <a:rPr b="0" lang="en-GB" sz="4400" spc="-1" strike="noStrike">
                <a:solidFill>
                  <a:srgbClr val="77933c"/>
                </a:solidFill>
                <a:latin typeface="Arial"/>
                <a:ea typeface="Arial"/>
              </a:rPr>
              <a:t>green economy’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2" name="Picture 4" descr="http://www.nottingham.ac.uk/xpert/attribution/pictureattrib/mangle.php?url=http://farm5.static.flickr.com/7145/6736493655_66688c7725_b.jpg&amp;original_url=http://www.flickr.com/58965011@N05/6736493655/&amp;license=flickr_1&amp;flickr_id=6736493655&amp;size=full&amp;picturename=Luz%20e%20sombras"/>
          <p:cNvPicPr/>
          <p:nvPr/>
        </p:nvPicPr>
        <p:blipFill>
          <a:blip r:embed="rId1"/>
          <a:stretch/>
        </p:blipFill>
        <p:spPr>
          <a:xfrm>
            <a:off x="971640" y="2922480"/>
            <a:ext cx="7200720" cy="3030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Conclus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50920" y="1267920"/>
            <a:ext cx="86868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emistry is an enabling science – it is all around us and is involved in everything we need, do and interact with in our everyday liv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hemistry using industries are one of the largest manufacturing sectors in the U.K. making a varied range of product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industry is positioned at the heart of the U.K.’s manufacturing econom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ia and China are now dominating the global chemicals market, but the chemicals market is still very strong in the U.K. lead by strong expor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re are many challenges which face the chemistry using industries, however this industry is making a difference and is key to the U.K.’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50"/>
                </a:solidFill>
                <a:latin typeface="Arial"/>
                <a:ea typeface="Arial"/>
              </a:rPr>
              <a:t>‘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  <a:ea typeface="Arial"/>
              </a:rPr>
              <a:t>Green Economy’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References &amp; Further Read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5092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emical Industries Associ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ww.cia.org.u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Chemical and Pharmaceutical Businesses in the UK, Our Campaign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, Sept. 201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Annual Review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, 2009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EFIC – The European Chemical Industry Counci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ww.cefic.or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Facts and Figures 2011 – The European chemical industry in a worldwide perspectiv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Why is Chemistry Important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hemistry is an “enabling science”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.e. chemistry facilitates other sciences, research and manufactur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chemicals industry is at the heart of manufacturing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 converts raw materials (e.g. oil and gas) into a host of products and resources for use by both industrial and household consum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4"/>
          <p:cNvSpPr/>
          <p:nvPr/>
        </p:nvSpPr>
        <p:spPr>
          <a:xfrm>
            <a:off x="1547640" y="1413000"/>
            <a:ext cx="561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6156360" y="6237360"/>
            <a:ext cx="1274760" cy="4824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7"/>
          <p:cNvSpPr/>
          <p:nvPr/>
        </p:nvSpPr>
        <p:spPr>
          <a:xfrm>
            <a:off x="250920" y="333360"/>
            <a:ext cx="9001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Auth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r. Trevor Farren, Dr. Simon Mosey, Dr. William Drewe &amp; Prof. Barry Stick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228600" y="175248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chool of Chemistry, University of Nottingham, U.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10"/>
          <p:cNvSpPr/>
          <p:nvPr/>
        </p:nvSpPr>
        <p:spPr>
          <a:xfrm>
            <a:off x="250920" y="558972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Suppor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5" descr="http://www.cibit.url.tw/APBITM(New)/images/UoN%20logo.jpg"/>
          <p:cNvPicPr/>
          <p:nvPr/>
        </p:nvPicPr>
        <p:blipFill>
          <a:blip r:embed="rId2"/>
          <a:stretch/>
        </p:blipFill>
        <p:spPr>
          <a:xfrm>
            <a:off x="2590920" y="3157560"/>
            <a:ext cx="4032000" cy="1795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"/>
          <p:cNvPicPr/>
          <p:nvPr/>
        </p:nvPicPr>
        <p:blipFill>
          <a:blip r:embed="rId3"/>
          <a:stretch/>
        </p:blipFill>
        <p:spPr>
          <a:xfrm>
            <a:off x="2268360" y="6093000"/>
            <a:ext cx="175608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Why is Chemistry Important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hemistry impacts on our everyday lives through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oaps, shampoos and detergents to keep us clea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isinfectants and pharmaceuticals to safeguard healt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dditives to foods to keep them fresher long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ints to protect and extend the life of metal and timb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sulation materials to save energy in building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fuel we put in our car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hemistry is all around us and is involved in everything we need, do and interact with in our everyday lives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7" descr="http://www.nottingham.ac.uk/xpert/attribution/pictureattrib/mangle.php?url=http://farm5.static.flickr.com/2704/5816515113_db98012d33_b.jpg&amp;original_url=http://www.flickr.com/27632962@N04/5816515113/&amp;license=flickr_1&amp;flickr_id=5816515113&amp;size=full&amp;picturename=Jessica%20Rohrer%20painting:%20household%20cleaning%20supplies"/>
          <p:cNvPicPr/>
          <p:nvPr/>
        </p:nvPicPr>
        <p:blipFill>
          <a:blip r:embed="rId1"/>
          <a:stretch/>
        </p:blipFill>
        <p:spPr>
          <a:xfrm>
            <a:off x="6732720" y="2097000"/>
            <a:ext cx="1919160" cy="1500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http://www.nottingham.ac.uk/xpert/attribution/pictureattrib/mangle.php?url=http://farm5.static.flickr.com/5011/5513586978_0a09f8e7d7_b.jpg&amp;original_url=http://www.flickr.com/88651026@N00/5513586978/&amp;license=flickr_1&amp;flickr_id=5513586978&amp;size=full&amp;picturename=Art%20Store%20Lust"/>
          <p:cNvPicPr/>
          <p:nvPr/>
        </p:nvPicPr>
        <p:blipFill>
          <a:blip r:embed="rId2"/>
          <a:stretch/>
        </p:blipFill>
        <p:spPr>
          <a:xfrm>
            <a:off x="6732720" y="3716280"/>
            <a:ext cx="1919160" cy="1494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The History of the U.K. Chemistry Using Indust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77336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U.K. chemicals industry grew up using locally occurring resources such as salt, coal, limestone, vegetable matter and animal fa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day it is part of a global industry primarily using natural gas and oil fractions such as naphtha as its dominant raw material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The U.K. Chemical Econom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emicals and pharmaceuticals represen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2%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f total U.K. manufacturing output, equivalent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.5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GDP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veryday the chemicals industry contribute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£70 mill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the U.K. econom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9" name="Group 49"/>
          <p:cNvGrpSpPr/>
          <p:nvPr/>
        </p:nvGrpSpPr>
        <p:grpSpPr>
          <a:xfrm>
            <a:off x="2002320" y="2492280"/>
            <a:ext cx="5185080" cy="2961000"/>
            <a:chOff x="2002320" y="2492280"/>
            <a:chExt cx="5185080" cy="2961000"/>
          </a:xfrm>
        </p:grpSpPr>
        <p:pic>
          <p:nvPicPr>
            <p:cNvPr id="70" name="Picture 2" descr=""/>
            <p:cNvPicPr/>
            <p:nvPr/>
          </p:nvPicPr>
          <p:blipFill>
            <a:blip r:embed="rId1"/>
            <a:stretch/>
          </p:blipFill>
          <p:spPr>
            <a:xfrm>
              <a:off x="3618360" y="3025080"/>
              <a:ext cx="225684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Box 51"/>
            <p:cNvSpPr/>
            <p:nvPr/>
          </p:nvSpPr>
          <p:spPr>
            <a:xfrm>
              <a:off x="4156920" y="2492280"/>
              <a:ext cx="195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% - Glass, ceramics, etc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TextBox 52"/>
            <p:cNvSpPr/>
            <p:nvPr/>
          </p:nvSpPr>
          <p:spPr>
            <a:xfrm>
              <a:off x="5069880" y="2780280"/>
              <a:ext cx="210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% - Food, beverages, etc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TextBox 53"/>
            <p:cNvSpPr/>
            <p:nvPr/>
          </p:nvSpPr>
          <p:spPr>
            <a:xfrm>
              <a:off x="5822640" y="3644280"/>
              <a:ext cx="1364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% - Transport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quip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TextBox 54"/>
            <p:cNvSpPr/>
            <p:nvPr/>
          </p:nvSpPr>
          <p:spPr>
            <a:xfrm>
              <a:off x="5760360" y="4436640"/>
              <a:ext cx="128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% - Paper and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nt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TextBox 55"/>
            <p:cNvSpPr/>
            <p:nvPr/>
          </p:nvSpPr>
          <p:spPr>
            <a:xfrm>
              <a:off x="4875120" y="5085000"/>
              <a:ext cx="198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% - Chemica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TextBox 56"/>
            <p:cNvSpPr/>
            <p:nvPr/>
          </p:nvSpPr>
          <p:spPr>
            <a:xfrm>
              <a:off x="3371400" y="5053680"/>
              <a:ext cx="100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- Oth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TextBox 57"/>
            <p:cNvSpPr/>
            <p:nvPr/>
          </p:nvSpPr>
          <p:spPr>
            <a:xfrm>
              <a:off x="2474280" y="4436640"/>
              <a:ext cx="107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- Metal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TextBox 58"/>
            <p:cNvSpPr/>
            <p:nvPr/>
          </p:nvSpPr>
          <p:spPr>
            <a:xfrm>
              <a:off x="2002320" y="3644280"/>
              <a:ext cx="1390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% - Electric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optic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TextBox 59"/>
            <p:cNvSpPr/>
            <p:nvPr/>
          </p:nvSpPr>
          <p:spPr>
            <a:xfrm>
              <a:off x="2295000" y="3068280"/>
              <a:ext cx="1352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% - Mechanical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gineer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TextBox 60"/>
            <p:cNvSpPr/>
            <p:nvPr/>
          </p:nvSpPr>
          <p:spPr>
            <a:xfrm>
              <a:off x="3279240" y="2564280"/>
              <a:ext cx="1081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% - Rubber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plasti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Straight Connector 61"/>
            <p:cNvSpPr/>
            <p:nvPr/>
          </p:nvSpPr>
          <p:spPr>
            <a:xfrm>
              <a:off x="4599000" y="2749320"/>
              <a:ext cx="0" cy="27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Straight Connector 62"/>
            <p:cNvSpPr/>
            <p:nvPr/>
          </p:nvSpPr>
          <p:spPr>
            <a:xfrm flipH="1">
              <a:off x="5319720" y="2979360"/>
              <a:ext cx="102960" cy="18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Straight Connector 63"/>
            <p:cNvSpPr/>
            <p:nvPr/>
          </p:nvSpPr>
          <p:spPr>
            <a:xfrm flipH="1">
              <a:off x="5835240" y="3808440"/>
              <a:ext cx="206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Straight Connector 64"/>
            <p:cNvSpPr/>
            <p:nvPr/>
          </p:nvSpPr>
          <p:spPr>
            <a:xfrm flipH="1" flipV="1">
              <a:off x="5732280" y="4454640"/>
              <a:ext cx="206280" cy="13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Straight Connector 65"/>
            <p:cNvSpPr/>
            <p:nvPr/>
          </p:nvSpPr>
          <p:spPr>
            <a:xfrm flipH="1" flipV="1">
              <a:off x="5165280" y="4914360"/>
              <a:ext cx="50760" cy="18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Straight Connector 66"/>
            <p:cNvSpPr/>
            <p:nvPr/>
          </p:nvSpPr>
          <p:spPr>
            <a:xfrm flipH="1">
              <a:off x="4186440" y="4869000"/>
              <a:ext cx="102960" cy="18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Straight Connector 67"/>
            <p:cNvSpPr/>
            <p:nvPr/>
          </p:nvSpPr>
          <p:spPr>
            <a:xfrm flipH="1">
              <a:off x="3618000" y="4454640"/>
              <a:ext cx="15552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Straight Connector 68"/>
            <p:cNvSpPr/>
            <p:nvPr/>
          </p:nvSpPr>
          <p:spPr>
            <a:xfrm flipH="1">
              <a:off x="3411360" y="3808440"/>
              <a:ext cx="258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Straight Connector 69"/>
            <p:cNvSpPr/>
            <p:nvPr/>
          </p:nvSpPr>
          <p:spPr>
            <a:xfrm flipH="1" flipV="1">
              <a:off x="3720600" y="3209400"/>
              <a:ext cx="206280" cy="13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Straight Connector 70"/>
            <p:cNvSpPr/>
            <p:nvPr/>
          </p:nvSpPr>
          <p:spPr>
            <a:xfrm flipH="1" flipV="1">
              <a:off x="4186080" y="2887200"/>
              <a:ext cx="153720" cy="230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6840" y="260280"/>
            <a:ext cx="8218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hemicals industry manufactures a diverse range of materials and produc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861160" cy="3886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2050920" y="5300640"/>
            <a:ext cx="5050080" cy="209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6840" y="260280"/>
            <a:ext cx="8218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hemicals industry in the U.K. invests ove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£5 bill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per year in R&amp;D –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ne thi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the total U.K. R&amp;D spen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investment in innovation drives sector growt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U.K. (and E.U.) chemicals industry has shown continued output growth and has out performed other manufacturing businesses, especially in the current economic climat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778800" cy="3257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4427640" y="4221000"/>
            <a:ext cx="3485880" cy="285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6840" y="260280"/>
            <a:ext cx="8218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hemicals industry is the U.K.’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. 1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nufacturing exporte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U.K. chemicals industry has maintained a surplus in trad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very working day the U.K.’s chemicals industry add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£30 mill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our country’s balance of trade. In the same period the rest of manufacturing achieved 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£300 mill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daily loss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480000" cy="3386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4:15:45Z</dcterms:created>
  <dc:creator>Information Services</dc:creator>
  <dc:description/>
  <dc:language>en-US</dc:language>
  <cp:lastModifiedBy>Chris Runciman</cp:lastModifiedBy>
  <dcterms:modified xsi:type="dcterms:W3CDTF">2020-12-15T09:05:24Z</dcterms:modified>
  <cp:revision>102</cp:revision>
  <dc:subject/>
  <dc:title>Introduction to the chemistry-using industries presentation</dc:title>
</cp:coreProperties>
</file>