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C72A-FA26-4931-AB94-9500C910FAC2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8D9A-FBE5-4F62-BF37-D4BE17737C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C76B-E034-4F36-9E2E-1D8BE0BD968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FA3A-7F24-4808-BDA8-EF990AFAB5A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DFB-9458-486D-BE65-34DE71A3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529-B6CF-4A73-8723-2BEC1CE1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1F9-D7C4-40CA-874D-424E5E56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E81-F8FB-4CA2-90C5-5B99A7DE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647-DA89-4811-92C2-8A96671C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E4C-86FF-4255-A257-AFF732B2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5F4-43AA-4E4E-AD0E-0E6C3E2E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98D-1F31-4A7E-8FAD-228F23B4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311-B114-47AC-9D03-DD76E776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5B9-C208-4DD7-872F-9362F031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C59-E94F-45BD-BF93-C1D1288E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BA5-E388-4A02-ACC6-7B844210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4327-55F4-4756-90D0-AF832F1817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00C6-3031-45B3-AD18-AEC597D79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9" descr="BS_Bar_header_Blue.jpg"/>
          <p:cNvPicPr/>
          <p:nvPr/>
        </p:nvPicPr>
        <p:blipFill>
          <a:blip r:embed="rId2"/>
          <a:stretch/>
        </p:blipFill>
        <p:spPr>
          <a:xfrm>
            <a:off x="249120" y="0"/>
            <a:ext cx="8604360" cy="1004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rsc.li/3840bDs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2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art 1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7831-B4B8-4923-9001-90D7EE7CFC1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2057400" y="638316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es the problem manifest itsel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o does the problem aff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is the impact of the probl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nalyse the evidence;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describ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the 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8114-ECA2-48A8-BDA9-EF231492CDD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133720"/>
            <a:ext cx="6477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escribe the problem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- who, what, when, where, how, why (sympto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ime parking - stress and ?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Cars being driven around unnecessar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Pollution / health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City life unpleasa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lows all traf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Acci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Waste of petrol / car da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629040" y="2133720"/>
            <a:ext cx="2057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2057400" cy="388620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FE6D-6D0B-49B9-88F2-2085B2FD656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es the problem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 it simple or complex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root caus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Explore the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structur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of the problem, find the root ca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8A35-ACBE-4FC0-B951-6E8995DFABA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etermine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criteria for succes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constraints in both time and resourc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prioriti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Decid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how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to attempt a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133720"/>
            <a:ext cx="6477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lem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Lack of p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ublic transport inefficient/ unattra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eople like privacy/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he c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lem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ilot solution in Nottingham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362320" cy="3992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6400800" y="2209680"/>
            <a:ext cx="2362320" cy="38862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3459-06F1-45DA-A164-7C841D91F7F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276720" y="1781280"/>
            <a:ext cx="1238040" cy="419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724280" y="1781280"/>
            <a:ext cx="3124440" cy="419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SCRIBE THE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ROOT CAU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CIDE HOW TO ATTEMPT A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eft Brace 1"/>
          <p:cNvSpPr/>
          <p:nvPr/>
        </p:nvSpPr>
        <p:spPr>
          <a:xfrm>
            <a:off x="2362320" y="152388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33560"/>
            <a:ext cx="2286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ED card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98480" y="2998800"/>
            <a:ext cx="1566720" cy="206064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4FBC-29DE-48FB-8154-A5C13823121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Global challenges and chemistry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pulation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carcity of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equences of the industrialised and globalised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 -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age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ealth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ource scarcity –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non-renewables; energy; water; l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ease -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obesity; HIV; cancer;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te modern world -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climate change; sustainability and waste; urbanisation; m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2415-42F3-443C-9289-B4DF6B25AF1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809880" y="4191120"/>
            <a:ext cx="1295640" cy="227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2841480" y="5638680"/>
            <a:ext cx="968400" cy="966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3961-2623-47DC-BF7E-C52C3312E4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685800" y="3025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sit key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ew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TWO-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</a:rPr>
              <a:t>ORANGE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head for next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B5ED-5E06-48F0-AA5C-56D027566D8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What is ingenuity? </a:t>
            </a: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Phase 2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alibri"/>
              </a:rPr>
              <a:t>Phase 2– generate lots of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B215-AF73-4F12-AD13-CFFF07890BC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4720" y="3200040"/>
            <a:ext cx="40417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3911760" cy="2691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pla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chem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ONE -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RED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head for next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10FA-A2E9-4F37-BA50-7B920F07DDF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B219-839C-469E-9E94-3763827D387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at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EPARE TO FIND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deas/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GENERATE MULTIPL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tenti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NOTICE AS REALISTIC CONCEPTS EMER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ORANG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C2C8-8BEF-41E1-A4E5-0375F35F8F2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Thoughts on problem discovery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eativity is the yeast of innovation; a small part of the recipe, useless on it’s own but see what happens when you miss it ou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ffc000"/>
                </a:solidFill>
                <a:latin typeface="Calibri"/>
              </a:rPr>
              <a:t>William Be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(to yourself AND each oth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interru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useful questions when discovering the problem, see p62-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1BF5-88A5-452C-9730-84358044C6F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743200" y="5257800"/>
            <a:ext cx="1974960" cy="1450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sent a clear expla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truct a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ose a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Prepar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to find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C114-CA0E-43EB-A39B-01FA9A85F73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133720"/>
            <a:ext cx="44956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000"/>
                </a:solidFill>
                <a:latin typeface="Calibri"/>
              </a:rPr>
              <a:t>‘</a:t>
            </a:r>
            <a:r>
              <a:rPr b="0" i="1" lang="en-GB" sz="2400" spc="-1" strike="noStrike">
                <a:solidFill>
                  <a:srgbClr val="ffc000"/>
                </a:solidFill>
                <a:latin typeface="Calibri"/>
              </a:rPr>
              <a:t>there is an excess demand for parking in areas of insufficient supply for commuters in citi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629040" y="2133720"/>
            <a:ext cx="2057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810240" cy="388620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955A-4E2F-4125-8194-BA99AD6AA6C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2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ek ana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nerate non obvious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nd as many idea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Generat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multiple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4F50-A74B-4496-98ED-A68B494DD2D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3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eterm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flect on nature and diversity of ide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all the permutations been explor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enough ideas been produc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Notic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as realistic concepts begin to eme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93D8-49CD-4CDC-8711-D87A31764D7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city parking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multiple solutions</a:t>
            </a: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70AE-9C75-4653-A025-A8B12D78D9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 water park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k in middle of ro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del specific p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king on sides of buil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bile car park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lines in car p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w roofs in car park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ig saw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r becomes a gen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posable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rs become delivery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oating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iverless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bay car park auction for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llapsible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share car p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lorries in cit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shops in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unity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rtable off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Effect ideas discovery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212580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enerate as many solutions as possible (&gt;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post it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ke a lateral, non linear jump to achieve creative insi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itchhiking’ is encour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F1BA-6AEF-49C0-BB68-713914783D2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4724280" y="2125800"/>
            <a:ext cx="4038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No criticism is allow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ank your ideas from 1= incremental innovation and 5 = radically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You should aim to generate at least 20 radically new id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Calibri"/>
                <a:ea typeface="Arial"/>
              </a:rPr>
              <a:t>use your knowledge of the latest research in your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at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EPARE TO FIND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deas/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GENERATE MULTIPL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tenti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NOTICE AS REALISTIC CONCEPTS EMER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520" y="1523520"/>
            <a:ext cx="20480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ORANG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26CC-7B84-4AE2-BA4B-65BD79E337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828720" y="3432240"/>
            <a:ext cx="1566720" cy="2060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What is ingenuity? In ac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 Million Dollar Home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C386-B207-4A38-A106-FB9BB0AB5F9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2819160"/>
            <a:ext cx="40417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4724280" y="2816280"/>
            <a:ext cx="3962520" cy="3216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E0D0-D877-4F43-B5E5-DA98F6F2BAF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685800" y="3025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Par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sit key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ew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THREE-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GREEN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F71B-531C-4C07-909C-B438761D319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What is ingenuity? 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Phase 3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2d050"/>
                </a:solidFill>
                <a:latin typeface="Calibri"/>
              </a:rPr>
              <a:t>Phase 3–at last, the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3363-6614-4982-B967-C624E211B55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4720" y="3200040"/>
            <a:ext cx="40417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3"/>
          <a:stretch/>
        </p:blipFill>
        <p:spPr>
          <a:xfrm>
            <a:off x="4724280" y="2798640"/>
            <a:ext cx="3965760" cy="3245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EC92-A443-4D47-A410-A13A0823FA2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 AND ENGINEER POTENTI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BEST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Look to the 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CONSIDER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GREEN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ACF9-9EBF-4C07-BF15-B33D9480AAF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Thoughts on problem determination 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‘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ople who don’t take risks generally 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bout two big mistakes a year. People who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ke risks generally make about two b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istakes a year’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92d050"/>
                </a:solidFill>
                <a:latin typeface="Calibri"/>
              </a:rPr>
              <a:t>Peter Dru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53F3-A0D2-4235-8B62-35668933D3C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3886200" cy="3581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rt and sift ideas into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truct realistic pos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ect 3/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Select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and engineer potential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2E09-F5D7-45C9-9DB9-DFC3F79719B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2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all criteria from problem definition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are the altern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oose the optimal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Investigat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the alternatives and </a:t>
            </a: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find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the best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5609-7EF6-4287-9D3D-B39B7336A0C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3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eterm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sent chosen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ine barriers to accep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 implementa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Concentrat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on the imagined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0C84-6ECE-4C7B-96FD-55DBE701E4A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city parking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final concepts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BA82-F13C-462B-897A-3682209DC00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tegorised ideas into three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frastructure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gh tech sol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engine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three super solutions – one from each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bile car p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ield management of car parks via tom toms, G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n lor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ngenuity starts with #1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0574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cus on the ‘Huston we have a problem’ moment rather than ‘EUREKA! here’s the solution..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tradition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trepreneur (in the Schumpeter (1921) sense not 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eryone in business sen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ifting the paradigm (Kuhn, 196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sions – between innovation and orthodox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1D81-2584-4227-B400-38905E0368C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Effective  determination 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212580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Final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2d05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Categor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st-it 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me the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 flexible – force 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2d05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rt with a single idea and build from the 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CFF3-DF38-47E3-9A1A-4735F1F9477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Content Placeholder 2"/>
          <p:cNvSpPr/>
          <p:nvPr/>
        </p:nvSpPr>
        <p:spPr>
          <a:xfrm>
            <a:off x="4724280" y="2125800"/>
            <a:ext cx="4038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  <a:ea typeface="Times New Roman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generate criteria required in a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core solution by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advantages/disadvantages matr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  <a:ea typeface="Arial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imagine using a solution in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emoving negatives:- borrow from other solutions and from phase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 AND ENGINEER POTENTI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BEST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Look to the 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CONSIDER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599840"/>
            <a:ext cx="20480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GREEN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DE0E-00EE-48E8-88B1-4D51A629ED5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811080" y="3505320"/>
            <a:ext cx="1567080" cy="2060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ngenuity starts with #2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 solving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hanical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cit knowing and trus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for divergent thinking before rushing to convergent production of a single solution too s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992400"/>
          </a:xfrm>
          <a:prstGeom prst="rect">
            <a:avLst/>
          </a:prstGeom>
          <a:ln w="0">
            <a:noFill/>
          </a:ln>
        </p:spPr>
      </p:pic>
      <p:sp>
        <p:nvSpPr>
          <p:cNvPr id="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4733-1E40-4802-92E9-A0AF7515410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646520" y="2163600"/>
            <a:ext cx="4038840" cy="393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FD74-5EF5-42A5-BD84-961A0D7E6B9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52560" y="-944640"/>
            <a:ext cx="2314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1"/>
          <a:stretch/>
        </p:blipFill>
        <p:spPr>
          <a:xfrm>
            <a:off x="885960" y="4114800"/>
            <a:ext cx="231444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276720" y="1981080"/>
            <a:ext cx="1238040" cy="41911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SCRIBE THE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ROOT CAU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CIDE HOW TO ATTEMPT A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CE95-B890-4B30-AFCD-3D875ABA9F7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Thoughts on problem defini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lots of ideas and throw away the bad ones….You aren’t going to have good ideas unless you have lots of ideas and some sort of principle of selection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Linus Pa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(to yourself AND each oth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interru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useful questions when defining the problem, see p47-5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A7AB-1F6B-4934-B9EA-B7F330DE45E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Thoughts on problem defini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133720"/>
            <a:ext cx="4191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ntelligent people can juggle a half-dozen concepts simultaneously and make good decisions rapidly – and many of them seldom have a creative moment. They are so good at the standard answers and so eager to move on to the next decision that they never play around with nonstandard possibilities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here is such a thing as being “too good” because, in much of life, there are no correct answers. You have to invent new ones and contemplate them for some time.’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b0f0"/>
                </a:solidFill>
                <a:latin typeface="Calibri"/>
              </a:rPr>
              <a:t>W. H. Calv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00240" y="2133720"/>
            <a:ext cx="3886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en your mind, say anyth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use, slow down - notice when you are rushing ahead with the one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y on task… define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CCD9-9221-48C7-A0C6-23C31D0AB6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00:55Z</dcterms:created>
  <dc:creator>Suzanne Edinger</dc:creator>
  <dc:description/>
  <dc:language>en-US</dc:language>
  <cp:lastModifiedBy>Chris Runciman</cp:lastModifiedBy>
  <cp:lastPrinted>2012-02-03T11:56:17Z</cp:lastPrinted>
  <dcterms:modified xsi:type="dcterms:W3CDTF">2020-12-15T08:55:41Z</dcterms:modified>
  <cp:revision>93</cp:revision>
  <dc:subject/>
  <dc:title>Ingenuity presentation</dc:title>
</cp:coreProperties>
</file>