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4F24-AF1A-4A11-AB3C-4C729961D64C}" type="datetime">
              <a:rPr b="0" lang="en-GB" sz="12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DB82-0B8F-4F9A-B1D8-48C81835C30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0190-5F37-4838-9A4A-A0131BEC5134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30DB-9FBB-4927-875E-C374E53FD648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F390-9A65-4C44-AD6D-C1D07B088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4ABA-1422-4920-A553-33443C6C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4078-CBCC-4E1D-A46B-C2A5FE52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4198-4844-4794-859E-A8A5BBB06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C7F8-6A44-4CC4-A5AA-596EBF17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3D5D-CE6E-42BB-A857-3CF4055B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01C8-203E-4196-AF79-CCE0ED2F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3635-6329-40F4-B938-E220BFC1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D40C-5C8C-4759-BEA1-C8A5E762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D029-7F9D-4EF5-B9EF-167C6770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9AA8-EA94-40E5-83E8-90886D3A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ED54-BC07-4527-AF79-9043FBE4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DC4F-E368-488D-A1B7-CC9FEB63D4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6F55-5275-4ECB-A93F-E8D156B510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Picture 9" descr="BS_Bar_header_Blue.jpg"/>
          <p:cNvPicPr/>
          <p:nvPr/>
        </p:nvPicPr>
        <p:blipFill>
          <a:blip r:embed="rId2"/>
          <a:stretch/>
        </p:blipFill>
        <p:spPr>
          <a:xfrm>
            <a:off x="249120" y="0"/>
            <a:ext cx="8604360" cy="1004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rsc.li/3840bDs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7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2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Ingenuity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Part 1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83808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siness Skills for Chemical Scient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5"/>
          <p:cNvSpPr/>
          <p:nvPr/>
        </p:nvSpPr>
        <p:spPr>
          <a:xfrm>
            <a:off x="304920" y="1833480"/>
            <a:ext cx="8305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4342-7BB1-46AD-9DD9-6DEF258F777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2057400" y="6383160"/>
            <a:ext cx="282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This resource was downloaded from Business Skills for Chemists (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s://rsc.li/3840bD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1 –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efin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w does the problem manifest itself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o does the problem affec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is the impact of the proble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nalyse the evidence; 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describe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 the symp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3722-9F4F-49C3-9278-A7733C52C27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Lack of parking in the city</a:t>
            </a:r>
            <a:br>
              <a:rPr sz="4400"/>
            </a:b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2133720"/>
            <a:ext cx="64771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Describe the problem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- who, what, when, where, how, why (symptom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Time parking - stress and ? 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Cars being driven around unnecessar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Pollution / health iss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City life unpleasa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Slows all traff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Acci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Waste of petrol / car dam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629040" y="2133720"/>
            <a:ext cx="20574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6705720" y="2209680"/>
            <a:ext cx="2057400" cy="3886200"/>
          </a:xfrm>
          <a:prstGeom prst="rect">
            <a:avLst/>
          </a:prstGeom>
          <a:ln w="0">
            <a:noFill/>
          </a:ln>
        </p:spPr>
      </p:pic>
      <p:sp>
        <p:nvSpPr>
          <p:cNvPr id="1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04EE-9C53-410C-B62D-9122AE87A7A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1 –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iscover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w does the problem wor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s it simple or complex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are the root cause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Explore the 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structure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 of the problem, find the root ca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14ED-240F-45FC-934D-B226AB1CF47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1 –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etermine 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are the criteria for succes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are the constraints in both time and resource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are the prioritie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Decide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how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 to attempt a s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Lack of parking in the city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133720"/>
            <a:ext cx="64771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blem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Lack of par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Public transport inefficient/ unattrac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People like privacy/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The c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blem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Pilot solution in Nottingham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324480" y="2133720"/>
            <a:ext cx="2362320" cy="3992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6400800" y="2209680"/>
            <a:ext cx="2362320" cy="388620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3D8D-C93B-48AA-B16C-A8BC4908215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3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3276720" y="1781280"/>
            <a:ext cx="1238040" cy="41907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Phase 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4724280" y="1781280"/>
            <a:ext cx="3124440" cy="41907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Descrip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DESCRIBE THE SYMPTO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D THE ROOT CAU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trategy to Solve Probl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DECIDE HOW TO ATTEMPT A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eft Brace 1"/>
          <p:cNvSpPr/>
          <p:nvPr/>
        </p:nvSpPr>
        <p:spPr>
          <a:xfrm>
            <a:off x="2362320" y="1523880"/>
            <a:ext cx="990360" cy="4572000"/>
          </a:xfrm>
          <a:custGeom>
            <a:avLst/>
            <a:gdLst>
              <a:gd name="textAreaLeft" fmla="*/ 632880 w 990360"/>
              <a:gd name="textAreaRight" fmla="*/ 990720 w 99036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933560"/>
            <a:ext cx="22860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RED card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A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798480" y="2998800"/>
            <a:ext cx="1566720" cy="206064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499D-11B9-41CE-9110-F282ADCA407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Global challenges and chemistry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opulation grow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carcity of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sequences of the industrialised and globalised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pulation -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age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health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source scarcity –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non-renewables; energy; water; l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sease -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obesity; HIV; cancer; inf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ate modern world -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climate change; sustainability and waste; urbanisation; mo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8FAF-D64A-4521-94E1-6E034427E3C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3809880" y="4191120"/>
            <a:ext cx="1295640" cy="2278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2841480" y="5638680"/>
            <a:ext cx="968400" cy="966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"/>
          <p:cNvPicPr/>
          <p:nvPr/>
        </p:nvPicPr>
        <p:blipFill>
          <a:blip r:embed="rId3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tle 1"/>
          <p:cNvSpPr/>
          <p:nvPr/>
        </p:nvSpPr>
        <p:spPr>
          <a:xfrm>
            <a:off x="83808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siness Skills for Chemical Scient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traight Connector 5"/>
          <p:cNvSpPr/>
          <p:nvPr/>
        </p:nvSpPr>
        <p:spPr>
          <a:xfrm>
            <a:off x="304920" y="1833480"/>
            <a:ext cx="8305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7A93-40B5-4B82-92AA-73DB432C5FE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itle 1"/>
          <p:cNvSpPr/>
          <p:nvPr/>
        </p:nvSpPr>
        <p:spPr>
          <a:xfrm>
            <a:off x="685800" y="30258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  <a:ea typeface="Arial"/>
              </a:rPr>
              <a:t>Ingenuity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Calibri"/>
                <a:ea typeface="Arial"/>
              </a:rPr>
              <a:t>Part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f497d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20" y="1980720"/>
            <a:ext cx="53337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genu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visit key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view progr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is session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HASE TWO- </a:t>
            </a:r>
            <a:r>
              <a:rPr b="0" lang="en-GB" sz="2400" spc="-1" strike="noStrike">
                <a:solidFill>
                  <a:srgbClr val="ffc000"/>
                </a:solidFill>
                <a:latin typeface="Calibri"/>
              </a:rPr>
              <a:t>ORANGE C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head for next s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3AB3-B99F-4EB9-9ACF-C878122DDD2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800240" y="2133720"/>
            <a:ext cx="3886200" cy="3992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4952880" y="2209680"/>
            <a:ext cx="3810240" cy="39625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3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f497d"/>
                </a:solidFill>
                <a:latin typeface="Calibri"/>
              </a:rPr>
              <a:t>What is ingenuity? </a:t>
            </a:r>
            <a:r>
              <a:rPr b="1" lang="en-GB" sz="4400" spc="-1" strike="noStrike">
                <a:solidFill>
                  <a:srgbClr val="ffc000"/>
                </a:solidFill>
                <a:latin typeface="Calibri"/>
              </a:rPr>
              <a:t>Phase 2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pollo 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2819160"/>
            <a:ext cx="40402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7960" y="2133360"/>
            <a:ext cx="40417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000"/>
                </a:solidFill>
                <a:latin typeface="Calibri"/>
              </a:rPr>
              <a:t>Phase 2– generate lots of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35BA-380F-407C-9884-F57688D93C9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44720" y="3200040"/>
            <a:ext cx="404172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7" descr=""/>
          <p:cNvPicPr/>
          <p:nvPr/>
        </p:nvPicPr>
        <p:blipFill>
          <a:blip r:embed="rId1"/>
          <a:stretch/>
        </p:blipFill>
        <p:spPr>
          <a:xfrm>
            <a:off x="531720" y="2798640"/>
            <a:ext cx="4038840" cy="3233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"/>
          <p:cNvPicPr/>
          <p:nvPr/>
        </p:nvPicPr>
        <p:blipFill>
          <a:blip r:embed="rId2"/>
          <a:stretch/>
        </p:blipFill>
        <p:spPr>
          <a:xfrm>
            <a:off x="531720" y="4971960"/>
            <a:ext cx="1067040" cy="1071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4724280" y="3352680"/>
            <a:ext cx="3911760" cy="2691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"/>
          <p:cNvPicPr/>
          <p:nvPr/>
        </p:nvPicPr>
        <p:blipFill>
          <a:blip r:embed="rId4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3520" y="1980720"/>
            <a:ext cx="53337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genu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pla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nd chemis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is session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HASE ONE -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RED C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head for next s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1769-C174-46F2-8445-DDD16802DED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800240" y="2133720"/>
            <a:ext cx="3886200" cy="3992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2"/>
          <a:stretch/>
        </p:blipFill>
        <p:spPr>
          <a:xfrm>
            <a:off x="4952880" y="2209680"/>
            <a:ext cx="3810240" cy="3962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3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4476600" y="1162080"/>
            <a:ext cx="1238400" cy="17049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Phase 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5715000" y="1162080"/>
            <a:ext cx="3124080" cy="17049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Descrip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trategy to Solve Probl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4476600" y="3019320"/>
            <a:ext cx="1238400" cy="17049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isco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5715000" y="3019320"/>
            <a:ext cx="3124080" cy="17049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oblem Stat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deas-Opportun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otential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4476600" y="4924440"/>
            <a:ext cx="1238400" cy="1704960"/>
          </a:xfrm>
          <a:prstGeom prst="rect">
            <a:avLst/>
          </a:pr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eterm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5715000" y="4924440"/>
            <a:ext cx="3124080" cy="1704960"/>
          </a:xfrm>
          <a:prstGeom prst="rect">
            <a:avLst/>
          </a:pr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al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lection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Implementation Plan for Optimal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90600" y="2130120"/>
            <a:ext cx="403848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INGENUITY   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Left Brace 1"/>
          <p:cNvSpPr/>
          <p:nvPr/>
        </p:nvSpPr>
        <p:spPr>
          <a:xfrm>
            <a:off x="3200400" y="1676520"/>
            <a:ext cx="990720" cy="4572000"/>
          </a:xfrm>
          <a:custGeom>
            <a:avLst/>
            <a:gdLst>
              <a:gd name="textAreaLeft" fmla="*/ 632880 w 990720"/>
              <a:gd name="textAreaRight" fmla="*/ 991080 w 99072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42C6-1293-407A-A2AA-2BB17EB7C3A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3"/>
          <p:cNvSpPr/>
          <p:nvPr/>
        </p:nvSpPr>
        <p:spPr>
          <a:xfrm>
            <a:off x="4724280" y="1981080"/>
            <a:ext cx="3124440" cy="41911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State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EPARE TO FIND SOLU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Ideas/Opportun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GENERATE MULTIPLE SOLU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otential Concep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NOTICE AS REALISTIC CONCEPTS EMER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0600" y="2130120"/>
            <a:ext cx="204768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ORANGE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Left Brace 1"/>
          <p:cNvSpPr/>
          <p:nvPr/>
        </p:nvSpPr>
        <p:spPr>
          <a:xfrm>
            <a:off x="2362320" y="1724040"/>
            <a:ext cx="990360" cy="4572000"/>
          </a:xfrm>
          <a:custGeom>
            <a:avLst/>
            <a:gdLst>
              <a:gd name="textAreaLeft" fmla="*/ 632880 w 990360"/>
              <a:gd name="textAreaRight" fmla="*/ 990720 w 99036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68A0-A2FE-4E76-908D-DC454FDB7C8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3200400" y="1978200"/>
            <a:ext cx="1238400" cy="41907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isco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000"/>
                </a:solidFill>
                <a:latin typeface="Calibri"/>
              </a:rPr>
              <a:t>Thoughts on problem discovery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reativity is the yeast of innovation; a small part of the recipe, useless on it’s own but see what happens when you miss it out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c000"/>
                </a:solidFill>
                <a:latin typeface="Calibri"/>
              </a:rPr>
              <a:t>	</a:t>
            </a:r>
            <a:r>
              <a:rPr b="0" i="1" lang="en-GB" sz="2800" spc="-1" strike="noStrike">
                <a:solidFill>
                  <a:srgbClr val="ffc000"/>
                </a:solidFill>
                <a:latin typeface="Calibri"/>
              </a:rPr>
              <a:t>William Be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b0f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p T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sten (to yourself AND each oth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n’t interrup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me useful questions when discovering the problem, see p62-8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2B39-D962-46D9-B490-52D6C814B38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2743200" y="5257800"/>
            <a:ext cx="1974960" cy="14508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1 – </a:t>
            </a:r>
            <a:r>
              <a:rPr b="0" lang="en-GB" sz="4400" spc="-1" strike="noStrike">
                <a:solidFill>
                  <a:srgbClr val="ffc000"/>
                </a:solidFill>
                <a:latin typeface="Calibri"/>
              </a:rPr>
              <a:t>defin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esent a clear expla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struct a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mpose a stat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000"/>
                </a:solidFill>
                <a:latin typeface="Calibri"/>
              </a:rPr>
              <a:t>Prepare </a:t>
            </a: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to find sol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A4FF-966F-4F38-ACCE-BF8A954CD4F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Lack of parking in the city</a:t>
            </a:r>
            <a:br>
              <a:rPr sz="4400"/>
            </a:b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133720"/>
            <a:ext cx="44956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Problem Stat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000"/>
                </a:solidFill>
                <a:latin typeface="Calibri"/>
              </a:rPr>
              <a:t>‘</a:t>
            </a:r>
            <a:r>
              <a:rPr b="0" i="1" lang="en-GB" sz="2400" spc="-1" strike="noStrike">
                <a:solidFill>
                  <a:srgbClr val="ffc000"/>
                </a:solidFill>
                <a:latin typeface="Calibri"/>
              </a:rPr>
              <a:t>there is an excess demand for parking in areas of insufficient supply for commuters in citie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629040" y="2133720"/>
            <a:ext cx="20574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952880" y="2209680"/>
            <a:ext cx="3810240" cy="388620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7663-1DCB-402E-8611-F074778DADE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2 – </a:t>
            </a:r>
            <a:r>
              <a:rPr b="0" lang="en-GB" sz="4400" spc="-1" strike="noStrike">
                <a:solidFill>
                  <a:srgbClr val="ffc000"/>
                </a:solidFill>
                <a:latin typeface="Calibri"/>
              </a:rPr>
              <a:t>discover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ek ana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nerate non obvious 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ind as many idea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000"/>
                </a:solidFill>
                <a:latin typeface="Calibri"/>
              </a:rPr>
              <a:t>Generate </a:t>
            </a: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multiple sol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9631-FB03-4FC1-8002-944C96A2746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3 – </a:t>
            </a:r>
            <a:r>
              <a:rPr b="0" lang="en-GB" sz="4400" spc="-1" strike="noStrike">
                <a:solidFill>
                  <a:srgbClr val="ffc000"/>
                </a:solidFill>
                <a:latin typeface="Calibri"/>
              </a:rPr>
              <a:t>determin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flect on nature and diversity of ide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all the permutations been explor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enough ideas been produc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000"/>
                </a:solidFill>
                <a:latin typeface="Calibri"/>
              </a:rPr>
              <a:t>Notice </a:t>
            </a: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as realistic concepts begin to eme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0EE7-8233-4BD3-817F-D85C59001A2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city parking – </a:t>
            </a:r>
            <a:r>
              <a:rPr b="0" lang="en-GB" sz="4400" spc="-1" strike="noStrike">
                <a:solidFill>
                  <a:srgbClr val="ffc000"/>
                </a:solidFill>
                <a:latin typeface="Calibri"/>
              </a:rPr>
              <a:t>multiple solutions</a:t>
            </a: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124F-9DB7-430B-B982-041C3205C5A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der water park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ark in middle of roa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odel specific par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arking on sides of build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obile car park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 lines in car p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ow roofs in car park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Jig saw c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r becomes a gener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sposable c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rs become delivery c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loating c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riverless car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bay car park auction for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llapsible car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ime share car pa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 lorries in city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 shops in c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munity car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rtable off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000"/>
                </a:solidFill>
                <a:latin typeface="Calibri"/>
              </a:rPr>
              <a:t>Effect ideas discovery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212580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p T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Generate as many solutions as possible (&gt;5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se post it no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ke a lateral, non linear jump to achieve creative insigh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itchhiking’ is encourag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1050-B38F-44D9-A6C0-FF3DE7641EF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Content Placeholder 2"/>
          <p:cNvSpPr/>
          <p:nvPr/>
        </p:nvSpPr>
        <p:spPr>
          <a:xfrm>
            <a:off x="4724280" y="2125800"/>
            <a:ext cx="403884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Top T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No criticism is allow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Rank your ideas from 1= incremental innovation and 5 = radically n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You should aim to generate at least 20 radically new id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000"/>
                </a:solidFill>
                <a:latin typeface="Calibri"/>
                <a:ea typeface="Arial"/>
              </a:rPr>
              <a:t>use your knowledge of the latest research in your fi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4724280" y="1981080"/>
            <a:ext cx="3124440" cy="41911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State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EPARE TO FIND SOLU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Ideas/Opportun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GENERATE MULTIPLE SOLU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otential Concep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NOTICE AS REALISTIC CONCEPTS EMER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0520" y="1523520"/>
            <a:ext cx="204804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ORANGE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rd TA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Left Brace 1"/>
          <p:cNvSpPr/>
          <p:nvPr/>
        </p:nvSpPr>
        <p:spPr>
          <a:xfrm>
            <a:off x="2362320" y="1724040"/>
            <a:ext cx="990360" cy="4572000"/>
          </a:xfrm>
          <a:custGeom>
            <a:avLst/>
            <a:gdLst>
              <a:gd name="textAreaLeft" fmla="*/ 632880 w 990360"/>
              <a:gd name="textAreaRight" fmla="*/ 990720 w 99036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A72F-2F22-446E-A3D5-0350E476617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200400" y="1978200"/>
            <a:ext cx="1238400" cy="41907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isco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828720" y="3432240"/>
            <a:ext cx="1566720" cy="2060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What is ingenuity? In action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pollo 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2819160"/>
            <a:ext cx="40402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960" y="2133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he Million Dollar Homep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6B2E-8083-4F98-96F2-B19B29DB801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4720" y="2819160"/>
            <a:ext cx="40417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531720" y="2798640"/>
            <a:ext cx="4038840" cy="3233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2"/>
          <a:stretch/>
        </p:blipFill>
        <p:spPr>
          <a:xfrm>
            <a:off x="531720" y="4971960"/>
            <a:ext cx="1067040" cy="1071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3"/>
          <a:stretch/>
        </p:blipFill>
        <p:spPr>
          <a:xfrm>
            <a:off x="4724280" y="2816280"/>
            <a:ext cx="3962520" cy="3216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4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itle 1"/>
          <p:cNvSpPr/>
          <p:nvPr/>
        </p:nvSpPr>
        <p:spPr>
          <a:xfrm>
            <a:off x="83808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usiness Skills for Chemical Scient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traight Connector 5"/>
          <p:cNvSpPr/>
          <p:nvPr/>
        </p:nvSpPr>
        <p:spPr>
          <a:xfrm>
            <a:off x="304920" y="1833480"/>
            <a:ext cx="8305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D134-7580-486F-BFF7-7EFA9D3288A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itle 1"/>
          <p:cNvSpPr/>
          <p:nvPr/>
        </p:nvSpPr>
        <p:spPr>
          <a:xfrm>
            <a:off x="685800" y="30258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  <a:ea typeface="Arial"/>
              </a:rPr>
              <a:t>Ingenuity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Calibri"/>
                <a:ea typeface="Arial"/>
              </a:rPr>
              <a:t>Part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f497d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980720"/>
            <a:ext cx="53337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genu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visit key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view progr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is session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HASE THREE- </a:t>
            </a:r>
            <a:r>
              <a:rPr b="0" lang="en-GB" sz="2400" spc="-1" strike="noStrike">
                <a:solidFill>
                  <a:srgbClr val="92d050"/>
                </a:solidFill>
                <a:latin typeface="Calibri"/>
              </a:rPr>
              <a:t>GREEN C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CA5C-3328-41FF-8E4E-1326BD86013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800240" y="2133720"/>
            <a:ext cx="3886200" cy="3992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"/>
          <p:cNvPicPr/>
          <p:nvPr/>
        </p:nvPicPr>
        <p:blipFill>
          <a:blip r:embed="rId2"/>
          <a:stretch/>
        </p:blipFill>
        <p:spPr>
          <a:xfrm>
            <a:off x="4952880" y="2209680"/>
            <a:ext cx="3810240" cy="39625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3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f497d"/>
                </a:solidFill>
                <a:latin typeface="Calibri"/>
              </a:rPr>
              <a:t>What is ingenuity? </a:t>
            </a:r>
            <a:r>
              <a:rPr b="1" lang="en-GB" sz="4400" spc="-1" strike="noStrike">
                <a:solidFill>
                  <a:srgbClr val="92d050"/>
                </a:solidFill>
                <a:latin typeface="Calibri"/>
              </a:rPr>
              <a:t>Phase 3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pollo 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2819160"/>
            <a:ext cx="40402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47960" y="2133360"/>
            <a:ext cx="40417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2d050"/>
                </a:solidFill>
                <a:latin typeface="Calibri"/>
              </a:rPr>
              <a:t>Phase 3–at last, the S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EC8D-2874-4C19-A172-98862E33616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44720" y="3200040"/>
            <a:ext cx="404172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531720" y="2798640"/>
            <a:ext cx="4038840" cy="32338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"/>
          <p:cNvPicPr/>
          <p:nvPr/>
        </p:nvPicPr>
        <p:blipFill>
          <a:blip r:embed="rId2"/>
          <a:stretch/>
        </p:blipFill>
        <p:spPr>
          <a:xfrm>
            <a:off x="531720" y="4971960"/>
            <a:ext cx="1067040" cy="1071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"/>
          <p:cNvPicPr/>
          <p:nvPr/>
        </p:nvPicPr>
        <p:blipFill>
          <a:blip r:embed="rId3"/>
          <a:stretch/>
        </p:blipFill>
        <p:spPr>
          <a:xfrm>
            <a:off x="4724280" y="2798640"/>
            <a:ext cx="3965760" cy="32450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"/>
          <p:cNvPicPr/>
          <p:nvPr/>
        </p:nvPicPr>
        <p:blipFill>
          <a:blip r:embed="rId4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4476600" y="1162080"/>
            <a:ext cx="1238400" cy="17049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Phase 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5715000" y="1162080"/>
            <a:ext cx="3124080" cy="17049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Descrip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trategy to Solve Probl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4476600" y="3019320"/>
            <a:ext cx="1238400" cy="17049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isco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5715000" y="3019320"/>
            <a:ext cx="3124080" cy="17049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oblem Stat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deas-Opportun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otential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4476600" y="4924440"/>
            <a:ext cx="1238400" cy="1704960"/>
          </a:xfrm>
          <a:prstGeom prst="rect">
            <a:avLst/>
          </a:pr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eterm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5715000" y="4924440"/>
            <a:ext cx="3124080" cy="1704960"/>
          </a:xfrm>
          <a:prstGeom prst="rect">
            <a:avLst/>
          </a:pr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al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lection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Implementation Plan for Optimal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90600" y="2130120"/>
            <a:ext cx="403848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INGENUITY   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Left Brace 1"/>
          <p:cNvSpPr/>
          <p:nvPr/>
        </p:nvSpPr>
        <p:spPr>
          <a:xfrm>
            <a:off x="3200400" y="1676520"/>
            <a:ext cx="990720" cy="4572000"/>
          </a:xfrm>
          <a:custGeom>
            <a:avLst/>
            <a:gdLst>
              <a:gd name="textAreaLeft" fmla="*/ 632880 w 990720"/>
              <a:gd name="textAreaRight" fmla="*/ 991080 w 99072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0029-8B93-4ACC-B4CD-6CB874CF737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3"/>
          <p:cNvSpPr/>
          <p:nvPr/>
        </p:nvSpPr>
        <p:spPr>
          <a:xfrm>
            <a:off x="4724280" y="1981080"/>
            <a:ext cx="3124440" cy="419112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al Concep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LECT AND ENGINEER POTENTIAL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lection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D THE BEST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Look to the fu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CONSIDER IMPLE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90600" y="2130120"/>
            <a:ext cx="204768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GB" sz="2800" spc="-1" strike="noStrike">
                <a:solidFill>
                  <a:srgbClr val="92d050"/>
                </a:solidFill>
                <a:latin typeface="Calibri"/>
              </a:rPr>
              <a:t>GREEN</a:t>
            </a: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Left Brace 1"/>
          <p:cNvSpPr/>
          <p:nvPr/>
        </p:nvSpPr>
        <p:spPr>
          <a:xfrm>
            <a:off x="2362320" y="1724040"/>
            <a:ext cx="990360" cy="4572000"/>
          </a:xfrm>
          <a:custGeom>
            <a:avLst/>
            <a:gdLst>
              <a:gd name="textAreaLeft" fmla="*/ 632880 w 990360"/>
              <a:gd name="textAreaRight" fmla="*/ 990720 w 99036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3BD8-2997-48F7-AAE5-D9A7A1421AA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200400" y="1978200"/>
            <a:ext cx="1238400" cy="419076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eterm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2d050"/>
                </a:solidFill>
                <a:latin typeface="Calibri"/>
              </a:rPr>
              <a:t>Thoughts on problem determination 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‘‘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eople who don’t take risks generally ma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bout two big mistakes a year. People who 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ake risks generally make about two bi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istakes a year’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b0f0"/>
                </a:solidFill>
                <a:latin typeface="Calibri"/>
              </a:rPr>
              <a:t>	</a:t>
            </a:r>
            <a:r>
              <a:rPr b="0" i="1" lang="en-GB" sz="28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92d050"/>
                </a:solidFill>
                <a:latin typeface="Calibri"/>
              </a:rPr>
              <a:t>Peter Druc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46E7-855D-44C4-8CF0-FD9FAB3505B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3886200" cy="35816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1 – </a:t>
            </a:r>
            <a:r>
              <a:rPr b="0" lang="en-GB" sz="4400" spc="-1" strike="noStrike">
                <a:solidFill>
                  <a:srgbClr val="92d050"/>
                </a:solidFill>
                <a:latin typeface="Calibri"/>
              </a:rPr>
              <a:t>defin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ort and sift ideas into categ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struct realistic possi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lect 3/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Select </a:t>
            </a:r>
            <a:r>
              <a:rPr b="0" lang="en-GB" sz="2800" spc="-1" strike="noStrike">
                <a:solidFill>
                  <a:srgbClr val="92d050"/>
                </a:solidFill>
                <a:latin typeface="Calibri"/>
              </a:rPr>
              <a:t>and engineer potential sol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4882-E07C-440A-B3E2-EE1AF2C5F5A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2 – </a:t>
            </a:r>
            <a:r>
              <a:rPr b="0" lang="en-GB" sz="4400" spc="-1" strike="noStrike">
                <a:solidFill>
                  <a:srgbClr val="92d050"/>
                </a:solidFill>
                <a:latin typeface="Calibri"/>
              </a:rPr>
              <a:t>discover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call criteria from problem definition s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mpare the altern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hoose the optimal s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Investigate </a:t>
            </a:r>
            <a:r>
              <a:rPr b="0" lang="en-GB" sz="2800" spc="-1" strike="noStrike">
                <a:solidFill>
                  <a:srgbClr val="92d050"/>
                </a:solidFill>
                <a:latin typeface="Calibri"/>
              </a:rPr>
              <a:t>the alternatives and </a:t>
            </a: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find </a:t>
            </a:r>
            <a:r>
              <a:rPr b="0" lang="en-GB" sz="2800" spc="-1" strike="noStrike">
                <a:solidFill>
                  <a:srgbClr val="92d050"/>
                </a:solidFill>
                <a:latin typeface="Calibri"/>
              </a:rPr>
              <a:t>the best s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8419-AD68-457A-8FBD-4A3DC28E4D4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Phase 3 – </a:t>
            </a:r>
            <a:r>
              <a:rPr b="0" lang="en-GB" sz="4400" spc="-1" strike="noStrike">
                <a:solidFill>
                  <a:srgbClr val="92d050"/>
                </a:solidFill>
                <a:latin typeface="Calibri"/>
              </a:rPr>
              <a:t>determin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esent chosen s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amine barriers to accep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duce implementation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Concentrate </a:t>
            </a:r>
            <a:r>
              <a:rPr b="0" lang="en-GB" sz="2800" spc="-1" strike="noStrike">
                <a:solidFill>
                  <a:srgbClr val="92d050"/>
                </a:solidFill>
                <a:latin typeface="Calibri"/>
              </a:rPr>
              <a:t>on the imagined fu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AEC7-E194-4839-BED0-52932859887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f497d"/>
                </a:solidFill>
                <a:latin typeface="Calibri"/>
              </a:rPr>
              <a:t>city parking – </a:t>
            </a:r>
            <a:r>
              <a:rPr b="0" lang="en-GB" sz="4400" spc="-1" strike="noStrike">
                <a:solidFill>
                  <a:srgbClr val="92d050"/>
                </a:solidFill>
                <a:latin typeface="Calibri"/>
              </a:rPr>
              <a:t>final concepts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66A5-AEE4-4D1B-9C38-C7EF6BC9AC2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tegorised ideas into three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frastructure cha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igh tech sol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cial engine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duced three super solutions – one from each categ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obile car pa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Yield management of car parks via tom toms, G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n lor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Ingenuity starts with #1 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205740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cus on the ‘Huston we have a problem’ moment rather than ‘EUREKA! here’s the solution..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tradition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ntrepreneur (in the Schumpeter (1921) sense not 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veryone in business sen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ifting the paradigm (Kuhn, 196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nsions – between innovation and orthodox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C2C1-D71E-4461-816D-78FB61279E2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2d050"/>
                </a:solidFill>
                <a:latin typeface="Calibri"/>
              </a:rPr>
              <a:t>Effective  determination 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85800" y="212580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GB" sz="2800" spc="-1" strike="noStrike">
                <a:solidFill>
                  <a:srgbClr val="92d050"/>
                </a:solidFill>
                <a:latin typeface="Calibri"/>
              </a:rPr>
              <a:t>Final concep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92d050"/>
              </a:buClr>
              <a:buFont typeface="Wingdings" charset="2"/>
              <a:buChar char="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Calibri"/>
              </a:rPr>
              <a:t>Categor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st-it no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me the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e flexible – force f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92d050"/>
              </a:buClr>
              <a:buFont typeface="Wingdings" charset="2"/>
              <a:buChar char="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Calibri"/>
              </a:rPr>
              <a:t>Synthe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art with a single idea and build from the r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5F52-7F95-42CB-A482-A4F1569EFF0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Content Placeholder 2"/>
          <p:cNvSpPr/>
          <p:nvPr/>
        </p:nvSpPr>
        <p:spPr>
          <a:xfrm>
            <a:off x="4724280" y="2125800"/>
            <a:ext cx="403884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just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2d050"/>
                </a:solidFill>
                <a:latin typeface="Calibri"/>
                <a:ea typeface="Times New Roman"/>
              </a:rPr>
              <a:t>Se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generate criteria required in a sol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score solution by cri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advantages/disadvantages matri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2d050"/>
                </a:solidFill>
                <a:latin typeface="Calibri"/>
                <a:ea typeface="Arial"/>
              </a:rPr>
              <a:t>Implement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imagine using a solution in prac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removing negatives:- borrow from other solutions and from phase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3"/>
          <p:cNvSpPr/>
          <p:nvPr/>
        </p:nvSpPr>
        <p:spPr>
          <a:xfrm>
            <a:off x="4724280" y="1981080"/>
            <a:ext cx="3124440" cy="419112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al Concep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LECT AND ENGINEER POTENTIAL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lection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D THE BEST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Look to the fu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CONSIDER IMPLE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6840" y="1599840"/>
            <a:ext cx="204804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GB" sz="2800" spc="-1" strike="noStrike">
                <a:solidFill>
                  <a:srgbClr val="92d050"/>
                </a:solidFill>
                <a:latin typeface="Calibri"/>
              </a:rPr>
              <a:t>GREEN</a:t>
            </a: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rd TA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Left Brace 1"/>
          <p:cNvSpPr/>
          <p:nvPr/>
        </p:nvSpPr>
        <p:spPr>
          <a:xfrm>
            <a:off x="2362320" y="1724040"/>
            <a:ext cx="990360" cy="4572000"/>
          </a:xfrm>
          <a:custGeom>
            <a:avLst/>
            <a:gdLst>
              <a:gd name="textAreaLeft" fmla="*/ 632880 w 990360"/>
              <a:gd name="textAreaRight" fmla="*/ 990720 w 99036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F9C6-5B22-4B0B-90CA-083FBB8E7FE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3200400" y="1978200"/>
            <a:ext cx="1238400" cy="419076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eterm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811080" y="3505320"/>
            <a:ext cx="1567080" cy="2060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Ingenuity starts with #2 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lem solving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chanicall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cit knowing and trust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ed for divergent thinking before rushing to convergent production of a single solution too s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4038480" cy="3992400"/>
          </a:xfrm>
          <a:prstGeom prst="rect">
            <a:avLst/>
          </a:prstGeom>
          <a:ln w="0">
            <a:noFill/>
          </a:ln>
        </p:spPr>
      </p:pic>
      <p:sp>
        <p:nvSpPr>
          <p:cNvPr id="7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E45B-E6D3-490A-BFAF-88A734170DD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4646520" y="2163600"/>
            <a:ext cx="4038840" cy="3932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3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4476600" y="1162080"/>
            <a:ext cx="1238400" cy="17049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Phase 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5715000" y="1162080"/>
            <a:ext cx="3124080" cy="17049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Descrip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trategy to Solve Probl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4476600" y="3019320"/>
            <a:ext cx="1238400" cy="17049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isco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5715000" y="3019320"/>
            <a:ext cx="3124080" cy="17049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oblem Stat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deas-Opportun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otential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4476600" y="4924440"/>
            <a:ext cx="1238400" cy="1704960"/>
          </a:xfrm>
          <a:prstGeom prst="rect">
            <a:avLst/>
          </a:pr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Phase I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</a:rPr>
              <a:t>Determ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5715000" y="4924440"/>
            <a:ext cx="3124080" cy="1704960"/>
          </a:xfrm>
          <a:prstGeom prst="rect">
            <a:avLst/>
          </a:pr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al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lection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Implementation Plan for Optimal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0600" y="2130120"/>
            <a:ext cx="403848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INGENUITY   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amp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Left Brace 1"/>
          <p:cNvSpPr/>
          <p:nvPr/>
        </p:nvSpPr>
        <p:spPr>
          <a:xfrm>
            <a:off x="3200400" y="1676520"/>
            <a:ext cx="990720" cy="4572000"/>
          </a:xfrm>
          <a:custGeom>
            <a:avLst/>
            <a:gdLst>
              <a:gd name="textAreaLeft" fmla="*/ 632880 w 990720"/>
              <a:gd name="textAreaRight" fmla="*/ 991080 w 99072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43B6-D39C-4A1C-8FE4-C1A40968D78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AutoShape 12"/>
          <p:cNvSpPr/>
          <p:nvPr/>
        </p:nvSpPr>
        <p:spPr>
          <a:xfrm>
            <a:off x="52560" y="-944640"/>
            <a:ext cx="23144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3" descr=""/>
          <p:cNvPicPr/>
          <p:nvPr/>
        </p:nvPicPr>
        <p:blipFill>
          <a:blip r:embed="rId1"/>
          <a:stretch/>
        </p:blipFill>
        <p:spPr>
          <a:xfrm>
            <a:off x="885960" y="4114800"/>
            <a:ext cx="231444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3276720" y="1981080"/>
            <a:ext cx="1238040" cy="41911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Phase 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4724280" y="1981080"/>
            <a:ext cx="3124440" cy="41911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Descrip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DESCRIBE THE SYMPTO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roblem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FIND THE ROOT CAU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trategy to Solve Probl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DECIDE HOW TO ATTEMPT A S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0600" y="2130120"/>
            <a:ext cx="2047680" cy="22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RED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c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Left Brace 1"/>
          <p:cNvSpPr/>
          <p:nvPr/>
        </p:nvSpPr>
        <p:spPr>
          <a:xfrm>
            <a:off x="2362320" y="1724040"/>
            <a:ext cx="990360" cy="4572000"/>
          </a:xfrm>
          <a:custGeom>
            <a:avLst/>
            <a:gdLst>
              <a:gd name="textAreaLeft" fmla="*/ 632880 w 990360"/>
              <a:gd name="textAreaRight" fmla="*/ 990720 w 990360"/>
              <a:gd name="textAreaTop" fmla="*/ 25560 h 4572000"/>
              <a:gd name="textAreaBottom" fmla="*/ 45464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5"/>
                  <a:pt x="10800" y="390"/>
                </a:cubicBezTo>
                <a:lnTo>
                  <a:pt x="10800" y="10410"/>
                </a:lnTo>
                <a:cubicBezTo>
                  <a:pt x="10800" y="10605"/>
                  <a:pt x="5400" y="10800"/>
                  <a:pt x="0" y="10800"/>
                </a:cubicBezTo>
                <a:cubicBezTo>
                  <a:pt x="5400" y="10800"/>
                  <a:pt x="10800" y="10995"/>
                  <a:pt x="10800" y="11190"/>
                </a:cubicBezTo>
                <a:lnTo>
                  <a:pt x="10800" y="21210"/>
                </a:lnTo>
                <a:cubicBezTo>
                  <a:pt x="10800" y="21405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2801-E855-4E81-B11A-8046452562F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Thoughts on problem definition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ve lots of ideas and throw away the bad ones….You aren’t going to have good ideas unless you have lots of ideas and some sort of principle of selection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b0f0"/>
                </a:solidFill>
                <a:latin typeface="Calibri"/>
              </a:rPr>
              <a:t>	</a:t>
            </a:r>
            <a:r>
              <a:rPr b="0" i="1" lang="en-GB" sz="2800" spc="-1" strike="noStrike">
                <a:solidFill>
                  <a:srgbClr val="00b0f0"/>
                </a:solidFill>
                <a:latin typeface="Calibri"/>
              </a:rPr>
              <a:t>Linus Pau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p T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sten (to yourself AND each oth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n’t interrup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me useful questions when defining the problem, see p47-5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86A8-19BF-497C-A23B-81C5F7142EE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Thoughts on problem definition…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133720"/>
            <a:ext cx="41911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Intelligent people can juggle a half-dozen concepts simultaneously and make good decisions rapidly – and many of them seldom have a creative moment. They are so good at the standard answers and so eager to move on to the next decision that they never play around with nonstandard possibilities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There is such a thing as being “too good” because, in much of life, there are no correct answers. You have to invent new ones and contemplate them for some time.’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b0f0"/>
                </a:solidFill>
                <a:latin typeface="Calibri"/>
              </a:rPr>
              <a:t>W. H. Calv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800240" y="2133720"/>
            <a:ext cx="38862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p t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pen your mind, say anyth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ause, slow down - notice when you are rushing ahead with the one s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ay on task… define the prob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91F1-CD1D-44D9-B865-CA459C8B43B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54080" y="615636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7:00:55Z</dcterms:created>
  <dc:creator>Suzanne Edinger</dc:creator>
  <dc:description/>
  <dc:language>en-US</dc:language>
  <cp:lastModifiedBy>Chris Runciman</cp:lastModifiedBy>
  <cp:lastPrinted>2012-02-03T11:56:17Z</cp:lastPrinted>
  <dcterms:modified xsi:type="dcterms:W3CDTF">2020-12-15T08:55:41Z</dcterms:modified>
  <cp:revision>93</cp:revision>
  <dc:subject/>
  <dc:title>Ingenuity presentation</dc:title>
</cp:coreProperties>
</file>