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F09A-B361-4FD7-9FC6-17FBF94B1B46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3555-BD93-4BC2-862A-E22B030166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2AFF-F184-4B60-B790-E5E3E3CA241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FBDE-5E66-42E6-B677-B77172ED6DA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E9B0-535F-45B0-9711-94C81F7532D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1E51-A1AD-4F23-B0E0-37DD83CCEF9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DD72-FA85-4500-B904-420592CF601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839E-5973-49A2-8A81-7BA6E81DCC3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AF2D-57BF-458E-8508-EDBE997BCD0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D525-FC50-4601-841A-375A2967439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1726-2B41-4DB2-B80A-41EF8EDABFA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0343-C5B1-4DEA-B3FF-6CE926E291B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3D50-535A-4495-8E60-AEA44D05F46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C54F-D4A2-40CD-9CC1-05A409AA339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E439-FB62-4775-94D1-00E68EAC93C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08A6-EEE6-4333-B09F-4FD2263C62F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93C6-4823-4250-B470-0666FD5284B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AC63-333E-4F6E-B764-A39137E2409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9F23-D827-479D-9145-DCD70E07D8B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BCB1-2FA4-48F0-94FB-40D511B9560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BF29-B44D-41C7-BC1E-EFF3EC2EBEC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F440-7B0D-4896-9759-836B54F26A0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0068-0F96-43A3-811C-D39B8CF4C3C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EEE9-6BC2-4FCE-8BA9-503009D5A2F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DCAB-634A-4C25-A1AD-95E525E44B1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3696-8639-400C-907C-3E8056A17C8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F2C-011D-4AE6-AE94-0D71180C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95A-37A4-47F3-A084-1631FEAD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240-1FC1-4B07-9B56-27DBDB4E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09B-AE37-4CF7-BE54-C7C1F382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77E-28CC-4215-A7FD-2981CB0C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38B-AD0A-4DDF-9C62-5A3A3C3E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F485-9EB3-4DFD-8AB9-70EAA546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A25-E287-400A-83AF-5D751F52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47B-7C00-4DCC-87E3-912FF1A2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AF2-942D-4D90-8A81-54AE41B6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B40-020D-46B6-BE85-DDDECFFC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C9D4-6157-4296-A46F-299B65C0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D614-573D-4DD6-97F7-9A4EE3791D6D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D4C9-5AC2-415E-BBC1-82E28368D21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hyperlink" Target="https://rsc.li/3840bDs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a74"/>
                </a:solidFill>
                <a:latin typeface="Arial"/>
                <a:ea typeface="Arial"/>
              </a:rPr>
              <a:t>Intellectual Property </a:t>
            </a:r>
            <a:br>
              <a:rPr sz="5400"/>
            </a:br>
            <a:r>
              <a:rPr b="0" lang="en-GB" sz="5400" spc="-1" strike="noStrike">
                <a:solidFill>
                  <a:srgbClr val="003a74"/>
                </a:solidFill>
                <a:latin typeface="Arial"/>
                <a:ea typeface="Arial"/>
              </a:rPr>
              <a:t>and Patents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2400"/>
            </a:b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8" descr=""/>
          <p:cNvPicPr/>
          <p:nvPr/>
        </p:nvPicPr>
        <p:blipFill>
          <a:blip r:embed="rId2"/>
          <a:stretch/>
        </p:blipFill>
        <p:spPr>
          <a:xfrm>
            <a:off x="3341520" y="5364000"/>
            <a:ext cx="2457720" cy="6210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10"/>
          <p:cNvGrpSpPr/>
          <p:nvPr/>
        </p:nvGrpSpPr>
        <p:grpSpPr>
          <a:xfrm>
            <a:off x="1868040" y="2276640"/>
            <a:ext cx="5406120" cy="3022200"/>
            <a:chOff x="1868040" y="2276640"/>
            <a:chExt cx="5406120" cy="3022200"/>
          </a:xfrm>
        </p:grpSpPr>
        <p:pic>
          <p:nvPicPr>
            <p:cNvPr id="52" name="Picture 7" descr=""/>
            <p:cNvPicPr/>
            <p:nvPr/>
          </p:nvPicPr>
          <p:blipFill>
            <a:blip r:embed="rId3"/>
            <a:stretch/>
          </p:blipFill>
          <p:spPr>
            <a:xfrm rot="1236600">
              <a:off x="5108040" y="2671920"/>
              <a:ext cx="1803960" cy="2385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3" name="Picture 6" descr=""/>
            <p:cNvPicPr/>
            <p:nvPr/>
          </p:nvPicPr>
          <p:blipFill>
            <a:blip r:embed="rId4"/>
            <a:stretch/>
          </p:blipFill>
          <p:spPr>
            <a:xfrm rot="20540400">
              <a:off x="2195280" y="2539080"/>
              <a:ext cx="1848960" cy="2446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  <p:cNvPicPr/>
            <p:nvPr/>
          </p:nvPicPr>
          <p:blipFill>
            <a:blip r:embed="rId5"/>
            <a:stretch/>
          </p:blipFill>
          <p:spPr>
            <a:xfrm>
              <a:off x="3154320" y="2276640"/>
              <a:ext cx="2656080" cy="256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2"/>
          <p:cNvSpPr/>
          <p:nvPr/>
        </p:nvSpPr>
        <p:spPr>
          <a:xfrm>
            <a:off x="3276720" y="6270480"/>
            <a:ext cx="28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7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50920" y="189000"/>
            <a:ext cx="864216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legal bit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monopoly right lasting up to 20 years from fil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losure of your idea to the publ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untry-specif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paper bit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a (technical) ide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definition of what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nn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e done by others (claim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names of the inventor(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social bargain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tate grants a monopoly right,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disclose your idea to the worl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clusivity in a defined technical are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ance to recoup you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return you pay some fees to the sta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imulates innov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Patentabi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can be paten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early anything “technical”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s (molecules, materials, new composi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pparatus (for making, purifying, extracting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hods (synthetic methodology, process steps, treatmen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ses (as a drug, a paint stripper, etc.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ust b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w (“novel”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n-obvious (involves an “inventive step”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pable of industrial applic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Novelty (&amp; Disclosure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bsolute worldwide novelty 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yth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made available (disclosed) to the public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ywhe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“Prior Art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ublished documents, posters, lectur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order to anticipate a “claim” all the features must be in a single document/lecture/post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sclosur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invention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 no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been made available to the public in any way, at any time, anywhere – this is very important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can be guarded against though imposing a CD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Inventive Ste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invention must not be obvious to a person who is ‘skilled in the art’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‘person skilled in the art’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ads everything (speaks all languag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kes routine selec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vercomes routine problem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esn’t make inventive leap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 invention may be inventive if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has an unexpected or surprising resul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was not obvious to try or non-routi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overcomes a technical proble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Exclusions from Patentabi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ortant Exclusions (UK, Europ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hods of medical treatment/diagnos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mputer programs as suc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thematical mode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esentation of inform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hods of doing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patent attorney often avoids the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no restrictions in 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Inventorship &amp; Ownershi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inventor(s) are the actual devisor(s) of the inven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wnership may depend upon the relationship of the inventor(s) and any other parties involv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business/company normally owns the IP generated by employe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normally set-out in the employees contr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also the case at a Univers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udents however are not employees and a separate agreement will need to be reached between the University and the stud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patent may be invalidated if the inventor(s) and/or owners are not correctly indentifi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Freedom-to-Oper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 patent stops others from using your IP, but does not allow you to use it yourself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use your own patent you may need to use something which is covered in the claims of someone else’s patent, e.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tent 1 – “the wheel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tent 2 – “the push bike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owner of patent 2 must ask permission to make his bike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therefore may have to license, buy or attack the other patent to gain the full potential from your inven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ternatively you could invent around the other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Proced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76720" y="119556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 months ‘priority date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rafting &amp; file UK 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276720" y="242100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ider overseas appl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276720" y="292572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8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 (A) &amp; search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76720" y="393372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ction needed in each cou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276720" y="4437000"/>
            <a:ext cx="2592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+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xamination + correspondence with patent exami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76720" y="515772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40+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rant of patent &amp; Publication (B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276720" y="566100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nual renewal f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20 year maximum life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76720" y="1700280"/>
            <a:ext cx="2592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 – 12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‘priority period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ment and finding £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76720" y="342900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 – 30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ment and must find £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79280" y="2421000"/>
            <a:ext cx="2448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le PCT 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vers many count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588000" y="2421000"/>
            <a:ext cx="224964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le National Application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 Non-PCT count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.g. Argentina, Pakis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79280" y="3933720"/>
            <a:ext cx="252108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ational / Regional Application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uropean Patent Off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SA, Japan, China, Brazil, Australia, et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ight Arrow 20"/>
          <p:cNvSpPr/>
          <p:nvPr/>
        </p:nvSpPr>
        <p:spPr>
          <a:xfrm rot="10800000">
            <a:off x="2771280" y="2636640"/>
            <a:ext cx="36036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ight Arrow 21"/>
          <p:cNvSpPr/>
          <p:nvPr/>
        </p:nvSpPr>
        <p:spPr>
          <a:xfrm>
            <a:off x="6084720" y="2637000"/>
            <a:ext cx="358920" cy="1443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ight Arrow 22"/>
          <p:cNvSpPr/>
          <p:nvPr/>
        </p:nvSpPr>
        <p:spPr>
          <a:xfrm rot="1152600">
            <a:off x="2785680" y="3052440"/>
            <a:ext cx="358920" cy="14292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ight Arrow 23"/>
          <p:cNvSpPr/>
          <p:nvPr/>
        </p:nvSpPr>
        <p:spPr>
          <a:xfrm rot="8670000">
            <a:off x="6092640" y="301608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ight Arrow 24"/>
          <p:cNvSpPr/>
          <p:nvPr/>
        </p:nvSpPr>
        <p:spPr>
          <a:xfrm rot="10800000">
            <a:off x="2771280" y="4149360"/>
            <a:ext cx="360360" cy="1429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ight Arrow 25"/>
          <p:cNvSpPr/>
          <p:nvPr/>
        </p:nvSpPr>
        <p:spPr>
          <a:xfrm rot="1619400">
            <a:off x="2784600" y="465444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Down Arrow 26"/>
          <p:cNvSpPr/>
          <p:nvPr/>
        </p:nvSpPr>
        <p:spPr>
          <a:xfrm>
            <a:off x="1332000" y="3213000"/>
            <a:ext cx="215640" cy="576360"/>
          </a:xfrm>
          <a:prstGeom prst="downArrow">
            <a:avLst>
              <a:gd name="adj1" fmla="val 50000"/>
              <a:gd name="adj2" fmla="val 50065"/>
            </a:avLst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os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1" name="Group 115"/>
          <p:cNvGrpSpPr/>
          <p:nvPr/>
        </p:nvGrpSpPr>
        <p:grpSpPr>
          <a:xfrm>
            <a:off x="1476000" y="1844640"/>
            <a:ext cx="6191640" cy="3609000"/>
            <a:chOff x="1476000" y="1844640"/>
            <a:chExt cx="6191640" cy="3609000"/>
          </a:xfrm>
        </p:grpSpPr>
        <p:pic>
          <p:nvPicPr>
            <p:cNvPr id="132" name="Chart 111" descr=""/>
            <p:cNvPicPr/>
            <p:nvPr/>
          </p:nvPicPr>
          <p:blipFill>
            <a:blip r:embed="rId1"/>
            <a:stretch/>
          </p:blipFill>
          <p:spPr>
            <a:xfrm>
              <a:off x="1907640" y="1844640"/>
              <a:ext cx="5760000" cy="32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112"/>
            <p:cNvSpPr/>
            <p:nvPr/>
          </p:nvSpPr>
          <p:spPr>
            <a:xfrm rot="10800000">
              <a:off x="1476000" y="2910960"/>
              <a:ext cx="4546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 Tot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Box 113"/>
            <p:cNvSpPr/>
            <p:nvPr/>
          </p:nvSpPr>
          <p:spPr>
            <a:xfrm>
              <a:off x="4008240" y="5085360"/>
              <a:ext cx="205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ths since fil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Anatomy of a Pat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itle – Usually uninformati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bstract – To help patent search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 background – what is know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eneric statements defining the inven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tailed description of the invention, with reference to drawings (optional) and experimental data (usuall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gures – if they help explain the inventio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laims – are as broad as possible to define the full scope of protection in the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08000" y="609444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e the concept of Intellectual Property (IP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y protect an ide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 to get value from your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Getting Value from Your Pat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920" y="1484280"/>
            <a:ext cx="8642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property, they have value (£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agine your patent is like a house; you ca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ve in the house – commercialise you IP into a new produ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ake in a lodger – license your IP to a third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t out you house – exclusive license of your IP to a third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 the house – assign (sell) your IP to a third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3059280" y="2060640"/>
            <a:ext cx="2987640" cy="2001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at Investors Look F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patent prote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security against competition from third parti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reassurance that they will see a return on thei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reedom-to-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assurance that third parties will not be able to stop you entering your market pla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reassurance that they will see a return on thei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per entitlement of inventorshi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assurance that no-one else can claim the IP or invalidate the pat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reassurance that they will see a return on thei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ed the concept of Intellectual Property (IP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y you would want to protect an id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hown how to get the value from your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Further Rea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148392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ewburn Ellis LL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mewburn.co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ellectual Property Off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ipo.gov.u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uropean Patent Off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epo.or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side Careers – Career Opportunities in IP Law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insidecareers.co.u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7"/>
          <p:cNvSpPr/>
          <p:nvPr/>
        </p:nvSpPr>
        <p:spPr>
          <a:xfrm>
            <a:off x="250920" y="333360"/>
            <a:ext cx="871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Jeremy Webster, Dr. Rachel Oxley, Dr. Trevor Farren, Dr. Simon Mosey &amp; Dr. William Dre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228600" y="1833480"/>
            <a:ext cx="8642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n association with Mewburn Ellis LL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755640" y="3368520"/>
            <a:ext cx="3557520" cy="1584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28" descr=""/>
          <p:cNvPicPr/>
          <p:nvPr/>
        </p:nvPicPr>
        <p:blipFill>
          <a:blip r:embed="rId3"/>
          <a:stretch/>
        </p:blipFill>
        <p:spPr>
          <a:xfrm>
            <a:off x="4859280" y="3728880"/>
            <a:ext cx="3706920" cy="936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4"/>
          <a:stretch/>
        </p:blipFill>
        <p:spPr>
          <a:xfrm>
            <a:off x="2411280" y="609768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at is Intellectual Property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ellectual property (IP) refers to creations of the mind: inventions, literary and artistic works, symbols, names, images and designs used in commerce.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P comes in several form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tents – technical features of innova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rade Marks – brand names and logo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gistered Designs – appeara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pyright – graphical and literary materi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y Protect An Idea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egal protection of your new idea or invention ensures the future position of your company/brand and enables you to make money in a highly competitive market pla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stops others from copying your idea allowing you to maximise the return you deserve for investing you time, capital and resources in the invention of the id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A Well Known 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gistered Trademark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name “Apple” and the logo above are examples of some of the registered trademarks the company hol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total Apple holds approximately 8000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gistered trademark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http://appleheadlines.com/wp-content/uploads/2011/01/apple-logo.jpeg"/>
          <p:cNvPicPr/>
          <p:nvPr/>
        </p:nvPicPr>
        <p:blipFill>
          <a:blip r:embed="rId1"/>
          <a:stretch/>
        </p:blipFill>
        <p:spPr>
          <a:xfrm>
            <a:off x="3780000" y="1773360"/>
            <a:ext cx="1539720" cy="1860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pple holds approximately 5400 patents covering all of the technical aspects of it’s produc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 rot="1450800">
            <a:off x="1794960" y="2062080"/>
            <a:ext cx="251316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 rot="1558200">
            <a:off x="4896000" y="2301480"/>
            <a:ext cx="245736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gistered Desig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pple holds approximately 2700 registered designs for it’s uniquely styled produc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755640" y="1846440"/>
            <a:ext cx="1851120" cy="109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203640" y="3718080"/>
            <a:ext cx="1728720" cy="208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5508720" y="1413000"/>
            <a:ext cx="3128760" cy="196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946080" y="3718080"/>
            <a:ext cx="868320" cy="176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050840" cy="1671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6"/>
          <a:stretch/>
        </p:blipFill>
        <p:spPr>
          <a:xfrm>
            <a:off x="3483000" y="2135160"/>
            <a:ext cx="1325520" cy="917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7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pyrig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769440" cy="425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Rectangle 6"/>
          <p:cNvSpPr/>
          <p:nvPr/>
        </p:nvSpPr>
        <p:spPr>
          <a:xfrm>
            <a:off x="1979640" y="5300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2 Apple Inc. All rights reser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Pat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the only mechanism for protecting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chnic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de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property, they have value (£) and investors like to see th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a negative right i.e. they detail what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nnot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 done by oth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dcterms:modified xsi:type="dcterms:W3CDTF">2020-12-15T09:08:43Z</dcterms:modified>
  <cp:revision>145</cp:revision>
  <dc:subject/>
  <dc:title>Intellectual property presentation</dc:title>
</cp:coreProperties>
</file>