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13B6-A0EF-4A84-85FD-8A9B6EBA43FD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A75B-91E8-41A4-90A4-0F6C3B4114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F71-1B3B-4E31-84EC-B7A75A47238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3419-0DBD-413B-A845-4ADDB7616F4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4A08-72AC-4B74-9E0A-85412DF33A8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6BE-0A68-4B08-8145-B0174A412B7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9D30-8F31-48FA-93CD-BBF990BCF59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4644-9E79-486F-9F9F-645F776B438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E9C-DBB3-4424-AF3A-1A864EAB4EDF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7809-36BB-409C-8002-D42F6676EAA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6728-A3EB-44B6-90D0-1441084D6BA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4D86-DE6E-4FE9-9EC2-DCD5C299978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C80-2341-4423-AF4D-A2990E7DE38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EB82-D08B-42DE-9F5F-BA2D984F5E3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546-C56B-47F8-9090-673FAA622DC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5C7-0242-42B8-8379-F47424D51E0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F4F4-26D9-4405-BF8B-CF6BE20F25F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0C8-C56E-4C8D-94D3-6EC9A90D652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923-689C-44C0-AD87-9B3C4276C52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1C1A-1856-4B58-8290-7F6D0689C86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25B-5439-4054-AC81-359E73AFBFD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65C-15F3-4058-BE9F-C6885F42B68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57FC-103C-4D62-847B-41F2DB3982C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7ED1-B85C-4B84-9370-A1DDB326380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1F3E-90A0-49C2-B2E1-BD4DE77B46D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E1E-F277-4FA6-8B73-3F3DF2AAE7D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04F-16E2-4B09-B38D-0D5AFA66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8E3-C975-4850-9E7D-C8A109B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399-84B5-4AC4-97D1-0E360F8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B8B-E433-4D51-9432-EABE06EA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E6F-F623-4EF4-9606-F31EF27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C01-5E95-46AB-B8A9-8D5F0C10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6A3-7087-4DE7-9204-97EEC6AA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3F3-AC51-4EE0-AE7F-F695C690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275-13B8-428F-968F-971D78D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607-425E-4DBD-94F7-238AF1C9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720-B693-4431-9DD2-6FA70C58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596-460C-4DC1-AF33-D3DB421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F41D-F013-4CFA-AD4E-4B1D68F78E42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6C9E-1DF6-4CFD-9179-71DDDADFEA7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s://rsc.li/3840bDs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Intellectual Property </a:t>
            </a:r>
            <a:br>
              <a:rPr sz="5400"/>
            </a:b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and Patents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8" descr=""/>
          <p:cNvPicPr/>
          <p:nvPr/>
        </p:nvPicPr>
        <p:blipFill>
          <a:blip r:embed="rId2"/>
          <a:stretch/>
        </p:blipFill>
        <p:spPr>
          <a:xfrm>
            <a:off x="3341520" y="5364000"/>
            <a:ext cx="2457720" cy="621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0"/>
          <p:cNvGrpSpPr/>
          <p:nvPr/>
        </p:nvGrpSpPr>
        <p:grpSpPr>
          <a:xfrm>
            <a:off x="1868040" y="2276640"/>
            <a:ext cx="5406120" cy="3022200"/>
            <a:chOff x="1868040" y="2276640"/>
            <a:chExt cx="5406120" cy="3022200"/>
          </a:xfrm>
        </p:grpSpPr>
        <p:pic>
          <p:nvPicPr>
            <p:cNvPr id="52" name="Picture 7" descr=""/>
            <p:cNvPicPr/>
            <p:nvPr/>
          </p:nvPicPr>
          <p:blipFill>
            <a:blip r:embed="rId3"/>
            <a:stretch/>
          </p:blipFill>
          <p:spPr>
            <a:xfrm rot="1236600">
              <a:off x="5108040" y="2671920"/>
              <a:ext cx="1803960" cy="2385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4"/>
            <a:stretch/>
          </p:blipFill>
          <p:spPr>
            <a:xfrm rot="20540400">
              <a:off x="2195280" y="2539080"/>
              <a:ext cx="1848960" cy="2446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  <p:cNvPicPr/>
            <p:nvPr/>
          </p:nvPicPr>
          <p:blipFill>
            <a:blip r:embed="rId5"/>
            <a:stretch/>
          </p:blipFill>
          <p:spPr>
            <a:xfrm>
              <a:off x="3154320" y="2276640"/>
              <a:ext cx="2656080" cy="256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2"/>
          <p:cNvSpPr/>
          <p:nvPr/>
        </p:nvSpPr>
        <p:spPr>
          <a:xfrm>
            <a:off x="3276720" y="6270480"/>
            <a:ext cx="28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89000"/>
            <a:ext cx="8642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legal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monopoly right lasting up to 20 years from fil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losure of your idea to the publ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-specif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aper bit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scription of a (technical) id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definition of what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e done by others (claim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s of the inventor(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ocial bargain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e grants a monopoly right,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disclose your idea to the worl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xclusivity in a defined technical are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ance to recoup you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return you pay some fees to the st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imulates inno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can be paten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arly anything “technical”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 (molecules, materials, new com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aratus (for making, purifying, extracting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(synthetic methodology, process steps, trea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ses (as a drug, a paint stripper,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ust b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w (“novel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-obvious (involves an “inventive step”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pable of industrial appl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Novelty (&amp; Disclosure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olute worldwide novelty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t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de available (disclosed) to the public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“Prior Ar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ublished documents, posters, lectur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order to anticipate a “claim” all the features must be in a single document/lecture/post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losur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invention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 no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een made available to the public in any way, at any time, anywhere – this is very important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can be guarded against though imposing a C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ive Ste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ion must not be obvious to a person who is ‘skilled in the art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‘person skilled in the art’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ads everything (speaks all langu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kes routine sele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vercomes routine problem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n’t make inventive lea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invention may be inventive if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has an unexpected or surprising resul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as not obvious to try or non-rou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overcomes a technical probl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Exclusions from Patentabi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ortant Exclusions (UK, Europ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medical treatment/diagno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 programs as su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thematical mode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esentation of inform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hods of doing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atent attorney often avoids the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no restrictions in 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Inventorship &amp; Owner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inventor(s) are the actual devisor(s) of the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wnership may depend upon the relationship of the inventor(s) and any other partie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business/company normally owns the IP generated by employ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rmally set-out in the employees con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also the case at a Univers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udents however are not employees and a separate agreement will need to be reached between the University and the stud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patent may be invalidated if the inventor(s) and/or owners are not correctly indentifi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reedom-to-Op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patent stops others from using your IP, but does not allow you to use it yourself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use your own patent you may need to use something which is covered in the claims of someone else’s patent, e.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1 – “the wheel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 2 – “the push bik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wner of patent 2 must ask permission to make his bik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therefore may have to license, buy or attack the other patent to gain the full potential from your inven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ly you could invent around the othe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roced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76720" y="119556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months ‘priority date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rafting &amp; file UK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276720" y="242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ider overseas appl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276720" y="2925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8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 (A) &amp; search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76720" y="3933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ction needed in each cou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276720" y="443700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xamination + correspondence with patent exami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76720" y="515772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40+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rant of patent &amp; Publication (B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76720" y="5661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nual renewal f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20 year maximum life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76720" y="1700280"/>
            <a:ext cx="2592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0 – 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‘priority period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finding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76720" y="3429000"/>
            <a:ext cx="2592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– 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 and must find £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9280" y="2421000"/>
            <a:ext cx="2448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12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PCT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vers many count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588000" y="2421000"/>
            <a:ext cx="2249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le National Applications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Non-PCT count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.g. Argentina, Pakist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3933720"/>
            <a:ext cx="25210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30 Mon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ational / Regional Applicati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SA, Japan, China, Brazil, Australia, et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ight Arrow 20"/>
          <p:cNvSpPr/>
          <p:nvPr/>
        </p:nvSpPr>
        <p:spPr>
          <a:xfrm rot="10800000">
            <a:off x="2771280" y="2636640"/>
            <a:ext cx="360360" cy="144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ight Arrow 21"/>
          <p:cNvSpPr/>
          <p:nvPr/>
        </p:nvSpPr>
        <p:spPr>
          <a:xfrm>
            <a:off x="6084720" y="2637000"/>
            <a:ext cx="358920" cy="1443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ight Arrow 22"/>
          <p:cNvSpPr/>
          <p:nvPr/>
        </p:nvSpPr>
        <p:spPr>
          <a:xfrm rot="1152600">
            <a:off x="2785680" y="3052440"/>
            <a:ext cx="358920" cy="14292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ight Arrow 23"/>
          <p:cNvSpPr/>
          <p:nvPr/>
        </p:nvSpPr>
        <p:spPr>
          <a:xfrm rot="8670000">
            <a:off x="6092640" y="30160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ight Arrow 24"/>
          <p:cNvSpPr/>
          <p:nvPr/>
        </p:nvSpPr>
        <p:spPr>
          <a:xfrm rot="10800000">
            <a:off x="2771280" y="4149360"/>
            <a:ext cx="36036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ight Arrow 25"/>
          <p:cNvSpPr/>
          <p:nvPr/>
        </p:nvSpPr>
        <p:spPr>
          <a:xfrm rot="1619400">
            <a:off x="2784600" y="46544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own Arrow 26"/>
          <p:cNvSpPr/>
          <p:nvPr/>
        </p:nvSpPr>
        <p:spPr>
          <a:xfrm>
            <a:off x="1332000" y="321300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1" name="Group 115"/>
          <p:cNvGrpSpPr/>
          <p:nvPr/>
        </p:nvGrpSpPr>
        <p:grpSpPr>
          <a:xfrm>
            <a:off x="1476000" y="1844640"/>
            <a:ext cx="6191640" cy="3609000"/>
            <a:chOff x="1476000" y="1844640"/>
            <a:chExt cx="6191640" cy="3609000"/>
          </a:xfrm>
        </p:grpSpPr>
        <p:pic>
          <p:nvPicPr>
            <p:cNvPr id="132" name="Chart 111" descr=""/>
            <p:cNvPicPr/>
            <p:nvPr/>
          </p:nvPicPr>
          <p:blipFill>
            <a:blip r:embed="rId1"/>
            <a:stretch/>
          </p:blipFill>
          <p:spPr>
            <a:xfrm>
              <a:off x="1907640" y="1844640"/>
              <a:ext cx="5760000" cy="32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112"/>
            <p:cNvSpPr/>
            <p:nvPr/>
          </p:nvSpPr>
          <p:spPr>
            <a:xfrm rot="10800000">
              <a:off x="1476000" y="2910960"/>
              <a:ext cx="4546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£ 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Box 113"/>
            <p:cNvSpPr/>
            <p:nvPr/>
          </p:nvSpPr>
          <p:spPr>
            <a:xfrm>
              <a:off x="4008240" y="5085360"/>
              <a:ext cx="205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s since fil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natomy of a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itle – Usually uninformati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stract – To help patent searc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background – what is 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statements defining the inven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tailed description of the invention, with reference to drawings (optional) and experimental data (usuall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gures – if they help explain the inven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laims – are as broad as possible to define the full scope of protection in the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protect an ide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to get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Getting Value from Your Pat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484280"/>
            <a:ext cx="8642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agine your patent is like a house; you can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ve in the house – commercialise you IP into a new produ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ke in a lodger – license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t out you house – exclusive license of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house – assign (sell) your IP to a third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3059280" y="2060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nvestors Look Fo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ffective patent prote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security against competition from third parti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edom-to-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third parties will not be able to stop you entering your market pla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entitlement of inventorshi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assurance that no-one else can claim the IP or invalidate the pat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ives reassurance that they will see a return on their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ed the concept of Intellectual Property (IP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y you would want to protect an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own how to get the value from your pat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48392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ewburn Ellis LL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mewburn.c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po.gov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uropean Patent Off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epo.or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ide Careers – Career Opportunities in IP Law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ww.insidecareers.co.u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250920" y="333360"/>
            <a:ext cx="871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Jeremy Webster, Dr. Rachel Oxley, 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228600" y="183348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n association with Mewburn Ellis LL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755640" y="3368520"/>
            <a:ext cx="3557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28" descr=""/>
          <p:cNvPicPr/>
          <p:nvPr/>
        </p:nvPicPr>
        <p:blipFill>
          <a:blip r:embed="rId3"/>
          <a:stretch/>
        </p:blipFill>
        <p:spPr>
          <a:xfrm>
            <a:off x="4859280" y="3728880"/>
            <a:ext cx="3706920" cy="936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4"/>
          <a:stretch/>
        </p:blipFill>
        <p:spPr>
          <a:xfrm>
            <a:off x="2411280" y="609768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at is Intellectual Propert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(IP) refers to creations of the mind: inventions, literary and artistic works, symbols, names, images and designs used in commerce.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P comes in several form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tents – technical features of innov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rade Marks – brand names and logo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 – appeara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pyright – graphical and literary materi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Why Protect An Idea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gal protection of your new idea or invention ensures the future position of your company/brand and enables you to make money in a highly competitive market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stops others from copying your idea allowing you to maximise the return you deserve for investing you time, capital and resources in the invention of the id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A Well Known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name “Apple” and the logo above are examples of some of the registered trademarks the company hol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otal Apple holds approximately 8000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istered trademark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http://appleheadlines.com/wp-content/uploads/2011/01/apple-logo.jpeg"/>
          <p:cNvPicPr/>
          <p:nvPr/>
        </p:nvPicPr>
        <p:blipFill>
          <a:blip r:embed="rId1"/>
          <a:stretch/>
        </p:blipFill>
        <p:spPr>
          <a:xfrm>
            <a:off x="3780000" y="1773360"/>
            <a:ext cx="1539720" cy="186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5400 patents covering all of the technical aspects of it’s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 rot="1450800">
            <a:off x="1794960" y="2062080"/>
            <a:ext cx="251316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 rot="1558200">
            <a:off x="4896000" y="2301480"/>
            <a:ext cx="2457360" cy="30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ed Desig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pple holds approximately 2700 registered designs for it’s uniquely styled produc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55640" y="1846440"/>
            <a:ext cx="1851120" cy="109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03640" y="3718080"/>
            <a:ext cx="17287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5508720" y="1413000"/>
            <a:ext cx="3128760" cy="196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946080" y="3718080"/>
            <a:ext cx="868320" cy="176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050840" cy="1671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6"/>
          <a:stretch/>
        </p:blipFill>
        <p:spPr>
          <a:xfrm>
            <a:off x="3483000" y="2135160"/>
            <a:ext cx="1325520" cy="91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7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769440" cy="42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Rectangle 6"/>
          <p:cNvSpPr/>
          <p:nvPr/>
        </p:nvSpPr>
        <p:spPr>
          <a:xfrm>
            <a:off x="1979640" y="530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2 Apple Inc. All rights reserv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Pat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the only mechanism for protecting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chnic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d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property, they have value (£) and investors like to see the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tents are a negative right i.e. they detail what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nnot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 done by oth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08:43Z</dcterms:modified>
  <cp:revision>145</cp:revision>
  <dc:subject/>
  <dc:title>Intellectual property presentation</dc:title>
</cp:coreProperties>
</file>