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3C02-ED34-47DD-B6A9-EBA83B512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3D5C8-631B-40F8-BA03-599250AB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8D559-0D8B-4330-BE29-A0BE28694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CFD82-354A-4D61-9CF1-520F2D13B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0730-77AD-47BB-BF74-F2AF3D29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81E3-91FC-49B3-B262-37907217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5BB4-98F7-44A8-B46A-12B0106E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8A7DA-B274-4AB1-9DB6-5AA0527F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9A5FC-4019-4A08-B1FE-873DC2BB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2E8C-A293-4EE7-A25D-747ED684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BA81-FFB1-4509-BE57-4F8115EF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0083-8704-4D7B-A53F-4D3104F28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B7B8-EFC5-481B-A4E8-19EF404F81A0}" type="datetime">
              <a:rPr b="0" lang="en-GB" sz="1200" spc="-1" strike="noStrike">
                <a:solidFill>
                  <a:srgbClr val="ffffff"/>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D135-C1DC-4538-BD17-C9B4CE0ECF8A}"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