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7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26.jpeg" ContentType="image/jpeg"/>
  <Override PartName="/ppt/media/image5.jpeg" ContentType="image/jpeg"/>
  <Override PartName="/ppt/media/image29.png" ContentType="image/png"/>
  <Override PartName="/ppt/media/image6.png" ContentType="image/png"/>
  <Override PartName="/ppt/media/image7.png" ContentType="image/png"/>
  <Override PartName="/ppt/media/image34.jpeg" ContentType="image/jpeg"/>
  <Override PartName="/ppt/media/image18.png" ContentType="image/png"/>
  <Override PartName="/ppt/media/image11.png" ContentType="image/png"/>
  <Override PartName="/ppt/media/image12.jpeg" ContentType="image/jpeg"/>
  <Override PartName="/ppt/media/image13.png" ContentType="image/png"/>
  <Override PartName="/ppt/media/image8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31.jpeg" ContentType="image/jpeg"/>
  <Override PartName="/ppt/media/image4.jpeg" ContentType="image/jpeg"/>
  <Override PartName="/ppt/media/image25.jpeg" ContentType="image/jpeg"/>
  <Override PartName="/ppt/media/image33.png" ContentType="image/png"/>
  <Override PartName="/ppt/media/image3.png" ContentType="image/png"/>
  <Override PartName="/ppt/media/image23.jpeg" ContentType="image/jpeg"/>
  <Override PartName="/ppt/media/image20.png" ContentType="image/png"/>
  <Override PartName="/ppt/media/image2.jpeg" ContentType="image/jpeg"/>
  <Override PartName="/ppt/media/image1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00CF6-6901-49EF-B3E9-A69EBEE75345}" type="datetime">
              <a:rPr b="0" lang="en-GB" sz="12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AEE12-EEA6-4AB5-AF2D-F468CBE739F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F4704-2F5C-4005-92C9-2B2665D4AD09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42F8C-F74C-405D-B161-196E02665D29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01F51-C386-4C66-A36F-2233FABAE37B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A938C-7D1B-49FC-A0A1-8852DE73A592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BB9CC-5392-4FA3-A6C5-7294FC6EEB10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0F77C-DB07-4AE0-A9D5-47C01CE51036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0DE3F-BE7B-4179-ABBD-B2432D1915D1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D4D2B-717F-43AE-86A7-7E61E0C2AA6C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9917E-5C98-4379-BB37-23576F9624E9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B4CC3-B0F5-4342-B8B8-508532D2343F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F452C-9A63-4926-90A0-5811F6AFA642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58211-7692-434D-8280-261934C9F9A0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183A8-8070-4DA8-A297-4C5B1CEAC036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479BD-06E1-494E-8C13-1E05C8B9A25C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6BA62-EA4D-4EA3-A73A-59B07F732870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249F2-DFA2-44DC-86EC-EA08B3EDAEDE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F6565-D805-4B33-8318-98615514B74E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EFB2E-C01A-436F-9368-0E172FB25D4E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2DD23-8F58-4F2D-970D-BA826595D8A1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A79E7-CED4-4B85-8CF9-B73DE1B8FDBA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F547E-8920-46C3-989A-4E7C11F70FE1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93D5F-E81D-4D96-A013-1D83FB61C858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F8508-A7C5-4E6B-BD40-7F65E9ED0C83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4A970-FA7C-4737-A087-EC0687DFA2B4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91EC1-4DB8-4FAB-A1F7-9E165A567DB8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7BE1C-B31B-4D6F-81CB-92FADEEF694A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C8057-FB83-4CEF-ABD0-D07A43A140DA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0621C-5279-418F-A9FC-1DF7817723AD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8BD20-EFD7-4C1B-B49F-0F690C99A25A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0CDB9-845B-4AA6-B9DD-4301CCED9504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848C-A461-432B-B864-88E3AECAE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09CB-C95F-4A46-BA6E-906CAFAF8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82A5-F13C-43EE-B6C9-175016A8D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395C-44C7-43AB-880A-9ECCB93ED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8832-607A-4983-8845-55A8B9936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FB9A-BEE1-4D7F-B195-54A148FFA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18EA-122C-413D-AE6B-9C1A30FA1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803B-D89D-4321-9406-52E1EF291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0DA9-9325-42FA-B010-694DE320B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608D-8D82-4564-A72F-FDC30A1F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CDAC-92D9-4268-8AE0-2AA2A4D4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22F3-AD7E-4725-B959-FA47CF39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241AB-E8B3-453F-809A-F770B20488C7}" type="datetime">
              <a:rPr b="0" lang="en-GB" sz="1200" spc="-1" strike="noStrike">
                <a:solidFill>
                  <a:srgbClr val="ffffff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DE2ED-20A8-4CD3-AC41-74E4720DB4E4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s://rsc.li/3840bDs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An Introduction to the Chemistry Using Industri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" name="Picture 6" descr="http://www.brewersguardian.com/files.php?file=/Uni_of_Nott_logo_798923080.jpg"/>
          <p:cNvPicPr/>
          <p:nvPr/>
        </p:nvPicPr>
        <p:blipFill>
          <a:blip r:embed="rId1"/>
          <a:stretch/>
        </p:blipFill>
        <p:spPr>
          <a:xfrm>
            <a:off x="7524720" y="6093000"/>
            <a:ext cx="1530360" cy="680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http://www.nottingham.ac.uk/xpert/attribution/pictureattrib/mangle.php?url=http://farm5.static.flickr.com/7002/6469183731_5c557818ff_b.jpg&amp;original_url=http://www.flickr.com/28011375@N04/6469183731/&amp;license=flickr_1&amp;flickr_id=6469183731&amp;size=full&amp;picturename=green%20monster"/>
          <p:cNvPicPr/>
          <p:nvPr/>
        </p:nvPicPr>
        <p:blipFill>
          <a:blip r:embed="rId2"/>
          <a:stretch/>
        </p:blipFill>
        <p:spPr>
          <a:xfrm>
            <a:off x="1908000" y="2133720"/>
            <a:ext cx="5288040" cy="39560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2506680" y="6270480"/>
            <a:ext cx="282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is resource was downloaded from Business Skills for Chemists (</a:t>
            </a:r>
            <a:r>
              <a:rPr b="0" lang="en-GB" sz="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s://rsc.li/3840bDs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4"/>
          <a:stretch/>
        </p:blipFill>
        <p:spPr>
          <a:xfrm>
            <a:off x="136440" y="605808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6840" y="260280"/>
            <a:ext cx="821844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jobs of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600,000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people in the U.K. depend upon the chemicals industry – these workers are highly skilled and earn on averag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40%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more than employees in other areas of manufacturing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se facts demonstrate that the chemicals industry is at the heart of the U.K.’s econom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4" name="Picture 2" descr="http://www.nottingham.ac.uk/xpert/attribution/pictureattrib/mangle.php?url=http://farm5.static.flickr.com/7017/6594070941_e87505001b_b.jpg&amp;original_url=http://www.flickr.com/39388148@N04/6594070941/&amp;license=flickr_4&amp;flickr_id=6594070941&amp;size=full&amp;picturename=Blue%20Grass%20Chemical%20Agent-Destruction%20Pilot%20Plant%20Utility%20Building"/>
          <p:cNvPicPr/>
          <p:nvPr/>
        </p:nvPicPr>
        <p:blipFill>
          <a:blip r:embed="rId1"/>
          <a:stretch/>
        </p:blipFill>
        <p:spPr>
          <a:xfrm>
            <a:off x="2195640" y="333360"/>
            <a:ext cx="4784760" cy="3325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Content Placeholder 2"/>
          <p:cNvSpPr/>
          <p:nvPr/>
        </p:nvSpPr>
        <p:spPr>
          <a:xfrm>
            <a:off x="4572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hina was the biggest producer of chemicals in 20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U.K. made sales of approximately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€ 45 billio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 20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The Global Chemical Econom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1908000" y="2133720"/>
            <a:ext cx="5381640" cy="3305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24000" y="260280"/>
            <a:ext cx="84960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etween 2000 – 2010, Asia and particularly China have dominated world chemicals sales taking over from the E.U. and North Americ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uring this period, total global chemicals sales hav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isen by 60%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1908000" y="1052640"/>
            <a:ext cx="5391360" cy="4066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Content Placeholder 2"/>
          <p:cNvSpPr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sia’s dominance in the chemicals market is shown by the output of chemicals produced over the last 5 ye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ote that all regions showed negative chemical production growth for 2008/9, but are recovering at pres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1835280" y="1197000"/>
            <a:ext cx="5467320" cy="3819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Content Placeholder 2"/>
          <p:cNvSpPr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is trend can be explained by the significant investment in the chemicals industry that China has received in the last 10 ye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1835280" y="1484280"/>
            <a:ext cx="5457600" cy="3743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Content Placeholder 2"/>
          <p:cNvSpPr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owever the E.U. has continued to invest in it’s chemicals industry with the sector receiving the second highest manufacturing investment in 200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2076480" y="1844640"/>
            <a:ext cx="4991040" cy="3619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Content Placeholder 2"/>
          <p:cNvSpPr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U.K. contributed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9%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of the total E.U. chemicals sales in 20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total chemicals market value in the E.U. was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€ 491 bill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se sales cover a range of products, with 75% of the E.U. market made up of petrochemicals, polymers and special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2952720" cy="3327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5219640" y="1557360"/>
            <a:ext cx="2955960" cy="2882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"/>
          <p:cNvPicPr/>
          <p:nvPr/>
        </p:nvPicPr>
        <p:blipFill>
          <a:blip r:embed="rId3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Content Placeholder 2"/>
          <p:cNvSpPr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E.U. dominates the world chemicals export mark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majority of these exports are to other E.U. countr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5292720" y="907920"/>
            <a:ext cx="2820960" cy="3259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"/>
          <p:cNvPicPr/>
          <p:nvPr/>
        </p:nvPicPr>
        <p:blipFill>
          <a:blip r:embed="rId2"/>
          <a:stretch/>
        </p:blipFill>
        <p:spPr>
          <a:xfrm>
            <a:off x="900000" y="981000"/>
            <a:ext cx="2880000" cy="4113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"/>
          <p:cNvPicPr/>
          <p:nvPr/>
        </p:nvPicPr>
        <p:blipFill>
          <a:blip r:embed="rId3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Content Placeholder 2"/>
          <p:cNvSpPr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ther important E.U. chemical trade partners are North America and Asia (inc. China and Japa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1835280" y="1197000"/>
            <a:ext cx="5429160" cy="4133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Where does this leave the U.K. in the Global Market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ince the chemistry using industries are one of the largest manufacturing sectors in the U.K., it is positioned at the heart of the U.K.’s econom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sia and China are now dominating the global chemicals market, lead by heavy investment over the last 10 year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chemicals market is still very strong in the U.K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is is lead by strong chemicals exports mostly to other E.U. nations, North America and Asi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Learning Outcom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100000"/>
              </a:lnSpc>
              <a:spcBef>
                <a:spcPts val="550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To highlight how chemistry impacts on our everyday live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550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550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To highlight the economic position of the U.K.’s chemistry using industries both at home, in the E.U and within the global economy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550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550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To highlight the current and future challenges which face the chemistry using industrie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550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550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To show where chemistry research is making a difference to solve some of the global challenges which face this industry, contributing to the </a:t>
            </a:r>
            <a:r>
              <a:rPr b="0" lang="en-GB" sz="2200" spc="-1" strike="noStrike">
                <a:solidFill>
                  <a:srgbClr val="00b050"/>
                </a:solidFill>
                <a:latin typeface="Arial"/>
                <a:ea typeface="Arial"/>
              </a:rPr>
              <a:t>“</a:t>
            </a:r>
            <a:r>
              <a:rPr b="0" i="1" lang="en-GB" sz="2200" spc="-1" strike="noStrike">
                <a:solidFill>
                  <a:srgbClr val="00b050"/>
                </a:solidFill>
                <a:latin typeface="Arial"/>
                <a:ea typeface="Arial"/>
              </a:rPr>
              <a:t>green economy”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Current Challenges for the</a:t>
            </a:r>
            <a:br>
              <a:rPr sz="4400"/>
            </a:b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Chemistry Using Industri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50920" y="16286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hemistry using industries convert energy &amp; raw materials into useful products which impact upon our everyday liv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nerg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future price and availability of energy resources is a key issu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chemicals industry is one of the most energy intensive sector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t consumes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22%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of U.K.’s total industrial use of energy at a cost of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£4 billio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er year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t can represent up to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30%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of a businesses total costs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8" name="Picture 7" descr="http://www.nottingham.ac.uk/xpert/attribution/pictureattrib/mangle.php?url=http://farm5.static.flickr.com/7157/6387909297_02f3be9880_b.jpg&amp;original_url=http://www.flickr.com/49432141@N00/6387909297/&amp;license=flickr_1&amp;flickr_id=6387909297&amp;size=full&amp;picturename=127/365%20power"/>
          <p:cNvPicPr/>
          <p:nvPr/>
        </p:nvPicPr>
        <p:blipFill>
          <a:blip r:embed="rId1"/>
          <a:stretch/>
        </p:blipFill>
        <p:spPr>
          <a:xfrm>
            <a:off x="2916360" y="4869000"/>
            <a:ext cx="3240000" cy="18748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50920" y="549360"/>
            <a:ext cx="8686800" cy="56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upply of Raw Material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future price and availability of the raw materials used in the manufacturing processes (i.e. gas and oil) is also a key issu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il and gas supplies are beginning to run low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lobal competition through the new petrochemical capacity in the Middle East threatens the supply and availability of these raw materials at an affordable pric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 addition, the supply of other resources (e.g. metals) is also drying up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is all impacts the future sustainability of the chemistry using industri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1" name="Picture 6" descr="http://www.nottingham.ac.uk/xpert/attribution/pictureattrib/mangle.php?url=http://farm5.static.flickr.com/4016/4712925031_76d0cecdf3_b.jpg&amp;original_url=http://www.flickr.com/49503002894@N01/4712925031/&amp;license=flickr_1&amp;flickr_id=4712925031&amp;size=full&amp;picturename=A%20Gulf%20Oil%20Rig"/>
          <p:cNvPicPr/>
          <p:nvPr/>
        </p:nvPicPr>
        <p:blipFill>
          <a:blip r:embed="rId1"/>
          <a:stretch/>
        </p:blipFill>
        <p:spPr>
          <a:xfrm>
            <a:off x="2627280" y="3933720"/>
            <a:ext cx="3814920" cy="2664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250920" y="549360"/>
            <a:ext cx="5788080" cy="56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limate chang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eing a highly energy intensive industry, the chemicals industry is in part contributing to the emission of greenhouse gas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is contribution is either direct through burning of raw materials (e.g. oil and gas) or indirect through the use of energy supply and transport of raw materials around the worl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owever, the industry was an ‘early starter’ in setting aggressive targets for efficiency and reduction of harmful emissio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t is also a provider of solutions to this problem and is investing into R&amp;D for many new products and processes aimed at cutting greenhouse gas emissio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4" name="Picture 6" descr="http://www.nottingham.ac.uk/xpert/attribution/pictureattrib/mangle.php?url=http://farm5.static.flickr.com/7174/6717620889_e0c6987c85_b.jpg&amp;original_url=http://www.flickr.com/22057747@N07/6717620889/&amp;license=flickr_1&amp;flickr_id=6717620889&amp;size=full&amp;picturename=global_village_2"/>
          <p:cNvPicPr/>
          <p:nvPr/>
        </p:nvPicPr>
        <p:blipFill>
          <a:blip r:embed="rId1"/>
          <a:stretch/>
        </p:blipFill>
        <p:spPr>
          <a:xfrm>
            <a:off x="6039000" y="765000"/>
            <a:ext cx="2920680" cy="51850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50920" y="549360"/>
            <a:ext cx="8686800" cy="57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aste management and environmental impac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For environmental and economic reasons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dustry strives for efficiency to minimise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aste production and emissions into the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nvironment i.e. the less waste you produce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less it costs get rid of/stor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.There are many other issues and challenges facing the chemicals industry over the coming years – these are just a few examples…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se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hallenges offer opportunities for innovat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o address and solve the key issues. Since chemistry is an enabling science, it is well placed to make a direct impact through investment, innovation and R&amp;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7" name="Picture 6" descr="http://www.nottingham.ac.uk/xpert/attribution/pictureattrib/mangle.php?url=http://farm5.static.flickr.com/3561/3354740193_1bca3ed524_b.jpg&amp;original_url=http://www.flickr.com/53326337@N00/3354740193/&amp;license=flickr_5&amp;flickr_id=3354740193&amp;size=full&amp;picturename=Nuclear%20waste....%20er..."/>
          <p:cNvPicPr/>
          <p:nvPr/>
        </p:nvPicPr>
        <p:blipFill>
          <a:blip r:embed="rId1"/>
          <a:stretch/>
        </p:blipFill>
        <p:spPr>
          <a:xfrm>
            <a:off x="6175440" y="566640"/>
            <a:ext cx="2879640" cy="3078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Where is Chemistry Making a Difference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50920" y="16286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aving energy and reducing environmental impac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re has been a strong focus on maximising cost effective use of energy resulting in an improved energy efficiency of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35%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from 1990 – 2006 (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27%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for E.U. from 1990 – 2009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E.U. is a long way ahead of the U.S.A. on this issu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468360" y="3573360"/>
            <a:ext cx="3816360" cy="22399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"/>
          <p:cNvPicPr/>
          <p:nvPr/>
        </p:nvPicPr>
        <p:blipFill>
          <a:blip r:embed="rId2"/>
          <a:stretch/>
        </p:blipFill>
        <p:spPr>
          <a:xfrm>
            <a:off x="4932360" y="3573360"/>
            <a:ext cx="3816360" cy="24526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"/>
          <p:cNvPicPr/>
          <p:nvPr/>
        </p:nvPicPr>
        <p:blipFill>
          <a:blip r:embed="rId3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250920" y="188640"/>
            <a:ext cx="8686800" cy="59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educed emission of greenhouse gas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eing a highly energy intensive industry, the chemicals industry is contributing to the emission of greenhouse gas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owever, the industry was an ‘early starter’ in setting aggressive targets for efficiency and reduction of harmful emissio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reenhouse gas emissions have fallen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49%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since 1990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1979640" y="2924280"/>
            <a:ext cx="5068800" cy="30970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250920" y="188640"/>
            <a:ext cx="8686800" cy="59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an chemistry offer further solutions to these problems?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hemistry is a provider of solutions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ince chemistry is an ‘enabling science’ it allows for the development of new processes and technologies to address these issues through R&amp;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top products which achieve carbon savings are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55640" indent="-355680">
              <a:lnSpc>
                <a:spcPct val="100000"/>
              </a:lnSpc>
              <a:spcBef>
                <a:spcPts val="400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building insulation material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55640" indent="-355680">
              <a:lnSpc>
                <a:spcPct val="100000"/>
              </a:lnSpc>
              <a:spcBef>
                <a:spcPts val="400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More efficient lighting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55640" indent="-355680">
              <a:lnSpc>
                <a:spcPct val="100000"/>
              </a:lnSpc>
              <a:spcBef>
                <a:spcPts val="400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Lightweight yet strong plastics for more fuel efficient modes of transport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55640" indent="-355680">
              <a:lnSpc>
                <a:spcPct val="100000"/>
              </a:lnSpc>
              <a:spcBef>
                <a:spcPts val="400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Development of low-temperature detergents to save energy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55640" indent="-355680">
              <a:lnSpc>
                <a:spcPct val="100000"/>
              </a:lnSpc>
              <a:spcBef>
                <a:spcPts val="400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fuel and engine efficiency….etc…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8" name="Picture 6" descr="http://www.nottingham.ac.uk/xpert/attribution/pictureattrib/mangle.php?url=http://farm5.static.flickr.com/4083/4837264929_c72f52bc90_b.jpg&amp;original_url=http://www.flickr.com/73295603@N00/4837264929/&amp;license=flickr_3&amp;flickr_id=4837264929&amp;size=full&amp;picturename=Neopor:%20an%20innovative%20insulating%20material%20–%20Pilot%20plant"/>
          <p:cNvPicPr/>
          <p:nvPr/>
        </p:nvPicPr>
        <p:blipFill>
          <a:blip r:embed="rId1"/>
          <a:stretch/>
        </p:blipFill>
        <p:spPr>
          <a:xfrm>
            <a:off x="644400" y="3932280"/>
            <a:ext cx="3127680" cy="21765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http://www.nottingham.ac.uk/xpert/attribution/pictureattrib/mangle.php?url=http://farm5.static.flickr.com/7174/6446901067_fc0e8a5811_b.jpg&amp;original_url=http://www.flickr.com/12299874@N08/6446901067/&amp;license=flickr_3&amp;flickr_id=6446901067&amp;size=full&amp;picturename=Light"/>
          <p:cNvPicPr/>
          <p:nvPr/>
        </p:nvPicPr>
        <p:blipFill>
          <a:blip r:embed="rId2"/>
          <a:stretch/>
        </p:blipFill>
        <p:spPr>
          <a:xfrm>
            <a:off x="5364000" y="3932280"/>
            <a:ext cx="3094200" cy="21765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"/>
          <p:cNvPicPr/>
          <p:nvPr/>
        </p:nvPicPr>
        <p:blipFill>
          <a:blip r:embed="rId3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250920" y="188640"/>
            <a:ext cx="8686800" cy="59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t has been estimated that for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ach 1 unit of greenhouse gas which the chemistry using industry emit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 production processes, the resulting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ew products save 2-3 units of greenhouse gas emiss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is positions the chemistry using industries at the heart of the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933c"/>
                </a:solidFill>
                <a:latin typeface="Arial"/>
                <a:ea typeface="Arial"/>
              </a:rPr>
              <a:t>‘</a:t>
            </a:r>
            <a:r>
              <a:rPr b="0" lang="en-GB" sz="4400" spc="-1" strike="noStrike">
                <a:solidFill>
                  <a:srgbClr val="77933c"/>
                </a:solidFill>
                <a:latin typeface="Arial"/>
                <a:ea typeface="Arial"/>
              </a:rPr>
              <a:t>green economy’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2" name="Picture 4" descr="http://www.nottingham.ac.uk/xpert/attribution/pictureattrib/mangle.php?url=http://farm5.static.flickr.com/7145/6736493655_66688c7725_b.jpg&amp;original_url=http://www.flickr.com/58965011@N05/6736493655/&amp;license=flickr_1&amp;flickr_id=6736493655&amp;size=full&amp;picturename=Luz%20e%20sombras"/>
          <p:cNvPicPr/>
          <p:nvPr/>
        </p:nvPicPr>
        <p:blipFill>
          <a:blip r:embed="rId1"/>
          <a:stretch/>
        </p:blipFill>
        <p:spPr>
          <a:xfrm>
            <a:off x="971640" y="2922480"/>
            <a:ext cx="7200720" cy="30304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Conclus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250920" y="1267920"/>
            <a:ext cx="8686800" cy="48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hemistry is an enabling science – it is all around us and is involved in everything we need, do and interact with in our everyday liv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chemistry using industries are one of the largest manufacturing sectors in the U.K. making a varied range of products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is industry is positioned at the heart of the U.K.’s manufacturing econom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sia and China are now dominating the global chemicals market, but the chemicals market is still very strong in the U.K. lead by strong export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re are many challenges which face the chemistry using industries, however this industry is making a difference and is key to the U.K.’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50"/>
                </a:solidFill>
                <a:latin typeface="Arial"/>
                <a:ea typeface="Arial"/>
              </a:rPr>
              <a:t>‘</a:t>
            </a:r>
            <a:r>
              <a:rPr b="1" lang="en-GB" sz="2000" spc="-1" strike="noStrike">
                <a:solidFill>
                  <a:srgbClr val="00b050"/>
                </a:solidFill>
                <a:latin typeface="Arial"/>
                <a:ea typeface="Arial"/>
              </a:rPr>
              <a:t>Green Economy’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References &amp; Further Read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50920" y="16286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hemical Industries Associa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ww.cia.org.uk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Chemical and Pharmaceutical Businesses in the UK, Our Campaign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, Sept. 2010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Annual Review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, 2009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EFIC – The European Chemical Industry Counci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ww.cefic.org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Facts and Figures 2011 – The European chemical industry in a worldwide perspectiv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Why is Chemistry Important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hemistry is an “enabling science”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.e. chemistry facilitates other sciences, research and manufacturing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 chemicals industry is at the heart of manufacturing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t converts raw materials (e.g. oil and gas) into a host of products and resources for use by both industrial and household consume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4"/>
          <p:cNvSpPr/>
          <p:nvPr/>
        </p:nvSpPr>
        <p:spPr>
          <a:xfrm>
            <a:off x="1547640" y="1413000"/>
            <a:ext cx="5616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6156360" y="6237360"/>
            <a:ext cx="1274760" cy="482400"/>
          </a:xfrm>
          <a:prstGeom prst="rect">
            <a:avLst/>
          </a:prstGeom>
          <a:ln w="0">
            <a:noFill/>
          </a:ln>
        </p:spPr>
      </p:pic>
      <p:sp>
        <p:nvSpPr>
          <p:cNvPr id="173" name="TextBox 7"/>
          <p:cNvSpPr/>
          <p:nvPr/>
        </p:nvSpPr>
        <p:spPr>
          <a:xfrm>
            <a:off x="250920" y="333360"/>
            <a:ext cx="90010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Auth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Dr. Trevor Farren, Dr. Simon Mosey, Dr. William Drewe &amp; Prof. Barry Stickin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Box 9"/>
          <p:cNvSpPr/>
          <p:nvPr/>
        </p:nvSpPr>
        <p:spPr>
          <a:xfrm>
            <a:off x="228600" y="1752480"/>
            <a:ext cx="864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School of Chemistry, University of Nottingham, U.K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Box 10"/>
          <p:cNvSpPr/>
          <p:nvPr/>
        </p:nvSpPr>
        <p:spPr>
          <a:xfrm>
            <a:off x="250920" y="558972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Supported b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5" descr="http://www.cibit.url.tw/APBITM(New)/images/UoN%20logo.jpg"/>
          <p:cNvPicPr/>
          <p:nvPr/>
        </p:nvPicPr>
        <p:blipFill>
          <a:blip r:embed="rId2"/>
          <a:stretch/>
        </p:blipFill>
        <p:spPr>
          <a:xfrm>
            <a:off x="2590920" y="3157560"/>
            <a:ext cx="4032000" cy="17953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"/>
          <p:cNvPicPr/>
          <p:nvPr/>
        </p:nvPicPr>
        <p:blipFill>
          <a:blip r:embed="rId3"/>
          <a:stretch/>
        </p:blipFill>
        <p:spPr>
          <a:xfrm>
            <a:off x="2268360" y="6093000"/>
            <a:ext cx="175608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Why is Chemistry Important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hemistry impacts on our everyday lives through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oaps, shampoos and detergents to keep us clea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isinfectants and pharmaceuticals to safeguard health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dditives to foods to keep them fresher longe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aints to protect and extend the life of metal and timbe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nsulation materials to save energy in building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e fuel we put in our car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hemistry is all around us and is involved in everything we need, do and interact with in our everyday lives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1" name="Picture 7" descr="http://www.nottingham.ac.uk/xpert/attribution/pictureattrib/mangle.php?url=http://farm5.static.flickr.com/2704/5816515113_db98012d33_b.jpg&amp;original_url=http://www.flickr.com/27632962@N04/5816515113/&amp;license=flickr_1&amp;flickr_id=5816515113&amp;size=full&amp;picturename=Jessica%20Rohrer%20painting:%20household%20cleaning%20supplies"/>
          <p:cNvPicPr/>
          <p:nvPr/>
        </p:nvPicPr>
        <p:blipFill>
          <a:blip r:embed="rId1"/>
          <a:stretch/>
        </p:blipFill>
        <p:spPr>
          <a:xfrm>
            <a:off x="6732720" y="2097000"/>
            <a:ext cx="1919160" cy="1500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http://www.nottingham.ac.uk/xpert/attribution/pictureattrib/mangle.php?url=http://farm5.static.flickr.com/5011/5513586978_0a09f8e7d7_b.jpg&amp;original_url=http://www.flickr.com/88651026@N00/5513586978/&amp;license=flickr_1&amp;flickr_id=5513586978&amp;size=full&amp;picturename=Art%20Store%20Lust"/>
          <p:cNvPicPr/>
          <p:nvPr/>
        </p:nvPicPr>
        <p:blipFill>
          <a:blip r:embed="rId2"/>
          <a:stretch/>
        </p:blipFill>
        <p:spPr>
          <a:xfrm>
            <a:off x="6732720" y="3716280"/>
            <a:ext cx="1919160" cy="1494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"/>
          <p:cNvPicPr/>
          <p:nvPr/>
        </p:nvPicPr>
        <p:blipFill>
          <a:blip r:embed="rId3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The History of the U.K. Chemistry Using Industri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77336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 U.K. chemicals industry grew up using locally occurring resources such as salt, coal, limestone, vegetable matter and animal fa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oday it is part of a global industry primarily using natural gas and oil fractions such as naphtha as its dominant raw material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The U.K. Chemical Econom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hemicals and pharmaceuticals represent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12%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f total U.K. manufacturing output, equivalent to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1.5%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of GDP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veryday the chemicals industry contributes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£70 millio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o the U.K. econom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69" name="Group 49"/>
          <p:cNvGrpSpPr/>
          <p:nvPr/>
        </p:nvGrpSpPr>
        <p:grpSpPr>
          <a:xfrm>
            <a:off x="2002320" y="2492280"/>
            <a:ext cx="5185080" cy="2961000"/>
            <a:chOff x="2002320" y="2492280"/>
            <a:chExt cx="5185080" cy="2961000"/>
          </a:xfrm>
        </p:grpSpPr>
        <p:pic>
          <p:nvPicPr>
            <p:cNvPr id="70" name="Picture 2" descr=""/>
            <p:cNvPicPr/>
            <p:nvPr/>
          </p:nvPicPr>
          <p:blipFill>
            <a:blip r:embed="rId1"/>
            <a:stretch/>
          </p:blipFill>
          <p:spPr>
            <a:xfrm>
              <a:off x="3618360" y="3025080"/>
              <a:ext cx="2256840" cy="193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Box 51"/>
            <p:cNvSpPr/>
            <p:nvPr/>
          </p:nvSpPr>
          <p:spPr>
            <a:xfrm>
              <a:off x="4156920" y="2492280"/>
              <a:ext cx="1954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% - Glass, ceramics, etc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TextBox 52"/>
            <p:cNvSpPr/>
            <p:nvPr/>
          </p:nvSpPr>
          <p:spPr>
            <a:xfrm>
              <a:off x="5069880" y="2780280"/>
              <a:ext cx="210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% - Food, beverages, etc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TextBox 53"/>
            <p:cNvSpPr/>
            <p:nvPr/>
          </p:nvSpPr>
          <p:spPr>
            <a:xfrm>
              <a:off x="5822640" y="3644280"/>
              <a:ext cx="1364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% - Transport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quipmen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TextBox 54"/>
            <p:cNvSpPr/>
            <p:nvPr/>
          </p:nvSpPr>
          <p:spPr>
            <a:xfrm>
              <a:off x="5760360" y="4436640"/>
              <a:ext cx="1287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% - Paper and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inti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TextBox 55"/>
            <p:cNvSpPr/>
            <p:nvPr/>
          </p:nvSpPr>
          <p:spPr>
            <a:xfrm>
              <a:off x="4875120" y="5085000"/>
              <a:ext cx="198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% - Chemica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TextBox 56"/>
            <p:cNvSpPr/>
            <p:nvPr/>
          </p:nvSpPr>
          <p:spPr>
            <a:xfrm>
              <a:off x="3371400" y="5053680"/>
              <a:ext cx="100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% - Oth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TextBox 57"/>
            <p:cNvSpPr/>
            <p:nvPr/>
          </p:nvSpPr>
          <p:spPr>
            <a:xfrm>
              <a:off x="2474280" y="4436640"/>
              <a:ext cx="107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% - Metal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TextBox 58"/>
            <p:cNvSpPr/>
            <p:nvPr/>
          </p:nvSpPr>
          <p:spPr>
            <a:xfrm>
              <a:off x="2002320" y="3644280"/>
              <a:ext cx="1390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% - Electrica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d optica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TextBox 59"/>
            <p:cNvSpPr/>
            <p:nvPr/>
          </p:nvSpPr>
          <p:spPr>
            <a:xfrm>
              <a:off x="2295000" y="3068280"/>
              <a:ext cx="1352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% - Mechanical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gineeri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TextBox 60"/>
            <p:cNvSpPr/>
            <p:nvPr/>
          </p:nvSpPr>
          <p:spPr>
            <a:xfrm>
              <a:off x="3279240" y="2564280"/>
              <a:ext cx="1081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% - Rubber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d plasti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Straight Connector 61"/>
            <p:cNvSpPr/>
            <p:nvPr/>
          </p:nvSpPr>
          <p:spPr>
            <a:xfrm>
              <a:off x="4599000" y="2749320"/>
              <a:ext cx="0" cy="27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Straight Connector 62"/>
            <p:cNvSpPr/>
            <p:nvPr/>
          </p:nvSpPr>
          <p:spPr>
            <a:xfrm flipH="1">
              <a:off x="5319720" y="2979360"/>
              <a:ext cx="102960" cy="183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Straight Connector 63"/>
            <p:cNvSpPr/>
            <p:nvPr/>
          </p:nvSpPr>
          <p:spPr>
            <a:xfrm flipH="1">
              <a:off x="5835240" y="3808440"/>
              <a:ext cx="206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Straight Connector 64"/>
            <p:cNvSpPr/>
            <p:nvPr/>
          </p:nvSpPr>
          <p:spPr>
            <a:xfrm flipH="1" flipV="1">
              <a:off x="5732280" y="4454640"/>
              <a:ext cx="206280" cy="134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Straight Connector 65"/>
            <p:cNvSpPr/>
            <p:nvPr/>
          </p:nvSpPr>
          <p:spPr>
            <a:xfrm flipH="1" flipV="1">
              <a:off x="5165280" y="4914360"/>
              <a:ext cx="50760" cy="183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Straight Connector 66"/>
            <p:cNvSpPr/>
            <p:nvPr/>
          </p:nvSpPr>
          <p:spPr>
            <a:xfrm flipH="1">
              <a:off x="4186440" y="4869000"/>
              <a:ext cx="102960" cy="183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Straight Connector 67"/>
            <p:cNvSpPr/>
            <p:nvPr/>
          </p:nvSpPr>
          <p:spPr>
            <a:xfrm flipH="1">
              <a:off x="3618000" y="4454640"/>
              <a:ext cx="155520" cy="9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Straight Connector 68"/>
            <p:cNvSpPr/>
            <p:nvPr/>
          </p:nvSpPr>
          <p:spPr>
            <a:xfrm flipH="1">
              <a:off x="3411360" y="3808440"/>
              <a:ext cx="258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Straight Connector 69"/>
            <p:cNvSpPr/>
            <p:nvPr/>
          </p:nvSpPr>
          <p:spPr>
            <a:xfrm flipH="1" flipV="1">
              <a:off x="3720600" y="3209400"/>
              <a:ext cx="206280" cy="13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Straight Connector 70"/>
            <p:cNvSpPr/>
            <p:nvPr/>
          </p:nvSpPr>
          <p:spPr>
            <a:xfrm flipH="1" flipV="1">
              <a:off x="4186080" y="2887200"/>
              <a:ext cx="153720" cy="230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6840" y="260280"/>
            <a:ext cx="821844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chemicals industry manufactures a diverse range of materials and product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619280" y="1341360"/>
            <a:ext cx="5861160" cy="3886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2050920" y="5300640"/>
            <a:ext cx="5050080" cy="209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3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56840" y="260280"/>
            <a:ext cx="821844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chemicals industry in the U.K. invests over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£5 bill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per year in R&amp;D –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ne thir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of the total U.K. R&amp;D spen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is investment in innovation drives sector growth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U.K. (and E.U.) chemicals industry has shown continued output growth and has out performed other manufacturing businesses, especially in the current economic climat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1187280" y="1557360"/>
            <a:ext cx="6778800" cy="3257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2"/>
          <a:stretch/>
        </p:blipFill>
        <p:spPr>
          <a:xfrm>
            <a:off x="4427640" y="4221000"/>
            <a:ext cx="3485880" cy="2858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"/>
          <p:cNvPicPr/>
          <p:nvPr/>
        </p:nvPicPr>
        <p:blipFill>
          <a:blip r:embed="rId3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6840" y="260280"/>
            <a:ext cx="821844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chemicals industry is the U.K.’s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o. 1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anufacturing exporter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U.K. chemicals industry has maintained a surplus in trad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very working day the U.K.’s chemicals industry adds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£30 millio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o our country’s balance of trade. In the same period the rest of manufacturing achieved a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£300 mill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daily loss!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6480000" cy="33861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0T14:15:45Z</dcterms:created>
  <dc:creator>Information Services</dc:creator>
  <dc:description/>
  <dc:language>en-US</dc:language>
  <cp:lastModifiedBy>Chris Runciman</cp:lastModifiedBy>
  <dcterms:modified xsi:type="dcterms:W3CDTF">2020-12-15T09:05:24Z</dcterms:modified>
  <cp:revision>102</cp:revision>
  <dc:subject/>
  <dc:title>Introduction to the chemistry-using industries presentation</dc:title>
</cp:coreProperties>
</file>