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C0F89-416C-4678-97D9-87BA091A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E668-14D0-48E6-96C9-F0FEDA41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904AE-083B-4EFE-A18C-8F88FEECC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A43B7-F63F-4C9D-9D2D-0BE0AE77F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7499-1508-48BE-9282-B87FBA14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C231C-66A1-4E92-A1DB-737006A28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9676-469A-47A9-B750-1E21370F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18E7-08A8-4334-8B4A-9CE4B2F17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BDED-17F6-49B6-8F4A-5A9A2753C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31CA-0F70-4852-8D14-77C10B29A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511F-8B29-4F1E-A953-201DE1F05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F0EF-498F-4424-9B04-5E0E0C728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1F0D-311F-40F8-86E9-F524537BDF23}" type="datetime">
              <a:rPr b="0" lang="en-GB" sz="1200" spc="-1" strike="noStrike">
                <a:solidFill>
                  <a:srgbClr val="ffffff"/>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0BEC-A9D5-4074-A5FF-FDED46BE77D7}"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