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7416-B3E7-418B-8D69-4ED70CD4BE68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2C38-2348-42D3-AF12-FB6B0AF76B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10A-A4CA-4C84-8190-2970A3715A7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7873-45EA-4B74-ACA1-AEBA8D932B4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3662-F13C-4069-903A-3D1026F070D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CC21-96C6-4FE4-86E5-A35636027BC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5AC3-9EE2-49DE-AF99-B827C181A34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8CCA-FE24-4DB7-970E-D7A97DCAEB4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F3D-5D1A-4837-B3E0-97C126A5381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E67-E18E-4212-9A02-01DE6ACEC13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5FF-5686-44F1-9ADA-9BD694DB2CC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8108-DC91-4956-86F3-8E0B2F27639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BD2B-DFB1-4653-8102-0C77DB4594C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329-706A-43FA-BA6E-CB2E67244F0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F777-98EC-483D-BBCB-C70C01F4384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B208-77B0-40B5-88DA-7841135DAB9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7AEE-5683-4BDD-BECB-880B4B22E85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2186-A829-439D-9F1D-302D668A3BF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E30-19C4-4E63-BF7F-8760A209B3D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916-8AA4-4E20-9451-F60583E0AAE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C542-2190-40EA-930A-8DF472031F1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337B-BF51-4CFD-8EC8-FBBE387F318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F41-A629-4010-95FA-696F07B0179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2D0B-03BE-4ABB-8F7F-1EA522145FC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DF65-83F4-45FF-BE96-1661A00C81A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70E1-5D75-4024-BAA5-7CD676BB556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AA58-E9D5-4D86-A50B-30DECB658C7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B008-C25E-4BE5-9FDF-E7E5DF1B4DE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CE7F-7E3B-493D-8F15-802847BA4E0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FDBE-F61E-407C-9B70-B8369EDF196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B82B-67EE-4D22-9D51-7B0E39DBAEA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12F2-5B09-4EAD-8550-C53E473A71E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E16-0CEF-4BFC-86C2-8FF654FC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585-6B80-48D9-B001-EA161D7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55D-B0A9-4A0F-A0E9-DA1C1C27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EBB-1F5A-4BBB-B41A-11374D2F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B74-F52C-4205-8006-D5743F6D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3EB-4B89-4840-B054-7B5980DA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A97-251B-47F6-9139-202A3664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447-07A2-493C-BBE8-A24136FF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C36-A236-4A4E-8A97-C564C098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3AC-D86A-4C4F-B7B5-63CC5FB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687-994B-4A56-933F-A3C98B0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A11-9381-4F16-A112-89808C9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42C7-C38B-4850-9181-691303430634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165C-D4C8-4FED-8AA0-E56C4062A5B4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rsc.li/3840bDs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 Introduction to the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2"/>
          <a:stretch/>
        </p:blipFill>
        <p:spPr>
          <a:xfrm>
            <a:off x="1908000" y="2133720"/>
            <a:ext cx="5288040" cy="3956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136440" y="605808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jobs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00,0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ople in the U.K. depend upon the chemicals industry – these workers are highly skilled and earn on avera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more than employees in other areas of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facts demonstrate that the chemicals industry is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www.nottingham.ac.uk/xpert/attribution/pictureattrib/mangle.php?url=http://farm5.static.flickr.com/7017/6594070941_e87505001b_b.jpg&amp;original_url=http://www.flickr.com/39388148@N04/6594070941/&amp;license=flickr_4&amp;flickr_id=6594070941&amp;size=full&amp;picturename=Blue%20Grass%20Chemical%20Agent-Destruction%20Pilot%20Plant%20Utility%20Building"/>
          <p:cNvPicPr/>
          <p:nvPr/>
        </p:nvPicPr>
        <p:blipFill>
          <a:blip r:embed="rId1"/>
          <a:stretch/>
        </p:blipFill>
        <p:spPr>
          <a:xfrm>
            <a:off x="2195640" y="333360"/>
            <a:ext cx="4784760" cy="332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tent Placeholder 2"/>
          <p:cNvSpPr/>
          <p:nvPr/>
        </p:nvSpPr>
        <p:spPr>
          <a:xfrm>
            <a:off x="4572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na was the biggest producer of chemical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made sales of approximate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5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Global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381640" cy="33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24000" y="260280"/>
            <a:ext cx="8496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2000 – 2010, Asia and particularly China have dominated world chemicals sales taking over from the E.U. and North Americ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uring this period, total global chemicals sales h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en by 6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391360" cy="40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’s dominance in the chemicals market is shown by the output of chemicals produced over the last 5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all regions showed negative chemical production growth for 2008/9, but are recovering a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67320" cy="3819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trend can be explained by the significant investment in the chemicals industry that China has received in the last 1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45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e E.U. has continued to invest in it’s chemicals industry with the sector receiving the second highest manufacturing investment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076480" y="1844640"/>
            <a:ext cx="4991040" cy="3619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ontribute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E.U. chemicals sales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chemicals market value in the E.U. w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€ 491 b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sales cover a range of products, with 75% of the E.U. market made up of petrochemicals, polymers and specia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2952720" cy="3327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2955960" cy="28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dominates the world chemicals export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majority of these exports are to other E.U.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2820960" cy="325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2880000" cy="411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ontent Placeholder 2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ther important E.U. chemical trade partners are North America and Asia (inc. China and Jap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429160" cy="413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does this leave the U.K. in the Global Mark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the chemistry using industries are one of the largest manufacturing sectors in the U.K., it is positioned at the heart of the U.K.’s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lead by heavy investment over the last 10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market is still very strong in the U.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lead by strong chemicals exports mostly to other E.U. nations, North America and As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how chemistry impacts on our everyday liv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economic position of the U.K.’s chemistry using industries both at home, in the E.U and within the global econom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highlight the current and future challenges which face the chemistry using industri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To show where chemistry research is making a difference to solve some of the global challenges which face this industry, contributing to the 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0" i="1" lang="en-GB" sz="2200" spc="-1" strike="noStrike">
                <a:solidFill>
                  <a:srgbClr val="00b050"/>
                </a:solidFill>
                <a:latin typeface="Arial"/>
                <a:ea typeface="Arial"/>
              </a:rPr>
              <a:t>green economy”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urrent Challenges for the</a:t>
            </a:r>
            <a:br>
              <a:rPr sz="4400"/>
            </a:b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using industries convert energy &amp; raw materials into useful products which impact upo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energy resources is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one of the most energy intensive secto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onsum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2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U.K.’s total industrial use of energy at a cost of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4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 ye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can represent up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a businesses total cos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7" descr="http://www.nottingham.ac.uk/xpert/attribution/pictureattrib/mangle.php?url=http://farm5.static.flickr.com/7157/6387909297_02f3be9880_b.jpg&amp;original_url=http://www.flickr.com/49432141@N00/6387909297/&amp;license=flickr_1&amp;flickr_id=6387909297&amp;size=full&amp;picturename=127/365%20power"/>
          <p:cNvPicPr/>
          <p:nvPr/>
        </p:nvPicPr>
        <p:blipFill>
          <a:blip r:embed="rId1"/>
          <a:stretch/>
        </p:blipFill>
        <p:spPr>
          <a:xfrm>
            <a:off x="2916360" y="4869000"/>
            <a:ext cx="3240000" cy="187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50920" y="549360"/>
            <a:ext cx="86868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ply of Raw Materi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uture price and availability of the raw materials used in the manufacturing processes (i.e. gas and oil) is also a key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and gas supplies are beginning to run low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competition through the new petrochemical capacity in the Middle East threatens the supply and availability of these raw materials at an affordable pr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addition, the supply of other resources (e.g. metals) is also drying u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all impacts the future sustainability of the chemistry using industr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1"/>
          <a:stretch/>
        </p:blipFill>
        <p:spPr>
          <a:xfrm>
            <a:off x="2627280" y="3933720"/>
            <a:ext cx="3814920" cy="266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57880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mate chan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in part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ontribution is either direct through burning of raw materials (e.g. oil and gas) or indirect through the use of energy supply and transport of raw materials around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also a provider of solutions to this problem and is investing into R&amp;D for many new products and processes aimed at cutting greenhouse gas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6" descr="http://www.nottingham.ac.uk/xpert/attribution/pictureattrib/mangle.php?url=http://farm5.static.flickr.com/7174/6717620889_e0c6987c85_b.jpg&amp;original_url=http://www.flickr.com/22057747@N07/6717620889/&amp;license=flickr_1&amp;flickr_id=6717620889&amp;size=full&amp;picturename=global_village_2"/>
          <p:cNvPicPr/>
          <p:nvPr/>
        </p:nvPicPr>
        <p:blipFill>
          <a:blip r:embed="rId1"/>
          <a:stretch/>
        </p:blipFill>
        <p:spPr>
          <a:xfrm>
            <a:off x="6039000" y="765000"/>
            <a:ext cx="292068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50920" y="549360"/>
            <a:ext cx="86868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management and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environmental and economic reas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dustry strives for efficiency to minimis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aste production and emissions into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 i.e. the less waste you produc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ss it costs get rid of/sto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There are many other issues and challenges facing the chemicals industry over the coming years – these are just a few examples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llenges offer opportunities for inno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address and solve the key issues. Since chemistry is an enabling science, it is well placed to make a direct impact through investment, innovation and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6" descr="http://www.nottingham.ac.uk/xpert/attribution/pictureattrib/mangle.php?url=http://farm5.static.flickr.com/3561/3354740193_1bca3ed524_b.jpg&amp;original_url=http://www.flickr.com/53326337@N00/3354740193/&amp;license=flickr_5&amp;flickr_id=3354740193&amp;size=full&amp;picturename=Nuclear%20waste....%20er..."/>
          <p:cNvPicPr/>
          <p:nvPr/>
        </p:nvPicPr>
        <p:blipFill>
          <a:blip r:embed="rId1"/>
          <a:stretch/>
        </p:blipFill>
        <p:spPr>
          <a:xfrm>
            <a:off x="6175440" y="566640"/>
            <a:ext cx="2879640" cy="307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ere is Chemistry Making a Differenc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ving energy and reducing environmental imp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has been a strong focus on maximising cost effective use of energy resulting in an improved energy efficiency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3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1990 – 2006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7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E.U. from 1990 – 2009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E.U. is a long way ahead of the U.S.A. on this issu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3816360" cy="2239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4932360" y="3573360"/>
            <a:ext cx="381636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duced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ing a highly energy intensive industry, the chemicals industry is contributing to the emission of greenhouse gas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industry was an ‘early starter’ in setting aggressive targets for efficiency and reduction of harmful emiss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eenhouse gas emissions have fall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49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ince 199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068800" cy="3097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chemistry offer further solutions to these problems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 provider of solu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nce chemistry is an ‘enabling science’ it allows for the development of new processes and technologies to address these issues through R&amp;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op products which achieve carbon saving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building insulation material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e efficient ligh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ghtweight yet strong plastics for more fuel efficient modes of transpo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of low-temperature detergents to save energy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fuel and engine efficiency….etc…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" name="Picture 6" descr="http://www.nottingham.ac.uk/xpert/attribution/pictureattrib/mangle.php?url=http://farm5.static.flickr.com/4083/4837264929_c72f52bc90_b.jpg&amp;original_url=http://www.flickr.com/73295603@N00/4837264929/&amp;license=flickr_3&amp;flickr_id=4837264929&amp;size=full&amp;picturename=Neopor:%20an%20innovative%20insulating%20material%20–%20Pilot%20plant"/>
          <p:cNvPicPr/>
          <p:nvPr/>
        </p:nvPicPr>
        <p:blipFill>
          <a:blip r:embed="rId1"/>
          <a:stretch/>
        </p:blipFill>
        <p:spPr>
          <a:xfrm>
            <a:off x="644400" y="3932280"/>
            <a:ext cx="3127680" cy="2176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http://www.nottingham.ac.uk/xpert/attribution/pictureattrib/mangle.php?url=http://farm5.static.flickr.com/7174/6446901067_fc0e8a5811_b.jpg&amp;original_url=http://www.flickr.com/12299874@N08/6446901067/&amp;license=flickr_3&amp;flickr_id=6446901067&amp;size=full&amp;picturename=Light"/>
          <p:cNvPicPr/>
          <p:nvPr/>
        </p:nvPicPr>
        <p:blipFill>
          <a:blip r:embed="rId2"/>
          <a:stretch/>
        </p:blipFill>
        <p:spPr>
          <a:xfrm>
            <a:off x="5364000" y="3932280"/>
            <a:ext cx="3094200" cy="217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50920" y="188640"/>
            <a:ext cx="868680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been estimated that f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ach 1 unit of greenhouse gas which the chemistry using industry emi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production processes, the resulti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products save 2-3 units of greenhouse gas emi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sitions the chemistry using industries at the heart of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‘</a:t>
            </a:r>
            <a:r>
              <a:rPr b="0" lang="en-GB" sz="4400" spc="-1" strike="noStrike">
                <a:solidFill>
                  <a:srgbClr val="77933c"/>
                </a:solidFill>
                <a:latin typeface="Arial"/>
                <a:ea typeface="Arial"/>
              </a:rPr>
              <a:t>green economy’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http://www.nottingham.ac.uk/xpert/attribution/pictureattrib/mangle.php?url=http://farm5.static.flickr.com/7145/6736493655_66688c7725_b.jpg&amp;original_url=http://www.flickr.com/58965011@N05/6736493655/&amp;license=flickr_1&amp;flickr_id=6736493655&amp;size=full&amp;picturename=Luz%20e%20sombras"/>
          <p:cNvPicPr/>
          <p:nvPr/>
        </p:nvPicPr>
        <p:blipFill>
          <a:blip r:embed="rId1"/>
          <a:stretch/>
        </p:blipFill>
        <p:spPr>
          <a:xfrm>
            <a:off x="971640" y="2922480"/>
            <a:ext cx="7200720" cy="30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920" y="1267920"/>
            <a:ext cx="86868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enabling science – it is all around us and is involved in everything we need, do and interact with in our everyday li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stry using industries are one of the largest manufacturing sectors in the U.K. making a varied range of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ustry is positioned at the heart of the U.K.’s manufacturing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ia and China are now dominating the global chemicals market, but the chemicals market is still very strong in the U.K. lead by strong expor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many challenges which face the chemistry using industries, however this industry is making a difference and is key to the U.K.’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‘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  <a:ea typeface="Arial"/>
              </a:rPr>
              <a:t>Green Economy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References &amp; 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 Industries Associ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ia.org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Chemical and Pharmaceutical Businesses in the UK, Our Campaig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Sept. 201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nual Review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, 2009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EFIC – The European Chemical Industry Counc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cefic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Facts and Figures 2011 – The European chemical industry in a worldwide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n “enabling science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.e. chemistry facilitates other sciences, research and manufactur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at the heart of manufactur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onverts raw materials (e.g. oil and gas) into a host of products and resources for use by both industrial and household consum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>
            <a:off x="250920" y="333360"/>
            <a:ext cx="9001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, Dr. William Drewe &amp; Prof. Barry Stic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28600" y="17524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is Chemistry Importan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mpacts on our everyday lives through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aps, shampoos and detergents to keep us clea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sinfectants and pharmaceuticals to safeguard heal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ves to foods to keep them fresher long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ints to protect and extend the life of metal and timb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ulation materials to save energy in building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fuel we put in our ca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emistry is all around us and is involved in everything we need, do and interact with in our everyday live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7" descr="http://www.nottingham.ac.uk/xpert/attribution/pictureattrib/mangle.php?url=http://farm5.static.flickr.com/2704/5816515113_db98012d33_b.jpg&amp;original_url=http://www.flickr.com/27632962@N04/5816515113/&amp;license=flickr_1&amp;flickr_id=5816515113&amp;size=full&amp;picturename=Jessica%20Rohrer%20painting:%20household%20cleaning%20supplies"/>
          <p:cNvPicPr/>
          <p:nvPr/>
        </p:nvPicPr>
        <p:blipFill>
          <a:blip r:embed="rId1"/>
          <a:stretch/>
        </p:blipFill>
        <p:spPr>
          <a:xfrm>
            <a:off x="6732720" y="2097000"/>
            <a:ext cx="191916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2"/>
          <a:stretch/>
        </p:blipFill>
        <p:spPr>
          <a:xfrm>
            <a:off x="6732720" y="3716280"/>
            <a:ext cx="1919160" cy="149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History of the U.K. Chemistry Using Indust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73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grew up using locally occurring resources such as salt, coal, limestone, vegetable matter and animal f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day it is part of a global industry primarily using natural gas and oil fractions such as naphtha as its dominant raw materia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U.K. Chemical Econ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emicals and pharmaceuticals represen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2%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otal U.K. manufacturing output, equivalen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.5%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GDP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day the chemicals industry contribut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7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the U.K. econom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002320" y="2492280"/>
            <a:ext cx="5185080" cy="2961000"/>
            <a:chOff x="2002320" y="2492280"/>
            <a:chExt cx="5185080" cy="296100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3618360" y="3025080"/>
              <a:ext cx="225684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1"/>
            <p:cNvSpPr/>
            <p:nvPr/>
          </p:nvSpPr>
          <p:spPr>
            <a:xfrm>
              <a:off x="4156920" y="2492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Glass, ceramic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TextBox 52"/>
            <p:cNvSpPr/>
            <p:nvPr/>
          </p:nvSpPr>
          <p:spPr>
            <a:xfrm>
              <a:off x="5069880" y="2780280"/>
              <a:ext cx="210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% - Food, beverages, etc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Box 53"/>
            <p:cNvSpPr/>
            <p:nvPr/>
          </p:nvSpPr>
          <p:spPr>
            <a:xfrm>
              <a:off x="5822640" y="3644280"/>
              <a:ext cx="136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Transport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Box 54"/>
            <p:cNvSpPr/>
            <p:nvPr/>
          </p:nvSpPr>
          <p:spPr>
            <a:xfrm>
              <a:off x="5760360" y="4436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% - Paper and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Box 55"/>
            <p:cNvSpPr/>
            <p:nvPr/>
          </p:nvSpPr>
          <p:spPr>
            <a:xfrm>
              <a:off x="4875120" y="508500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% - Chemic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Box 56"/>
            <p:cNvSpPr/>
            <p:nvPr/>
          </p:nvSpPr>
          <p:spPr>
            <a:xfrm>
              <a:off x="3371400" y="5053680"/>
              <a:ext cx="10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Oth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TextBox 57"/>
            <p:cNvSpPr/>
            <p:nvPr/>
          </p:nvSpPr>
          <p:spPr>
            <a:xfrm>
              <a:off x="2474280" y="4436640"/>
              <a:ext cx="107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- Met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TextBox 58"/>
            <p:cNvSpPr/>
            <p:nvPr/>
          </p:nvSpPr>
          <p:spPr>
            <a:xfrm>
              <a:off x="2002320" y="3644280"/>
              <a:ext cx="1390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% - Electr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opt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TextBox 59"/>
            <p:cNvSpPr/>
            <p:nvPr/>
          </p:nvSpPr>
          <p:spPr>
            <a:xfrm>
              <a:off x="2295000" y="30682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Mechan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TextBox 60"/>
            <p:cNvSpPr/>
            <p:nvPr/>
          </p:nvSpPr>
          <p:spPr>
            <a:xfrm>
              <a:off x="3279240" y="2564280"/>
              <a:ext cx="10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Rubber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plast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61"/>
            <p:cNvSpPr/>
            <p:nvPr/>
          </p:nvSpPr>
          <p:spPr>
            <a:xfrm>
              <a:off x="4599000" y="2749320"/>
              <a:ext cx="0" cy="27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62"/>
            <p:cNvSpPr/>
            <p:nvPr/>
          </p:nvSpPr>
          <p:spPr>
            <a:xfrm flipH="1">
              <a:off x="5319720" y="297936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63"/>
            <p:cNvSpPr/>
            <p:nvPr/>
          </p:nvSpPr>
          <p:spPr>
            <a:xfrm flipH="1">
              <a:off x="5835240" y="3808440"/>
              <a:ext cx="206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64"/>
            <p:cNvSpPr/>
            <p:nvPr/>
          </p:nvSpPr>
          <p:spPr>
            <a:xfrm flipH="1" flipV="1">
              <a:off x="5732280" y="4454640"/>
              <a:ext cx="206280" cy="134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65"/>
            <p:cNvSpPr/>
            <p:nvPr/>
          </p:nvSpPr>
          <p:spPr>
            <a:xfrm flipH="1" flipV="1">
              <a:off x="5165280" y="4914360"/>
              <a:ext cx="507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66"/>
            <p:cNvSpPr/>
            <p:nvPr/>
          </p:nvSpPr>
          <p:spPr>
            <a:xfrm flipH="1">
              <a:off x="4186440" y="4869000"/>
              <a:ext cx="10296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67"/>
            <p:cNvSpPr/>
            <p:nvPr/>
          </p:nvSpPr>
          <p:spPr>
            <a:xfrm flipH="1">
              <a:off x="3618000" y="4454640"/>
              <a:ext cx="15552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68"/>
            <p:cNvSpPr/>
            <p:nvPr/>
          </p:nvSpPr>
          <p:spPr>
            <a:xfrm flipH="1">
              <a:off x="3411360" y="3808440"/>
              <a:ext cx="25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69"/>
            <p:cNvSpPr/>
            <p:nvPr/>
          </p:nvSpPr>
          <p:spPr>
            <a:xfrm flipH="1" flipV="1">
              <a:off x="3720600" y="3209400"/>
              <a:ext cx="206280" cy="13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70"/>
            <p:cNvSpPr/>
            <p:nvPr/>
          </p:nvSpPr>
          <p:spPr>
            <a:xfrm flipH="1" flipV="1">
              <a:off x="4186080" y="2887200"/>
              <a:ext cx="153720" cy="23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manufactures a diverse range of materials an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1160" cy="388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050920" y="5300640"/>
            <a:ext cx="5050080" cy="20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n the U.K. invests ov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5 b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er year in R&amp;D 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ne thi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e total U.K. R&amp;D spe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nvestment in innovation drives sector grow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(and E.U.) chemicals industry has shown continued output growth and has out performed other manufacturing businesses, especially in the current economic clim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7880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427640" y="4221000"/>
            <a:ext cx="348588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hemicals industry is the U.K.’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. 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por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U.K. chemicals industry has maintained a surplus in trad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very working day the U.K.’s chemicals industry add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our country’s balance of trade. In the same period the rest of manufacturing achieved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£300 mill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daily loss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338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5:24Z</dcterms:modified>
  <cp:revision>102</cp:revision>
  <dc:subject/>
  <dc:title>Introduction to the chemistry-using industries presentation</dc:title>
</cp:coreProperties>
</file>