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9F1E-BBFA-4D5D-B493-CC75FA23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551B-A8D2-4E2E-9F03-A653E59B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6CA7-18E4-42CA-A458-A14FC05B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6E7F-5590-4B0E-B7F3-14A29A3A1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53C3-A101-4A51-8E76-434777A6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2B73-08C7-47CB-82D7-78D415DF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5862-2A6D-4E6E-A92B-D5222030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FBBE-1B92-4956-A1AC-22CAA19E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970D-9DB6-41BC-8FB4-9CFBFEF7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26F9-213B-49B7-8259-E41AE495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8224-2108-481E-9AB6-2441FEEA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A82A-36A6-4F25-B4EA-A82D30C2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5D74-132D-4995-908D-269DFC0A90D0}" type="datetime">
              <a:rPr b="0" lang="en-GB" sz="12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0BB0-167B-4BC8-9A2D-CFDA6D8529C3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hyperlink" Target="https://rsc.li/3niU8Bv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The Basic Rules of Busin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3772800" y="5583240"/>
            <a:ext cx="152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</a:rPr>
              <a:t>Fin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8" descr="http://www.nottingham.ac.uk/xpert/attribution/pictureattrib/mangle.php?url=http://farm5.static.flickr.com/7022/6669125419_24704f37c5_b.jpg&amp;original_url=http://www.flickr.com/50653067@N06/6669125419/&amp;license=flickr_1&amp;flickr_id=6669125419&amp;size=full&amp;picturename=economize%20(3)"/>
          <p:cNvPicPr/>
          <p:nvPr/>
        </p:nvPicPr>
        <p:blipFill>
          <a:blip r:embed="rId2"/>
          <a:stretch/>
        </p:blipFill>
        <p:spPr>
          <a:xfrm>
            <a:off x="2932200" y="2065320"/>
            <a:ext cx="3205080" cy="330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1979640" y="6284880"/>
            <a:ext cx="282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resource was downloaded from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rsc.li/3niU8Bv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ing the information below complete the following balance she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Q. Label each item as an asset (fixed/variable), liability or as capital &amp; reser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The Balance Sheet</a:t>
            </a:r>
            <a:r>
              <a:rPr b="0" lang="en-US" sz="36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0" lang="en-US" sz="3200" spc="-1" strike="noStrike">
                <a:solidFill>
                  <a:srgbClr val="003a74"/>
                </a:solidFill>
                <a:latin typeface="Arial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003a74"/>
                </a:solidFill>
                <a:latin typeface="Arial"/>
                <a:ea typeface="Arial"/>
              </a:rPr>
              <a:t>Case Study for Chemistry C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1403280" y="2924280"/>
          <a:ext cx="6337440" cy="3022560"/>
        </p:xfrm>
        <a:graphic>
          <a:graphicData uri="http://schemas.openxmlformats.org/drawingml/2006/table">
            <a:tbl>
              <a:tblPr/>
              <a:tblGrid>
                <a:gridCol w="3700440"/>
                <a:gridCol w="777960"/>
                <a:gridCol w="1859040"/>
              </a:tblGrid>
              <a:tr h="39132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£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set, Liability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 Capital &amp; Reserv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ehold of laborator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 (fix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pment used within the business (inc. chemistry, I.T. etc.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5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 (fix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 fixtures and fitting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5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 (fix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ount owed to chemical suppliers/other bill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abili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ocks of chemicals within the laborator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 (variable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ocks of saleable chemical produc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 (variable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an from bank (repayable in 5 years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abili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nture capitalist invest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abili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h in the ban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 (variable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al invested by the own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5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al &amp; Reserv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umulated profits (after 5 years trading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al &amp; Reserv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Rectangle 6"/>
          <p:cNvSpPr/>
          <p:nvPr/>
        </p:nvSpPr>
        <p:spPr>
          <a:xfrm>
            <a:off x="6227640" y="3348000"/>
            <a:ext cx="10083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6372360" y="3581280"/>
            <a:ext cx="100800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300720" y="3825720"/>
            <a:ext cx="1008000" cy="1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6443640" y="4068720"/>
            <a:ext cx="1081080" cy="1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6372360" y="4292640"/>
            <a:ext cx="107928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6300720" y="4551480"/>
            <a:ext cx="1150920" cy="17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6443640" y="4781520"/>
            <a:ext cx="1081080" cy="17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6435720" y="5021280"/>
            <a:ext cx="108108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6300720" y="5261040"/>
            <a:ext cx="115092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6"/>
          <p:cNvSpPr/>
          <p:nvPr/>
        </p:nvSpPr>
        <p:spPr>
          <a:xfrm>
            <a:off x="6300720" y="5500800"/>
            <a:ext cx="107964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7"/>
          <p:cNvSpPr/>
          <p:nvPr/>
        </p:nvSpPr>
        <p:spPr>
          <a:xfrm>
            <a:off x="6300720" y="5732640"/>
            <a:ext cx="115092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Q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sing the information in the previous table, complete the following balance sheet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The Balance Sheet</a:t>
            </a:r>
            <a:r>
              <a:rPr b="0" lang="en-US" sz="36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0" lang="en-US" sz="3200" spc="-1" strike="noStrike">
                <a:solidFill>
                  <a:srgbClr val="003a74"/>
                </a:solidFill>
                <a:latin typeface="Arial"/>
                <a:ea typeface="ＭＳ Ｐゴシック"/>
              </a:rPr>
              <a:t>As of 31</a:t>
            </a:r>
            <a:r>
              <a:rPr b="0" lang="en-US" sz="3200" spc="-1" strike="noStrike" baseline="30000">
                <a:solidFill>
                  <a:srgbClr val="003a74"/>
                </a:solidFill>
                <a:latin typeface="Arial"/>
                <a:ea typeface="ＭＳ Ｐゴシック"/>
              </a:rPr>
              <a:t>st</a:t>
            </a:r>
            <a:r>
              <a:rPr b="0" lang="en-US" sz="3200" spc="-1" strike="noStrike">
                <a:solidFill>
                  <a:srgbClr val="003a74"/>
                </a:solidFill>
                <a:latin typeface="Arial"/>
                <a:ea typeface="ＭＳ Ｐゴシック"/>
              </a:rPr>
              <a:t> Decemb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2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1116000" y="2349360"/>
          <a:ext cx="6840720" cy="2864160"/>
        </p:xfrm>
        <a:graphic>
          <a:graphicData uri="http://schemas.openxmlformats.org/drawingml/2006/table">
            <a:tbl>
              <a:tblPr/>
              <a:tblGrid>
                <a:gridCol w="2303640"/>
                <a:gridCol w="863280"/>
                <a:gridCol w="2810160"/>
                <a:gridCol w="863640"/>
              </a:tblGrid>
              <a:tr h="351000"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xed Asse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£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iabil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£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1000080"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ehold of laborato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pment used in business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 fixtures and fit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Amount owed to suppli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other bil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Loan from ban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Venture capitalist invest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riable Asse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£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pital and Reserv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£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811080">
                <a:tc>
                  <a:txBody>
                    <a:bodyPr lIns="86400" rIns="86400" tIns="43200" bIns="4320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Stocks of chemica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Stocks of saleable produc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Cash in the ban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al invested by the own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umulated profit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Asse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e2952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50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e295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Liabilities &amp; Capit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e295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50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e2952"/>
                    </a:solidFill>
                  </a:tcPr>
                </a:tc>
              </a:tr>
            </a:tbl>
          </a:graphicData>
        </a:graphic>
      </p:graphicFrame>
      <p:sp>
        <p:nvSpPr>
          <p:cNvPr id="124" name="TextBox 5"/>
          <p:cNvSpPr/>
          <p:nvPr/>
        </p:nvSpPr>
        <p:spPr>
          <a:xfrm>
            <a:off x="2283480" y="5661000"/>
            <a:ext cx="38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So the balance sheet bala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1187280" y="2924280"/>
            <a:ext cx="212436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3492360" y="2852640"/>
            <a:ext cx="75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4356000" y="2924280"/>
            <a:ext cx="266400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7164360" y="2852640"/>
            <a:ext cx="75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1187280" y="4149720"/>
            <a:ext cx="2124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3492360" y="4149720"/>
            <a:ext cx="75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4322880" y="4141800"/>
            <a:ext cx="22320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7164360" y="4149720"/>
            <a:ext cx="75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3492360" y="4941720"/>
            <a:ext cx="755640" cy="216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7164360" y="4941720"/>
            <a:ext cx="755640" cy="216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Many businesses make a profit </a:t>
            </a:r>
            <a:r>
              <a:rPr b="1" i="1" lang="en-GB" sz="24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but</a:t>
            </a:r>
            <a:r>
              <a:rPr b="1" i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 fail because they run out of CASH!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king a profit is the key to a successful busines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owever…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f you run out of the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quid cas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required to pay running expenses (e.g. invoices, salaries and make purchases) you’re business may not be able to oper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Cash Flow Forecas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Cash Flow Forecast describes the short-term cash requirements of a business to ensure the future availability of a suitable quantity of liquid cas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Liquid (available) cash = cash in the bank + short-term investments – short-term debts (e.g. bills, payroll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“</a:t>
            </a: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CASH IS KING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ithout liquid cash your business can’t oper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Cash Flow Forecas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2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Profit/Loss State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(past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ists transactions for a given period (e.g. a year) and show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ether the business is making a profit or lo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The Balance Shee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(present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ows whether the finances balance on a given dat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Cash Flow Forecas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(futur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scribes the short-term cash requirements of a busin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CASH IS KING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6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4"/>
          <p:cNvSpPr/>
          <p:nvPr/>
        </p:nvSpPr>
        <p:spPr>
          <a:xfrm>
            <a:off x="1547640" y="1413000"/>
            <a:ext cx="561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6156360" y="6237360"/>
            <a:ext cx="1274760" cy="4824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7"/>
          <p:cNvSpPr/>
          <p:nvPr/>
        </p:nvSpPr>
        <p:spPr>
          <a:xfrm>
            <a:off x="250920" y="33336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Auth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r. Trevor Farren, Dr. Simon Mosey &amp; Dr. William Drew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9"/>
          <p:cNvSpPr/>
          <p:nvPr/>
        </p:nvSpPr>
        <p:spPr>
          <a:xfrm>
            <a:off x="250920" y="163512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chool of Chemistry, University of Nottingham, U.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10"/>
          <p:cNvSpPr/>
          <p:nvPr/>
        </p:nvSpPr>
        <p:spPr>
          <a:xfrm>
            <a:off x="250920" y="558972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Suppor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5" descr="http://www.cibit.url.tw/APBITM(New)/images/UoN%20logo.jpg"/>
          <p:cNvPicPr/>
          <p:nvPr/>
        </p:nvPicPr>
        <p:blipFill>
          <a:blip r:embed="rId2"/>
          <a:stretch/>
        </p:blipFill>
        <p:spPr>
          <a:xfrm>
            <a:off x="2563920" y="2976480"/>
            <a:ext cx="4032000" cy="1795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"/>
          <p:cNvPicPr/>
          <p:nvPr/>
        </p:nvPicPr>
        <p:blipFill>
          <a:blip r:embed="rId3"/>
          <a:stretch/>
        </p:blipFill>
        <p:spPr>
          <a:xfrm>
            <a:off x="2428920" y="609444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Key Terms &amp; Concep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ccountancy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ommunication of financial information about a business to shareholders and managers. This generally takes the form of financial statemen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Ass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ts are economic resource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wn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r controlled by the business which are capable of producing value (or cash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Liabil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iabilities are the funds (including borrowings), services or product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w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by a business at a specified dat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6836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Capital &amp; Reserves (or Owner’s Equity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unds put into the business by the owners or shareholders and retained on their behalf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Profit/Loss Statement (past financial performance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ows the performance of the business over a given time perio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The Profit/Loss = Total Income – Total Expendi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Gross Profit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sales revenue (and other income) – cost of making the produc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efore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ducting overheads, payroll, taxation and other costs for the perio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Net Profi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gross profit – all costs (e.g. manufacture/sales, operating costs, taxes etc.)  i.e.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ft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subtracting all costs, expenses and losses for the perio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6836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Balance sheet (present financial position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 balance sheet is a summary of the financial balances of a business as of a specific date, such as the end of the financial year. It typically includes a list of the business assets, liabilities and ownership equ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Cash Flow Forecast (future financial liquidity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scribes the short-term cash requirements of a business to ensure the future availability of a suitable quantity of liquid cas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12120" indent="-312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Liquid (available) cash = cash in the bank + short-term investments – short-term debts (e.g. bills, payroll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12120" indent="-312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Cost, Price and Valu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000" y="1413000"/>
            <a:ext cx="856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Cos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much it cos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ou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duce/manufacture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Price</a:t>
            </a: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much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are selling the product for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Valu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much the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ustom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s prepared to pay for it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6" descr="http://www.nottingham.ac.uk/xpert/attribution/pictureattrib/mangle.php?url=http://farm5.static.flickr.com/2601/3755006104_fb54b57562_b.jpg&amp;original_url=http://www.flickr.com/35166455@N00/3755006104/&amp;license=flickr_4&amp;flickr_id=3755006104&amp;size=full&amp;picturename=Colorful%20Old%20Oil%20Barrels"/>
          <p:cNvPicPr/>
          <p:nvPr/>
        </p:nvPicPr>
        <p:blipFill>
          <a:blip r:embed="rId1"/>
          <a:stretch/>
        </p:blipFill>
        <p:spPr>
          <a:xfrm>
            <a:off x="6948360" y="1197000"/>
            <a:ext cx="1936800" cy="475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://www.brewersguardian.com/files.php?file=/Uni_of_Nott_logo_798923080.jpg"/>
          <p:cNvPicPr/>
          <p:nvPr/>
        </p:nvPicPr>
        <p:blipFill>
          <a:blip r:embed="rId2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shows 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fit/los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at has been achieved over a given period of time (i.e. in the past).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Profit = Total Income – Total Expendi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have your own monthly profit/loss statement – A bank state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.g. Alan Sugar’s Personal Bank Statement for Decemb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The Profit/Loss Statement</a:t>
            </a:r>
            <a:br>
              <a:rPr sz="3600"/>
            </a:br>
            <a:r>
              <a:rPr b="0" lang="en-US" sz="3200" spc="-1" strike="noStrike">
                <a:solidFill>
                  <a:srgbClr val="003a74"/>
                </a:solidFill>
                <a:latin typeface="Arial"/>
                <a:ea typeface="Arial"/>
              </a:rPr>
              <a:t>A Personal Examp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539640" y="3429000"/>
          <a:ext cx="5545080" cy="2698920"/>
        </p:xfrm>
        <a:graphic>
          <a:graphicData uri="http://schemas.openxmlformats.org/drawingml/2006/table">
            <a:tbl>
              <a:tblPr/>
              <a:tblGrid>
                <a:gridCol w="3672000"/>
                <a:gridCol w="936720"/>
                <a:gridCol w="936360"/>
              </a:tblGrid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edit (£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bit (£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2696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rentice incom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an repaymen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ricity and Gas bil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.V. and advertising appearanc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bil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eaning Co. household clean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edit card bill (food, entertainment, clothes, travel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5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Credit/Debi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,7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lance carried forward to Janua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,2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</a:tbl>
          </a:graphicData>
        </a:graphic>
      </p:graphicFrame>
      <p:sp>
        <p:nvSpPr>
          <p:cNvPr id="66" name="TextBox 9"/>
          <p:cNvSpPr/>
          <p:nvPr/>
        </p:nvSpPr>
        <p:spPr>
          <a:xfrm>
            <a:off x="6388920" y="4581360"/>
            <a:ext cx="254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Alan Sugar is 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profit for Dece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88920" y="60516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Q. Fill out the table below and calculate how much profit/loss Chemistry Co. ha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enerated in the first quarter?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te: Think carefully about how we account for the £50,000 of stock in the store?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Profit and Loss </a:t>
            </a:r>
            <a:br>
              <a:rPr sz="5400"/>
            </a:br>
            <a:r>
              <a:rPr b="0" lang="en-US" sz="3200" spc="-1" strike="noStrike">
                <a:solidFill>
                  <a:srgbClr val="003a74"/>
                </a:solidFill>
                <a:latin typeface="Arial"/>
                <a:ea typeface="Arial"/>
              </a:rPr>
              <a:t>Case Study for Chemistry C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1763640" y="2637000"/>
          <a:ext cx="5545080" cy="2158920"/>
        </p:xfrm>
        <a:graphic>
          <a:graphicData uri="http://schemas.openxmlformats.org/drawingml/2006/table">
            <a:tbl>
              <a:tblPr/>
              <a:tblGrid>
                <a:gridCol w="3672000"/>
                <a:gridCol w="936720"/>
                <a:gridCol w="936360"/>
              </a:tblGrid>
              <a:tr h="2696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edit (£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bit (£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es income of chemical produc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 and Laboratory running cos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ff salar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voice paid to chemical suppli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ayment of loans to ban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Credit/Debi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t Profit or Loss for 1</a:t>
                      </a:r>
                      <a:r>
                        <a:rPr b="1" i="1" lang="en-US" sz="12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Quart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£3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</a:tbl>
          </a:graphicData>
        </a:graphic>
      </p:graphicFrame>
      <p:sp>
        <p:nvSpPr>
          <p:cNvPr id="72" name="TextBox 9"/>
          <p:cNvSpPr/>
          <p:nvPr/>
        </p:nvSpPr>
        <p:spPr>
          <a:xfrm>
            <a:off x="468360" y="5373720"/>
            <a:ext cx="84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a74"/>
                </a:solidFill>
                <a:latin typeface="Arial"/>
                <a:ea typeface="Arial"/>
              </a:rPr>
              <a:t>What about the £50,000 of products in the stor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£50,000 of saleable products in the stores are not included – they were made outside this time period and would have been accounted for in the previous profit/loss repor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2286000" y="4869000"/>
            <a:ext cx="457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The company is in profit in quarter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5580000" y="2924280"/>
            <a:ext cx="720720" cy="2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6516720" y="3213000"/>
            <a:ext cx="7192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516720" y="3497400"/>
            <a:ext cx="719280" cy="18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6443640" y="3741840"/>
            <a:ext cx="720720" cy="2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6516720" y="4005360"/>
            <a:ext cx="7192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19"/>
          <p:cNvSpPr/>
          <p:nvPr/>
        </p:nvSpPr>
        <p:spPr>
          <a:xfrm>
            <a:off x="5643720" y="4292640"/>
            <a:ext cx="720720" cy="216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20"/>
          <p:cNvSpPr/>
          <p:nvPr/>
        </p:nvSpPr>
        <p:spPr>
          <a:xfrm>
            <a:off x="6443640" y="4292640"/>
            <a:ext cx="720720" cy="216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21"/>
          <p:cNvSpPr/>
          <p:nvPr/>
        </p:nvSpPr>
        <p:spPr>
          <a:xfrm>
            <a:off x="6516720" y="4565520"/>
            <a:ext cx="719280" cy="216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90360" y="6051600"/>
            <a:ext cx="175608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Understand your own </a:t>
            </a:r>
            <a:r>
              <a:rPr b="1" i="1" lang="en-US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present</a:t>
            </a:r>
            <a:r>
              <a:rPr b="1" i="1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financial circumstanc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is likely to be your principal asset?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 you own it outright or is it financed (i.e. a liability)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The Balance Sheet</a:t>
            </a:r>
            <a:br>
              <a:rPr sz="3600"/>
            </a:br>
            <a:r>
              <a:rPr b="0" lang="en-US" sz="3200" spc="-1" strike="noStrike">
                <a:solidFill>
                  <a:srgbClr val="003a74"/>
                </a:solidFill>
                <a:latin typeface="Arial"/>
                <a:ea typeface="Arial"/>
              </a:rPr>
              <a:t>A Personal Examp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619280" y="4941720"/>
            <a:ext cx="164304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se value £2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735080" y="4941720"/>
            <a:ext cx="37155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tgage from the Ba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£12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r equity (profi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£8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£2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2137320" y="5877000"/>
            <a:ext cx="479736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Your personal balance sheet bala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11" descr="http://www.nottingham.ac.uk/xpert/attribution/pictureattrib/mangle.php?url=http://farm5.static.flickr.com/3244/2985184711_3ef9ac8c39_b.jpg&amp;original_url=http://www.flickr.com/71581861@N00/2985184711/&amp;license=flickr_3&amp;flickr_id=2985184711&amp;size=full&amp;picturename=Royal%20Exchange,%20The%20City"/>
          <p:cNvPicPr/>
          <p:nvPr/>
        </p:nvPicPr>
        <p:blipFill>
          <a:blip r:embed="rId1"/>
          <a:stretch/>
        </p:blipFill>
        <p:spPr>
          <a:xfrm>
            <a:off x="5148360" y="2693880"/>
            <a:ext cx="2808360" cy="2194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2"/>
          <a:stretch/>
        </p:blipFill>
        <p:spPr>
          <a:xfrm>
            <a:off x="971640" y="2852640"/>
            <a:ext cx="2987640" cy="2001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http://www.brewersguardian.com/files.php?file=/Uni_of_Nott_logo_798923080.jpg"/>
          <p:cNvPicPr/>
          <p:nvPr/>
        </p:nvPicPr>
        <p:blipFill>
          <a:blip r:embed="rId3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4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sset</a:t>
            </a:r>
            <a:r>
              <a:rPr b="0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– Items of valu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wn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r controlled by the busin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Liabil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– Amounts or servise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w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by the busin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Capital &amp; Reserv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– Amount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pu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by the owners/shareholde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The Balance Shee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sp>
        <p:nvSpPr>
          <p:cNvPr id="95" name="TextBox 9"/>
          <p:cNvSpPr/>
          <p:nvPr/>
        </p:nvSpPr>
        <p:spPr>
          <a:xfrm>
            <a:off x="682560" y="3787920"/>
            <a:ext cx="175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ock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Fixtures &amp; Fitting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2843280" y="378792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e.g. Vehicles, I.T. et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4714920" y="378792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as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ser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6588000" y="386064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ank Loa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11" descr="http://www.nottingham.ac.uk/xpert/attribution/pictureattrib/mangle.php?url=http://farm5.static.flickr.com/3244/2985184711_3ef9ac8c39_b.jpg&amp;original_url=http://www.flickr.com/71581861@N00/2985184711/&amp;license=flickr_3&amp;flickr_id=2985184711&amp;size=full&amp;picturename=Royal%20Exchange,%20The%20City"/>
          <p:cNvPicPr/>
          <p:nvPr/>
        </p:nvPicPr>
        <p:blipFill>
          <a:blip r:embed="rId2"/>
          <a:stretch/>
        </p:blipFill>
        <p:spPr>
          <a:xfrm>
            <a:off x="6443640" y="4292640"/>
            <a:ext cx="2160720" cy="1655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http://www.nottingham.ac.uk/xpert/attribution/pictureattrib/mangle.php?url=http://farm5.static.flickr.com/6148/6205837092_1b518ccf7b_b.jpg&amp;original_url=http://www.flickr.com/43669498@N05/6205837092/&amp;license=flickr_5&amp;flickr_id=6205837092&amp;size=full&amp;picturename=Mediq%20Sverige%20Kungsbacka%20warehouse"/>
          <p:cNvPicPr/>
          <p:nvPr/>
        </p:nvPicPr>
        <p:blipFill>
          <a:blip r:embed="rId3"/>
          <a:stretch/>
        </p:blipFill>
        <p:spPr>
          <a:xfrm>
            <a:off x="538200" y="4363920"/>
            <a:ext cx="2036880" cy="1584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http://www.nottingham.ac.uk/xpert/attribution/pictureattrib/mangle.php?url=http://farm5.static.flickr.com/6121/5997591294_0632c3d52b_b.jpg&amp;original_url=http://www.flickr.com/45393120@N07/5997591294/&amp;license=flickr_4&amp;flickr_id=5997591294&amp;size=full&amp;picturename=HA0487-016"/>
          <p:cNvPicPr/>
          <p:nvPr/>
        </p:nvPicPr>
        <p:blipFill>
          <a:blip r:embed="rId4"/>
          <a:stretch/>
        </p:blipFill>
        <p:spPr>
          <a:xfrm>
            <a:off x="2698920" y="4363920"/>
            <a:ext cx="2180880" cy="158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http://www.nottingham.ac.uk/xpert/attribution/pictureattrib/mangle.php?url=http://farm5.static.flickr.com/7022/6669125419_24704f37c5_b.jpg&amp;original_url=http://www.flickr.com/50653067@N06/6669125419/&amp;license=flickr_1&amp;flickr_id=6669125419&amp;size=full&amp;picturename=economize%20(3)"/>
          <p:cNvPicPr/>
          <p:nvPr/>
        </p:nvPicPr>
        <p:blipFill>
          <a:blip r:embed="rId5"/>
          <a:stretch/>
        </p:blipFill>
        <p:spPr>
          <a:xfrm>
            <a:off x="5075280" y="4363920"/>
            <a:ext cx="1257120" cy="1584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6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4:15:45Z</dcterms:created>
  <dc:creator>Information Services</dc:creator>
  <dc:description/>
  <dc:language>en-US</dc:language>
  <cp:lastModifiedBy>Chris Runciman</cp:lastModifiedBy>
  <dcterms:modified xsi:type="dcterms:W3CDTF">2020-12-15T09:22:25Z</dcterms:modified>
  <cp:revision>156</cp:revision>
  <dc:subject/>
  <dc:title>Slide 1</dc:title>
</cp:coreProperties>
</file>