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200-2CE0-4AE9-B64A-04BA92E236AB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3192-C7DB-4356-AD9E-EABE45176A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38AE-E903-4115-82BE-CB627678D26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5743-9E16-4919-BD3F-31430E5B688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269-CAE5-48D2-B3C0-1927D1E4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3B2-AE1F-4D99-949D-D871C6F0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CA3-8654-473D-BA8A-DA884F5A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CC0-F36C-4983-B4D3-6EAA3657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161-D1B6-4DD5-BC02-5D696A9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555-B46E-4EAB-AC00-E5155FB7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6D9-CF4A-4620-AA76-6D204E07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810-B30B-4F94-8E1D-84798A3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763-BAA9-48DF-9101-3BBE64C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9BA-5A5D-4EF3-BC18-86AE59AE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655-6ABA-4E9F-A57F-FBCB9045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AA3-BE17-4878-8CDA-4D07C0D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900-EDBE-42CA-9BD8-CA67BCB687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B19-FC3D-4E1B-9041-DBF8770D4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9" descr="BS_Bar_header_Blue.jpg"/>
          <p:cNvPicPr/>
          <p:nvPr/>
        </p:nvPicPr>
        <p:blipFill>
          <a:blip r:embed="rId2"/>
          <a:stretch/>
        </p:blipFill>
        <p:spPr>
          <a:xfrm>
            <a:off x="249120" y="0"/>
            <a:ext cx="8604360" cy="1004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sc.li/3840bD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B3E3-AA1D-46CE-95A5-F0F8C23853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057400" y="638316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manifest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oes the problem a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is the impact of the probl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nalyse the evidence;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scrib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he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C36-5FC0-4CA8-AD48-473FAAEDFCF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scribe the proble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 who, what, when, where, how, why (sympto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ime parking - stress and ?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ars being driven around un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Pollution / health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ity life unpleasa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lows all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Waste of petrol / car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0D77-5B70-4B12-801E-2DC6029382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it simple or comple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root caus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plore the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tructur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of the problem, find the root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CAAD-B4E1-41DB-975A-8EB363D8E5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termine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riteria for succes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onstraints in both time and resour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prioriti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o attempt a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Lack of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ublic transport inefficient/ unattr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ople like privacy/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ilot solution in Nottingham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362320" cy="39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36232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3DE0-B649-4D50-ACF0-8577AA13DE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76720" y="1781280"/>
            <a:ext cx="12380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1781280"/>
            <a:ext cx="31244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Brace 1"/>
          <p:cNvSpPr/>
          <p:nvPr/>
        </p:nvSpPr>
        <p:spPr>
          <a:xfrm>
            <a:off x="2362320" y="152388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3560"/>
            <a:ext cx="228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 car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98480" y="2998800"/>
            <a:ext cx="156672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BACE-7F53-4950-B557-355F278B77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Global challenges and chemistr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arcity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equences of the industrialised and globalis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ge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 scarcity –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on-renewables; energy; water; l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obesity; HIV; cancer;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te modern world 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limate change; sustainability and waste; urbanisation;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EE5-3F30-491C-B3BE-7474DB850C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29564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841480" y="5638680"/>
            <a:ext cx="968400" cy="96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17B5-F173-4682-BBA7-5DB622FF30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WO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ORANGE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33C4-7E69-4A58-87BE-E33CD4864C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Phase 2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</a:rPr>
              <a:t>Phase 2– generate lots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2BEF-5A21-4872-9DF1-929DA0BA77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3911760" cy="26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ONE -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ED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427A-0E64-4791-9626-1FD590E08A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BB8B-1F0D-4A35-99B5-73B9200BCF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55D-0882-405D-B87A-189DB58D5C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Thoughts on problem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vity is the yeast of innovation; a small part of the recipe, useless on it’s own but see what happens when you miss it ou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William 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iscovering the problem, see p62-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0EBC-01A0-4452-AF54-3A43469117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1974960" cy="145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a clea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e a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Prepar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to fi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18BA-0C0D-46AC-B8B2-1A03674366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720"/>
            <a:ext cx="44956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there is an excess demand for parking in areas of insufficient supply for commuters in c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D8C-D5EA-420F-BC7C-A7A0E55258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ek ana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e non obvious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d as many idea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Generat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4C03-3051-4DAD-9013-5723BDA39C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flect on nature and diversity of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all the permutations been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nough ideas been pro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Notic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as realistic concepts begin to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89FC-AE27-4275-8844-37C763803C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B110-A4AF-4583-A048-4D7F529EC0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 water park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 in middle of 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 specific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ing on sides of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ines in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roofs in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g saw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 becomes a gen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posable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s become delivery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oating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rless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ay car park auction fo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psible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share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orries in cit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hops in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ty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table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Effect ideas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ate as many solutions as possible (&gt;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post i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ke a lateral, non linear jump to achieve creative ins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tchhiking’ is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FFF-D92E-4D97-B1F4-E85C4020E3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No criticism is allo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ank your ideas from 1= incremental innovation and 5 = radically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You should aim to generate at least 20 radically new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Calibri"/>
                <a:ea typeface="Arial"/>
              </a:rPr>
              <a:t>use your knowledge of the latest research in your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152352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1566-10FF-4F9B-A4C0-86AEB45C82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8720" y="3432240"/>
            <a:ext cx="1566720" cy="206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What is ingenuity? In ac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Million Dollar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4F2-DA58-40AE-A006-2BB49171A5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819160"/>
            <a:ext cx="4041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4724280" y="2816280"/>
            <a:ext cx="3962520" cy="321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BEE-1492-42D7-BCB3-9BC879261D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HREE-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GREEN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2A8B-182C-46F9-AF2F-FE1757E8A8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Phase 3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Calibri"/>
              </a:rPr>
              <a:t>Phase 3–at last, th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C40-1DCA-4791-B07B-1D41C4BC8E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4724280" y="2798640"/>
            <a:ext cx="3965760" cy="324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4038-FBB6-49E1-9ED8-B4E82D2C36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1EE0-D147-476E-9F88-6DBE4201B8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Thoughts on problem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who don’t take risks generally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two big mistakes a year. People wh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e risks generally make about two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stakes a year’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Peter Dru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355A-91AC-44C6-A5D5-3EA386CE3D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rt and sift ideas into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realistic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 3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Select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and engineer potential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049-812A-4FFC-8FE1-E3B8C35242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all criteria from problem defini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e the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oose the optimal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nvestig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alternatives and </a:t>
            </a: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ind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best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0274-A75B-4780-BF52-7192A6CF2B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chosen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ine barriers to accep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oncentr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on the imagined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CCF5-3132-4A56-B266-D11552119B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DF0C-DD94-4838-BBE7-9FCEFA0AC9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egorised ideas into three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rastruc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tech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three super solutions – one from each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ield management of car parks via tom toms, G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n lor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1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cus on the ‘Huston we have a problem’ moment rather than ‘EUREKA! here’s the solution.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radi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repreneur (in the Schumpeter (1921) sense not 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one in business s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ing the paradigm (Kuhn, 196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ions – between innovation and orthod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96D-CE50-4191-AFAA-42567478B3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ffective 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Categor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-it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me the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flexible – force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 with a single idea and build from the 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1878-5E56-4D4F-820E-6EAC65C1C9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generate criteria required in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core solution by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dvantages/disadvantages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Arial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magine using a solution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moving negatives:- borrow from other solutions and from pha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9984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9A0-50EE-46E6-9EF5-650D5EE63C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811080" y="3505320"/>
            <a:ext cx="1567080" cy="206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2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it knowing and tru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divergent thinking before rushing to convergent production of a single solution too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99240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E637-2152-4E31-9D9E-54A6634A6B6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6520" y="2163600"/>
            <a:ext cx="4038840" cy="39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BB72-9FA5-4022-903E-2310854DD2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52560" y="-944640"/>
            <a:ext cx="2314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885960" y="4114800"/>
            <a:ext cx="2314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76720" y="1981080"/>
            <a:ext cx="12380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B4CF-1E5E-4531-B59E-60468B46A7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lots of ideas and throw away the bad ones….You aren’t going to have good ideas unless you have lots of ideas and some sort of principle of select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Linus Pa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efining the problem, see p47-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AEF1-9936-40D0-818C-6057AAC1C6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33720"/>
            <a:ext cx="4191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ntelligent people can juggle a half-dozen concepts simultaneously and make good decisions rapidly – and many of them seldom have a creative moment. They are so good at the standard answers and so eager to move on to the next decision that they never play around with nonstandard possibiliti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re is such a thing as being “too good” because, in much of life, there are no correct answers. You have to invent new ones and contemplate them for some time.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alibri"/>
              </a:rPr>
              <a:t>W. H. Calv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002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your mind, say anyt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use, slow down - notice when you are rushing ahead with the on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y on task… defin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FCA6-755B-43C8-B740-D656A40D00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00:55Z</dcterms:created>
  <dc:creator>Suzanne Edinger</dc:creator>
  <dc:description/>
  <dc:language>en-US</dc:language>
  <cp:lastModifiedBy>Chris Runciman</cp:lastModifiedBy>
  <cp:lastPrinted>2012-02-03T11:56:17Z</cp:lastPrinted>
  <dcterms:modified xsi:type="dcterms:W3CDTF">2020-12-15T08:55:41Z</dcterms:modified>
  <cp:revision>93</cp:revision>
  <dc:subject/>
  <dc:title>Ingenuity presentation</dc:title>
</cp:coreProperties>
</file>