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6.jpeg" ContentType="image/jpeg"/>
  <Override PartName="/ppt/media/image5.jpeg" ContentType="image/jpeg"/>
  <Override PartName="/ppt/media/image29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3.png" ContentType="image/png"/>
  <Override PartName="/ppt/media/image2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CD53-E097-48E7-BCDA-4B803D3A4836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5FB1-123E-43CE-84B2-3749DC0FCA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3D99-974D-4A6E-9537-CA975E38B05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F54F-BD6C-42D2-8C60-68701BE1F30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66D8-BC49-44E0-9DC7-70A2AA99CFC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7A8E-6E89-4D50-9EA9-447F9208185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DD8A-BD15-452B-B723-39863037345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4E39-B17A-43A6-BCE8-389205ECCB6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DB05-F764-4A30-98E6-E0F4B06FD7A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8DE9-90C6-4AB1-83EB-457AFA72B79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56B5-BC9D-43EA-A615-8F88776273E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C412-289C-445F-B190-37F536E0B2D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012F-6A3E-4AB3-803D-55D4210816B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89F6-CC54-4EF1-9BA6-E5675036B58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7B6C-2D35-441B-B5B7-4A3DE02AAB3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0588-8B5E-4A6B-9211-51A3F8F5DCC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CDFD-1B14-4BA0-A0A3-8326ED1843F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D8F4-CAF1-4F75-9D48-F9420A931AA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1D9A-E6AC-4CA0-A7CE-CA247BF539D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1732-2046-47D5-BDDE-E27347CE564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21C7-56BB-4661-AD28-99EB8AE29D6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0A96-084F-4D18-85F3-2F7D1FA8A35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AD5C-5A37-4A6B-B87A-A5A86911A2E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7BBD-EC4A-4148-9B55-166D382BB85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EE4B-A88B-426C-88CE-9F35F7BF621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4B6B-924F-40CE-B44C-8735E516ED3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30E4-37ED-4497-A1C4-8C2262DA668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F442-9836-423A-A177-7D22F35A4AA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A2B1-C646-48E8-93D9-8AE78077838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A7F6-B825-4A5F-B0AE-3EF730D83F2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1A45-A503-43BD-BB13-76433A06802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C540-D8B6-479E-9D2B-0D2311BFA82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0D8-5EBD-4C59-B413-53BA2F67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8894-57A6-46FB-8085-D8E251D7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630-30EC-47CF-9C53-883D5853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4BC-C50B-4E4C-966F-1C4D74B0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283-515C-4D57-B15D-87FEFED2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31C-3FDE-4B5C-A4B8-3F979F44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E4E-B1DB-4D85-9EF1-B56D5732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266-C88B-4B92-87EB-F00D4BF8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1EAB-224F-42BB-9094-29647265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D98-33A3-44C5-9258-2EF436DE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F2E-AA6E-43E6-A540-43E7B7E2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5D0-3AD3-4921-9738-1573234B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5886-FCE4-419C-8163-232AF8337F17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E2DC-993C-42D2-BE0D-BEF6C0ECEAC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s://rsc.li/3840bDs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An Introduction to the Chemistry Using Indust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nottingham.ac.uk/xpert/attribution/pictureattrib/mangle.php?url=http://farm5.static.flickr.com/7002/6469183731_5c557818ff_b.jpg&amp;original_url=http://www.flickr.com/28011375@N04/6469183731/&amp;license=flickr_1&amp;flickr_id=6469183731&amp;size=full&amp;picturename=green%20monster"/>
          <p:cNvPicPr/>
          <p:nvPr/>
        </p:nvPicPr>
        <p:blipFill>
          <a:blip r:embed="rId2"/>
          <a:stretch/>
        </p:blipFill>
        <p:spPr>
          <a:xfrm>
            <a:off x="1908000" y="2133720"/>
            <a:ext cx="5288040" cy="3956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2506680" y="6270480"/>
            <a:ext cx="28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4"/>
          <a:stretch/>
        </p:blipFill>
        <p:spPr>
          <a:xfrm>
            <a:off x="136440" y="605808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jobs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600,0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people in the U.K. depend upon the chemicals industry – these workers are highly skilled and earn on averag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4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more than employees in other areas of manufactur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facts demonstrate that the chemicals industry is at the heart of the U.K.’s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http://www.nottingham.ac.uk/xpert/attribution/pictureattrib/mangle.php?url=http://farm5.static.flickr.com/7017/6594070941_e87505001b_b.jpg&amp;original_url=http://www.flickr.com/39388148@N04/6594070941/&amp;license=flickr_4&amp;flickr_id=6594070941&amp;size=full&amp;picturename=Blue%20Grass%20Chemical%20Agent-Destruction%20Pilot%20Plant%20Utility%20Building"/>
          <p:cNvPicPr/>
          <p:nvPr/>
        </p:nvPicPr>
        <p:blipFill>
          <a:blip r:embed="rId1"/>
          <a:stretch/>
        </p:blipFill>
        <p:spPr>
          <a:xfrm>
            <a:off x="2195640" y="333360"/>
            <a:ext cx="4784760" cy="3325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ontent Placeholder 2"/>
          <p:cNvSpPr/>
          <p:nvPr/>
        </p:nvSpPr>
        <p:spPr>
          <a:xfrm>
            <a:off x="4572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na was the biggest producer of chemicals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made sales of approximately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€ 45 b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Global Chemical Econom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381640" cy="330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60280"/>
            <a:ext cx="8496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tween 2000 – 2010, Asia and particularly China have dominated world chemicals sales taking over from the E.U. and North Americ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uring this period, total global chemicals sales ha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isen by 60%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5391360" cy="406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ia’s dominance in the chemicals market is shown by the output of chemicals produced over the last 5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te that all regions showed negative chemical production growth for 2008/9, but are recovering at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467320" cy="3819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trend can be explained by the significant investment in the chemicals industry that China has received in the last 1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457600" cy="374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ever the E.U. has continued to invest in it’s chemicals industry with the sector receiving the second highest manufacturing investment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076480" y="1844640"/>
            <a:ext cx="4991040" cy="3619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contribute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9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total E.U. chemicals sales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otal chemicals market value in the E.U. w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€ 491 bill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sales cover a range of products, with 75% of the E.U. market made up of petrochemicals, polymers and specia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2952720" cy="3327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2955960" cy="2882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E.U. dominates the world chemicals export mar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majority of these exports are to other E.U.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5292720" y="907920"/>
            <a:ext cx="2820960" cy="325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2880000" cy="4113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ther important E.U. chemical trade partners are North America and Asia (inc. China and Jap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429160" cy="413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ere does this leave the U.K. in the Global Marke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ince the chemistry using industries are one of the largest manufacturing sectors in the U.K., it is positioned at the heart of the U.K.’s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ia and China are now dominating the global chemicals market, lead by heavy investment over the last 10 yea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market is still very strong in the U.K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lead by strong chemicals exports mostly to other E.U. nations, North America and As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highlight how chemistry impacts on our everyday liv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highlight the economic position of the U.K.’s chemistry using industries both at home, in the E.U and within the global econom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highlight the current and future challenges which face the chemistry using industri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show where chemistry research is making a difference to solve some of the global challenges which face this industry, contributing to the </a:t>
            </a:r>
            <a:r>
              <a:rPr b="0" lang="en-GB" sz="2200" spc="-1" strike="noStrike">
                <a:solidFill>
                  <a:srgbClr val="00b050"/>
                </a:solidFill>
                <a:latin typeface="Arial"/>
                <a:ea typeface="Arial"/>
              </a:rPr>
              <a:t>“</a:t>
            </a:r>
            <a:r>
              <a:rPr b="0" i="1" lang="en-GB" sz="2200" spc="-1" strike="noStrike">
                <a:solidFill>
                  <a:srgbClr val="00b050"/>
                </a:solidFill>
                <a:latin typeface="Arial"/>
                <a:ea typeface="Arial"/>
              </a:rPr>
              <a:t>green economy”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urrent Challenges for the</a:t>
            </a:r>
            <a:br>
              <a:rPr sz="4400"/>
            </a:b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hemistry Using Indust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stry using industries convert energy &amp; raw materials into useful products which impact upon our everyday liv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future price and availability of energy resources is a key iss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s one of the most energy intensive secto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consum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2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U.K.’s total industrial use of energy at a cost of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4 b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 ye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can represent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3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a businesses total cost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7" descr="http://www.nottingham.ac.uk/xpert/attribution/pictureattrib/mangle.php?url=http://farm5.static.flickr.com/7157/6387909297_02f3be9880_b.jpg&amp;original_url=http://www.flickr.com/49432141@N00/6387909297/&amp;license=flickr_1&amp;flickr_id=6387909297&amp;size=full&amp;picturename=127/365%20power"/>
          <p:cNvPicPr/>
          <p:nvPr/>
        </p:nvPicPr>
        <p:blipFill>
          <a:blip r:embed="rId1"/>
          <a:stretch/>
        </p:blipFill>
        <p:spPr>
          <a:xfrm>
            <a:off x="2916360" y="4869000"/>
            <a:ext cx="3240000" cy="187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50920" y="549360"/>
            <a:ext cx="86868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pply of Raw Materi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future price and availability of the raw materials used in the manufacturing processes (i.e. gas and oil) is also a key iss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il and gas supplies are beginning to run low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competition through the new petrochemical capacity in the Middle East threatens the supply and availability of these raw materials at an affordable pri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addition, the supply of other resources (e.g. metals) is also drying u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all impacts the future sustainability of the chemistry using industr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6" descr="http://www.nottingham.ac.uk/xpert/attribution/pictureattrib/mangle.php?url=http://farm5.static.flickr.com/4016/4712925031_76d0cecdf3_b.jpg&amp;original_url=http://www.flickr.com/49503002894@N01/4712925031/&amp;license=flickr_1&amp;flickr_id=4712925031&amp;size=full&amp;picturename=A%20Gulf%20Oil%20Rig"/>
          <p:cNvPicPr/>
          <p:nvPr/>
        </p:nvPicPr>
        <p:blipFill>
          <a:blip r:embed="rId1"/>
          <a:stretch/>
        </p:blipFill>
        <p:spPr>
          <a:xfrm>
            <a:off x="2627280" y="3933720"/>
            <a:ext cx="3814920" cy="266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50920" y="549360"/>
            <a:ext cx="578808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mate chang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ing a highly energy intensive industry, the chemicals industry is in part contributing to the emission of greenhouse gas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contribution is either direct through burning of raw materials (e.g. oil and gas) or indirect through the use of energy supply and transport of raw materials around the worl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the industry was an ‘early starter’ in setting aggressive targets for efficiency and reduction of harmful emiss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is also a provider of solutions to this problem and is investing into R&amp;D for many new products and processes aimed at cutting greenhouse gas emiss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6" descr="http://www.nottingham.ac.uk/xpert/attribution/pictureattrib/mangle.php?url=http://farm5.static.flickr.com/7174/6717620889_e0c6987c85_b.jpg&amp;original_url=http://www.flickr.com/22057747@N07/6717620889/&amp;license=flickr_1&amp;flickr_id=6717620889&amp;size=full&amp;picturename=global_village_2"/>
          <p:cNvPicPr/>
          <p:nvPr/>
        </p:nvPicPr>
        <p:blipFill>
          <a:blip r:embed="rId1"/>
          <a:stretch/>
        </p:blipFill>
        <p:spPr>
          <a:xfrm>
            <a:off x="6039000" y="765000"/>
            <a:ext cx="2920680" cy="5185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50920" y="549360"/>
            <a:ext cx="86868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aste management and environmental imp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 environmental and economic reaso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dustry strives for efficiency to minimis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aste production and emissions into th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vironment i.e. the less waste you produc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less it costs get rid of/sto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There are many other issues and challenges facing the chemicals industry over the coming years – these are just a few examples…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allenges offer opportunities for innov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address and solve the key issues. Since chemistry is an enabling science, it is well placed to make a direct impact through investment, innovation and R&amp;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Picture 6" descr="http://www.nottingham.ac.uk/xpert/attribution/pictureattrib/mangle.php?url=http://farm5.static.flickr.com/3561/3354740193_1bca3ed524_b.jpg&amp;original_url=http://www.flickr.com/53326337@N00/3354740193/&amp;license=flickr_5&amp;flickr_id=3354740193&amp;size=full&amp;picturename=Nuclear%20waste....%20er..."/>
          <p:cNvPicPr/>
          <p:nvPr/>
        </p:nvPicPr>
        <p:blipFill>
          <a:blip r:embed="rId1"/>
          <a:stretch/>
        </p:blipFill>
        <p:spPr>
          <a:xfrm>
            <a:off x="6175440" y="566640"/>
            <a:ext cx="2879640" cy="3078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ere is Chemistry Making a Differenc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aving energy and reducing environmental imp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e has been a strong focus on maximising cost effective use of energy resulting in an improved energy efficiency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35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rom 1990 – 2006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7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or E.U. from 1990 – 2009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E.U. is a long way ahead of the U.S.A. on this iss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3816360" cy="2239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4932360" y="3573360"/>
            <a:ext cx="3816360" cy="2452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50920" y="188640"/>
            <a:ext cx="868680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duced emission of greenhouse gas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ing a highly energy intensive industry, the chemicals industry is contributing to the emission of greenhouse gas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the industry was an ‘early starter’ in setting aggressive targets for efficiency and reduction of harmful emiss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reenhouse gas emissions have fall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49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ince 199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68800" cy="3097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50920" y="188640"/>
            <a:ext cx="868680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n chemistry offer further solutions to these problems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stry is a provider of solutio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ince chemistry is an ‘enabling science’ it allows for the development of new processes and technologies to address these issues through R&amp;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op products which achieve carbon savings are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building insulation material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ore efficient lighti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ightweight yet strong plastics for more fuel efficient modes of transpor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of low-temperature detergents to save energ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fuel and engine efficiency….etc…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8" name="Picture 6" descr="http://www.nottingham.ac.uk/xpert/attribution/pictureattrib/mangle.php?url=http://farm5.static.flickr.com/4083/4837264929_c72f52bc90_b.jpg&amp;original_url=http://www.flickr.com/73295603@N00/4837264929/&amp;license=flickr_3&amp;flickr_id=4837264929&amp;size=full&amp;picturename=Neopor:%20an%20innovative%20insulating%20material%20–%20Pilot%20plant"/>
          <p:cNvPicPr/>
          <p:nvPr/>
        </p:nvPicPr>
        <p:blipFill>
          <a:blip r:embed="rId1"/>
          <a:stretch/>
        </p:blipFill>
        <p:spPr>
          <a:xfrm>
            <a:off x="644400" y="3932280"/>
            <a:ext cx="3127680" cy="217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http://www.nottingham.ac.uk/xpert/attribution/pictureattrib/mangle.php?url=http://farm5.static.flickr.com/7174/6446901067_fc0e8a5811_b.jpg&amp;original_url=http://www.flickr.com/12299874@N08/6446901067/&amp;license=flickr_3&amp;flickr_id=6446901067&amp;size=full&amp;picturename=Light"/>
          <p:cNvPicPr/>
          <p:nvPr/>
        </p:nvPicPr>
        <p:blipFill>
          <a:blip r:embed="rId2"/>
          <a:stretch/>
        </p:blipFill>
        <p:spPr>
          <a:xfrm>
            <a:off x="5364000" y="3932280"/>
            <a:ext cx="3094200" cy="2176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50920" y="188640"/>
            <a:ext cx="868680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has been estimated that f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ach 1 unit of greenhouse gas which the chemistry using industry emi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production processes, the resulti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w products save 2-3 units of greenhouse gas emiss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positions the chemistry using industries at the heart of th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933c"/>
                </a:solidFill>
                <a:latin typeface="Arial"/>
                <a:ea typeface="Arial"/>
              </a:rPr>
              <a:t>‘</a:t>
            </a:r>
            <a:r>
              <a:rPr b="0" lang="en-GB" sz="4400" spc="-1" strike="noStrike">
                <a:solidFill>
                  <a:srgbClr val="77933c"/>
                </a:solidFill>
                <a:latin typeface="Arial"/>
                <a:ea typeface="Arial"/>
              </a:rPr>
              <a:t>green economy’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4" descr="http://www.nottingham.ac.uk/xpert/attribution/pictureattrib/mangle.php?url=http://farm5.static.flickr.com/7145/6736493655_66688c7725_b.jpg&amp;original_url=http://www.flickr.com/58965011@N05/6736493655/&amp;license=flickr_1&amp;flickr_id=6736493655&amp;size=full&amp;picturename=Luz%20e%20sombras"/>
          <p:cNvPicPr/>
          <p:nvPr/>
        </p:nvPicPr>
        <p:blipFill>
          <a:blip r:embed="rId1"/>
          <a:stretch/>
        </p:blipFill>
        <p:spPr>
          <a:xfrm>
            <a:off x="971640" y="2922480"/>
            <a:ext cx="7200720" cy="303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1267920"/>
            <a:ext cx="86868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stry is an enabling science – it is all around us and is involved in everything we need, do and interact with in our everyday liv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stry using industries are one of the largest manufacturing sectors in the U.K. making a varied range of product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ndustry is positioned at the heart of the U.K.’s manufacturing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ia and China are now dominating the global chemicals market, but the chemicals market is still very strong in the U.K. lead by strong expor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many challenges which face the chemistry using industries, however this industry is making a difference and is key to the U.K.’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Arial"/>
                <a:ea typeface="Arial"/>
              </a:rPr>
              <a:t>‘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  <a:ea typeface="Arial"/>
              </a:rPr>
              <a:t>Green Economy’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References &amp; Further Rea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cal Industries Associ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cia.org.u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Chemical and Pharmaceutical Businesses in the UK, Our Campaign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Sept. 201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Annual Review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2009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EFIC – The European Chemical Industry Counci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cefic.or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Facts and Figures 2011 – The European chemical industry in a worldwide perspectiv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y is Chemistry Importan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emistry is an “enabling science”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.e. chemistry facilitates other sciences, research and manufactur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s at the heart of manufactur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converts raw materials (e.g. oil and gas) into a host of products and resources for use by both industrial and household consum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7"/>
          <p:cNvSpPr/>
          <p:nvPr/>
        </p:nvSpPr>
        <p:spPr>
          <a:xfrm>
            <a:off x="250920" y="333360"/>
            <a:ext cx="900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Trevor Farren, Dr. Simon Mosey, Dr. William Drewe &amp; Prof. Barry Stick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228600" y="175248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2590920" y="3157560"/>
            <a:ext cx="4032000" cy="1795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2268360" y="609300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y is Chemistry Importan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emistry impacts on our everyday lives through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aps, shampoos and detergents to keep us clea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sinfectants and pharmaceuticals to safeguard healt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ves to foods to keep them fresher long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ints to protect and extend the life of metal and timb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sulation materials to save energy in building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fuel we put in our ca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emistry is all around us and is involved in everything we need, do and interact with in our everyday lives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7" descr="http://www.nottingham.ac.uk/xpert/attribution/pictureattrib/mangle.php?url=http://farm5.static.flickr.com/2704/5816515113_db98012d33_b.jpg&amp;original_url=http://www.flickr.com/27632962@N04/5816515113/&amp;license=flickr_1&amp;flickr_id=5816515113&amp;size=full&amp;picturename=Jessica%20Rohrer%20painting:%20household%20cleaning%20supplies"/>
          <p:cNvPicPr/>
          <p:nvPr/>
        </p:nvPicPr>
        <p:blipFill>
          <a:blip r:embed="rId1"/>
          <a:stretch/>
        </p:blipFill>
        <p:spPr>
          <a:xfrm>
            <a:off x="6732720" y="2097000"/>
            <a:ext cx="1919160" cy="15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ttp://www.nottingham.ac.uk/xpert/attribution/pictureattrib/mangle.php?url=http://farm5.static.flickr.com/5011/5513586978_0a09f8e7d7_b.jpg&amp;original_url=http://www.flickr.com/88651026@N00/5513586978/&amp;license=flickr_1&amp;flickr_id=5513586978&amp;size=full&amp;picturename=Art%20Store%20Lust"/>
          <p:cNvPicPr/>
          <p:nvPr/>
        </p:nvPicPr>
        <p:blipFill>
          <a:blip r:embed="rId2"/>
          <a:stretch/>
        </p:blipFill>
        <p:spPr>
          <a:xfrm>
            <a:off x="6732720" y="3716280"/>
            <a:ext cx="1919160" cy="149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History of the U.K. Chemistry Using Indust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73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U.K. chemicals industry grew up using locally occurring resources such as salt, coal, limestone, vegetable matter and animal f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day it is part of a global industry primarily using natural gas and oil fractions such as naphtha as its dominant raw materia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U.K. Chemical Econom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cals and pharmaceuticals represen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2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f total U.K. manufacturing output, equivalent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.5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GDP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veryday the chemicals industry contribut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70 m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the U.K.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9" name="Group 49"/>
          <p:cNvGrpSpPr/>
          <p:nvPr/>
        </p:nvGrpSpPr>
        <p:grpSpPr>
          <a:xfrm>
            <a:off x="2002320" y="2492280"/>
            <a:ext cx="5185080" cy="2961000"/>
            <a:chOff x="2002320" y="2492280"/>
            <a:chExt cx="5185080" cy="2961000"/>
          </a:xfrm>
        </p:grpSpPr>
        <p:pic>
          <p:nvPicPr>
            <p:cNvPr id="70" name="Picture 2" descr=""/>
            <p:cNvPicPr/>
            <p:nvPr/>
          </p:nvPicPr>
          <p:blipFill>
            <a:blip r:embed="rId1"/>
            <a:stretch/>
          </p:blipFill>
          <p:spPr>
            <a:xfrm>
              <a:off x="3618360" y="3025080"/>
              <a:ext cx="225684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51"/>
            <p:cNvSpPr/>
            <p:nvPr/>
          </p:nvSpPr>
          <p:spPr>
            <a:xfrm>
              <a:off x="4156920" y="2492280"/>
              <a:ext cx="195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% - Glass, ceramics, etc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Box 52"/>
            <p:cNvSpPr/>
            <p:nvPr/>
          </p:nvSpPr>
          <p:spPr>
            <a:xfrm>
              <a:off x="5069880" y="278028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% - Food, beverages, etc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Box 53"/>
            <p:cNvSpPr/>
            <p:nvPr/>
          </p:nvSpPr>
          <p:spPr>
            <a:xfrm>
              <a:off x="5822640" y="3644280"/>
              <a:ext cx="1364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% - Transport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Box 54"/>
            <p:cNvSpPr/>
            <p:nvPr/>
          </p:nvSpPr>
          <p:spPr>
            <a:xfrm>
              <a:off x="5760360" y="44366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% - Paper and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n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TextBox 55"/>
            <p:cNvSpPr/>
            <p:nvPr/>
          </p:nvSpPr>
          <p:spPr>
            <a:xfrm>
              <a:off x="4875120" y="5085000"/>
              <a:ext cx="198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% - Chemic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Box 56"/>
            <p:cNvSpPr/>
            <p:nvPr/>
          </p:nvSpPr>
          <p:spPr>
            <a:xfrm>
              <a:off x="3371400" y="5053680"/>
              <a:ext cx="10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- Oth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TextBox 57"/>
            <p:cNvSpPr/>
            <p:nvPr/>
          </p:nvSpPr>
          <p:spPr>
            <a:xfrm>
              <a:off x="2474280" y="4436640"/>
              <a:ext cx="107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- Metal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TextBox 58"/>
            <p:cNvSpPr/>
            <p:nvPr/>
          </p:nvSpPr>
          <p:spPr>
            <a:xfrm>
              <a:off x="2002320" y="3644280"/>
              <a:ext cx="1390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% - Electric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optic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TextBox 59"/>
            <p:cNvSpPr/>
            <p:nvPr/>
          </p:nvSpPr>
          <p:spPr>
            <a:xfrm>
              <a:off x="2295000" y="3068280"/>
              <a:ext cx="135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% - Mechanical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gineer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TextBox 60"/>
            <p:cNvSpPr/>
            <p:nvPr/>
          </p:nvSpPr>
          <p:spPr>
            <a:xfrm>
              <a:off x="3279240" y="2564280"/>
              <a:ext cx="1081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% - Rubber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plasti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61"/>
            <p:cNvSpPr/>
            <p:nvPr/>
          </p:nvSpPr>
          <p:spPr>
            <a:xfrm>
              <a:off x="4599000" y="2749320"/>
              <a:ext cx="0" cy="27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62"/>
            <p:cNvSpPr/>
            <p:nvPr/>
          </p:nvSpPr>
          <p:spPr>
            <a:xfrm flipH="1">
              <a:off x="5319720" y="2979360"/>
              <a:ext cx="10296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63"/>
            <p:cNvSpPr/>
            <p:nvPr/>
          </p:nvSpPr>
          <p:spPr>
            <a:xfrm flipH="1">
              <a:off x="5835240" y="3808440"/>
              <a:ext cx="20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64"/>
            <p:cNvSpPr/>
            <p:nvPr/>
          </p:nvSpPr>
          <p:spPr>
            <a:xfrm flipH="1" flipV="1">
              <a:off x="5732280" y="4454640"/>
              <a:ext cx="206280" cy="13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65"/>
            <p:cNvSpPr/>
            <p:nvPr/>
          </p:nvSpPr>
          <p:spPr>
            <a:xfrm flipH="1" flipV="1">
              <a:off x="5165280" y="4914360"/>
              <a:ext cx="5076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66"/>
            <p:cNvSpPr/>
            <p:nvPr/>
          </p:nvSpPr>
          <p:spPr>
            <a:xfrm flipH="1">
              <a:off x="4186440" y="4869000"/>
              <a:ext cx="10296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67"/>
            <p:cNvSpPr/>
            <p:nvPr/>
          </p:nvSpPr>
          <p:spPr>
            <a:xfrm flipH="1">
              <a:off x="3618000" y="4454640"/>
              <a:ext cx="15552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68"/>
            <p:cNvSpPr/>
            <p:nvPr/>
          </p:nvSpPr>
          <p:spPr>
            <a:xfrm flipH="1">
              <a:off x="3411360" y="3808440"/>
              <a:ext cx="25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69"/>
            <p:cNvSpPr/>
            <p:nvPr/>
          </p:nvSpPr>
          <p:spPr>
            <a:xfrm flipH="1" flipV="1">
              <a:off x="3720600" y="3209400"/>
              <a:ext cx="20628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70"/>
            <p:cNvSpPr/>
            <p:nvPr/>
          </p:nvSpPr>
          <p:spPr>
            <a:xfrm flipH="1" flipV="1">
              <a:off x="4186080" y="2887200"/>
              <a:ext cx="153720" cy="23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manufactures a diverse range of materials and produc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861160" cy="3886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050920" y="5300640"/>
            <a:ext cx="5050080" cy="20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n the U.K. invests ov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5 bill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per year in R&amp;D –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ne thi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total U.K. R&amp;D spe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nvestment in innovation drives sector growt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(and E.U.) chemicals industry has shown continued output growth and has out performed other manufacturing businesses, especially in the current economic clima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78800" cy="325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4427640" y="4221000"/>
            <a:ext cx="3485880" cy="28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s the U.K.’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. 1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export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chemicals industry has maintained a surplus in trad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very working day the U.K.’s chemicals industry add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30 m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our country’s balance of trade. In the same period the rest of manufacturing achieved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300 mill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daily loss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480000" cy="3386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dcterms:modified xsi:type="dcterms:W3CDTF">2020-12-15T09:05:24Z</dcterms:modified>
  <cp:revision>102</cp:revision>
  <dc:subject/>
  <dc:title>Introduction to the chemistry-using industries presentation</dc:title>
</cp:coreProperties>
</file>