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C94-3E76-4A41-8BA8-98EFEE35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CDC-9606-4C41-A5B9-6594EAFC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77C-845A-41BF-B4AB-69D6C0E4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1B7-E623-40F4-A3EC-669E30A3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498-9F17-493B-B9A4-BDE37C54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1E9-31CA-4A8D-9D2A-ACD28795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4C6-17CE-43E9-A267-0D09FB5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668-6DA5-4D1D-B18C-7D333D8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156-0974-4E81-A088-7CD44387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BFF-0365-4B5A-AACE-8160E01E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8BA-4986-4C83-9BFE-F65A2A8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6CD-15CF-4A5C-81F1-4BE1821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67A-864F-4C67-B37B-9937C8CABFEF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DF3-281C-46A0-B9AF-72AF23D87DE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s://rsc.li/3niU8Bv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772800" y="558324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2"/>
          <a:stretch/>
        </p:blipFill>
        <p:spPr>
          <a:xfrm>
            <a:off x="2932200" y="2065320"/>
            <a:ext cx="3205080" cy="330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1979640" y="6284880"/>
            <a:ext cx="282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rsc.li/3niU8Bv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below complete the following balance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Label each item as an asset (fixed/variable), liability or as capital &amp; reser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403280" y="2924280"/>
          <a:ext cx="6337440" cy="3022560"/>
        </p:xfrm>
        <a:graphic>
          <a:graphicData uri="http://schemas.openxmlformats.org/drawingml/2006/table">
            <a:tbl>
              <a:tblPr/>
              <a:tblGrid>
                <a:gridCol w="3700440"/>
                <a:gridCol w="777960"/>
                <a:gridCol w="1859040"/>
              </a:tblGrid>
              <a:tr h="391320"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set, Liabilit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within the business (inc. chemistry, I.T. etc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fix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owed to chemical suppliers/other b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chemicals within the laborato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ocks of saleable chemical produc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from bank (repayable in 5 year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nture capitalist invest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abilit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in the ban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 (variable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(after 5 years trading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&amp; Reser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6"/>
          <p:cNvSpPr/>
          <p:nvPr/>
        </p:nvSpPr>
        <p:spPr>
          <a:xfrm>
            <a:off x="6227640" y="3348000"/>
            <a:ext cx="10083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372360" y="3581280"/>
            <a:ext cx="10080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6300720" y="3825720"/>
            <a:ext cx="10080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43640" y="4068720"/>
            <a:ext cx="10810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372360" y="4292640"/>
            <a:ext cx="107928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6300720" y="4551480"/>
            <a:ext cx="1150920" cy="17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443640" y="4781520"/>
            <a:ext cx="108108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6435720" y="5021280"/>
            <a:ext cx="108108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300720" y="5261040"/>
            <a:ext cx="115092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300720" y="5500800"/>
            <a:ext cx="10796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6300720" y="5732640"/>
            <a:ext cx="11509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Q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the information in the previous table, complete the following balance shee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r>
              <a:rPr b="0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As of 31</a:t>
            </a:r>
            <a:r>
              <a:rPr b="0" lang="en-US" sz="3200" spc="-1" strike="noStrike" baseline="30000">
                <a:solidFill>
                  <a:srgbClr val="003a74"/>
                </a:solidFill>
                <a:latin typeface="Arial"/>
                <a:ea typeface="ＭＳ Ｐゴシック"/>
              </a:rPr>
              <a:t>st</a:t>
            </a: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ＭＳ Ｐゴシック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116000" y="2349360"/>
          <a:ext cx="6840720" cy="2864160"/>
        </p:xfrm>
        <a:graphic>
          <a:graphicData uri="http://schemas.openxmlformats.org/drawingml/2006/table">
            <a:tbl>
              <a:tblPr/>
              <a:tblGrid>
                <a:gridCol w="2303640"/>
                <a:gridCol w="863280"/>
                <a:gridCol w="2810160"/>
                <a:gridCol w="863640"/>
              </a:tblGrid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xed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abil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00008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hold of laborat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ment used in business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fixtures and fit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mount owed to supplier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Loan from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Venture capitalist invest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pital and Reserv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811080">
                <a:tc>
                  <a:txBody>
                    <a:bodyPr lIns="86400" rIns="86400" tIns="43200" bIns="4320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Stocks of chemic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Stocks of saleable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Cash in the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ital invested by the own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umulated profi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86400" rIns="86400" tIns="43200" bIns="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sse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Liabilities &amp; Capi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0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e2952"/>
                    </a:solidFill>
                  </a:tcPr>
                </a:tc>
              </a:tr>
            </a:tbl>
          </a:graphicData>
        </a:graphic>
      </p:graphicFrame>
      <p:sp>
        <p:nvSpPr>
          <p:cNvPr id="124" name="TextBox 5"/>
          <p:cNvSpPr/>
          <p:nvPr/>
        </p:nvSpPr>
        <p:spPr>
          <a:xfrm>
            <a:off x="2283480" y="566100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o the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187280" y="2924280"/>
            <a:ext cx="212436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492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356000" y="2924280"/>
            <a:ext cx="26640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164360" y="285264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87280" y="4149720"/>
            <a:ext cx="212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92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4322880" y="4141800"/>
            <a:ext cx="2232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7164360" y="4149720"/>
            <a:ext cx="75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3492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7164360" y="4941720"/>
            <a:ext cx="755640" cy="216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4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king a profit is the key to a successful busines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ever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you run out of th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quid ca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quired to pay running expenses (e.g. invoices, salaries and make purchases) you’re business may not be able to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Cash Flow Forecast describes the short-term cash requirements of a business to ensure the future availability of a suitable quantity of liquid cas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liquid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pas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sts transactions for a given period (e.g. a year) and show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ther the business is making a profit or lo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presen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whether the finances balance on a given dat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futur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55640" indent="-355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50920" y="163512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63920" y="2976480"/>
            <a:ext cx="4032000" cy="179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3"/>
          <a:stretch/>
        </p:blipFill>
        <p:spPr>
          <a:xfrm>
            <a:off x="242892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Terms &amp; Concep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ountancy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financial information about a business to shareholders and managers. This generally takes the form of financial stat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ts are economic resourc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 which are capable of producing value (or cas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 are the funds (including borrowings), services or produc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a business at a specified dat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(or Owner’s Equ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s put into the business by the owners or shareholders and retained on their behal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past financial performanc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Gross Profi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sales revenue (and other income) – cost of making the produc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ducting overheads, payroll, taxation and other cost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Net Profi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gross profit – all costs (e.g. manufacture/sales, operating costs, taxes etc.)  i.e.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ubtracting all costs, expenses and losses for th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present financial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as of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future financial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6948360" y="1197000"/>
            <a:ext cx="1936800" cy="475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brewersguardian.com/files.php?file=/Uni_of_Nott_logo_798923080.jpg"/>
          <p:cNvPicPr/>
          <p:nvPr/>
        </p:nvPicPr>
        <p:blipFill>
          <a:blip r:embed="rId2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shows 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/lo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at has been achieved over a given period of time (i.e. in the past).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your own monthly profit/loss statement –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Alan Sugar’s Personal Bank Statement for Decemb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Profit/Loss Statemen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9640" y="3429000"/>
          <a:ext cx="5545080" cy="269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entice inc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 repaym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ctricity and Gas bil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.V. and advertising appearanc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 bi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eaning Co. household clea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card bill (food, entertainment, clothes, travel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,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lance carried forward to Janua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7,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66" name="TextBox 9"/>
          <p:cNvSpPr/>
          <p:nvPr/>
        </p:nvSpPr>
        <p:spPr>
          <a:xfrm>
            <a:off x="6388920" y="4581360"/>
            <a:ext cx="25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Alan Sugar is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profit for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8920" y="60516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. Fill out the table below and calculate how much profit/loss Chemistry Co. h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ed in the first quarter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: Think carefully about how we account for the £50,000 of stock in the store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Profit and Loss </a:t>
            </a:r>
            <a:br>
              <a:rPr sz="54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Case Study for Chemistry 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763640" y="2637000"/>
          <a:ext cx="5545080" cy="2158920"/>
        </p:xfrm>
        <a:graphic>
          <a:graphicData uri="http://schemas.openxmlformats.org/drawingml/2006/table">
            <a:tbl>
              <a:tblPr/>
              <a:tblGrid>
                <a:gridCol w="3672000"/>
                <a:gridCol w="936720"/>
                <a:gridCol w="936360"/>
              </a:tblGrid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ed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bit (£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es income of chemical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Laboratory running cos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ff salar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ice paid to chemical sup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ayment of loans to ba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redit/Deb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270000">
                <a:tc>
                  <a:txBody>
                    <a:bodyPr lIns="86400" rIns="86400" tIns="43200" bIns="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ofit or Loss for 1</a:t>
                      </a:r>
                      <a:r>
                        <a:rPr b="1" i="1" lang="en-US" sz="12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86400" rIns="86400" tIns="43200" bIns="43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£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</a:tbl>
          </a:graphicData>
        </a:graphic>
      </p:graphicFrame>
      <p:sp>
        <p:nvSpPr>
          <p:cNvPr id="72" name="TextBox 9"/>
          <p:cNvSpPr/>
          <p:nvPr/>
        </p:nvSpPr>
        <p:spPr>
          <a:xfrm>
            <a:off x="468360" y="5373720"/>
            <a:ext cx="84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a74"/>
                </a:solidFill>
                <a:latin typeface="Arial"/>
                <a:ea typeface="Arial"/>
              </a:rPr>
              <a:t>What about the £50,000 of products in the stor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£50,000 of saleable products in the stores are not included – they were made outside this time period and would have been accounted for in the previous profit/loss repo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286000" y="486900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company is in profit in quart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580000" y="292428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6516720" y="3213000"/>
            <a:ext cx="719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516720" y="3497400"/>
            <a:ext cx="71928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6443640" y="3741840"/>
            <a:ext cx="72072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6516720" y="400536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564372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6443640" y="4292640"/>
            <a:ext cx="72072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6516720" y="4565520"/>
            <a:ext cx="7192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90360" y="605160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Understand your own </a:t>
            </a:r>
            <a:r>
              <a:rPr b="1" i="1" lang="en-US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esent</a:t>
            </a:r>
            <a:r>
              <a:rPr b="1" i="1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financial circumstan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likely to be your principal asset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7d0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own it outright or is it financed (i.e. a liability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br>
              <a:rPr sz="3600"/>
            </a:br>
            <a:r>
              <a:rPr b="0" lang="en-US" sz="3200" spc="-1" strike="noStrike">
                <a:solidFill>
                  <a:srgbClr val="003a74"/>
                </a:solidFill>
                <a:latin typeface="Arial"/>
                <a:ea typeface="Arial"/>
              </a:rPr>
              <a:t>A Personal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619280" y="4941720"/>
            <a:ext cx="16430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use value 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35080" y="4941720"/>
            <a:ext cx="37155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gage from the 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12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equity (profi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£8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£2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137320" y="5877000"/>
            <a:ext cx="4797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Your personal balance sheet bal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1"/>
          <a:stretch/>
        </p:blipFill>
        <p:spPr>
          <a:xfrm>
            <a:off x="5148360" y="2693880"/>
            <a:ext cx="2808360" cy="219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2"/>
          <a:stretch/>
        </p:blipFill>
        <p:spPr>
          <a:xfrm>
            <a:off x="971640" y="2852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ttp://www.brewersguardian.com/files.php?file=/Uni_of_Nott_logo_798923080.jpg"/>
          <p:cNvPicPr/>
          <p:nvPr/>
        </p:nvPicPr>
        <p:blipFill>
          <a:blip r:embed="rId3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sset</a:t>
            </a:r>
            <a:r>
              <a:rPr b="0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Items of valu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n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r controlled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Li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– Amounts or servis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w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apital &amp; Reserv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– Amount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by the owners/sharehold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74"/>
                </a:solidFill>
                <a:latin typeface="Arial"/>
                <a:ea typeface="Arial"/>
              </a:rPr>
              <a:t>The Balance She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682560" y="3787920"/>
            <a:ext cx="17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ck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ixtures &amp; Fit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284328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our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.g. Vehicles, I.T.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714920" y="37879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s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r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588000" y="386064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ank Loa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1" descr="http://www.nottingham.ac.uk/xpert/attribution/pictureattrib/mangle.php?url=http://farm5.static.flickr.com/3244/2985184711_3ef9ac8c39_b.jpg&amp;original_url=http://www.flickr.com/71581861@N00/2985184711/&amp;license=flickr_3&amp;flickr_id=2985184711&amp;size=full&amp;picturename=Royal%20Exchange,%20The%20City"/>
          <p:cNvPicPr/>
          <p:nvPr/>
        </p:nvPicPr>
        <p:blipFill>
          <a:blip r:embed="rId2"/>
          <a:stretch/>
        </p:blipFill>
        <p:spPr>
          <a:xfrm>
            <a:off x="6443640" y="4292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http://www.nottingham.ac.uk/xpert/attribution/pictureattrib/mangle.php?url=http://farm5.static.flickr.com/6148/6205837092_1b518ccf7b_b.jpg&amp;original_url=http://www.flickr.com/43669498@N05/6205837092/&amp;license=flickr_5&amp;flickr_id=6205837092&amp;size=full&amp;picturename=Mediq%20Sverige%20Kungsbacka%20warehouse"/>
          <p:cNvPicPr/>
          <p:nvPr/>
        </p:nvPicPr>
        <p:blipFill>
          <a:blip r:embed="rId3"/>
          <a:stretch/>
        </p:blipFill>
        <p:spPr>
          <a:xfrm>
            <a:off x="538200" y="4363920"/>
            <a:ext cx="2036880" cy="15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http://www.nottingham.ac.uk/xpert/attribution/pictureattrib/mangle.php?url=http://farm5.static.flickr.com/6121/5997591294_0632c3d52b_b.jpg&amp;original_url=http://www.flickr.com/45393120@N07/5997591294/&amp;license=flickr_4&amp;flickr_id=5997591294&amp;size=full&amp;picturename=HA0487-016"/>
          <p:cNvPicPr/>
          <p:nvPr/>
        </p:nvPicPr>
        <p:blipFill>
          <a:blip r:embed="rId4"/>
          <a:stretch/>
        </p:blipFill>
        <p:spPr>
          <a:xfrm>
            <a:off x="2698920" y="4363920"/>
            <a:ext cx="218088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5"/>
          <a:stretch/>
        </p:blipFill>
        <p:spPr>
          <a:xfrm>
            <a:off x="5075280" y="4363920"/>
            <a:ext cx="1257120" cy="158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6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dcterms:modified xsi:type="dcterms:W3CDTF">2020-12-15T09:22:25Z</dcterms:modified>
  <cp:revision>156</cp:revision>
  <dc:subject/>
  <dc:title>Slide 1</dc:title>
</cp:coreProperties>
</file>