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0EA47E-27AB-4608-8D3A-402F18CDB5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8B4A3-6615-4692-96A2-7961A71D8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589A2A-1D46-4E39-9BC0-8E07F8E7B1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6ADE92-36D9-4F7A-BEFD-8A6032CDF2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E3447-44B4-4D60-9DA4-9926BA060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64CF0-7E60-4D81-A8AC-BC661801E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25CCE-CCEB-4785-A624-3007409C9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8695F-DD31-415F-9BFD-77C1FEF4F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09AF3-D54E-4487-8455-868F7A341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6DEF6-68B9-4E69-8F8E-F95BF4F30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0531F-D737-4212-AB41-8481E883E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105A9-984C-48D2-B43C-6FFEF78D5F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C589F-B032-43C8-A6F3-8B7329B7D48E}" type="datetime">
              <a:rPr b="0" lang="en-GB" sz="1200" spc="-1" strike="noStrike">
                <a:solidFill>
                  <a:srgbClr val="ffffff"/>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E520C-0E0B-4821-A141-1B090A4EBEF7}" type="slidenum">
              <a:rPr b="0" lang="en-GB"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0920" y="-360"/>
            <a:ext cx="844704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a74"/>
                </a:solidFill>
                <a:latin typeface="Arial"/>
                <a:ea typeface="Arial"/>
              </a:rPr>
              <a:t>The ‘Dragons’ Den’ Style Pitch</a:t>
            </a:r>
            <a:endParaRPr b="0" lang="en-US" sz="4400" spc="-1" strike="noStrike">
              <a:solidFill>
                <a:srgbClr val="ffffff"/>
              </a:solidFill>
              <a:latin typeface="Calibri"/>
            </a:endParaRPr>
          </a:p>
        </p:txBody>
      </p:sp>
      <p:pic>
        <p:nvPicPr>
          <p:cNvPr id="42" name="Picture 6" descr="http://www.brewersguardian.com/files.php?file=/Uni_of_Nott_logo_798923080.jpg"/>
          <p:cNvPicPr/>
          <p:nvPr/>
        </p:nvPicPr>
        <p:blipFill>
          <a:blip r:embed="rId1"/>
          <a:stretch/>
        </p:blipFill>
        <p:spPr>
          <a:xfrm>
            <a:off x="7524720" y="6093000"/>
            <a:ext cx="1530360" cy="680760"/>
          </a:xfrm>
          <a:prstGeom prst="rect">
            <a:avLst/>
          </a:prstGeom>
          <a:ln w="0">
            <a:noFill/>
          </a:ln>
        </p:spPr>
      </p:pic>
      <p:pic>
        <p:nvPicPr>
          <p:cNvPr id="43" name="Picture 6" descr="http://www.nottingham.ac.uk/xpert/attribution/pictureattrib/mangle.php?url=http://farm5.static.flickr.com/4016/4712925031_76d0cecdf3_b.jpg&amp;original_url=http://www.flickr.com/49503002894@N01/4712925031/&amp;license=flickr_1&amp;flickr_id=4712925031&amp;size=full&amp;picturename=A%20Gulf%20Oil%20Rig"/>
          <p:cNvPicPr/>
          <p:nvPr/>
        </p:nvPicPr>
        <p:blipFill>
          <a:blip r:embed="rId2"/>
          <a:stretch/>
        </p:blipFill>
        <p:spPr>
          <a:xfrm>
            <a:off x="826920" y="2781360"/>
            <a:ext cx="2160720" cy="1604880"/>
          </a:xfrm>
          <a:prstGeom prst="rect">
            <a:avLst/>
          </a:prstGeom>
          <a:ln w="0">
            <a:noFill/>
          </a:ln>
        </p:spPr>
      </p:pic>
      <p:pic>
        <p:nvPicPr>
          <p:cNvPr id="44" name="Picture 9" descr="http://www.nottingham.ac.uk/xpert/attribution/pictureattrib/mangle.php?url=http://farm5.static.flickr.com/5011/5513586978_0a09f8e7d7_b.jpg&amp;original_url=http://www.flickr.com/88651026@N00/5513586978/&amp;license=flickr_1&amp;flickr_id=5513586978&amp;size=full&amp;picturename=Art%20Store%20Lust"/>
          <p:cNvPicPr/>
          <p:nvPr/>
        </p:nvPicPr>
        <p:blipFill>
          <a:blip r:embed="rId3"/>
          <a:stretch/>
        </p:blipFill>
        <p:spPr>
          <a:xfrm>
            <a:off x="4427640" y="4797360"/>
            <a:ext cx="2220840" cy="1727280"/>
          </a:xfrm>
          <a:prstGeom prst="rect">
            <a:avLst/>
          </a:prstGeom>
          <a:ln w="0">
            <a:noFill/>
          </a:ln>
        </p:spPr>
      </p:pic>
      <p:pic>
        <p:nvPicPr>
          <p:cNvPr id="45" name="Picture 7" descr="http://www.nottingham.ac.uk/xpert/attribution/pictureattrib/mangle.php?url=http://farm5.static.flickr.com/7002/6469183731_5c557818ff_b.jpg&amp;original_url=http://www.flickr.com/28011375@N04/6469183731/&amp;license=flickr_1&amp;flickr_id=6469183731&amp;size=full&amp;picturename=green%20monster"/>
          <p:cNvPicPr/>
          <p:nvPr/>
        </p:nvPicPr>
        <p:blipFill>
          <a:blip r:embed="rId4"/>
          <a:stretch/>
        </p:blipFill>
        <p:spPr>
          <a:xfrm>
            <a:off x="6227640" y="2781360"/>
            <a:ext cx="2160720" cy="1616040"/>
          </a:xfrm>
          <a:prstGeom prst="rect">
            <a:avLst/>
          </a:prstGeom>
          <a:ln w="0">
            <a:noFill/>
          </a:ln>
        </p:spPr>
      </p:pic>
      <p:pic>
        <p:nvPicPr>
          <p:cNvPr id="46" name="Picture 6" descr="http://www.nottingham.ac.uk/xpert/attribution/pictureattrib/mangle.php?url=http://farm5.static.flickr.com/2601/3755006104_fb54b57562_b.jpg&amp;original_url=http://www.flickr.com/35166455@N00/3755006104/&amp;license=flickr_4&amp;flickr_id=3755006104&amp;size=full&amp;picturename=Colorful%20Old%20Oil%20Barrels"/>
          <p:cNvPicPr/>
          <p:nvPr/>
        </p:nvPicPr>
        <p:blipFill>
          <a:blip r:embed="rId5"/>
          <a:stretch/>
        </p:blipFill>
        <p:spPr>
          <a:xfrm>
            <a:off x="3924360" y="1989000"/>
            <a:ext cx="1326960" cy="1800360"/>
          </a:xfrm>
          <a:prstGeom prst="rect">
            <a:avLst/>
          </a:prstGeom>
          <a:ln w="0">
            <a:noFill/>
          </a:ln>
        </p:spPr>
      </p:pic>
      <p:sp>
        <p:nvSpPr>
          <p:cNvPr id="47" name="Bent Arrow 10"/>
          <p:cNvSpPr/>
          <p:nvPr/>
        </p:nvSpPr>
        <p:spPr>
          <a:xfrm>
            <a:off x="1692360" y="2205000"/>
            <a:ext cx="1942920" cy="432000"/>
          </a:xfrm>
          <a:custGeom>
            <a:avLst/>
            <a:gdLst/>
            <a:ahLst/>
            <a:rect l="l" t="t" r="r" b="b"/>
            <a:pathLst>
              <a:path w="1943100" h="431800">
                <a:moveTo>
                  <a:pt x="0" y="431800"/>
                </a:moveTo>
                <a:lnTo>
                  <a:pt x="0" y="242888"/>
                </a:lnTo>
                <a:cubicBezTo>
                  <a:pt x="0" y="138554"/>
                  <a:pt x="84579" y="53975"/>
                  <a:pt x="188913" y="53975"/>
                </a:cubicBezTo>
                <a:lnTo>
                  <a:pt x="1835150" y="53975"/>
                </a:lnTo>
                <a:lnTo>
                  <a:pt x="1835150" y="0"/>
                </a:lnTo>
                <a:lnTo>
                  <a:pt x="1943100" y="107950"/>
                </a:lnTo>
                <a:lnTo>
                  <a:pt x="1835150" y="215900"/>
                </a:lnTo>
                <a:lnTo>
                  <a:pt x="1835150" y="161925"/>
                </a:lnTo>
                <a:lnTo>
                  <a:pt x="188913" y="161925"/>
                </a:lnTo>
                <a:cubicBezTo>
                  <a:pt x="144198" y="161925"/>
                  <a:pt x="107950" y="198173"/>
                  <a:pt x="107950" y="242888"/>
                </a:cubicBezTo>
                <a:lnTo>
                  <a:pt x="107950" y="431800"/>
                </a:lnTo>
                <a:lnTo>
                  <a:pt x="0" y="431800"/>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 name="Bent Arrow 11"/>
          <p:cNvSpPr/>
          <p:nvPr/>
        </p:nvSpPr>
        <p:spPr>
          <a:xfrm rot="10800000">
            <a:off x="6732720" y="4508280"/>
            <a:ext cx="792000" cy="1152360"/>
          </a:xfrm>
          <a:custGeom>
            <a:avLst/>
            <a:gdLst/>
            <a:ahLst/>
            <a:rect l="l" t="t" r="r" b="b"/>
            <a:pathLst>
              <a:path w="792162" h="1152525">
                <a:moveTo>
                  <a:pt x="0" y="1152525"/>
                </a:moveTo>
                <a:lnTo>
                  <a:pt x="0" y="401646"/>
                </a:lnTo>
                <a:cubicBezTo>
                  <a:pt x="0" y="210240"/>
                  <a:pt x="155165" y="55075"/>
                  <a:pt x="346571" y="55075"/>
                </a:cubicBezTo>
                <a:lnTo>
                  <a:pt x="652718" y="55075"/>
                </a:lnTo>
                <a:lnTo>
                  <a:pt x="652718" y="0"/>
                </a:lnTo>
                <a:lnTo>
                  <a:pt x="792162" y="105262"/>
                </a:lnTo>
                <a:lnTo>
                  <a:pt x="652718" y="210525"/>
                </a:lnTo>
                <a:lnTo>
                  <a:pt x="652718" y="155450"/>
                </a:lnTo>
                <a:lnTo>
                  <a:pt x="346571" y="155450"/>
                </a:lnTo>
                <a:cubicBezTo>
                  <a:pt x="210601" y="155450"/>
                  <a:pt x="100375" y="265676"/>
                  <a:pt x="100375" y="401646"/>
                </a:cubicBezTo>
                <a:lnTo>
                  <a:pt x="100375" y="1152525"/>
                </a:lnTo>
                <a:lnTo>
                  <a:pt x="0" y="1152525"/>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 name="Bent Arrow 13"/>
          <p:cNvSpPr/>
          <p:nvPr/>
        </p:nvSpPr>
        <p:spPr>
          <a:xfrm rot="5400000">
            <a:off x="6299640" y="1411920"/>
            <a:ext cx="360360" cy="2089080"/>
          </a:xfrm>
          <a:custGeom>
            <a:avLst/>
            <a:gdLst/>
            <a:ahLst/>
            <a:rect l="l" t="t" r="r" b="b"/>
            <a:pathLst>
              <a:path w="360363" h="2089150">
                <a:moveTo>
                  <a:pt x="0" y="2089150"/>
                </a:moveTo>
                <a:lnTo>
                  <a:pt x="0" y="202704"/>
                </a:lnTo>
                <a:cubicBezTo>
                  <a:pt x="0" y="115631"/>
                  <a:pt x="70586" y="45045"/>
                  <a:pt x="157659" y="45045"/>
                </a:cubicBezTo>
                <a:lnTo>
                  <a:pt x="270272" y="45045"/>
                </a:lnTo>
                <a:lnTo>
                  <a:pt x="270272" y="0"/>
                </a:lnTo>
                <a:lnTo>
                  <a:pt x="360363" y="90091"/>
                </a:lnTo>
                <a:lnTo>
                  <a:pt x="270272" y="180182"/>
                </a:lnTo>
                <a:lnTo>
                  <a:pt x="270272" y="135136"/>
                </a:lnTo>
                <a:lnTo>
                  <a:pt x="157659" y="135136"/>
                </a:lnTo>
                <a:cubicBezTo>
                  <a:pt x="120342" y="135136"/>
                  <a:pt x="90091" y="165387"/>
                  <a:pt x="90091" y="202704"/>
                </a:cubicBezTo>
                <a:lnTo>
                  <a:pt x="90091" y="2089150"/>
                </a:lnTo>
                <a:lnTo>
                  <a:pt x="0" y="2089150"/>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50" name="Picture 8" descr="http://www.nottingham.ac.uk/xpert/attribution/pictureattrib/mangle.php?url=http://farm5.static.flickr.com/7022/6669125419_24704f37c5_b.jpg&amp;original_url=http://www.flickr.com/50653067@N06/6669125419/&amp;license=flickr_1&amp;flickr_id=6669125419&amp;size=full&amp;picturename=economize%20(3)"/>
          <p:cNvPicPr/>
          <p:nvPr/>
        </p:nvPicPr>
        <p:blipFill>
          <a:blip r:embed="rId6"/>
          <a:stretch/>
        </p:blipFill>
        <p:spPr>
          <a:xfrm>
            <a:off x="2340000" y="4797360"/>
            <a:ext cx="1368360" cy="1724040"/>
          </a:xfrm>
          <a:prstGeom prst="rect">
            <a:avLst/>
          </a:prstGeom>
          <a:ln w="0">
            <a:noFill/>
          </a:ln>
        </p:spPr>
      </p:pic>
      <p:sp>
        <p:nvSpPr>
          <p:cNvPr id="51" name="Bent Arrow 15"/>
          <p:cNvSpPr/>
          <p:nvPr/>
        </p:nvSpPr>
        <p:spPr>
          <a:xfrm rot="16200000">
            <a:off x="1366920" y="4760640"/>
            <a:ext cx="1081080" cy="576360"/>
          </a:xfrm>
          <a:custGeom>
            <a:avLst/>
            <a:gdLst/>
            <a:ahLst/>
            <a:rect l="l" t="t" r="r" b="b"/>
            <a:pathLst>
              <a:path w="1081088" h="576263">
                <a:moveTo>
                  <a:pt x="0" y="576263"/>
                </a:moveTo>
                <a:lnTo>
                  <a:pt x="0" y="314386"/>
                </a:lnTo>
                <a:cubicBezTo>
                  <a:pt x="0" y="175147"/>
                  <a:pt x="112876" y="62271"/>
                  <a:pt x="252115" y="62271"/>
                </a:cubicBezTo>
                <a:lnTo>
                  <a:pt x="970768" y="62271"/>
                </a:lnTo>
                <a:lnTo>
                  <a:pt x="970768" y="0"/>
                </a:lnTo>
                <a:lnTo>
                  <a:pt x="1081088" y="112100"/>
                </a:lnTo>
                <a:lnTo>
                  <a:pt x="970768" y="224201"/>
                </a:lnTo>
                <a:lnTo>
                  <a:pt x="970768" y="161930"/>
                </a:lnTo>
                <a:lnTo>
                  <a:pt x="252115" y="161930"/>
                </a:lnTo>
                <a:cubicBezTo>
                  <a:pt x="167916" y="161930"/>
                  <a:pt x="99659" y="230187"/>
                  <a:pt x="99659" y="314386"/>
                </a:cubicBezTo>
                <a:lnTo>
                  <a:pt x="99659" y="576263"/>
                </a:lnTo>
                <a:lnTo>
                  <a:pt x="0" y="576263"/>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 name="Left Arrow 16"/>
          <p:cNvSpPr/>
          <p:nvPr/>
        </p:nvSpPr>
        <p:spPr>
          <a:xfrm>
            <a:off x="3780000" y="5445000"/>
            <a:ext cx="504720" cy="216000"/>
          </a:xfrm>
          <a:prstGeom prst="leftArrow">
            <a:avLst>
              <a:gd name="adj1" fmla="val 50000"/>
              <a:gd name="adj2" fmla="val 49968"/>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 name="Picture 15" descr=""/>
          <p:cNvPicPr/>
          <p:nvPr/>
        </p:nvPicPr>
        <p:blipFill>
          <a:blip r:embed="rId7"/>
          <a:stretch/>
        </p:blipFill>
        <p:spPr>
          <a:xfrm>
            <a:off x="8325000" y="123840"/>
            <a:ext cx="784080" cy="1833480"/>
          </a:xfrm>
          <a:prstGeom prst="rect">
            <a:avLst/>
          </a:prstGeom>
          <a:ln w="0">
            <a:noFill/>
          </a:ln>
        </p:spPr>
      </p:pic>
      <p:pic>
        <p:nvPicPr>
          <p:cNvPr id="54" name="Picture 2" descr=""/>
          <p:cNvPicPr/>
          <p:nvPr/>
        </p:nvPicPr>
        <p:blipFill>
          <a:blip r:embed="rId8"/>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360"/>
            <a:ext cx="8229600" cy="125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a74"/>
                </a:solidFill>
                <a:latin typeface="Arial"/>
                <a:ea typeface="Arial"/>
              </a:rPr>
              <a:t>The Scenario</a:t>
            </a:r>
            <a:endParaRPr b="0" lang="en-US" sz="3600" spc="-1" strike="noStrike">
              <a:solidFill>
                <a:srgbClr val="ffffff"/>
              </a:solidFill>
              <a:latin typeface="Calibri"/>
            </a:endParaRPr>
          </a:p>
        </p:txBody>
      </p:sp>
      <p:sp>
        <p:nvSpPr>
          <p:cNvPr id="56" name=""/>
          <p:cNvSpPr txBox="1"/>
          <p:nvPr/>
        </p:nvSpPr>
        <p:spPr>
          <a:xfrm>
            <a:off x="250920" y="981000"/>
            <a:ext cx="8642160" cy="5145120"/>
          </a:xfrm>
          <a:prstGeom prst="rect">
            <a:avLst/>
          </a:prstGeom>
          <a:noFill/>
          <a:ln w="0">
            <a:noFill/>
          </a:ln>
        </p:spPr>
        <p:txBody>
          <a:bodyPr anchor="t">
            <a:normAutofit fontScale="98000"/>
          </a:bodyPr>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Your team/group forms part of the Novel Concept Department of a large multinational company which has significant capability within the chemistry sector. </a:t>
            </a: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is company is forward thinking and realises that many of its products are coming off patent over the next few years which will significantly affect the overall profits of the business. </a:t>
            </a: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directors have challenged your team/group to come up with novel chemistry-based products, ideas or services which can be commercialised to secure the future success of the company.</a:t>
            </a: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directors have a ‘money is not an issue’ approach if they feel that your idea and business plan is of suitable quality to take on to the next stage of the developmental process. </a:t>
            </a: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You therefore will </a:t>
            </a:r>
            <a:r>
              <a:rPr b="1" lang="en-GB" sz="1600" spc="-1" strike="noStrike">
                <a:solidFill>
                  <a:srgbClr val="000000"/>
                </a:solidFill>
                <a:latin typeface="Arial"/>
                <a:ea typeface="Arial"/>
              </a:rPr>
              <a:t>not need to ask them for capital investment</a:t>
            </a:r>
            <a:r>
              <a:rPr b="0" lang="en-GB" sz="1600" spc="-1" strike="noStrike">
                <a:solidFill>
                  <a:srgbClr val="000000"/>
                </a:solidFill>
                <a:latin typeface="Arial"/>
                <a:ea typeface="Arial"/>
              </a:rPr>
              <a:t> (money). </a:t>
            </a: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directors will award a prize to the group who they feel have the best understanding of how their idea, product or service will benefit the company in the future.</a:t>
            </a:r>
            <a:endParaRPr b="0" lang="en-US" sz="1600" spc="-1" strike="noStrike">
              <a:solidFill>
                <a:srgbClr val="ffffff"/>
              </a:solidFill>
              <a:latin typeface="Calibri"/>
            </a:endParaRPr>
          </a:p>
        </p:txBody>
      </p:sp>
      <p:pic>
        <p:nvPicPr>
          <p:cNvPr id="57" name="Picture 6" descr="http://www.brewersguardian.com/files.php?file=/Uni_of_Nott_logo_798923080.jpg"/>
          <p:cNvPicPr/>
          <p:nvPr/>
        </p:nvPicPr>
        <p:blipFill>
          <a:blip r:embed="rId1"/>
          <a:stretch/>
        </p:blipFill>
        <p:spPr>
          <a:xfrm>
            <a:off x="7524720" y="6093000"/>
            <a:ext cx="1530360" cy="680760"/>
          </a:xfrm>
          <a:prstGeom prst="rect">
            <a:avLst/>
          </a:prstGeom>
          <a:ln w="0">
            <a:noFill/>
          </a:ln>
        </p:spPr>
      </p:pic>
      <p:pic>
        <p:nvPicPr>
          <p:cNvPr id="58" name="Picture 2" descr=""/>
          <p:cNvPicPr/>
          <p:nvPr/>
        </p:nvPicPr>
        <p:blipFill>
          <a:blip r:embed="rId2"/>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56">
                                            <p:txEl>
                                              <p:pRg st="4" end="4"/>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6">
                                            <p:txEl>
                                              <p:pRg st="6" end="6"/>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6">
                                            <p:txEl>
                                              <p:pRg st="8" end="8"/>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5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360"/>
            <a:ext cx="8229600" cy="125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a74"/>
                </a:solidFill>
                <a:latin typeface="Arial"/>
                <a:ea typeface="Arial"/>
              </a:rPr>
              <a:t>Points to Consider</a:t>
            </a:r>
            <a:endParaRPr b="0" lang="en-US" sz="3600" spc="-1" strike="noStrike">
              <a:solidFill>
                <a:srgbClr val="ffffff"/>
              </a:solidFill>
              <a:latin typeface="Calibri"/>
            </a:endParaRPr>
          </a:p>
        </p:txBody>
      </p:sp>
      <p:sp>
        <p:nvSpPr>
          <p:cNvPr id="60" name=""/>
          <p:cNvSpPr txBox="1"/>
          <p:nvPr/>
        </p:nvSpPr>
        <p:spPr>
          <a:xfrm>
            <a:off x="250920" y="981000"/>
            <a:ext cx="8642160" cy="5145120"/>
          </a:xfrm>
          <a:prstGeom prst="rect">
            <a:avLst/>
          </a:prstGeom>
          <a:noFill/>
          <a:ln w="0">
            <a:noFill/>
          </a:ln>
        </p:spPr>
        <p:txBody>
          <a:bodyPr anchor="t">
            <a:normAutofit fontScale="96000"/>
          </a:bodyPr>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he background of the idea, product or servic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at is the problem being addressed? What is the solution to this problem? How does it work? Is there market need? Why this need is currently not met?</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at is the closest current solution to the problem? Is this solution better than the others currently availabl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an it be made? Does it require chemistry to operate/manufacture?</a:t>
            </a:r>
            <a:endParaRPr b="0" lang="en-US" sz="1600" spc="-1" strike="noStrike">
              <a:solidFill>
                <a:srgbClr val="ffffff"/>
              </a:solidFill>
              <a:latin typeface="Calibri"/>
            </a:endParaRPr>
          </a:p>
          <a:p>
            <a:pPr marL="329040" indent="-3290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he market for the idea, product or servic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o is the market/customer? Where are the customers and how large is the market? Is the market growing or contracting?</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ill the customer buy the product? Is there any competition in the market? How will we beat the competition?</a:t>
            </a:r>
            <a:endParaRPr b="0" lang="en-US" sz="1600" spc="-1" strike="noStrike">
              <a:solidFill>
                <a:srgbClr val="ffffff"/>
              </a:solidFill>
              <a:latin typeface="Calibri"/>
            </a:endParaRPr>
          </a:p>
          <a:p>
            <a:pPr marL="329040" indent="-3290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hat is the future for the idea, product or servic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How will the product be taken to the market and sold? </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an the product be patented? Why is it novel and inventive? </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Are there any regulatory requirements that need to be overcome? Will this be difficult, time-consuming or expensiv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ere could the idea, product or service be taken in the future to grow the business as a whole?</a:t>
            </a:r>
            <a:endParaRPr b="0" lang="en-US" sz="1600" spc="-1" strike="noStrike">
              <a:solidFill>
                <a:srgbClr val="ffffff"/>
              </a:solidFill>
              <a:latin typeface="Calibri"/>
            </a:endParaRPr>
          </a:p>
        </p:txBody>
      </p:sp>
      <p:pic>
        <p:nvPicPr>
          <p:cNvPr id="61" name="Picture 6" descr="http://www.brewersguardian.com/files.php?file=/Uni_of_Nott_logo_798923080.jpg"/>
          <p:cNvPicPr/>
          <p:nvPr/>
        </p:nvPicPr>
        <p:blipFill>
          <a:blip r:embed="rId1"/>
          <a:stretch/>
        </p:blipFill>
        <p:spPr>
          <a:xfrm>
            <a:off x="7524720" y="6093000"/>
            <a:ext cx="1530360" cy="680760"/>
          </a:xfrm>
          <a:prstGeom prst="rect">
            <a:avLst/>
          </a:prstGeom>
          <a:ln w="0">
            <a:noFill/>
          </a:ln>
        </p:spPr>
      </p:pic>
      <p:pic>
        <p:nvPicPr>
          <p:cNvPr id="62" name="Picture 2" descr=""/>
          <p:cNvPicPr/>
          <p:nvPr/>
        </p:nvPicPr>
        <p:blipFill>
          <a:blip r:embed="rId2"/>
          <a:stretch/>
        </p:blipFill>
        <p:spPr>
          <a:xfrm>
            <a:off x="88920" y="6126120"/>
            <a:ext cx="1755720" cy="76356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0">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60">
                                            <p:txEl>
                                              <p:pRg st="6" end="6"/>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60">
                                            <p:txEl>
                                              <p:pRg st="7" end="7"/>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60">
                                            <p:txEl>
                                              <p:pRg st="9" end="9"/>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60">
                                            <p:txEl>
                                              <p:pRg st="10" end="10"/>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60">
                                            <p:txEl>
                                              <p:pRg st="11" end="11"/>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60">
                                            <p:txEl>
                                              <p:pRg st="12" end="12"/>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60">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0"/>
            <a:ext cx="8229600" cy="1052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a74"/>
                </a:solidFill>
                <a:latin typeface="Arial"/>
                <a:ea typeface="Arial"/>
              </a:rPr>
              <a:t>The Rules</a:t>
            </a:r>
            <a:endParaRPr b="0" lang="en-US" sz="3600" spc="-1" strike="noStrike">
              <a:solidFill>
                <a:srgbClr val="ffffff"/>
              </a:solidFill>
              <a:latin typeface="Calibri"/>
            </a:endParaRPr>
          </a:p>
        </p:txBody>
      </p:sp>
      <p:sp>
        <p:nvSpPr>
          <p:cNvPr id="64" name=""/>
          <p:cNvSpPr txBox="1"/>
          <p:nvPr/>
        </p:nvSpPr>
        <p:spPr>
          <a:xfrm>
            <a:off x="250920" y="836280"/>
            <a:ext cx="8642160" cy="5289480"/>
          </a:xfrm>
          <a:prstGeom prst="rect">
            <a:avLst/>
          </a:prstGeom>
          <a:noFill/>
          <a:ln w="0">
            <a:noFill/>
          </a:ln>
        </p:spPr>
        <p:txBody>
          <a:bodyPr anchor="t">
            <a:normAutofit fontScale="98000"/>
          </a:bodyPr>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he Pitch</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he first pitch will commence at 1515.</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ach group member </a:t>
            </a:r>
            <a:r>
              <a:rPr b="1" lang="en-GB" sz="1600" spc="-1" strike="noStrike" u="sng">
                <a:solidFill>
                  <a:srgbClr val="000000"/>
                </a:solidFill>
                <a:uFillTx/>
                <a:latin typeface="Arial"/>
                <a:ea typeface="Arial"/>
              </a:rPr>
              <a:t>MUST</a:t>
            </a:r>
            <a:r>
              <a:rPr b="1" lang="en-GB" sz="1600" spc="-1" strike="noStrike">
                <a:solidFill>
                  <a:srgbClr val="000000"/>
                </a:solidFill>
                <a:latin typeface="Arial"/>
                <a:ea typeface="Arial"/>
              </a:rPr>
              <a:t> speak during the pitch and answer questions.</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Pitches </a:t>
            </a:r>
            <a:r>
              <a:rPr b="1" lang="en-GB" sz="1600" spc="-1" strike="noStrike" u="sng">
                <a:solidFill>
                  <a:srgbClr val="000000"/>
                </a:solidFill>
                <a:uFillTx/>
                <a:latin typeface="Arial"/>
                <a:ea typeface="Arial"/>
              </a:rPr>
              <a:t>must not</a:t>
            </a:r>
            <a:r>
              <a:rPr b="0" lang="en-GB" sz="1600" spc="-1" strike="noStrike">
                <a:solidFill>
                  <a:srgbClr val="000000"/>
                </a:solidFill>
                <a:latin typeface="Arial"/>
                <a:ea typeface="Arial"/>
              </a:rPr>
              <a:t> </a:t>
            </a:r>
            <a:r>
              <a:rPr b="1" lang="en-GB" sz="1600" spc="-1" strike="noStrike">
                <a:solidFill>
                  <a:srgbClr val="000000"/>
                </a:solidFill>
                <a:latin typeface="Arial"/>
                <a:ea typeface="Arial"/>
              </a:rPr>
              <a:t>be longer than 8 mins, with 2 mins of Q&amp;A.</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A hand drawn poster can be made to assist you with your pitch.</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All pitches will be filmed and posters photographed for archiving purposes.</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panel may ask you ‘hypothetical’ questions. You are free to think on your feet, and give a well balanced answer to these questions.</a:t>
            </a:r>
            <a:endParaRPr b="0" lang="en-US" sz="1600" spc="-1" strike="noStrike">
              <a:solidFill>
                <a:srgbClr val="ffffff"/>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he Proposal</a:t>
            </a:r>
            <a:endParaRPr b="0" lang="en-US" sz="1600" spc="-1" strike="noStrike">
              <a:solidFill>
                <a:srgbClr val="ffffff"/>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We are giving you a free license to claim whatever you like during your pitch, as long as it is within reason. For example you may say that:</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technology on which your product, idea or service relies on exists, even if you are not aware that it does.</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at the company has the technology and capability to make your idea, product or service a reality, even if you are not aware that it can be made.</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at you could file for a patent to protect your idea, product or service even if you think someone else may have already done this, etc.</a:t>
            </a:r>
            <a:endParaRPr b="0" lang="en-US" sz="1600" spc="-1" strike="noStrike">
              <a:solidFill>
                <a:srgbClr val="ffffff"/>
              </a:solidFill>
              <a:latin typeface="Calibri"/>
            </a:endParaRPr>
          </a:p>
        </p:txBody>
      </p:sp>
      <p:pic>
        <p:nvPicPr>
          <p:cNvPr id="65" name="Picture 6" descr="http://www.brewersguardian.com/files.php?file=/Uni_of_Nott_logo_798923080.jpg"/>
          <p:cNvPicPr/>
          <p:nvPr/>
        </p:nvPicPr>
        <p:blipFill>
          <a:blip r:embed="rId1"/>
          <a:stretch/>
        </p:blipFill>
        <p:spPr>
          <a:xfrm>
            <a:off x="7524720" y="6093000"/>
            <a:ext cx="1530360" cy="680760"/>
          </a:xfrm>
          <a:prstGeom prst="rect">
            <a:avLst/>
          </a:prstGeom>
          <a:ln w="0">
            <a:noFill/>
          </a:ln>
        </p:spPr>
      </p:pic>
      <p:pic>
        <p:nvPicPr>
          <p:cNvPr id="66" name="Picture 2" descr=""/>
          <p:cNvPicPr/>
          <p:nvPr/>
        </p:nvPicPr>
        <p:blipFill>
          <a:blip r:embed="rId2"/>
          <a:stretch/>
        </p:blipFill>
        <p:spPr>
          <a:xfrm>
            <a:off x="108000" y="6010200"/>
            <a:ext cx="1755720" cy="763560"/>
          </a:xfrm>
          <a:prstGeom prst="rect">
            <a:avLst/>
          </a:prstGeom>
          <a:ln w="0">
            <a:noFill/>
          </a:ln>
        </p:spPr>
      </p:pic>
    </p:spTree>
  </p:cSld>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64">
                                            <p:txEl>
                                              <p:pRg st="5" end="5"/>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
                                            <p:txEl>
                                              <p:pRg st="6" end="6"/>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64">
                                            <p:txEl>
                                              <p:pRg st="7" end="7"/>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4">
                                            <p:txEl>
                                              <p:pRg st="9" end="9"/>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4">
                                            <p:txEl>
                                              <p:pRg st="10" end="10"/>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64">
                                            <p:txEl>
                                              <p:pRg st="11" end="1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64">
                                            <p:txEl>
                                              <p:pRg st="12" end="1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4">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360"/>
            <a:ext cx="8229600" cy="125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a74"/>
                </a:solidFill>
                <a:latin typeface="Arial"/>
                <a:ea typeface="Arial"/>
              </a:rPr>
              <a:t>Points to Consider</a:t>
            </a:r>
            <a:endParaRPr b="0" lang="en-US" sz="3600" spc="-1" strike="noStrike">
              <a:solidFill>
                <a:srgbClr val="ffffff"/>
              </a:solidFill>
              <a:latin typeface="Calibri"/>
            </a:endParaRPr>
          </a:p>
        </p:txBody>
      </p:sp>
      <p:sp>
        <p:nvSpPr>
          <p:cNvPr id="68" name=""/>
          <p:cNvSpPr txBox="1"/>
          <p:nvPr/>
        </p:nvSpPr>
        <p:spPr>
          <a:xfrm>
            <a:off x="250920" y="981000"/>
            <a:ext cx="8642160" cy="5145120"/>
          </a:xfrm>
          <a:prstGeom prst="rect">
            <a:avLst/>
          </a:prstGeom>
          <a:noFill/>
          <a:ln w="0">
            <a:noFill/>
          </a:ln>
        </p:spPr>
        <p:txBody>
          <a:bodyPr anchor="t">
            <a:normAutofit fontScale="96000"/>
          </a:bodyPr>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he background of the idea, product or servic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at is the problem being addressed? What is the solution to this problem? How does it work? Is there market need? Why this need is currently not met?</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at is the closest current solution to the problem? Is this solution better than the others currently availabl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an it be made? Does it require chemistry to operate/manufacture?</a:t>
            </a:r>
            <a:endParaRPr b="0" lang="en-US" sz="1600" spc="-1" strike="noStrike">
              <a:solidFill>
                <a:srgbClr val="ffffff"/>
              </a:solidFill>
              <a:latin typeface="Calibri"/>
            </a:endParaRPr>
          </a:p>
          <a:p>
            <a:pPr marL="329040" indent="-3290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he market for the idea, product or servic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o is the market/customer? Where are the customers and how large is the market? Is the market growing or contracting?</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ill the customer buy the product? Is there any competition in the market? How will we beat the competition?</a:t>
            </a:r>
            <a:endParaRPr b="0" lang="en-US" sz="1600" spc="-1" strike="noStrike">
              <a:solidFill>
                <a:srgbClr val="ffffff"/>
              </a:solidFill>
              <a:latin typeface="Calibri"/>
            </a:endParaRPr>
          </a:p>
          <a:p>
            <a:pPr marL="329040" indent="-3290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hat is the future for the idea, product or servic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How will the product be taken to the market and sold? </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an the product be patented? Why is it novel and inventive? </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Are there any regulatory requirements that need to be overcome? Will this be difficult, time-consuming or expensiv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ere could the idea, product or service be taken in the future to grow the business as a whole?</a:t>
            </a:r>
            <a:endParaRPr b="0" lang="en-US" sz="1600" spc="-1" strike="noStrike">
              <a:solidFill>
                <a:srgbClr val="ffffff"/>
              </a:solidFill>
              <a:latin typeface="Calibri"/>
            </a:endParaRPr>
          </a:p>
        </p:txBody>
      </p:sp>
      <p:pic>
        <p:nvPicPr>
          <p:cNvPr id="69" name="Picture 6" descr="http://www.brewersguardian.com/files.php?file=/Uni_of_Nott_logo_798923080.jpg"/>
          <p:cNvPicPr/>
          <p:nvPr/>
        </p:nvPicPr>
        <p:blipFill>
          <a:blip r:embed="rId1"/>
          <a:stretch/>
        </p:blipFill>
        <p:spPr>
          <a:xfrm>
            <a:off x="7524720" y="6093000"/>
            <a:ext cx="1530360" cy="680760"/>
          </a:xfrm>
          <a:prstGeom prst="rect">
            <a:avLst/>
          </a:prstGeom>
          <a:ln w="0">
            <a:noFill/>
          </a:ln>
        </p:spPr>
      </p:pic>
      <p:pic>
        <p:nvPicPr>
          <p:cNvPr id="70" name="Picture 2" descr=""/>
          <p:cNvPicPr/>
          <p:nvPr/>
        </p:nvPicPr>
        <p:blipFill>
          <a:blip r:embed="rId2"/>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71" name="TextBox 4"/>
          <p:cNvSpPr/>
          <p:nvPr/>
        </p:nvSpPr>
        <p:spPr>
          <a:xfrm>
            <a:off x="1547640" y="1413000"/>
            <a:ext cx="56167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3" name="Picture 3" descr=""/>
          <p:cNvPicPr/>
          <p:nvPr/>
        </p:nvPicPr>
        <p:blipFill>
          <a:blip r:embed="rId1"/>
          <a:stretch/>
        </p:blipFill>
        <p:spPr>
          <a:xfrm>
            <a:off x="6156360" y="6237360"/>
            <a:ext cx="1274760" cy="482400"/>
          </a:xfrm>
          <a:prstGeom prst="rect">
            <a:avLst/>
          </a:prstGeom>
          <a:ln w="0">
            <a:noFill/>
          </a:ln>
        </p:spPr>
      </p:pic>
      <p:sp>
        <p:nvSpPr>
          <p:cNvPr id="74" name="TextBox 7"/>
          <p:cNvSpPr/>
          <p:nvPr/>
        </p:nvSpPr>
        <p:spPr>
          <a:xfrm>
            <a:off x="250920" y="333360"/>
            <a:ext cx="900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a74"/>
                </a:solidFill>
                <a:latin typeface="Arial"/>
                <a:ea typeface="Arial"/>
              </a:rPr>
              <a:t>Author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a74"/>
                </a:solidFill>
                <a:latin typeface="Arial"/>
                <a:ea typeface="Arial"/>
              </a:rPr>
              <a:t>Dr. Trevor Farren, Dr. Simon Mosey &amp; Dr. William Drewe</a:t>
            </a:r>
            <a:endParaRPr b="0" lang="en-US" sz="2000" spc="-1" strike="noStrike">
              <a:solidFill>
                <a:srgbClr val="ffffff"/>
              </a:solidFill>
              <a:latin typeface="Arial"/>
            </a:endParaRPr>
          </a:p>
        </p:txBody>
      </p:sp>
      <p:sp>
        <p:nvSpPr>
          <p:cNvPr id="75" name="TextBox 9"/>
          <p:cNvSpPr/>
          <p:nvPr/>
        </p:nvSpPr>
        <p:spPr>
          <a:xfrm>
            <a:off x="228600" y="1981080"/>
            <a:ext cx="864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a74"/>
                </a:solidFill>
                <a:latin typeface="Arial"/>
                <a:ea typeface="Arial"/>
              </a:rPr>
              <a:t>Organisation</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a74"/>
                </a:solidFill>
                <a:latin typeface="Arial"/>
                <a:ea typeface="Arial"/>
              </a:rPr>
              <a:t>School of Chemistry, University of Nottingham, U.K. </a:t>
            </a:r>
            <a:endParaRPr b="0" lang="en-US" sz="2000" spc="-1" strike="noStrike">
              <a:solidFill>
                <a:srgbClr val="ffffff"/>
              </a:solidFill>
              <a:latin typeface="Arial"/>
            </a:endParaRPr>
          </a:p>
        </p:txBody>
      </p:sp>
      <p:sp>
        <p:nvSpPr>
          <p:cNvPr id="76" name="TextBox 10"/>
          <p:cNvSpPr/>
          <p:nvPr/>
        </p:nvSpPr>
        <p:spPr>
          <a:xfrm>
            <a:off x="250920" y="5589720"/>
            <a:ext cx="864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a74"/>
                </a:solidFill>
                <a:latin typeface="Arial"/>
                <a:ea typeface="Arial"/>
              </a:rPr>
              <a:t>Supported by:</a:t>
            </a:r>
            <a:endParaRPr b="0" lang="en-US" sz="2800" spc="-1" strike="noStrike">
              <a:solidFill>
                <a:srgbClr val="ffffff"/>
              </a:solidFill>
              <a:latin typeface="Arial"/>
            </a:endParaRPr>
          </a:p>
        </p:txBody>
      </p:sp>
      <p:pic>
        <p:nvPicPr>
          <p:cNvPr id="77" name="Picture 5" descr="http://www.cibit.url.tw/APBITM(New)/images/UoN%20logo.jpg"/>
          <p:cNvPicPr/>
          <p:nvPr/>
        </p:nvPicPr>
        <p:blipFill>
          <a:blip r:embed="rId2"/>
          <a:stretch/>
        </p:blipFill>
        <p:spPr>
          <a:xfrm>
            <a:off x="2590920" y="3462480"/>
            <a:ext cx="4032000" cy="1795320"/>
          </a:xfrm>
          <a:prstGeom prst="rect">
            <a:avLst/>
          </a:prstGeom>
          <a:ln w="0">
            <a:noFill/>
          </a:ln>
        </p:spPr>
      </p:pic>
      <p:pic>
        <p:nvPicPr>
          <p:cNvPr id="78" name="Picture 2" descr=""/>
          <p:cNvPicPr/>
          <p:nvPr/>
        </p:nvPicPr>
        <p:blipFill>
          <a:blip r:embed="rId3"/>
          <a:stretch/>
        </p:blipFill>
        <p:spPr>
          <a:xfrm>
            <a:off x="2340000" y="6094440"/>
            <a:ext cx="1755720" cy="76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0T14:15:45Z</dcterms:created>
  <dc:creator>Information Services</dc:creator>
  <dc:description/>
  <dc:language>en-US</dc:language>
  <cp:lastModifiedBy>Chris Runciman</cp:lastModifiedBy>
  <dcterms:modified xsi:type="dcterms:W3CDTF">2020-12-15T10:24:08Z</dcterms:modified>
  <cp:revision>110</cp:revision>
  <dc:subject/>
  <dc:title>Business pitch introduction</dc:title>
</cp:coreProperties>
</file>