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2CF4-0704-4CC2-B35E-FA44DCE8CF9B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A9E6-D9E5-43F0-A7CF-0D2B996A68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01B5-02BA-4F56-A2B8-23E29BA2B43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8151-B3BE-4981-A40C-651D6236918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853A-3312-4DE1-8087-5577828F091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8632-43B2-4155-9F7F-FC1623D8511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4D9B-0A6F-4079-809A-1335451C081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B54D-2650-467B-8CAA-891AF8224F5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C322-A198-410A-85FF-2BCEE67AD5D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390F-D237-4494-A8B3-A8C04229B59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86D-14E9-4359-83C4-F193E5E027B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12F5-01A3-46AE-8896-2965B282BE3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C297-7880-4EE4-BDCA-2E679D5DDC6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79E4-E964-4E8E-8DFD-9EBF2A563AD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14FC-AE40-49DF-A5C3-402C5329F37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C1D2-BEC6-4D06-B77B-AF48ED1E887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071D-B411-4DA1-847C-A3298255E30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C69A-3A77-4DDC-A9C8-E36048A6836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C08A-DCF7-4A88-9BB7-AB7A78CD60A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0EC3-23DC-4B71-B11E-191B1DDA1B6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AC02-A379-46C7-A363-7EF93345CAA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FC1E-4437-452D-81CB-43014E2913B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572B-AF6D-4762-95E5-5F6B12CC0C8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6E2E-2969-4365-8167-4A87D3D46B8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1A03-56CA-43E7-9128-C69DF28F64A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B25E-0761-4E80-8759-606C4A89AD1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A38-BB66-438A-B3D7-F9511538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3B2-0792-40C6-942B-D3BD726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9FE-2628-48B3-B2D7-4A5AC19B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E40-7245-4E14-A64F-3EB0C2CB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0E0-4B13-44B1-93E1-E8BA1087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404-7811-454F-B907-47855E06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2A2-2C24-4A1F-961B-69C4E581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F6E-2DFE-4393-B592-9681AA35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B2F-2FAE-4DFF-922F-4A40C226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2DC-9695-41B2-B12D-E52E618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619-FF1E-4DAC-B550-1A19132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F90-34F8-4184-BB58-B4B22D7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85AB-CF01-464B-82B3-1CDBFD7D4FA7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0004-A446-4407-B7A6-3947E8DD9CE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s://rsc.li/3840bDs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Intellectual Property </a:t>
            </a:r>
            <a:br>
              <a:rPr sz="5400"/>
            </a:b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and Patents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8" descr=""/>
          <p:cNvPicPr/>
          <p:nvPr/>
        </p:nvPicPr>
        <p:blipFill>
          <a:blip r:embed="rId2"/>
          <a:stretch/>
        </p:blipFill>
        <p:spPr>
          <a:xfrm>
            <a:off x="3341520" y="5364000"/>
            <a:ext cx="2457720" cy="621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0"/>
          <p:cNvGrpSpPr/>
          <p:nvPr/>
        </p:nvGrpSpPr>
        <p:grpSpPr>
          <a:xfrm>
            <a:off x="1868040" y="2276640"/>
            <a:ext cx="5406120" cy="3022200"/>
            <a:chOff x="1868040" y="2276640"/>
            <a:chExt cx="5406120" cy="3022200"/>
          </a:xfrm>
        </p:grpSpPr>
        <p:pic>
          <p:nvPicPr>
            <p:cNvPr id="52" name="Picture 7" descr=""/>
            <p:cNvPicPr/>
            <p:nvPr/>
          </p:nvPicPr>
          <p:blipFill>
            <a:blip r:embed="rId3"/>
            <a:stretch/>
          </p:blipFill>
          <p:spPr>
            <a:xfrm rot="1236600">
              <a:off x="5108040" y="2671920"/>
              <a:ext cx="1803960" cy="2385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4"/>
            <a:stretch/>
          </p:blipFill>
          <p:spPr>
            <a:xfrm rot="20540400">
              <a:off x="2195280" y="2539080"/>
              <a:ext cx="1848960" cy="244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  <p:cNvPicPr/>
            <p:nvPr/>
          </p:nvPicPr>
          <p:blipFill>
            <a:blip r:embed="rId5"/>
            <a:stretch/>
          </p:blipFill>
          <p:spPr>
            <a:xfrm>
              <a:off x="3154320" y="2276640"/>
              <a:ext cx="2656080" cy="256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2"/>
          <p:cNvSpPr/>
          <p:nvPr/>
        </p:nvSpPr>
        <p:spPr>
          <a:xfrm>
            <a:off x="3276720" y="6270480"/>
            <a:ext cx="28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189000"/>
            <a:ext cx="8642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gal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monopoly right lasting up to 20 years from fil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losure of your idea to the publ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-specif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aper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a (technical) id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finition of what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e done by others (claim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s of the inventor(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ocial bargain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e grants a monopoly right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disclose your idea to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sivity in a defined technical ar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ance to recoup you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return you pay some fees to the st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imulates inno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can be paten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arly anything “technical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s (molecules, materials, new com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aratus (for making, purifying, extracting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(synthetic methodology, process steps, trea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es (as a drug, a paint stripper,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st b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(“novel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-obvious (involves an “inventive step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pable of industrial appl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Novelty (&amp; Disclosure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olute worldwide novelty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de available (disclosed) to the public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“Prior Ar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ublished documents, posters, lectu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order to anticipate a “claim” all the features must be in a single document/lecture/pos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losur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invention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no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een made available to the public in any way, at any time, anywhere – this is very important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an be guarded against though imposing a C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ive Ste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ion must not be obvious to a person who is ‘skilled in the art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‘person skilled in the art’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ads everything (speaks all langu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kes routine sele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vercomes routine proble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n’t make inventive lea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invention may be inventive if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an unexpected or surprising resul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as not obvious to try or non-rout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overcomes a technical probl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Exclusions from 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Exclusions (UK, Europ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medical treatment/diagno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uter programs as su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 of inform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doing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atent attorney often avoids the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no restrictions in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orship &amp; Owner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or(s) are the actual devisor(s) of the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wnership may depend upon the relationship of the inventor(s) and any other parties invol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business/company normally owns the IP generated by employ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rmally set-out in the employees con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also the case at a Univers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udents however are not employees and a separate agreement will need to be reached between the University and the stud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atent may be invalidated if the inventor(s) and/or owners are not correctly indentifi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reedom-to-Oper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patent stops others from using your IP, but does not allow you to use it yoursel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use your own patent you may need to use something which is covered in the claims of someone else’s patent, e.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1 – “the wheel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2 – “the push bik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wner of patent 2 must ask permission to make his bike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therefore may have to license, buy or attack the other patent to gain the full potential from your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ly you could invent around the othe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76720" y="119556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onths ‘priority date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rafting &amp; file UK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76720" y="242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ider overseas 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76720" y="2925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8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 (A) &amp; search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76720" y="3933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ction needed in each cou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76720" y="443700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xamination + correspondence with patent exami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76720" y="5157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nt of patent &amp; Publication (B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276720" y="566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nual renewal f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 year maximum life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76720" y="170028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– 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‘priority period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finding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76720" y="3429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– 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must find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79280" y="2421000"/>
            <a:ext cx="2448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PCT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vers many count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588000" y="2421000"/>
            <a:ext cx="2249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National Application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Non-PCT count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.g. Argentina, Pakis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3933720"/>
            <a:ext cx="25210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ational / Regional Applicati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A, Japan, China, Brazil, Australia, et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ight Arrow 20"/>
          <p:cNvSpPr/>
          <p:nvPr/>
        </p:nvSpPr>
        <p:spPr>
          <a:xfrm rot="10800000">
            <a:off x="2771280" y="2636640"/>
            <a:ext cx="36036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ight Arrow 21"/>
          <p:cNvSpPr/>
          <p:nvPr/>
        </p:nvSpPr>
        <p:spPr>
          <a:xfrm>
            <a:off x="6084720" y="2637000"/>
            <a:ext cx="358920" cy="1443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ight Arrow 22"/>
          <p:cNvSpPr/>
          <p:nvPr/>
        </p:nvSpPr>
        <p:spPr>
          <a:xfrm rot="1152600">
            <a:off x="2785680" y="3052440"/>
            <a:ext cx="358920" cy="1429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ight Arrow 23"/>
          <p:cNvSpPr/>
          <p:nvPr/>
        </p:nvSpPr>
        <p:spPr>
          <a:xfrm rot="8670000">
            <a:off x="6092640" y="30160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ight Arrow 24"/>
          <p:cNvSpPr/>
          <p:nvPr/>
        </p:nvSpPr>
        <p:spPr>
          <a:xfrm rot="10800000">
            <a:off x="2771280" y="4149360"/>
            <a:ext cx="36036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ight Arrow 25"/>
          <p:cNvSpPr/>
          <p:nvPr/>
        </p:nvSpPr>
        <p:spPr>
          <a:xfrm rot="1619400">
            <a:off x="2784600" y="46544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own Arrow 26"/>
          <p:cNvSpPr/>
          <p:nvPr/>
        </p:nvSpPr>
        <p:spPr>
          <a:xfrm>
            <a:off x="1332000" y="3213000"/>
            <a:ext cx="215640" cy="576360"/>
          </a:xfrm>
          <a:prstGeom prst="downArrow">
            <a:avLst>
              <a:gd name="adj1" fmla="val 50000"/>
              <a:gd name="adj2" fmla="val 50065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1" name="Group 115"/>
          <p:cNvGrpSpPr/>
          <p:nvPr/>
        </p:nvGrpSpPr>
        <p:grpSpPr>
          <a:xfrm>
            <a:off x="1476000" y="1844640"/>
            <a:ext cx="6191640" cy="3609000"/>
            <a:chOff x="1476000" y="1844640"/>
            <a:chExt cx="6191640" cy="3609000"/>
          </a:xfrm>
        </p:grpSpPr>
        <p:pic>
          <p:nvPicPr>
            <p:cNvPr id="132" name="Chart 111" descr=""/>
            <p:cNvPicPr/>
            <p:nvPr/>
          </p:nvPicPr>
          <p:blipFill>
            <a:blip r:embed="rId1"/>
            <a:stretch/>
          </p:blipFill>
          <p:spPr>
            <a:xfrm>
              <a:off x="1907640" y="1844640"/>
              <a:ext cx="5760000" cy="32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12"/>
            <p:cNvSpPr/>
            <p:nvPr/>
          </p:nvSpPr>
          <p:spPr>
            <a:xfrm rot="10800000">
              <a:off x="1476000" y="2910960"/>
              <a:ext cx="4546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 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Box 113"/>
            <p:cNvSpPr/>
            <p:nvPr/>
          </p:nvSpPr>
          <p:spPr>
            <a:xfrm>
              <a:off x="4008240" y="508536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s since fi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atomy of a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tle – Usually uninforma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– To help patent searc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background – what is 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eneric statements defining the inven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tailed description of the invention, with reference to drawings (optional) and experimental data (usuall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gures – if they help explain the inven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aims – are as broad as possible to define the full scope of protection in the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protect an ide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to get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Getting Value from Your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agine your patent is like a house; you ca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ve in the house – commercialise you IP into a new prod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ke in a lodger – license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t out you house – exclusive license of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house – assign (sell)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3059280" y="2060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nvestors Look F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patent prot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security against competition from third parti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eedom-to-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third parties will not be able to stop you entering your market 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entitlement of inventorshi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no-one else can claim the IP or invalidate the pat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d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you would want to protect an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own how to get the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48392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wburn Ellis LL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mewburn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po.gov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epo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ide Careers – Career Opportunities in IP L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nsidecareers.co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250920" y="333360"/>
            <a:ext cx="871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Jeremy Webster, Dr. Rachel Oxley, 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28600" y="183348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n association with Mewburn Ellis LL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755640" y="3368520"/>
            <a:ext cx="35575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28" descr=""/>
          <p:cNvPicPr/>
          <p:nvPr/>
        </p:nvPicPr>
        <p:blipFill>
          <a:blip r:embed="rId3"/>
          <a:stretch/>
        </p:blipFill>
        <p:spPr>
          <a:xfrm>
            <a:off x="4859280" y="3728880"/>
            <a:ext cx="370692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4"/>
          <a:stretch/>
        </p:blipFill>
        <p:spPr>
          <a:xfrm>
            <a:off x="2411280" y="609768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s Intellectual Propert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(IP) refers to creations of the mind: inventions, literary and artistic works, symbols, names, images and designs used in commerce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P comes in several form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s – technical features of innova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ade Marks – brand names and logo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 – appea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pyright – graphical and literary materi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Protect An Idea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gal protection of your new idea or invention ensures the future position of your company/brand and enables you to make money in a highly competitive market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stops others from copying your idea allowing you to maximise the return you deserve for investing you time, capital and resources in the invention of the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 Well Known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 “Apple” and the logo above are examples of some of the registered trademarks the company hol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otal Apple holds approximately 8000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http://appleheadlines.com/wp-content/uploads/2011/01/apple-logo.jpeg"/>
          <p:cNvPicPr/>
          <p:nvPr/>
        </p:nvPicPr>
        <p:blipFill>
          <a:blip r:embed="rId1"/>
          <a:stretch/>
        </p:blipFill>
        <p:spPr>
          <a:xfrm>
            <a:off x="3780000" y="1773360"/>
            <a:ext cx="1539720" cy="18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5400 patents covering all of the technical aspects of it’s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 rot="1450800">
            <a:off x="1794960" y="2062080"/>
            <a:ext cx="251316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 rot="1558200">
            <a:off x="4896000" y="2301480"/>
            <a:ext cx="245736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2700 registered designs for it’s uniquely style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55640" y="1846440"/>
            <a:ext cx="1851120" cy="109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03640" y="3718080"/>
            <a:ext cx="17287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128760" cy="19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946080" y="3718080"/>
            <a:ext cx="868320" cy="17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050840" cy="1671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483000" y="2135160"/>
            <a:ext cx="1325520" cy="91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769440" cy="42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Rectangle 6"/>
          <p:cNvSpPr/>
          <p:nvPr/>
        </p:nvSpPr>
        <p:spPr>
          <a:xfrm>
            <a:off x="1979640" y="530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2 Apple Inc.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the only mechanism for protecting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chn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de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 and investors like to see th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a negative right i.e. they detail what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 done by ot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8:43Z</dcterms:modified>
  <cp:revision>145</cp:revision>
  <dc:subject/>
  <dc:title>Intellectual property presentation</dc:title>
</cp:coreProperties>
</file>