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B57-6F5A-44AD-B358-ABE7BCD79219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BCC7-03FA-4FA4-8B87-672DE57E47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963B-F04A-40E4-A3F1-5980992386A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0B7C-1503-45F2-AC4A-4B8ECF7B995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F04-B1BD-4ECE-A8B9-8D8DAE7D4AA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A5D1-AFFA-4D9E-AF5E-6237D1F1566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F80-7802-4F3F-9231-14522864FD3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CA0B-06AE-42B0-A5AE-4CF2DE54F26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B9AB-5920-4400-A432-1B167F19879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B262-4379-4893-8FC4-A1C3BCC1C6D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59ED-F25A-44D2-BB80-BC7C27DB6CA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8748-E25B-4E1D-AB51-2924E548C58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0050-5F21-432E-B5D5-5E4B379EA7B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3B3F-32E6-4BF7-BE55-72CF5419812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CBB-0AD6-42FC-A789-04C4A6DAEAA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1E8C-AAB7-4CC4-AD94-EAAF2AF24CF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449B-B604-4688-81D3-FEB4025C884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EC9-A6A0-4E9E-BC3C-488BCF333E8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220-5815-4C91-9FA4-783A4DB5280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3CD7-06C9-4B1F-8462-68B31C25DCF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6BF-E7DB-4FB5-829C-0F3A99735F3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AAD6-3CA1-41B4-AF23-BE653AAA748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88FC-1F26-491A-825A-3A7094B9843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A3F-F82A-41C3-B5EE-4F2106070BE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6BF-6075-4CDB-87DB-D85021DED08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2DA-2954-4A49-BCC0-5FF04C0FF25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F21-D4C4-4FF4-87E7-C892A9A6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FBE-E769-4ADC-B30C-DF09D70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A43-F2D9-4DC1-8C12-42D0CA44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4D3-E169-48A3-ABC0-A4C78A72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3D0-46A5-4215-B23A-7626F6D5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B7A-0834-4128-BAF9-85DDF83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D11-B542-450C-8EE5-1F7A0A9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F79-F283-432C-8239-56ECFEEA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67F-D96D-4188-95E7-80D79264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A65-4814-464C-8580-7B99B91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179-D492-4D48-B75C-CE47EBC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0F9-35D2-494B-996E-55A8BF43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0A1-EBEE-4DEE-B190-CDC86B2F6149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56A2-C047-4A73-BE8E-D6FD99905B4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s://rsc.li/3840bDs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Intellectual Property </a:t>
            </a:r>
            <a:br>
              <a:rPr sz="5400"/>
            </a:b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and Patents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3341520" y="5364000"/>
            <a:ext cx="2457720" cy="621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1868040" y="2276640"/>
            <a:ext cx="5406120" cy="3022200"/>
            <a:chOff x="1868040" y="2276640"/>
            <a:chExt cx="5406120" cy="3022200"/>
          </a:xfrm>
        </p:grpSpPr>
        <p:pic>
          <p:nvPicPr>
            <p:cNvPr id="52" name="Picture 7" descr=""/>
            <p:cNvPicPr/>
            <p:nvPr/>
          </p:nvPicPr>
          <p:blipFill>
            <a:blip r:embed="rId3"/>
            <a:stretch/>
          </p:blipFill>
          <p:spPr>
            <a:xfrm rot="1236600">
              <a:off x="5108040" y="2671920"/>
              <a:ext cx="1803960" cy="238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4"/>
            <a:stretch/>
          </p:blipFill>
          <p:spPr>
            <a:xfrm rot="20540400">
              <a:off x="2195280" y="2539080"/>
              <a:ext cx="1848960" cy="24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  <p:cNvPicPr/>
            <p:nvPr/>
          </p:nvPicPr>
          <p:blipFill>
            <a:blip r:embed="rId5"/>
            <a:stretch/>
          </p:blipFill>
          <p:spPr>
            <a:xfrm>
              <a:off x="3154320" y="2276640"/>
              <a:ext cx="2656080" cy="25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2"/>
          <p:cNvSpPr/>
          <p:nvPr/>
        </p:nvSpPr>
        <p:spPr>
          <a:xfrm>
            <a:off x="3276720" y="6270480"/>
            <a:ext cx="28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89000"/>
            <a:ext cx="8642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gal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onopoly right lasting up to 20 years from fil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losure of your idea to the publ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-specif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aper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a (technical) id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finition of what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 done by others (clai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s of the inventor(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ocial bargain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e grants a monopoly right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disclose your idea to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sivity in a defined technical ar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ance to recoup you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return you pay some fees to the st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imulates inno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can be paten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arly anything “technical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(molecules, materials, new com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aratus (for making, purifying, extract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synthetic methodology, process steps, trea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s (as a drug, a paint stripper,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(“novel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-obvious (involves an “inventive step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pable of industrial appl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Novelty (&amp; Disclosure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worldwide novelt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de available (disclosed) to the public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“Prior Ar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shed documents, posters, le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order to anticipate a “claim” all the features must be in a single document/lecture/pos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los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invention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no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made available to the public in any way, at any time, anywhere – this is very important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an be guarded against though imposing a C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ive 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ion must not be obvious to a person who is ‘skilled in the art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‘person skilled in the art’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ds everything (speaks all langu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kes routine sele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comes routine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n’t make inventive lea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vention may be inventive i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an unexpected or surprising resul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as not obvious to try or non-rou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overcomes a technical probl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Exclusions from 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Exclusions (UK, Europ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medical treatment/diagno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programs as su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of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doing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atent attorney often avoids the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no restrictions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orship &amp; Own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or(s) are the actual devisor(s) of the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may depend upon the relationship of the inventor(s) and any other partie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business/company normally owns the IP generated by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rmally set-out in the employees con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lso the case at a Univers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however are not employees and a separate agreement will need to be reached between the University and the stu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atent may be invalidated if the inventor(s) and/or owners are not correctly indenti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reedom-to-Op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atent stops others from using your IP, but does not allow you to use it your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se your own patent you may need to use something which is covered in the claims of someone else’s patent, e.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1 – “the wheel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2 – “the push bik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wner of patent 2 must ask permission to make his bik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therefore may have to license, buy or attack the other patent to gain the full potential from your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ly you could invent around the othe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119556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onths ‘priority date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ing &amp; file UK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76720" y="242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der overseas 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2925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 (A) &amp; search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76720" y="3933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on needed in each cou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43700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amination + correspondence with patent exami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5157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nt of patent &amp; Publication (B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76720" y="566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nual renewal f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year maximum life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76720" y="170028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– 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‘priority period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finding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6720" y="3429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– 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must find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9280" y="2421000"/>
            <a:ext cx="2448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PCT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vers many count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88000" y="2421000"/>
            <a:ext cx="2249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National Application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Non-PCT count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Argentina, Pakis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3933720"/>
            <a:ext cx="2521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tional / Regional Applicati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A, Japan, China, Brazil, Australia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ight Arrow 20"/>
          <p:cNvSpPr/>
          <p:nvPr/>
        </p:nvSpPr>
        <p:spPr>
          <a:xfrm rot="10800000">
            <a:off x="2771280" y="2636640"/>
            <a:ext cx="36036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21"/>
          <p:cNvSpPr/>
          <p:nvPr/>
        </p:nvSpPr>
        <p:spPr>
          <a:xfrm>
            <a:off x="6084720" y="2637000"/>
            <a:ext cx="358920" cy="1443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ight Arrow 22"/>
          <p:cNvSpPr/>
          <p:nvPr/>
        </p:nvSpPr>
        <p:spPr>
          <a:xfrm rot="1152600">
            <a:off x="2785680" y="3052440"/>
            <a:ext cx="358920" cy="1429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 rot="8670000">
            <a:off x="6092640" y="30160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24"/>
          <p:cNvSpPr/>
          <p:nvPr/>
        </p:nvSpPr>
        <p:spPr>
          <a:xfrm rot="10800000">
            <a:off x="2771280" y="4149360"/>
            <a:ext cx="3603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25"/>
          <p:cNvSpPr/>
          <p:nvPr/>
        </p:nvSpPr>
        <p:spPr>
          <a:xfrm rot="1619400">
            <a:off x="2784600" y="46544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own Arrow 26"/>
          <p:cNvSpPr/>
          <p:nvPr/>
        </p:nvSpPr>
        <p:spPr>
          <a:xfrm>
            <a:off x="1332000" y="321300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1" name="Group 115"/>
          <p:cNvGrpSpPr/>
          <p:nvPr/>
        </p:nvGrpSpPr>
        <p:grpSpPr>
          <a:xfrm>
            <a:off x="1476000" y="1844640"/>
            <a:ext cx="6191640" cy="3609000"/>
            <a:chOff x="1476000" y="1844640"/>
            <a:chExt cx="6191640" cy="3609000"/>
          </a:xfrm>
        </p:grpSpPr>
        <p:pic>
          <p:nvPicPr>
            <p:cNvPr id="132" name="Chart 111" descr=""/>
            <p:cNvPicPr/>
            <p:nvPr/>
          </p:nvPicPr>
          <p:blipFill>
            <a:blip r:embed="rId1"/>
            <a:stretch/>
          </p:blipFill>
          <p:spPr>
            <a:xfrm>
              <a:off x="1907640" y="1844640"/>
              <a:ext cx="576000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2"/>
            <p:cNvSpPr/>
            <p:nvPr/>
          </p:nvSpPr>
          <p:spPr>
            <a:xfrm rot="10800000">
              <a:off x="1476000" y="29109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 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Box 113"/>
            <p:cNvSpPr/>
            <p:nvPr/>
          </p:nvSpPr>
          <p:spPr>
            <a:xfrm>
              <a:off x="4008240" y="508536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s since fi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atomy of a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 – Usually un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– To help patent sear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background – what is 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statements defining the inv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tailed description of the invention, with reference to drawings (optional) and experimental data (usuall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gures – if they help explain the inven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aims – are as broad as possible to define the full scope of protection in the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protect an ide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o get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Getting Value from Your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agine your patent is like a house; you ca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e in the house – commercialise you IP into a new pro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ke in a lodger – license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out you house – exclusive license of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house – assign (sell)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3059280" y="2060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nvestors Look F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patent prot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security against competition from third parti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edom-to-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third parties will not be able to stop you entering your market 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entitlement of inventorshi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no-one else can claim the IP or invalidate the pa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d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you would want to protect an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own how to get the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48392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wburn Ellis LL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mewburn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po.gov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epo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ide Careers – Career Opportunities in IP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nsidecareers.co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50920" y="33336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Jeremy Webster, Dr. Rachel Oxley, 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28600" y="183348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n association with Mewburn Ellis LL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755640" y="3368520"/>
            <a:ext cx="3557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8" descr=""/>
          <p:cNvPicPr/>
          <p:nvPr/>
        </p:nvPicPr>
        <p:blipFill>
          <a:blip r:embed="rId3"/>
          <a:stretch/>
        </p:blipFill>
        <p:spPr>
          <a:xfrm>
            <a:off x="4859280" y="3728880"/>
            <a:ext cx="37069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2411280" y="609768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s Intellectual Propert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(IP) refers to creations of the mind: inventions, literary and artistic works, symbols, names, images and designs used in commerc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P comes in several form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s – technical features of innov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 Marks – brand names and logo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 – appea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pyright – graphical and literary materi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Protect An Idea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gal protection of your new idea or invention ensures the future position of your company/brand and enables you to make money in a highly competitive market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stops others from copying your idea allowing you to maximise the return you deserve for investing you time, capital and resources in the invention of the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 Well Known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 “Apple” and the logo above are examples of some of the registered trademarks the company hol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otal Apple holds approximately 800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appleheadlines.com/wp-content/uploads/2011/01/apple-logo.jpeg"/>
          <p:cNvPicPr/>
          <p:nvPr/>
        </p:nvPicPr>
        <p:blipFill>
          <a:blip r:embed="rId1"/>
          <a:stretch/>
        </p:blipFill>
        <p:spPr>
          <a:xfrm>
            <a:off x="3780000" y="1773360"/>
            <a:ext cx="153972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5400 patents covering all of the technical aspects of it’s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 rot="1450800">
            <a:off x="1794960" y="2062080"/>
            <a:ext cx="251316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 rot="1558200">
            <a:off x="4896000" y="2301480"/>
            <a:ext cx="245736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2700 registered designs for it’s uniquely style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55640" y="1846440"/>
            <a:ext cx="1851120" cy="109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03640" y="3718080"/>
            <a:ext cx="17287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12876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946080" y="3718080"/>
            <a:ext cx="86832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05084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483000" y="2135160"/>
            <a:ext cx="1325520" cy="91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9440" cy="42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6"/>
          <p:cNvSpPr/>
          <p:nvPr/>
        </p:nvSpPr>
        <p:spPr>
          <a:xfrm>
            <a:off x="1979640" y="530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2 Apple Inc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the only mechanism for protecting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d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 and investors like to se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a negative right i.e. they detail wha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done by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8:43Z</dcterms:modified>
  <cp:revision>145</cp:revision>
  <dc:subject/>
  <dc:title>Intellectual property presentation</dc:title>
</cp:coreProperties>
</file>