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B030-3A10-43CE-B316-1B526823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B33-2BF6-4B22-A9BC-11545A35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67D-FC91-49CC-9825-F6AB4D0E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BE1-20E7-4E1A-AA31-35624016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FBA-A236-4D49-AD4E-976192AD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70E-72ED-41AD-8F43-E74B49CF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7B3-7102-4B4A-B07F-0DEA74AE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A68-A247-406E-91BB-667409DA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32B-8E56-4B82-AFBF-6DA8F181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6671-445D-4893-A3F4-EA1384DE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1D8-2632-466B-8672-44D58371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2584-68E9-40DE-898E-B978EF05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D333-10CB-49E1-B807-F1E2056AAD72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9A27-6DB6-40E1-92C5-807AAEB575B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s://rsc.li/3niU8Bv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Basic Rules of Busin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3772800" y="558324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</a:rPr>
              <a:t>Fi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<p:cNvPicPr/>
          <p:nvPr/>
        </p:nvPicPr>
        <p:blipFill>
          <a:blip r:embed="rId2"/>
          <a:stretch/>
        </p:blipFill>
        <p:spPr>
          <a:xfrm>
            <a:off x="2932200" y="2065320"/>
            <a:ext cx="3205080" cy="330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1979640" y="6284880"/>
            <a:ext cx="282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resource was downloaded from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rsc.li/3niU8Bv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 information below complete the following balance she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. Label each item as an asset (fixed/variable), liability or as capital &amp; reser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r>
              <a:rPr b="0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Case Study for Chemistry C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1403280" y="2924280"/>
          <a:ext cx="6337440" cy="3022560"/>
        </p:xfrm>
        <a:graphic>
          <a:graphicData uri="http://schemas.openxmlformats.org/drawingml/2006/table">
            <a:tbl>
              <a:tblPr/>
              <a:tblGrid>
                <a:gridCol w="3700440"/>
                <a:gridCol w="777960"/>
                <a:gridCol w="1859040"/>
              </a:tblGrid>
              <a:tr h="39132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set, Liabilit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 Capital &amp; Reser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ehold of laborato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fix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ment used within the business (inc. chemistry, I.T. etc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fix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fixtures and fitting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fix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ount owed to chemical suppliers/other bil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abil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ocks of chemicals within the laborato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variabl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ocks of saleable chemical produc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variabl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n from bank (repayable in 5 year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abil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ture capitalist invest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abil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h in the ban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variabl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invested by the own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&amp; Reser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umulated profits (after 5 years trading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&amp; Reser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6"/>
          <p:cNvSpPr/>
          <p:nvPr/>
        </p:nvSpPr>
        <p:spPr>
          <a:xfrm>
            <a:off x="6227640" y="3348000"/>
            <a:ext cx="10083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372360" y="3581280"/>
            <a:ext cx="100800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300720" y="3825720"/>
            <a:ext cx="100800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6443640" y="4068720"/>
            <a:ext cx="108108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372360" y="4292640"/>
            <a:ext cx="107928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6300720" y="4551480"/>
            <a:ext cx="1150920" cy="1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6443640" y="4781520"/>
            <a:ext cx="108108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6435720" y="5021280"/>
            <a:ext cx="108108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6300720" y="5261040"/>
            <a:ext cx="115092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6300720" y="5500800"/>
            <a:ext cx="107964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6300720" y="5732640"/>
            <a:ext cx="115092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Q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ing the information in the previous table, complete the following balance shee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r>
              <a:rPr b="0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ＭＳ Ｐゴシック"/>
              </a:rPr>
              <a:t>As of 31</a:t>
            </a:r>
            <a:r>
              <a:rPr b="0" lang="en-US" sz="3200" spc="-1" strike="noStrike" baseline="30000">
                <a:solidFill>
                  <a:srgbClr val="003a74"/>
                </a:solidFill>
                <a:latin typeface="Arial"/>
                <a:ea typeface="ＭＳ Ｐゴシック"/>
              </a:rPr>
              <a:t>st</a:t>
            </a: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ＭＳ Ｐゴシック"/>
              </a:rPr>
              <a:t> Decemb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1116000" y="2349360"/>
          <a:ext cx="6840720" cy="2864160"/>
        </p:xfrm>
        <a:graphic>
          <a:graphicData uri="http://schemas.openxmlformats.org/drawingml/2006/table">
            <a:tbl>
              <a:tblPr/>
              <a:tblGrid>
                <a:gridCol w="2303640"/>
                <a:gridCol w="863280"/>
                <a:gridCol w="2810160"/>
                <a:gridCol w="863640"/>
              </a:tblGrid>
              <a:tr h="35100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xed Asse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abil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00008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ehold of laborato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ment used in business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fixtures and fit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Amount owed to suppli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other bil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Loan from ba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Venture capitalist invest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riable Asse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pital and Reserv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811080">
                <a:tc>
                  <a:txBody>
                    <a:bodyPr lIns="86400" rIns="86400" tIns="43200" bIns="4320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Stocks of chemica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Stocks of saleable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Cash in the ba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invested by the own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umulated profit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Asse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0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Liabilities &amp; Capit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0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</a:tr>
            </a:tbl>
          </a:graphicData>
        </a:graphic>
      </p:graphicFrame>
      <p:sp>
        <p:nvSpPr>
          <p:cNvPr id="124" name="TextBox 5"/>
          <p:cNvSpPr/>
          <p:nvPr/>
        </p:nvSpPr>
        <p:spPr>
          <a:xfrm>
            <a:off x="2283480" y="5661000"/>
            <a:ext cx="38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So the balance sheet bal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187280" y="2924280"/>
            <a:ext cx="212436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3492360" y="285264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356000" y="2924280"/>
            <a:ext cx="266400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164360" y="285264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187280" y="4149720"/>
            <a:ext cx="212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3492360" y="414972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4322880" y="4141800"/>
            <a:ext cx="2232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7164360" y="414972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3492360" y="4941720"/>
            <a:ext cx="755640" cy="216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7164360" y="4941720"/>
            <a:ext cx="755640" cy="216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Many businesses make a profit </a:t>
            </a:r>
            <a:r>
              <a:rPr b="1" i="1" lang="en-GB" sz="24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but</a:t>
            </a:r>
            <a:r>
              <a:rPr b="1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fail because they run out of CASH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king a profit is the key to a successful busines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ever…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f you run out of the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quid ca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required to pay running expenses (e.g. invoices, salaries and make purchases) you’re business may not be able to 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Cash Flow Forecast describes the short-term cash requirements of a business to ensure the future availability of a suitable quantity of liquid cas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Liquid (available) cash = cash in the bank + short-term investments – short-term debts (e.g. bills, payroll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CASH IS KING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thout liquid cash your business can’t 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Profit/Loss Stat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pas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sts transactions for a given period (e.g. a year) and show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ther the business is making a profit or lo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presen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ws whether the finances balance on a given dat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futur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the short-term cash requirements of a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CASH IS KING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7"/>
          <p:cNvSpPr/>
          <p:nvPr/>
        </p:nvSpPr>
        <p:spPr>
          <a:xfrm>
            <a:off x="250920" y="333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Trevor Farren, Dr. Simon Mosey &amp; Dr. William Dre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250920" y="16351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2563920" y="2976480"/>
            <a:ext cx="4032000" cy="1795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3"/>
          <a:stretch/>
        </p:blipFill>
        <p:spPr>
          <a:xfrm>
            <a:off x="2428920" y="609444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Key Terms &amp; Concep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ccountancy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ommunication of financial information about a business to shareholders and managers. This generally takes the form of financial statem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Ass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ts are economic resource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n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r controlled by the business which are capable of producing value (or cash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Li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abilities are the funds (including borrowings), services or product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y a business at a specified da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Capital &amp; Reserves (or Owner’s Equ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s put into the business by the owners or shareholders and retained on their behal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Profit/Loss Statement (past financial performance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ws the performance of the business over a given tim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Profit/Loss = Total Income – Total Expendi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Gross Profit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sales revenue (and other income) – cost of making the produc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fore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ducting overheads, payroll, taxation and other costs for th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Net Profi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gross profit – all costs (e.g. manufacture/sales, operating costs, taxes etc.)  i.e.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f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ubtracting all costs, expenses and losses for th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Balance sheet (present financial posi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 balance sheet is a summary of the financial balances of a business as of a specific date, such as the end of the financial year. It typically includes a list of the business assets, liabilities and ownership equ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 (future financial liquid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the short-term cash requirements of a business to ensure the future availability of a suitable quantity of liquid cas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Liquid (available) cash = cash in the bank + short-term investments – short-term debts (e.g. bills, payroll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ost, Price and Valu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000" y="1413000"/>
            <a:ext cx="85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it cos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duce/manufacture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re selling the product for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ustom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prepared to pay for it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6948360" y="1197000"/>
            <a:ext cx="1936800" cy="475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www.brewersguardian.com/files.php?file=/Uni_of_Nott_logo_798923080.jpg"/>
          <p:cNvPicPr/>
          <p:nvPr/>
        </p:nvPicPr>
        <p:blipFill>
          <a:blip r:embed="rId2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shows 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it/los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at has been achieved over a given period of time (i.e. in the past).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Profit = Total Income – Total Expendi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your own monthly profit/loss statement – A bank stat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Alan Sugar’s Personal Bank Statement for Decemb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Profit/Loss Statement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A Personal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539640" y="3429000"/>
          <a:ext cx="5545080" cy="2698920"/>
        </p:xfrm>
        <a:graphic>
          <a:graphicData uri="http://schemas.openxmlformats.org/drawingml/2006/table">
            <a:tbl>
              <a:tblPr/>
              <a:tblGrid>
                <a:gridCol w="3672000"/>
                <a:gridCol w="936720"/>
                <a:gridCol w="936360"/>
              </a:tblGrid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d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b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entice inco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n repaym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ricity and Gas bil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.V. and advertising appearan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bil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eaning Co. household clea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 card bill (food, entertainment, clothes, travel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Credit/Deb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,7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lance carried forward to Janua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,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  <p:sp>
        <p:nvSpPr>
          <p:cNvPr id="66" name="TextBox 9"/>
          <p:cNvSpPr/>
          <p:nvPr/>
        </p:nvSpPr>
        <p:spPr>
          <a:xfrm>
            <a:off x="6388920" y="4581360"/>
            <a:ext cx="25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Alan Sugar is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profit for Dec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88920" y="60516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. Fill out the table below and calculate how much profit/loss Chemistry Co. ha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nerated in the first quarter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: Think carefully about how we account for the £50,000 of stock in the store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Profit and Loss </a:t>
            </a:r>
            <a:br>
              <a:rPr sz="54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Case Study for Chemistry C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763640" y="2637000"/>
          <a:ext cx="5545080" cy="2158920"/>
        </p:xfrm>
        <a:graphic>
          <a:graphicData uri="http://schemas.openxmlformats.org/drawingml/2006/table">
            <a:tbl>
              <a:tblPr/>
              <a:tblGrid>
                <a:gridCol w="3672000"/>
                <a:gridCol w="936720"/>
                <a:gridCol w="936360"/>
              </a:tblGrid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d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b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 income of chemical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and Laboratory running cos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ff salar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oice paid to chemical suppli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ayment of loans to ba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Credit/Deb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t Profit or Loss for 1</a:t>
                      </a:r>
                      <a:r>
                        <a:rPr b="1" i="1" lang="en-US" sz="12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  <p:sp>
        <p:nvSpPr>
          <p:cNvPr id="72" name="TextBox 9"/>
          <p:cNvSpPr/>
          <p:nvPr/>
        </p:nvSpPr>
        <p:spPr>
          <a:xfrm>
            <a:off x="468360" y="537372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a74"/>
                </a:solidFill>
                <a:latin typeface="Arial"/>
                <a:ea typeface="Arial"/>
              </a:rPr>
              <a:t>What about the £50,000 of products in the stor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£50,000 of saleable products in the stores are not included – they were made outside this time period and would have been accounted for in the previous profit/loss repor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286000" y="4869000"/>
            <a:ext cx="45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company is in profit in quart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5580000" y="2924280"/>
            <a:ext cx="72072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6516720" y="3213000"/>
            <a:ext cx="719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516720" y="3497400"/>
            <a:ext cx="71928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6443640" y="3741840"/>
            <a:ext cx="72072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6516720" y="4005360"/>
            <a:ext cx="719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5643720" y="4292640"/>
            <a:ext cx="72072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6443640" y="4292640"/>
            <a:ext cx="72072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6516720" y="4565520"/>
            <a:ext cx="71928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90360" y="605160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Understand your own </a:t>
            </a:r>
            <a:r>
              <a:rPr b="1" i="1" lang="en-US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present</a:t>
            </a:r>
            <a:r>
              <a:rPr b="1" i="1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financial circumstan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likely to be your principal asset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 you own it outright or is it financed (i.e. a liability)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A Personal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619280" y="4941720"/>
            <a:ext cx="164304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se value £2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35080" y="4941720"/>
            <a:ext cx="37155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gage from the B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£12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equity (profi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£8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£2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137320" y="5877000"/>
            <a:ext cx="47973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Your personal balance sheet bal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1" descr="http://www.nottingham.ac.uk/xpert/attribution/pictureattrib/mangle.php?url=http://farm5.static.flickr.com/3244/2985184711_3ef9ac8c39_b.jpg&amp;original_url=http://www.flickr.com/71581861@N00/2985184711/&amp;license=flickr_3&amp;flickr_id=2985184711&amp;size=full&amp;picturename=Royal%20Exchange,%20The%20City"/>
          <p:cNvPicPr/>
          <p:nvPr/>
        </p:nvPicPr>
        <p:blipFill>
          <a:blip r:embed="rId1"/>
          <a:stretch/>
        </p:blipFill>
        <p:spPr>
          <a:xfrm>
            <a:off x="5148360" y="2693880"/>
            <a:ext cx="2808360" cy="219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2"/>
          <a:stretch/>
        </p:blipFill>
        <p:spPr>
          <a:xfrm>
            <a:off x="971640" y="2852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ttp://www.brewersguardian.com/files.php?file=/Uni_of_Nott_logo_798923080.jpg"/>
          <p:cNvPicPr/>
          <p:nvPr/>
        </p:nvPicPr>
        <p:blipFill>
          <a:blip r:embed="rId3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sset</a:t>
            </a:r>
            <a:r>
              <a:rPr b="0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Items of valu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n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r controlled by the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Liabi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– Amounts or servise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y the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apital &amp; Reserv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Amount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y the owners/sharehold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9"/>
          <p:cNvSpPr/>
          <p:nvPr/>
        </p:nvSpPr>
        <p:spPr>
          <a:xfrm>
            <a:off x="682560" y="3787920"/>
            <a:ext cx="175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ck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ixtures &amp; Fitt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843280" y="378792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.g. Vehicles, I.T.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714920" y="378792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s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ser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588000" y="386064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ank Loa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1" descr="http://www.nottingham.ac.uk/xpert/attribution/pictureattrib/mangle.php?url=http://farm5.static.flickr.com/3244/2985184711_3ef9ac8c39_b.jpg&amp;original_url=http://www.flickr.com/71581861@N00/2985184711/&amp;license=flickr_3&amp;flickr_id=2985184711&amp;size=full&amp;picturename=Royal%20Exchange,%20The%20City"/>
          <p:cNvPicPr/>
          <p:nvPr/>
        </p:nvPicPr>
        <p:blipFill>
          <a:blip r:embed="rId2"/>
          <a:stretch/>
        </p:blipFill>
        <p:spPr>
          <a:xfrm>
            <a:off x="6443640" y="4292640"/>
            <a:ext cx="2160720" cy="165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http://www.nottingham.ac.uk/xpert/attribution/pictureattrib/mangle.php?url=http://farm5.static.flickr.com/6148/6205837092_1b518ccf7b_b.jpg&amp;original_url=http://www.flickr.com/43669498@N05/6205837092/&amp;license=flickr_5&amp;flickr_id=6205837092&amp;size=full&amp;picturename=Mediq%20Sverige%20Kungsbacka%20warehouse"/>
          <p:cNvPicPr/>
          <p:nvPr/>
        </p:nvPicPr>
        <p:blipFill>
          <a:blip r:embed="rId3"/>
          <a:stretch/>
        </p:blipFill>
        <p:spPr>
          <a:xfrm>
            <a:off x="538200" y="4363920"/>
            <a:ext cx="2036880" cy="158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http://www.nottingham.ac.uk/xpert/attribution/pictureattrib/mangle.php?url=http://farm5.static.flickr.com/6121/5997591294_0632c3d52b_b.jpg&amp;original_url=http://www.flickr.com/45393120@N07/5997591294/&amp;license=flickr_4&amp;flickr_id=5997591294&amp;size=full&amp;picturename=HA0487-016"/>
          <p:cNvPicPr/>
          <p:nvPr/>
        </p:nvPicPr>
        <p:blipFill>
          <a:blip r:embed="rId4"/>
          <a:stretch/>
        </p:blipFill>
        <p:spPr>
          <a:xfrm>
            <a:off x="2698920" y="4363920"/>
            <a:ext cx="2180880" cy="158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<p:cNvPicPr/>
          <p:nvPr/>
        </p:nvPicPr>
        <p:blipFill>
          <a:blip r:embed="rId5"/>
          <a:stretch/>
        </p:blipFill>
        <p:spPr>
          <a:xfrm>
            <a:off x="5075280" y="4363920"/>
            <a:ext cx="1257120" cy="158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6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dcterms:modified xsi:type="dcterms:W3CDTF">2020-12-15T09:22:25Z</dcterms:modified>
  <cp:revision>156</cp:revision>
  <dc:subject/>
  <dc:title>Slide 1</dc:title>
</cp:coreProperties>
</file>