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8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BB895-BA00-4F2F-A3EB-520F09DA0F22}" type="datetime">
              <a:rPr b="0" lang="en-GB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5E6CA-AED1-460B-B876-C48FB87BC04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14194-C2D7-4E70-A576-B20CF2519D5B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54421-1300-4870-9EFB-41E6661B1CFA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F518-D78A-4E5A-AFB8-5B65FD564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CF5F-C720-4EF2-AE68-B56B39760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E5EF-DBFB-440D-A2F3-B80DE25F6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DB75-8C26-4466-9D5D-7FC21960E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AFF3-AF59-4099-9BA4-FD19F30CD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296D-B31F-473C-9FA5-6D74DED97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E722-F499-4FEA-B875-49F057154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5194-A67E-46B3-AF2B-4B2AD39C9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5F93-3873-4CBD-B8B6-D8B1FE019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F6B5-72EC-4F29-BF33-999C98C8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EE40-6DC7-435B-9943-922E82A6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369C-8CA0-4474-8286-AE437C2C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066DF-C1F5-4622-BF50-75B05DC945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29B10-7FD2-4AEC-9800-6B67927DAF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Picture 9" descr="BS_Bar_header_Blue.jpg"/>
          <p:cNvPicPr/>
          <p:nvPr/>
        </p:nvPicPr>
        <p:blipFill>
          <a:blip r:embed="rId2"/>
          <a:stretch/>
        </p:blipFill>
        <p:spPr>
          <a:xfrm>
            <a:off x="249120" y="0"/>
            <a:ext cx="8604360" cy="10047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rsc.li/3840bDs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7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2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Ingenuity</a:t>
            </a:r>
            <a:br>
              <a:rPr sz="4400"/>
            </a:b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Part 1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83808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usiness Skills for Chemical Scienti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traight Connector 5"/>
          <p:cNvSpPr/>
          <p:nvPr/>
        </p:nvSpPr>
        <p:spPr>
          <a:xfrm>
            <a:off x="304920" y="1833480"/>
            <a:ext cx="8305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7C951-B75A-499E-AB97-7DBCC473244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2057400" y="6383160"/>
            <a:ext cx="282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Arial"/>
              </a:rPr>
              <a:t>This resource was downloaded from Business Skills for Chemists (</a:t>
            </a:r>
            <a:r>
              <a:rPr b="0" lang="en-GB" sz="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s://rsc.li/3840bDs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Phase 1 –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define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ow does the problem manifest itself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o does the problem affec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at is the impact of the proble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Analyse the evidence; </a:t>
            </a: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describe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 the symp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34131-3112-40EB-835F-2FBDB6E3586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Lack of parking in the city</a:t>
            </a:r>
            <a:br>
              <a:rPr sz="4400"/>
            </a:b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2133720"/>
            <a:ext cx="64771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Describe the problem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- who, what, when, where, how, why (symptom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Time parking - stress and ? productiv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Cars being driven around unnecessari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Pollution / health iss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City life unpleasan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Slows all traff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Accid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Waste of petrol / car dam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629040" y="2133720"/>
            <a:ext cx="20574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6705720" y="2209680"/>
            <a:ext cx="2057400" cy="3886200"/>
          </a:xfrm>
          <a:prstGeom prst="rect">
            <a:avLst/>
          </a:prstGeom>
          <a:ln w="0">
            <a:noFill/>
          </a:ln>
        </p:spPr>
      </p:pic>
      <p:sp>
        <p:nvSpPr>
          <p:cNvPr id="11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4E1E8-DFBD-491D-9125-D1ADD2C98CB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Phase 1 –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discover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ow does the problem wor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s it simple or complex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at are the root causes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Explore the </a:t>
            </a: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structure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 of the problem, find the root cau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84C65-E2D9-4338-B963-BFFDD14F404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Phase 1 –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determine 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at are the criteria for success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at are the constraints in both time and resource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at are the priorities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Decide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how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 to attempt a sol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Lack of parking in the city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2133720"/>
            <a:ext cx="64771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blem Stru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Lack of par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Public transport inefficient/ unattrac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People like privacy/ sp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The c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blem Strate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Pilot solution in Nottingham ar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324480" y="2133720"/>
            <a:ext cx="2362320" cy="3992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"/>
          <p:cNvPicPr/>
          <p:nvPr/>
        </p:nvPicPr>
        <p:blipFill>
          <a:blip r:embed="rId2"/>
          <a:stretch/>
        </p:blipFill>
        <p:spPr>
          <a:xfrm>
            <a:off x="6400800" y="2209680"/>
            <a:ext cx="2362320" cy="3886200"/>
          </a:xfrm>
          <a:prstGeom prst="rect">
            <a:avLst/>
          </a:prstGeom>
          <a:ln w="0">
            <a:noFill/>
          </a:ln>
        </p:spPr>
      </p:pic>
      <p:sp>
        <p:nvSpPr>
          <p:cNvPr id="13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EAD06-A403-43F0-BC3B-E423BB3B1A9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3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3276720" y="1781280"/>
            <a:ext cx="1238040" cy="41907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alibri"/>
              </a:rPr>
              <a:t>Phase 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alibri"/>
              </a:rPr>
              <a:t>Defini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4724280" y="1781280"/>
            <a:ext cx="3124440" cy="41907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roblem Descrip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DESCRIBE THE SYMPTO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roblem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FIND THE ROOT CAU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trategy to Solve Probl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DECIDE HOW TO ATTEMPT A SOLU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Left Brace 1"/>
          <p:cNvSpPr/>
          <p:nvPr/>
        </p:nvSpPr>
        <p:spPr>
          <a:xfrm>
            <a:off x="2362320" y="1523880"/>
            <a:ext cx="990360" cy="4572000"/>
          </a:xfrm>
          <a:custGeom>
            <a:avLst/>
            <a:gdLst>
              <a:gd name="textAreaLeft" fmla="*/ 632880 w 990360"/>
              <a:gd name="textAreaRight" fmla="*/ 990720 w 990360"/>
              <a:gd name="textAreaTop" fmla="*/ 25560 h 4572000"/>
              <a:gd name="textAreaBottom" fmla="*/ 4546440 h 45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5"/>
                  <a:pt x="10800" y="390"/>
                </a:cubicBezTo>
                <a:lnTo>
                  <a:pt x="10800" y="10410"/>
                </a:lnTo>
                <a:cubicBezTo>
                  <a:pt x="10800" y="10605"/>
                  <a:pt x="5400" y="10800"/>
                  <a:pt x="0" y="10800"/>
                </a:cubicBezTo>
                <a:cubicBezTo>
                  <a:pt x="5400" y="10800"/>
                  <a:pt x="10800" y="10995"/>
                  <a:pt x="10800" y="11190"/>
                </a:cubicBezTo>
                <a:lnTo>
                  <a:pt x="10800" y="21210"/>
                </a:lnTo>
                <a:cubicBezTo>
                  <a:pt x="10800" y="21405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933560"/>
            <a:ext cx="22860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RED card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AS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798480" y="2998800"/>
            <a:ext cx="1566720" cy="2060640"/>
          </a:xfrm>
          <a:prstGeom prst="rect">
            <a:avLst/>
          </a:prstGeom>
          <a:ln w="0">
            <a:noFill/>
          </a:ln>
        </p:spPr>
      </p:pic>
      <p:sp>
        <p:nvSpPr>
          <p:cNvPr id="14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00566-B61B-4004-9A0E-CCA6A3AF73D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2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Global challenges and chemistry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opulation grow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carcity of resour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ise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nsequences of the industrialised and globalised wor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opulation -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age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healthc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source scarcity –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non-renewables; energy; water; l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isease -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obesity; HIV; cancer; inf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ate modern world -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climate change; sustainability and waste; urbanisation; mo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640A9-54FB-42CD-B7E7-0D9AB3526DB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3809880" y="4191120"/>
            <a:ext cx="1295640" cy="22780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"/>
          <p:cNvPicPr/>
          <p:nvPr/>
        </p:nvPicPr>
        <p:blipFill>
          <a:blip r:embed="rId2"/>
          <a:stretch/>
        </p:blipFill>
        <p:spPr>
          <a:xfrm>
            <a:off x="2841480" y="5638680"/>
            <a:ext cx="968400" cy="9669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"/>
          <p:cNvPicPr/>
          <p:nvPr/>
        </p:nvPicPr>
        <p:blipFill>
          <a:blip r:embed="rId3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itle 1"/>
          <p:cNvSpPr/>
          <p:nvPr/>
        </p:nvSpPr>
        <p:spPr>
          <a:xfrm>
            <a:off x="83808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usiness Skills for Chemical Scienti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traight Connector 5"/>
          <p:cNvSpPr/>
          <p:nvPr/>
        </p:nvSpPr>
        <p:spPr>
          <a:xfrm>
            <a:off x="304920" y="1833480"/>
            <a:ext cx="8305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1912C-2880-42B8-ACC7-07EFBF580BE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itle 1"/>
          <p:cNvSpPr/>
          <p:nvPr/>
        </p:nvSpPr>
        <p:spPr>
          <a:xfrm>
            <a:off x="685800" y="30258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  <a:ea typeface="Arial"/>
              </a:rPr>
              <a:t>Ingenuity</a:t>
            </a:r>
            <a:br>
              <a:rPr sz="4400"/>
            </a:br>
            <a:r>
              <a:rPr b="1" lang="en-US" sz="4400" spc="-1" strike="noStrike">
                <a:solidFill>
                  <a:srgbClr val="1f497d"/>
                </a:solidFill>
                <a:latin typeface="Calibri"/>
                <a:ea typeface="Arial"/>
              </a:rPr>
              <a:t>Part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f497d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20" y="1980720"/>
            <a:ext cx="53337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genu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visit key poi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view progres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his session –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HASE TWO- </a:t>
            </a:r>
            <a:r>
              <a:rPr b="0" lang="en-GB" sz="2400" spc="-1" strike="noStrike">
                <a:solidFill>
                  <a:srgbClr val="ffc000"/>
                </a:solidFill>
                <a:latin typeface="Calibri"/>
              </a:rPr>
              <a:t>ORANGE CA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head for next se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03F5E-5DB9-414C-B7F2-B6EC61C52E7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800240" y="2133720"/>
            <a:ext cx="3886200" cy="3992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"/>
          <p:cNvPicPr/>
          <p:nvPr/>
        </p:nvPicPr>
        <p:blipFill>
          <a:blip r:embed="rId2"/>
          <a:stretch/>
        </p:blipFill>
        <p:spPr>
          <a:xfrm>
            <a:off x="4952880" y="2209680"/>
            <a:ext cx="3810240" cy="39625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"/>
          <p:cNvPicPr/>
          <p:nvPr/>
        </p:nvPicPr>
        <p:blipFill>
          <a:blip r:embed="rId3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f497d"/>
                </a:solidFill>
                <a:latin typeface="Calibri"/>
              </a:rPr>
              <a:t>What is ingenuity? </a:t>
            </a:r>
            <a:r>
              <a:rPr b="1" lang="en-GB" sz="4400" spc="-1" strike="noStrike">
                <a:solidFill>
                  <a:srgbClr val="ffc000"/>
                </a:solidFill>
                <a:latin typeface="Calibri"/>
              </a:rPr>
              <a:t>Phase 2…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pollo 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6840" y="2819160"/>
            <a:ext cx="40402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7960" y="2133360"/>
            <a:ext cx="40417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000"/>
                </a:solidFill>
                <a:latin typeface="Calibri"/>
              </a:rPr>
              <a:t>Phase 2– generate lots of ID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ED513-B0AB-489A-A634-417F5055972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644720" y="3200040"/>
            <a:ext cx="4041720" cy="29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7" descr=""/>
          <p:cNvPicPr/>
          <p:nvPr/>
        </p:nvPicPr>
        <p:blipFill>
          <a:blip r:embed="rId1"/>
          <a:stretch/>
        </p:blipFill>
        <p:spPr>
          <a:xfrm>
            <a:off x="531720" y="2798640"/>
            <a:ext cx="4038840" cy="32338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"/>
          <p:cNvPicPr/>
          <p:nvPr/>
        </p:nvPicPr>
        <p:blipFill>
          <a:blip r:embed="rId2"/>
          <a:stretch/>
        </p:blipFill>
        <p:spPr>
          <a:xfrm>
            <a:off x="531720" y="4971960"/>
            <a:ext cx="1067040" cy="10717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"/>
          <p:cNvPicPr/>
          <p:nvPr/>
        </p:nvPicPr>
        <p:blipFill>
          <a:blip r:embed="rId3"/>
          <a:stretch/>
        </p:blipFill>
        <p:spPr>
          <a:xfrm>
            <a:off x="4724280" y="3352680"/>
            <a:ext cx="3911760" cy="2691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"/>
          <p:cNvPicPr/>
          <p:nvPr/>
        </p:nvPicPr>
        <p:blipFill>
          <a:blip r:embed="rId4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33520" y="1980720"/>
            <a:ext cx="53337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genu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xplan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nd chemis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is session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HASE ONE -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RED CA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head for next se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B0728-C47E-4EFA-917F-7AA28FBC16A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800240" y="2133720"/>
            <a:ext cx="3886200" cy="3992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"/>
          <p:cNvPicPr/>
          <p:nvPr/>
        </p:nvPicPr>
        <p:blipFill>
          <a:blip r:embed="rId2"/>
          <a:stretch/>
        </p:blipFill>
        <p:spPr>
          <a:xfrm>
            <a:off x="4952880" y="2209680"/>
            <a:ext cx="3810240" cy="3962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3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4476600" y="1162080"/>
            <a:ext cx="1238400" cy="17049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alibri"/>
              </a:rPr>
              <a:t>Phase 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alibri"/>
              </a:rPr>
              <a:t>Defini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5715000" y="1162080"/>
            <a:ext cx="3124080" cy="17049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roblem Descrip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roblem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trategy to Solve Probl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4476600" y="3019320"/>
            <a:ext cx="1238400" cy="170496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Phase 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isco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5715000" y="3019320"/>
            <a:ext cx="3124080" cy="170496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roblem Stat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deas-Opportun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otential Concep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4476600" y="4924440"/>
            <a:ext cx="1238400" cy="1704960"/>
          </a:xfrm>
          <a:prstGeom prst="rect">
            <a:avLst/>
          </a:prstGeom>
          <a:solidFill>
            <a:srgbClr val="00b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Phase I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eterm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5715000" y="4924440"/>
            <a:ext cx="3124080" cy="1704960"/>
          </a:xfrm>
          <a:prstGeom prst="rect">
            <a:avLst/>
          </a:prstGeom>
          <a:solidFill>
            <a:srgbClr val="00b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Final Concep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election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Implementation Plan for Optimal Solu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90600" y="2130120"/>
            <a:ext cx="4038480" cy="22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INGENUITY   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Left Brace 1"/>
          <p:cNvSpPr/>
          <p:nvPr/>
        </p:nvSpPr>
        <p:spPr>
          <a:xfrm>
            <a:off x="3200400" y="1676520"/>
            <a:ext cx="990720" cy="4572000"/>
          </a:xfrm>
          <a:custGeom>
            <a:avLst/>
            <a:gdLst>
              <a:gd name="textAreaLeft" fmla="*/ 632880 w 990720"/>
              <a:gd name="textAreaRight" fmla="*/ 991080 w 990720"/>
              <a:gd name="textAreaTop" fmla="*/ 25560 h 4572000"/>
              <a:gd name="textAreaBottom" fmla="*/ 4546440 h 45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5"/>
                  <a:pt x="10800" y="390"/>
                </a:cubicBezTo>
                <a:lnTo>
                  <a:pt x="10800" y="10410"/>
                </a:lnTo>
                <a:cubicBezTo>
                  <a:pt x="10800" y="10605"/>
                  <a:pt x="5400" y="10800"/>
                  <a:pt x="0" y="10800"/>
                </a:cubicBezTo>
                <a:cubicBezTo>
                  <a:pt x="5400" y="10800"/>
                  <a:pt x="10800" y="10995"/>
                  <a:pt x="10800" y="11190"/>
                </a:cubicBezTo>
                <a:lnTo>
                  <a:pt x="10800" y="21210"/>
                </a:lnTo>
                <a:cubicBezTo>
                  <a:pt x="10800" y="21405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5DAF5-2D66-407C-B83E-2BFB228F3F0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3"/>
          <p:cNvSpPr/>
          <p:nvPr/>
        </p:nvSpPr>
        <p:spPr>
          <a:xfrm>
            <a:off x="4724280" y="1981080"/>
            <a:ext cx="3124440" cy="419112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roblem Stateme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REPARE TO FIND SOLU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Ideas/Opportun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GENERATE MULTIPLE SOLU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otential Concep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NOTICE AS REALISTIC CONCEPTS EMER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90600" y="2130120"/>
            <a:ext cx="2047680" cy="22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GB" sz="2800" spc="-1" strike="noStrike">
                <a:solidFill>
                  <a:srgbClr val="ffc000"/>
                </a:solidFill>
                <a:latin typeface="Calibri"/>
              </a:rPr>
              <a:t>ORANGE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Left Brace 1"/>
          <p:cNvSpPr/>
          <p:nvPr/>
        </p:nvSpPr>
        <p:spPr>
          <a:xfrm>
            <a:off x="2362320" y="1724040"/>
            <a:ext cx="990360" cy="4572000"/>
          </a:xfrm>
          <a:custGeom>
            <a:avLst/>
            <a:gdLst>
              <a:gd name="textAreaLeft" fmla="*/ 632880 w 990360"/>
              <a:gd name="textAreaRight" fmla="*/ 990720 w 990360"/>
              <a:gd name="textAreaTop" fmla="*/ 25560 h 4572000"/>
              <a:gd name="textAreaBottom" fmla="*/ 4546440 h 45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5"/>
                  <a:pt x="10800" y="390"/>
                </a:cubicBezTo>
                <a:lnTo>
                  <a:pt x="10800" y="10410"/>
                </a:lnTo>
                <a:cubicBezTo>
                  <a:pt x="10800" y="10605"/>
                  <a:pt x="5400" y="10800"/>
                  <a:pt x="0" y="10800"/>
                </a:cubicBezTo>
                <a:cubicBezTo>
                  <a:pt x="5400" y="10800"/>
                  <a:pt x="10800" y="10995"/>
                  <a:pt x="10800" y="11190"/>
                </a:cubicBezTo>
                <a:lnTo>
                  <a:pt x="10800" y="21210"/>
                </a:lnTo>
                <a:cubicBezTo>
                  <a:pt x="10800" y="21405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87B6B-C448-424E-A212-89D136387CB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3200400" y="1978200"/>
            <a:ext cx="1238400" cy="419076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Phase 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isco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000"/>
                </a:solidFill>
                <a:latin typeface="Calibri"/>
              </a:rPr>
              <a:t>Thoughts on problem discovery…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reativity is the yeast of innovation; a small part of the recipe, useless on it’s own but see what happens when you miss it out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c000"/>
                </a:solidFill>
                <a:latin typeface="Calibri"/>
              </a:rPr>
              <a:t>	</a:t>
            </a:r>
            <a:r>
              <a:rPr b="0" i="1" lang="en-GB" sz="2800" spc="-1" strike="noStrike">
                <a:solidFill>
                  <a:srgbClr val="ffc000"/>
                </a:solidFill>
                <a:latin typeface="Calibri"/>
              </a:rPr>
              <a:t>William Be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b0f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p TI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isten (to yourself AND each oth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on’t interrup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ome useful questions when discovering the problem, see p62-8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802FE-F7D4-471F-A65F-D1353F1287C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2743200" y="5257800"/>
            <a:ext cx="1974960" cy="14508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"/>
          <p:cNvPicPr/>
          <p:nvPr/>
        </p:nvPicPr>
        <p:blipFill>
          <a:blip r:embed="rId2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Phase 1 – </a:t>
            </a:r>
            <a:r>
              <a:rPr b="0" lang="en-GB" sz="4400" spc="-1" strike="noStrike">
                <a:solidFill>
                  <a:srgbClr val="ffc000"/>
                </a:solidFill>
                <a:latin typeface="Calibri"/>
              </a:rPr>
              <a:t>define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esent a clear explan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nstruct a strate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mpose a stat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000"/>
                </a:solidFill>
                <a:latin typeface="Calibri"/>
              </a:rPr>
              <a:t>Prepare </a:t>
            </a:r>
            <a:r>
              <a:rPr b="0" lang="en-GB" sz="2800" spc="-1" strike="noStrike">
                <a:solidFill>
                  <a:srgbClr val="ffc000"/>
                </a:solidFill>
                <a:latin typeface="Calibri"/>
              </a:rPr>
              <a:t>to find sol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EEFCD-62E3-46DF-9051-31AB8B5FA67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Lack of parking in the city</a:t>
            </a:r>
            <a:br>
              <a:rPr sz="4400"/>
            </a:b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2133720"/>
            <a:ext cx="44956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000"/>
                </a:solidFill>
                <a:latin typeface="Calibri"/>
              </a:rPr>
              <a:t>Problem Stat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c000"/>
                </a:solidFill>
                <a:latin typeface="Calibri"/>
              </a:rPr>
              <a:t>‘</a:t>
            </a:r>
            <a:r>
              <a:rPr b="0" i="1" lang="en-GB" sz="2400" spc="-1" strike="noStrike">
                <a:solidFill>
                  <a:srgbClr val="ffc000"/>
                </a:solidFill>
                <a:latin typeface="Calibri"/>
              </a:rPr>
              <a:t>there is an excess demand for parking in areas of insufficient supply for commuters in cities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629040" y="2133720"/>
            <a:ext cx="20574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4952880" y="2209680"/>
            <a:ext cx="3810240" cy="388620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3643D-632B-4048-9772-63BB74BBFD8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2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Phase 2 – </a:t>
            </a:r>
            <a:r>
              <a:rPr b="0" lang="en-GB" sz="4400" spc="-1" strike="noStrike">
                <a:solidFill>
                  <a:srgbClr val="ffc000"/>
                </a:solidFill>
                <a:latin typeface="Calibri"/>
              </a:rPr>
              <a:t>discover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eek analog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enerate non obvious id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ind as many idea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000"/>
                </a:solidFill>
                <a:latin typeface="Calibri"/>
              </a:rPr>
              <a:t>Generate </a:t>
            </a:r>
            <a:r>
              <a:rPr b="0" lang="en-GB" sz="2800" spc="-1" strike="noStrike">
                <a:solidFill>
                  <a:srgbClr val="ffc000"/>
                </a:solidFill>
                <a:latin typeface="Calibri"/>
              </a:rPr>
              <a:t>multiple sol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A803C-2D30-4593-920F-A0C5449A974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Phase 3 – </a:t>
            </a:r>
            <a:r>
              <a:rPr b="0" lang="en-GB" sz="4400" spc="-1" strike="noStrike">
                <a:solidFill>
                  <a:srgbClr val="ffc000"/>
                </a:solidFill>
                <a:latin typeface="Calibri"/>
              </a:rPr>
              <a:t>determine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flect on nature and diversity of idea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all the permutations been explor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enough ideas been produc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000"/>
                </a:solidFill>
                <a:latin typeface="Calibri"/>
              </a:rPr>
              <a:t>Notice </a:t>
            </a:r>
            <a:r>
              <a:rPr b="0" lang="en-GB" sz="2800" spc="-1" strike="noStrike">
                <a:solidFill>
                  <a:srgbClr val="ffc000"/>
                </a:solidFill>
                <a:latin typeface="Calibri"/>
              </a:rPr>
              <a:t>as realistic concepts begin to emer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9BF1A-34F2-4982-801A-9E83F68409A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city parking – </a:t>
            </a:r>
            <a:r>
              <a:rPr b="0" lang="en-GB" sz="4400" spc="-1" strike="noStrike">
                <a:solidFill>
                  <a:srgbClr val="ffc000"/>
                </a:solidFill>
                <a:latin typeface="Calibri"/>
              </a:rPr>
              <a:t>multiple solutions</a:t>
            </a: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FBB51-A5F7-4AA1-B7D0-EFA2B85DDE4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nder water park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ark in middle of roa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odel specific par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arking on sides of build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obile car park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o lines in car pa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ow roofs in car park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Jig saw c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r becomes a gener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isposable c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rs become delivery c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loating c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riverless car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bay car park auction for sp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llapsible car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ime share car pa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o lorries in city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o shops in c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mmunity car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ortable off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000"/>
                </a:solidFill>
                <a:latin typeface="Calibri"/>
              </a:rPr>
              <a:t>Effect ideas discovery…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212580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p TI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Generate as many solutions as possible (&gt;5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Use post it no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ake a lateral, non linear jump to achieve creative insigh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itchhiking’ is encourag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847E1-7ACF-404F-AA90-20EF0FC843B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Content Placeholder 2"/>
          <p:cNvSpPr/>
          <p:nvPr/>
        </p:nvSpPr>
        <p:spPr>
          <a:xfrm>
            <a:off x="4724280" y="2125800"/>
            <a:ext cx="4038840" cy="39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Arial"/>
              </a:rPr>
              <a:t>Top TI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No criticism is allow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Rank your ideas from 1= incremental innovation and 5 = radically ne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You should aim to generate at least 20 radically new ide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000"/>
                </a:solidFill>
                <a:latin typeface="Calibri"/>
                <a:ea typeface="Arial"/>
              </a:rPr>
              <a:t>use your knowledge of the latest research in your fie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3"/>
          <p:cNvSpPr/>
          <p:nvPr/>
        </p:nvSpPr>
        <p:spPr>
          <a:xfrm>
            <a:off x="4724280" y="1981080"/>
            <a:ext cx="3124440" cy="419112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roblem Stateme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REPARE TO FIND SOLU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Ideas/Opportun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GENERATE MULTIPLE SOLU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otential Concep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NOTICE AS REALISTIC CONCEPTS EMER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80520" y="1523520"/>
            <a:ext cx="2048040" cy="22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GB" sz="2800" spc="-1" strike="noStrike">
                <a:solidFill>
                  <a:srgbClr val="ffc000"/>
                </a:solidFill>
                <a:latin typeface="Calibri"/>
              </a:rPr>
              <a:t>ORANGE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ard TAS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Left Brace 1"/>
          <p:cNvSpPr/>
          <p:nvPr/>
        </p:nvSpPr>
        <p:spPr>
          <a:xfrm>
            <a:off x="2362320" y="1724040"/>
            <a:ext cx="990360" cy="4572000"/>
          </a:xfrm>
          <a:custGeom>
            <a:avLst/>
            <a:gdLst>
              <a:gd name="textAreaLeft" fmla="*/ 632880 w 990360"/>
              <a:gd name="textAreaRight" fmla="*/ 990720 w 990360"/>
              <a:gd name="textAreaTop" fmla="*/ 25560 h 4572000"/>
              <a:gd name="textAreaBottom" fmla="*/ 4546440 h 45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5"/>
                  <a:pt x="10800" y="390"/>
                </a:cubicBezTo>
                <a:lnTo>
                  <a:pt x="10800" y="10410"/>
                </a:lnTo>
                <a:cubicBezTo>
                  <a:pt x="10800" y="10605"/>
                  <a:pt x="5400" y="10800"/>
                  <a:pt x="0" y="10800"/>
                </a:cubicBezTo>
                <a:cubicBezTo>
                  <a:pt x="5400" y="10800"/>
                  <a:pt x="10800" y="10995"/>
                  <a:pt x="10800" y="11190"/>
                </a:cubicBezTo>
                <a:lnTo>
                  <a:pt x="10800" y="21210"/>
                </a:lnTo>
                <a:cubicBezTo>
                  <a:pt x="10800" y="21405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C11F0-18CA-49FE-80F1-39DE5DDC8C9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3200400" y="1978200"/>
            <a:ext cx="1238400" cy="419076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Phase 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isco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828720" y="3432240"/>
            <a:ext cx="1566720" cy="20606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"/>
          <p:cNvPicPr/>
          <p:nvPr/>
        </p:nvPicPr>
        <p:blipFill>
          <a:blip r:embed="rId2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What is ingenuity? In action…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pollo 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6840" y="2819160"/>
            <a:ext cx="40402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960" y="21333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he Million Dollar Homep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C7C12-932D-478D-9F33-5E9F47F5564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44720" y="2819160"/>
            <a:ext cx="404172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7" descr=""/>
          <p:cNvPicPr/>
          <p:nvPr/>
        </p:nvPicPr>
        <p:blipFill>
          <a:blip r:embed="rId1"/>
          <a:stretch/>
        </p:blipFill>
        <p:spPr>
          <a:xfrm>
            <a:off x="531720" y="2798640"/>
            <a:ext cx="4038840" cy="3233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"/>
          <p:cNvPicPr/>
          <p:nvPr/>
        </p:nvPicPr>
        <p:blipFill>
          <a:blip r:embed="rId2"/>
          <a:stretch/>
        </p:blipFill>
        <p:spPr>
          <a:xfrm>
            <a:off x="531720" y="4971960"/>
            <a:ext cx="1067040" cy="1071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"/>
          <p:cNvPicPr/>
          <p:nvPr/>
        </p:nvPicPr>
        <p:blipFill>
          <a:blip r:embed="rId3"/>
          <a:stretch/>
        </p:blipFill>
        <p:spPr>
          <a:xfrm>
            <a:off x="4724280" y="2816280"/>
            <a:ext cx="3962520" cy="32162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"/>
          <p:cNvPicPr/>
          <p:nvPr/>
        </p:nvPicPr>
        <p:blipFill>
          <a:blip r:embed="rId4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itle 1"/>
          <p:cNvSpPr/>
          <p:nvPr/>
        </p:nvSpPr>
        <p:spPr>
          <a:xfrm>
            <a:off x="83808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usiness Skills for Chemical Scienti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traight Connector 5"/>
          <p:cNvSpPr/>
          <p:nvPr/>
        </p:nvSpPr>
        <p:spPr>
          <a:xfrm>
            <a:off x="304920" y="1833480"/>
            <a:ext cx="8305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09BD5-09D7-4698-B58A-9FFCE75504C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itle 1"/>
          <p:cNvSpPr/>
          <p:nvPr/>
        </p:nvSpPr>
        <p:spPr>
          <a:xfrm>
            <a:off x="685800" y="30258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  <a:ea typeface="Arial"/>
              </a:rPr>
              <a:t>Ingenuity</a:t>
            </a:r>
            <a:br>
              <a:rPr sz="4400"/>
            </a:br>
            <a:r>
              <a:rPr b="1" lang="en-US" sz="4400" spc="-1" strike="noStrike">
                <a:solidFill>
                  <a:srgbClr val="1f497d"/>
                </a:solidFill>
                <a:latin typeface="Calibri"/>
                <a:ea typeface="Arial"/>
              </a:rPr>
              <a:t>Part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f497d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980720"/>
            <a:ext cx="53337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genu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visit key poi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view progres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his session –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HASE THREE- </a:t>
            </a:r>
            <a:r>
              <a:rPr b="0" lang="en-GB" sz="2400" spc="-1" strike="noStrike">
                <a:solidFill>
                  <a:srgbClr val="92d050"/>
                </a:solidFill>
                <a:latin typeface="Calibri"/>
              </a:rPr>
              <a:t>GREEN CA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A91DC-06BE-4430-99E6-D16307F1472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4800240" y="2133720"/>
            <a:ext cx="3886200" cy="39924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"/>
          <p:cNvPicPr/>
          <p:nvPr/>
        </p:nvPicPr>
        <p:blipFill>
          <a:blip r:embed="rId2"/>
          <a:stretch/>
        </p:blipFill>
        <p:spPr>
          <a:xfrm>
            <a:off x="4952880" y="2209680"/>
            <a:ext cx="3810240" cy="39625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"/>
          <p:cNvPicPr/>
          <p:nvPr/>
        </p:nvPicPr>
        <p:blipFill>
          <a:blip r:embed="rId3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f497d"/>
                </a:solidFill>
                <a:latin typeface="Calibri"/>
              </a:rPr>
              <a:t>What is ingenuity? </a:t>
            </a:r>
            <a:r>
              <a:rPr b="1" lang="en-GB" sz="4400" spc="-1" strike="noStrike">
                <a:solidFill>
                  <a:srgbClr val="92d050"/>
                </a:solidFill>
                <a:latin typeface="Calibri"/>
              </a:rPr>
              <a:t>Phase 3…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pollo 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6840" y="2819160"/>
            <a:ext cx="40402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47960" y="2133360"/>
            <a:ext cx="40417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2d050"/>
                </a:solidFill>
                <a:latin typeface="Calibri"/>
              </a:rPr>
              <a:t>Phase 3–at last, the SOL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16C95-4257-4766-9C27-B292AA35D72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644720" y="3200040"/>
            <a:ext cx="4041720" cy="29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Picture 7" descr=""/>
          <p:cNvPicPr/>
          <p:nvPr/>
        </p:nvPicPr>
        <p:blipFill>
          <a:blip r:embed="rId1"/>
          <a:stretch/>
        </p:blipFill>
        <p:spPr>
          <a:xfrm>
            <a:off x="531720" y="2798640"/>
            <a:ext cx="4038840" cy="32338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"/>
          <p:cNvPicPr/>
          <p:nvPr/>
        </p:nvPicPr>
        <p:blipFill>
          <a:blip r:embed="rId2"/>
          <a:stretch/>
        </p:blipFill>
        <p:spPr>
          <a:xfrm>
            <a:off x="531720" y="4971960"/>
            <a:ext cx="1067040" cy="10717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" descr=""/>
          <p:cNvPicPr/>
          <p:nvPr/>
        </p:nvPicPr>
        <p:blipFill>
          <a:blip r:embed="rId3"/>
          <a:stretch/>
        </p:blipFill>
        <p:spPr>
          <a:xfrm>
            <a:off x="4724280" y="2798640"/>
            <a:ext cx="3965760" cy="32450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" descr=""/>
          <p:cNvPicPr/>
          <p:nvPr/>
        </p:nvPicPr>
        <p:blipFill>
          <a:blip r:embed="rId4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4476600" y="1162080"/>
            <a:ext cx="1238400" cy="17049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alibri"/>
              </a:rPr>
              <a:t>Phase 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alibri"/>
              </a:rPr>
              <a:t>Defini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5715000" y="1162080"/>
            <a:ext cx="3124080" cy="17049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roblem Descrip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roblem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trategy to Solve Probl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4476600" y="3019320"/>
            <a:ext cx="1238400" cy="170496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Phase 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isco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5715000" y="3019320"/>
            <a:ext cx="3124080" cy="170496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roblem Stat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deas-Opportun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otential Concep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4476600" y="4924440"/>
            <a:ext cx="1238400" cy="1704960"/>
          </a:xfrm>
          <a:prstGeom prst="rect">
            <a:avLst/>
          </a:prstGeom>
          <a:solidFill>
            <a:srgbClr val="00b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Phase I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eterm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11"/>
          <p:cNvSpPr/>
          <p:nvPr/>
        </p:nvSpPr>
        <p:spPr>
          <a:xfrm>
            <a:off x="5715000" y="4924440"/>
            <a:ext cx="3124080" cy="1704960"/>
          </a:xfrm>
          <a:prstGeom prst="rect">
            <a:avLst/>
          </a:prstGeom>
          <a:solidFill>
            <a:srgbClr val="00b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Final Concep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election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Implementation Plan for Optimal Solu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90600" y="2130120"/>
            <a:ext cx="4038480" cy="22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INGENUITY   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Left Brace 1"/>
          <p:cNvSpPr/>
          <p:nvPr/>
        </p:nvSpPr>
        <p:spPr>
          <a:xfrm>
            <a:off x="3200400" y="1676520"/>
            <a:ext cx="990720" cy="4572000"/>
          </a:xfrm>
          <a:custGeom>
            <a:avLst/>
            <a:gdLst>
              <a:gd name="textAreaLeft" fmla="*/ 632880 w 990720"/>
              <a:gd name="textAreaRight" fmla="*/ 991080 w 990720"/>
              <a:gd name="textAreaTop" fmla="*/ 25560 h 4572000"/>
              <a:gd name="textAreaBottom" fmla="*/ 4546440 h 45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5"/>
                  <a:pt x="10800" y="390"/>
                </a:cubicBezTo>
                <a:lnTo>
                  <a:pt x="10800" y="10410"/>
                </a:lnTo>
                <a:cubicBezTo>
                  <a:pt x="10800" y="10605"/>
                  <a:pt x="5400" y="10800"/>
                  <a:pt x="0" y="10800"/>
                </a:cubicBezTo>
                <a:cubicBezTo>
                  <a:pt x="5400" y="10800"/>
                  <a:pt x="10800" y="10995"/>
                  <a:pt x="10800" y="11190"/>
                </a:cubicBezTo>
                <a:lnTo>
                  <a:pt x="10800" y="21210"/>
                </a:lnTo>
                <a:cubicBezTo>
                  <a:pt x="10800" y="21405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C0622-6519-4921-8187-C38DC2B0897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3"/>
          <p:cNvSpPr/>
          <p:nvPr/>
        </p:nvSpPr>
        <p:spPr>
          <a:xfrm>
            <a:off x="4724280" y="1981080"/>
            <a:ext cx="3124440" cy="4191120"/>
          </a:xfrm>
          <a:prstGeom prst="rect">
            <a:avLst/>
          </a:prstGeom>
          <a:solidFill>
            <a:srgbClr val="92d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Final Concep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ELECT AND ENGINEER POTENTIAL SOLU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election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FIND THE BEST SOLU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Look to the fu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CONSIDER IMPLE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90600" y="2130120"/>
            <a:ext cx="2047680" cy="22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GB" sz="2800" spc="-1" strike="noStrike">
                <a:solidFill>
                  <a:srgbClr val="92d050"/>
                </a:solidFill>
                <a:latin typeface="Calibri"/>
              </a:rPr>
              <a:t>GREEN</a:t>
            </a:r>
            <a:r>
              <a:rPr b="0" lang="en-GB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Left Brace 1"/>
          <p:cNvSpPr/>
          <p:nvPr/>
        </p:nvSpPr>
        <p:spPr>
          <a:xfrm>
            <a:off x="2362320" y="1724040"/>
            <a:ext cx="990360" cy="4572000"/>
          </a:xfrm>
          <a:custGeom>
            <a:avLst/>
            <a:gdLst>
              <a:gd name="textAreaLeft" fmla="*/ 632880 w 990360"/>
              <a:gd name="textAreaRight" fmla="*/ 990720 w 990360"/>
              <a:gd name="textAreaTop" fmla="*/ 25560 h 4572000"/>
              <a:gd name="textAreaBottom" fmla="*/ 4546440 h 45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5"/>
                  <a:pt x="10800" y="390"/>
                </a:cubicBezTo>
                <a:lnTo>
                  <a:pt x="10800" y="10410"/>
                </a:lnTo>
                <a:cubicBezTo>
                  <a:pt x="10800" y="10605"/>
                  <a:pt x="5400" y="10800"/>
                  <a:pt x="0" y="10800"/>
                </a:cubicBezTo>
                <a:cubicBezTo>
                  <a:pt x="5400" y="10800"/>
                  <a:pt x="10800" y="10995"/>
                  <a:pt x="10800" y="11190"/>
                </a:cubicBezTo>
                <a:lnTo>
                  <a:pt x="10800" y="21210"/>
                </a:lnTo>
                <a:cubicBezTo>
                  <a:pt x="10800" y="21405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5FCDA-4597-467B-91B6-37E91A239A6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3200400" y="1978200"/>
            <a:ext cx="1238400" cy="4190760"/>
          </a:xfrm>
          <a:prstGeom prst="rect">
            <a:avLst/>
          </a:prstGeom>
          <a:solidFill>
            <a:srgbClr val="92d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Phase I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eterm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2d050"/>
                </a:solidFill>
                <a:latin typeface="Calibri"/>
              </a:rPr>
              <a:t>Thoughts on problem determination …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‘‘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eople who don’t take risks generally ma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bout two big mistakes a year. People who 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ake risks generally make about two bi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istakes a year’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b0f0"/>
                </a:solidFill>
                <a:latin typeface="Calibri"/>
              </a:rPr>
              <a:t>	</a:t>
            </a:r>
            <a:r>
              <a:rPr b="0" i="1" lang="en-GB" sz="2800" spc="-1" strike="noStrike">
                <a:solidFill>
                  <a:srgbClr val="92d05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92d050"/>
                </a:solidFill>
                <a:latin typeface="Calibri"/>
              </a:rPr>
              <a:t>Peter Druck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51DB7-5440-4DC4-9379-A8506B0A34B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4724280" y="2209680"/>
            <a:ext cx="3886200" cy="35816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" descr=""/>
          <p:cNvPicPr/>
          <p:nvPr/>
        </p:nvPicPr>
        <p:blipFill>
          <a:blip r:embed="rId2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Phase 1 – </a:t>
            </a:r>
            <a:r>
              <a:rPr b="0" lang="en-GB" sz="4400" spc="-1" strike="noStrike">
                <a:solidFill>
                  <a:srgbClr val="92d050"/>
                </a:solidFill>
                <a:latin typeface="Calibri"/>
              </a:rPr>
              <a:t>define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ort and sift ideas into catego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nstruct realistic possibil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elect 3/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2d050"/>
                </a:solidFill>
                <a:latin typeface="Calibri"/>
              </a:rPr>
              <a:t>Select </a:t>
            </a:r>
            <a:r>
              <a:rPr b="0" lang="en-GB" sz="2800" spc="-1" strike="noStrike">
                <a:solidFill>
                  <a:srgbClr val="92d050"/>
                </a:solidFill>
                <a:latin typeface="Calibri"/>
              </a:rPr>
              <a:t>and engineer potential sol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4B14E-9A11-419A-938F-0D5D1EE9E19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Phase 2 – </a:t>
            </a:r>
            <a:r>
              <a:rPr b="0" lang="en-GB" sz="4400" spc="-1" strike="noStrike">
                <a:solidFill>
                  <a:srgbClr val="92d050"/>
                </a:solidFill>
                <a:latin typeface="Calibri"/>
              </a:rPr>
              <a:t>discover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call criteria from problem definition st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mpare the alterna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hoose the optimal sol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2d050"/>
                </a:solidFill>
                <a:latin typeface="Calibri"/>
              </a:rPr>
              <a:t>Investigate </a:t>
            </a:r>
            <a:r>
              <a:rPr b="0" lang="en-GB" sz="2800" spc="-1" strike="noStrike">
                <a:solidFill>
                  <a:srgbClr val="92d050"/>
                </a:solidFill>
                <a:latin typeface="Calibri"/>
              </a:rPr>
              <a:t>the alternatives and </a:t>
            </a:r>
            <a:r>
              <a:rPr b="1" lang="en-GB" sz="2800" spc="-1" strike="noStrike">
                <a:solidFill>
                  <a:srgbClr val="92d050"/>
                </a:solidFill>
                <a:latin typeface="Calibri"/>
              </a:rPr>
              <a:t>find </a:t>
            </a:r>
            <a:r>
              <a:rPr b="0" lang="en-GB" sz="2800" spc="-1" strike="noStrike">
                <a:solidFill>
                  <a:srgbClr val="92d050"/>
                </a:solidFill>
                <a:latin typeface="Calibri"/>
              </a:rPr>
              <a:t>the best sol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5DD05-B4EC-4CC0-86DE-AAAED81305C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Phase 3 – </a:t>
            </a:r>
            <a:r>
              <a:rPr b="0" lang="en-GB" sz="4400" spc="-1" strike="noStrike">
                <a:solidFill>
                  <a:srgbClr val="92d050"/>
                </a:solidFill>
                <a:latin typeface="Calibri"/>
              </a:rPr>
              <a:t>determine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esent chosen sol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xamine barriers to accep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duce implementation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2d050"/>
                </a:solidFill>
                <a:latin typeface="Calibri"/>
              </a:rPr>
              <a:t>Concentrate </a:t>
            </a:r>
            <a:r>
              <a:rPr b="0" lang="en-GB" sz="2800" spc="-1" strike="noStrike">
                <a:solidFill>
                  <a:srgbClr val="92d050"/>
                </a:solidFill>
                <a:latin typeface="Calibri"/>
              </a:rPr>
              <a:t>on the imagined fu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1C770-B920-4A07-9E63-CC781DD764F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city parking – </a:t>
            </a:r>
            <a:r>
              <a:rPr b="0" lang="en-GB" sz="4400" spc="-1" strike="noStrike">
                <a:solidFill>
                  <a:srgbClr val="92d050"/>
                </a:solidFill>
                <a:latin typeface="Calibri"/>
              </a:rPr>
              <a:t>final concepts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E29C4-A893-4CB9-BA15-CD31889CEAF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ategorised ideas into three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frastructure chan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igh tech solu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ocial enginee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duced three super solutions – one from each categ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obile car pa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Yield management of car parks via tom toms, G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an lor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2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Ingenuity starts with #1 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205740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ocus on the ‘Huston we have a problem’ moment rather than ‘EUREKA! here’s the solution..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tradition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entrepreneur (in the Schumpeter (1921) sense not 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veryone in business sen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ifting the paradigm (Kuhn, 196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nsions – between innovation and orthodox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54624-98C5-4361-8920-AC4E9755985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2d050"/>
                </a:solidFill>
                <a:latin typeface="Calibri"/>
              </a:rPr>
              <a:t>Effective  determination …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685800" y="212580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2d050"/>
              </a:buClr>
              <a:buFont typeface="Arial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GB" sz="2800" spc="-1" strike="noStrike">
                <a:solidFill>
                  <a:srgbClr val="92d050"/>
                </a:solidFill>
                <a:latin typeface="Calibri"/>
              </a:rPr>
              <a:t>Final concep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92d050"/>
              </a:buClr>
              <a:buFont typeface="Wingdings" charset="2"/>
              <a:buChar char="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GB" sz="2400" spc="-1" strike="noStrike">
                <a:solidFill>
                  <a:srgbClr val="92d050"/>
                </a:solidFill>
                <a:latin typeface="Calibri"/>
              </a:rPr>
              <a:t>Categoris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ost-it no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me the id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e flexible – force f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92d050"/>
              </a:buClr>
              <a:buFont typeface="Wingdings" charset="2"/>
              <a:buChar char="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GB" sz="2400" spc="-1" strike="noStrike">
                <a:solidFill>
                  <a:srgbClr val="92d050"/>
                </a:solidFill>
                <a:latin typeface="Calibri"/>
              </a:rPr>
              <a:t>Synthe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tart with a single idea and build from the r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0ECFE-C825-419B-A1A8-B32585CE662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Content Placeholder 2"/>
          <p:cNvSpPr/>
          <p:nvPr/>
        </p:nvSpPr>
        <p:spPr>
          <a:xfrm>
            <a:off x="4724280" y="2125800"/>
            <a:ext cx="4038840" cy="39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just">
              <a:spcBef>
                <a:spcPts val="7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2d050"/>
                </a:solidFill>
                <a:latin typeface="Calibri"/>
                <a:ea typeface="Times New Roman"/>
              </a:rPr>
              <a:t>Sel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generate criteria required in a sol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score solution by cri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advantages/disadvantages matri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spcBef>
                <a:spcPts val="7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2d050"/>
                </a:solidFill>
                <a:latin typeface="Calibri"/>
                <a:ea typeface="Arial"/>
              </a:rPr>
              <a:t>Implement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imagine using a solution in pract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removing negatives:- borrow from other solutions and from phase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7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3"/>
          <p:cNvSpPr/>
          <p:nvPr/>
        </p:nvSpPr>
        <p:spPr>
          <a:xfrm>
            <a:off x="4724280" y="1981080"/>
            <a:ext cx="3124440" cy="4191120"/>
          </a:xfrm>
          <a:prstGeom prst="rect">
            <a:avLst/>
          </a:prstGeom>
          <a:solidFill>
            <a:srgbClr val="92d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Final Concep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ELECT AND ENGINEER POTENTIAL SOLU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election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FIND THE BEST SOLU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Look to the fu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CONSIDER IMPLE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6840" y="1599840"/>
            <a:ext cx="2048040" cy="22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GB" sz="2800" spc="-1" strike="noStrike">
                <a:solidFill>
                  <a:srgbClr val="92d050"/>
                </a:solidFill>
                <a:latin typeface="Calibri"/>
              </a:rPr>
              <a:t>GREEN</a:t>
            </a:r>
            <a:r>
              <a:rPr b="0" lang="en-GB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ard TAS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Left Brace 1"/>
          <p:cNvSpPr/>
          <p:nvPr/>
        </p:nvSpPr>
        <p:spPr>
          <a:xfrm>
            <a:off x="2362320" y="1724040"/>
            <a:ext cx="990360" cy="4572000"/>
          </a:xfrm>
          <a:custGeom>
            <a:avLst/>
            <a:gdLst>
              <a:gd name="textAreaLeft" fmla="*/ 632880 w 990360"/>
              <a:gd name="textAreaRight" fmla="*/ 990720 w 990360"/>
              <a:gd name="textAreaTop" fmla="*/ 25560 h 4572000"/>
              <a:gd name="textAreaBottom" fmla="*/ 4546440 h 45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5"/>
                  <a:pt x="10800" y="390"/>
                </a:cubicBezTo>
                <a:lnTo>
                  <a:pt x="10800" y="10410"/>
                </a:lnTo>
                <a:cubicBezTo>
                  <a:pt x="10800" y="10605"/>
                  <a:pt x="5400" y="10800"/>
                  <a:pt x="0" y="10800"/>
                </a:cubicBezTo>
                <a:cubicBezTo>
                  <a:pt x="5400" y="10800"/>
                  <a:pt x="10800" y="10995"/>
                  <a:pt x="10800" y="11190"/>
                </a:cubicBezTo>
                <a:lnTo>
                  <a:pt x="10800" y="21210"/>
                </a:lnTo>
                <a:cubicBezTo>
                  <a:pt x="10800" y="21405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3E8B7-0D8E-4C85-A128-195BE418C04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6"/>
          <p:cNvSpPr/>
          <p:nvPr/>
        </p:nvSpPr>
        <p:spPr>
          <a:xfrm>
            <a:off x="3200400" y="1978200"/>
            <a:ext cx="1238400" cy="4190760"/>
          </a:xfrm>
          <a:prstGeom prst="rect">
            <a:avLst/>
          </a:prstGeom>
          <a:solidFill>
            <a:srgbClr val="92d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Phase I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eterm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3" name="Picture 2" descr=""/>
          <p:cNvPicPr/>
          <p:nvPr/>
        </p:nvPicPr>
        <p:blipFill>
          <a:blip r:embed="rId1"/>
          <a:stretch/>
        </p:blipFill>
        <p:spPr>
          <a:xfrm>
            <a:off x="811080" y="3505320"/>
            <a:ext cx="1567080" cy="20602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" descr=""/>
          <p:cNvPicPr/>
          <p:nvPr/>
        </p:nvPicPr>
        <p:blipFill>
          <a:blip r:embed="rId2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Ingenuity starts with #2 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blem solving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chanicall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cit knowing and trust 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ed for divergent thinking before rushing to convergent production of a single solution too s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648320" y="2133720"/>
            <a:ext cx="4038480" cy="3992400"/>
          </a:xfrm>
          <a:prstGeom prst="rect">
            <a:avLst/>
          </a:prstGeom>
          <a:ln w="0">
            <a:noFill/>
          </a:ln>
        </p:spPr>
      </p:pic>
      <p:sp>
        <p:nvSpPr>
          <p:cNvPr id="7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0AA84-7696-4607-82EA-4FE15F61906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4646520" y="2163600"/>
            <a:ext cx="4038840" cy="3932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3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4476600" y="1162080"/>
            <a:ext cx="1238400" cy="17049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alibri"/>
              </a:rPr>
              <a:t>Phase 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alibri"/>
              </a:rPr>
              <a:t>Defini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5715000" y="1162080"/>
            <a:ext cx="3124080" cy="17049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roblem Descrip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roblem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trategy to Solve Probl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4476600" y="3019320"/>
            <a:ext cx="1238400" cy="170496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Phase 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isco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5715000" y="3019320"/>
            <a:ext cx="3124080" cy="170496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roblem Stat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deas-Opportun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otential Concep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4476600" y="4924440"/>
            <a:ext cx="1238400" cy="1704960"/>
          </a:xfrm>
          <a:prstGeom prst="rect">
            <a:avLst/>
          </a:prstGeom>
          <a:solidFill>
            <a:srgbClr val="00b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Phase I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eterm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5715000" y="4924440"/>
            <a:ext cx="3124080" cy="1704960"/>
          </a:xfrm>
          <a:prstGeom prst="rect">
            <a:avLst/>
          </a:prstGeom>
          <a:solidFill>
            <a:srgbClr val="00b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Final Concep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election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Implementation Plan for Optimal Solu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90600" y="2130120"/>
            <a:ext cx="4038480" cy="22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INGENUITY   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xamp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Left Brace 1"/>
          <p:cNvSpPr/>
          <p:nvPr/>
        </p:nvSpPr>
        <p:spPr>
          <a:xfrm>
            <a:off x="3200400" y="1676520"/>
            <a:ext cx="990720" cy="4572000"/>
          </a:xfrm>
          <a:custGeom>
            <a:avLst/>
            <a:gdLst>
              <a:gd name="textAreaLeft" fmla="*/ 632880 w 990720"/>
              <a:gd name="textAreaRight" fmla="*/ 991080 w 990720"/>
              <a:gd name="textAreaTop" fmla="*/ 25560 h 4572000"/>
              <a:gd name="textAreaBottom" fmla="*/ 4546440 h 45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5"/>
                  <a:pt x="10800" y="390"/>
                </a:cubicBezTo>
                <a:lnTo>
                  <a:pt x="10800" y="10410"/>
                </a:lnTo>
                <a:cubicBezTo>
                  <a:pt x="10800" y="10605"/>
                  <a:pt x="5400" y="10800"/>
                  <a:pt x="0" y="10800"/>
                </a:cubicBezTo>
                <a:cubicBezTo>
                  <a:pt x="5400" y="10800"/>
                  <a:pt x="10800" y="10995"/>
                  <a:pt x="10800" y="11190"/>
                </a:cubicBezTo>
                <a:lnTo>
                  <a:pt x="10800" y="21210"/>
                </a:lnTo>
                <a:cubicBezTo>
                  <a:pt x="10800" y="21405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7803A-17F9-477E-B8E6-8099E01E1F3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AutoShape 12"/>
          <p:cNvSpPr/>
          <p:nvPr/>
        </p:nvSpPr>
        <p:spPr>
          <a:xfrm>
            <a:off x="52560" y="-944640"/>
            <a:ext cx="231444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13" descr=""/>
          <p:cNvPicPr/>
          <p:nvPr/>
        </p:nvPicPr>
        <p:blipFill>
          <a:blip r:embed="rId1"/>
          <a:stretch/>
        </p:blipFill>
        <p:spPr>
          <a:xfrm>
            <a:off x="885960" y="4114800"/>
            <a:ext cx="2314440" cy="1981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3276720" y="1981080"/>
            <a:ext cx="1238040" cy="4191120"/>
          </a:xfrm>
          <a:prstGeom prst="rect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alibri"/>
              </a:rPr>
              <a:t>Phase 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alibri"/>
              </a:rPr>
              <a:t>Defini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4724280" y="1981080"/>
            <a:ext cx="3124440" cy="4191120"/>
          </a:xfrm>
          <a:prstGeom prst="rect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roblem Descrip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DESCRIBE THE SYMPTO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roblem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FIND THE ROOT CAU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trategy to Solve Probl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DECIDE HOW TO ATTEMPT A SOLU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90600" y="2130120"/>
            <a:ext cx="2047680" cy="22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RED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c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Left Brace 1"/>
          <p:cNvSpPr/>
          <p:nvPr/>
        </p:nvSpPr>
        <p:spPr>
          <a:xfrm>
            <a:off x="2362320" y="1724040"/>
            <a:ext cx="990360" cy="4572000"/>
          </a:xfrm>
          <a:custGeom>
            <a:avLst/>
            <a:gdLst>
              <a:gd name="textAreaLeft" fmla="*/ 632880 w 990360"/>
              <a:gd name="textAreaRight" fmla="*/ 990720 w 990360"/>
              <a:gd name="textAreaTop" fmla="*/ 25560 h 4572000"/>
              <a:gd name="textAreaBottom" fmla="*/ 4546440 h 45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5"/>
                  <a:pt x="10800" y="390"/>
                </a:cubicBezTo>
                <a:lnTo>
                  <a:pt x="10800" y="10410"/>
                </a:lnTo>
                <a:cubicBezTo>
                  <a:pt x="10800" y="10605"/>
                  <a:pt x="5400" y="10800"/>
                  <a:pt x="0" y="10800"/>
                </a:cubicBezTo>
                <a:cubicBezTo>
                  <a:pt x="5400" y="10800"/>
                  <a:pt x="10800" y="10995"/>
                  <a:pt x="10800" y="11190"/>
                </a:cubicBezTo>
                <a:lnTo>
                  <a:pt x="10800" y="21210"/>
                </a:lnTo>
                <a:cubicBezTo>
                  <a:pt x="10800" y="21405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ABA4C-61A8-41AE-B6A5-6B161EEE6B4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Thoughts on problem definition…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lots of ideas and throw away the bad ones….You aren’t going to have good ideas unless you have lots of ideas and some sort of principle of selection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b0f0"/>
                </a:solidFill>
                <a:latin typeface="Calibri"/>
              </a:rPr>
              <a:t>	</a:t>
            </a:r>
            <a:r>
              <a:rPr b="0" i="1" lang="en-GB" sz="2800" spc="-1" strike="noStrike">
                <a:solidFill>
                  <a:srgbClr val="00b0f0"/>
                </a:solidFill>
                <a:latin typeface="Calibri"/>
              </a:rPr>
              <a:t>Linus Pau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p TI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isten (to yourself AND each oth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on’t interrup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ome useful questions when defining the problem, see p47-5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D3491-A22A-4EAF-8A78-AEF3C231E53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Thoughts on problem definition…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2133720"/>
            <a:ext cx="41911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Intelligent people can juggle a half-dozen concepts simultaneously and make good decisions rapidly – and many of them seldom have a creative moment. They are so good at the standard answers and so eager to move on to the next decision that they never play around with nonstandard possibilities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There is such a thing as being “too good” because, in much of life, there are no correct answers. You have to invent new ones and contemplate them for some time.’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b0f0"/>
                </a:solidFill>
                <a:latin typeface="Calibri"/>
              </a:rPr>
              <a:t>W. H. Calv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800240" y="2133720"/>
            <a:ext cx="38862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p ti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pen your mind, say anyth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ause, slow down - notice when you are rushing ahead with the one sol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tay on task… define the probl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C703D-C0D7-4CBA-A962-62E4DF4BC4F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8T17:00:55Z</dcterms:created>
  <dc:creator>Suzanne Edinger</dc:creator>
  <dc:description/>
  <dc:language>en-US</dc:language>
  <cp:lastModifiedBy>Chris Runciman</cp:lastModifiedBy>
  <cp:lastPrinted>2012-02-03T11:56:17Z</cp:lastPrinted>
  <dcterms:modified xsi:type="dcterms:W3CDTF">2020-12-15T08:55:41Z</dcterms:modified>
  <cp:revision>93</cp:revision>
  <dc:subject/>
  <dc:title>Ingenuity presentation</dc:title>
</cp:coreProperties>
</file>