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8.xml.rels" ContentType="application/vnd.openxmlformats-package.relationships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F347D-07CC-4472-87AA-1BF02071D0AD}" type="datetime">
              <a:rPr b="0" lang="en-GB" sz="1200" spc="-1" strike="noStrike">
                <a:solidFill>
                  <a:srgbClr val="000000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80D2C-55A4-44CD-89F5-8508F55F170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62046-704E-4808-A68E-CFC9AFC34E8A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B2EE9-3967-4C49-8358-63CDBEB6712F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20BC-B5BB-4ED2-86EE-C6ADC5D43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E307-9DA4-4C88-810D-ABEEF9C10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B962-1983-467C-AFC3-4F60EA6FE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F345-4E9B-48E2-BF2A-1AA2EFEB6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CDE0-4340-4E10-B1F3-9D6FDF1DC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206E-DE18-474A-926C-AC282051F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378C-58A7-4D8C-848F-E9FC5CC79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A5F5-DA13-4742-8401-4C2444DC9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A150-F886-46B6-A692-FBF66E521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0193-360C-4A58-A682-6CF207AE3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B9AF-11A2-4F7D-B14A-9237C9F25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6C24-9658-434B-941C-56235DD9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6F553-36EB-4E16-BF55-B114F16FAE7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AB2CE-3162-480C-8656-32BA1F6F59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" name="Picture 9" descr="BS_Bar_header_Blue.jpg"/>
          <p:cNvPicPr/>
          <p:nvPr/>
        </p:nvPicPr>
        <p:blipFill>
          <a:blip r:embed="rId2"/>
          <a:stretch/>
        </p:blipFill>
        <p:spPr>
          <a:xfrm>
            <a:off x="249120" y="0"/>
            <a:ext cx="8604360" cy="10047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s://rsc.li/3840bDs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1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17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2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Ingenuity</a:t>
            </a:r>
            <a:br>
              <a:rPr sz="4400"/>
            </a:b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Part 1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83808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usiness Skills for Chemical Scienti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traight Connector 5"/>
          <p:cNvSpPr/>
          <p:nvPr/>
        </p:nvSpPr>
        <p:spPr>
          <a:xfrm>
            <a:off x="304920" y="1833480"/>
            <a:ext cx="8305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278E9-4FCC-4D94-B196-FFE569ECBBD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2057400" y="6383160"/>
            <a:ext cx="282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Arial"/>
              </a:rPr>
              <a:t>This resource was downloaded from Business Skills for Chemists (</a:t>
            </a:r>
            <a:r>
              <a:rPr b="0" lang="en-GB" sz="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https://rsc.li/3840bDs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Phase 1 –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define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ow does the problem manifest itself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o does the problem affec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at is the impact of the problem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Analyse the evidence; </a:t>
            </a: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describe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 the symp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C070F-D29E-4FC1-9883-B1EAED68543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Lack of parking in the city</a:t>
            </a:r>
            <a:br>
              <a:rPr sz="4400"/>
            </a:b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2133720"/>
            <a:ext cx="64771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Describe the problem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- who, what, when, where, how, why (symptom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Time parking - stress and ? productiv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Cars being driven around unnecessari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Pollution / health iss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City life unpleasan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Slows all traff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Accid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Waste of petrol / car dam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629040" y="2133720"/>
            <a:ext cx="20574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6705720" y="2209680"/>
            <a:ext cx="2057400" cy="3886200"/>
          </a:xfrm>
          <a:prstGeom prst="rect">
            <a:avLst/>
          </a:prstGeom>
          <a:ln w="0">
            <a:noFill/>
          </a:ln>
        </p:spPr>
      </p:pic>
      <p:sp>
        <p:nvSpPr>
          <p:cNvPr id="11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4B254-39C2-4A78-A653-0381A7D71B5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Phase 1 –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discover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ow does the problem work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s it simple or complex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at are the root causes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Explore the </a:t>
            </a: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structure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 of the problem, find the root cau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6CE5D-34D8-4F01-948B-9E962640951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Phase 1 –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determine 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at are the criteria for success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at are the constraints in both time and resource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at are the priorities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Decide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how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 to attempt a solu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Lack of parking in the city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2133720"/>
            <a:ext cx="64771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oblem Struc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Lack of par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Public transport inefficient/ unattrac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People like privacy/ sp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The c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oblem Strate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Pilot solution in Nottingham are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324480" y="2133720"/>
            <a:ext cx="2362320" cy="39924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"/>
          <p:cNvPicPr/>
          <p:nvPr/>
        </p:nvPicPr>
        <p:blipFill>
          <a:blip r:embed="rId2"/>
          <a:stretch/>
        </p:blipFill>
        <p:spPr>
          <a:xfrm>
            <a:off x="6400800" y="2209680"/>
            <a:ext cx="2362320" cy="3886200"/>
          </a:xfrm>
          <a:prstGeom prst="rect">
            <a:avLst/>
          </a:prstGeom>
          <a:ln w="0">
            <a:noFill/>
          </a:ln>
        </p:spPr>
      </p:pic>
      <p:sp>
        <p:nvSpPr>
          <p:cNvPr id="13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BD083-F272-4BDB-BD2B-7DEEEC64D4B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3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3276720" y="1781280"/>
            <a:ext cx="1238040" cy="4190760"/>
          </a:xfrm>
          <a:prstGeom prst="rect">
            <a:avLst/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alibri"/>
              </a:rPr>
              <a:t>Phase 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alibri"/>
              </a:rPr>
              <a:t>Defini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4724280" y="1781280"/>
            <a:ext cx="3124440" cy="4190760"/>
          </a:xfrm>
          <a:prstGeom prst="rect">
            <a:avLst/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Problem Descrip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DESCRIBE THE SYMPTO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Problem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FIND THE ROOT CAU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trategy to Solve Probl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DECIDE HOW TO ATTEMPT A SOLU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Left Brace 1"/>
          <p:cNvSpPr/>
          <p:nvPr/>
        </p:nvSpPr>
        <p:spPr>
          <a:xfrm>
            <a:off x="2362320" y="1523880"/>
            <a:ext cx="990360" cy="4572000"/>
          </a:xfrm>
          <a:custGeom>
            <a:avLst/>
            <a:gdLst>
              <a:gd name="textAreaLeft" fmla="*/ 632880 w 990360"/>
              <a:gd name="textAreaRight" fmla="*/ 990720 w 990360"/>
              <a:gd name="textAreaTop" fmla="*/ 25560 h 4572000"/>
              <a:gd name="textAreaBottom" fmla="*/ 4546440 h 45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5"/>
                  <a:pt x="10800" y="390"/>
                </a:cubicBezTo>
                <a:lnTo>
                  <a:pt x="10800" y="10410"/>
                </a:lnTo>
                <a:cubicBezTo>
                  <a:pt x="10800" y="10605"/>
                  <a:pt x="5400" y="10800"/>
                  <a:pt x="0" y="10800"/>
                </a:cubicBezTo>
                <a:cubicBezTo>
                  <a:pt x="5400" y="10800"/>
                  <a:pt x="10800" y="10995"/>
                  <a:pt x="10800" y="11190"/>
                </a:cubicBezTo>
                <a:lnTo>
                  <a:pt x="10800" y="21210"/>
                </a:lnTo>
                <a:cubicBezTo>
                  <a:pt x="10800" y="21405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933560"/>
            <a:ext cx="22860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RED card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AS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798480" y="2998800"/>
            <a:ext cx="1566720" cy="2060640"/>
          </a:xfrm>
          <a:prstGeom prst="rect">
            <a:avLst/>
          </a:prstGeom>
          <a:ln w="0">
            <a:noFill/>
          </a:ln>
        </p:spPr>
      </p:pic>
      <p:sp>
        <p:nvSpPr>
          <p:cNvPr id="14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1739C-20C2-47D4-932D-965C42892B2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2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Global challenges and chemistry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opulation grow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carcity of resour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ise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onsequences of the industrialised and globalised wor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opulation -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age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healthc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source scarcity –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non-renewables; energy; water; la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isease -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obesity; HIV; cancer; inf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ate modern world -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climate change; sustainability and waste; urbanisation; mo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78019-AF5A-4ACC-B4D1-669E907DC6A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3809880" y="4191120"/>
            <a:ext cx="1295640" cy="22780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"/>
          <p:cNvPicPr/>
          <p:nvPr/>
        </p:nvPicPr>
        <p:blipFill>
          <a:blip r:embed="rId2"/>
          <a:stretch/>
        </p:blipFill>
        <p:spPr>
          <a:xfrm>
            <a:off x="2841480" y="5638680"/>
            <a:ext cx="968400" cy="9669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"/>
          <p:cNvPicPr/>
          <p:nvPr/>
        </p:nvPicPr>
        <p:blipFill>
          <a:blip r:embed="rId3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itle 1"/>
          <p:cNvSpPr/>
          <p:nvPr/>
        </p:nvSpPr>
        <p:spPr>
          <a:xfrm>
            <a:off x="83808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usiness Skills for Chemical Scienti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traight Connector 5"/>
          <p:cNvSpPr/>
          <p:nvPr/>
        </p:nvSpPr>
        <p:spPr>
          <a:xfrm>
            <a:off x="304920" y="1833480"/>
            <a:ext cx="8305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4BFEE-438F-474B-88B3-D210E7CE07B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itle 1"/>
          <p:cNvSpPr/>
          <p:nvPr/>
        </p:nvSpPr>
        <p:spPr>
          <a:xfrm>
            <a:off x="685800" y="30258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  <a:ea typeface="Arial"/>
              </a:rPr>
              <a:t>Ingenuity</a:t>
            </a:r>
            <a:br>
              <a:rPr sz="4400"/>
            </a:br>
            <a:r>
              <a:rPr b="1" lang="en-US" sz="4400" spc="-1" strike="noStrike">
                <a:solidFill>
                  <a:srgbClr val="1f497d"/>
                </a:solidFill>
                <a:latin typeface="Calibri"/>
                <a:ea typeface="Arial"/>
              </a:rPr>
              <a:t>Part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f497d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3520" y="1980720"/>
            <a:ext cx="53337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genu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visit key poi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view progres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his session –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HASE TWO- </a:t>
            </a:r>
            <a:r>
              <a:rPr b="0" lang="en-GB" sz="2400" spc="-1" strike="noStrike">
                <a:solidFill>
                  <a:srgbClr val="ffc000"/>
                </a:solidFill>
                <a:latin typeface="Calibri"/>
              </a:rPr>
              <a:t>ORANGE CA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head for next se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DB491-5FF6-4800-A674-EA8609ECDCB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800240" y="2133720"/>
            <a:ext cx="3886200" cy="39924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"/>
          <p:cNvPicPr/>
          <p:nvPr/>
        </p:nvPicPr>
        <p:blipFill>
          <a:blip r:embed="rId2"/>
          <a:stretch/>
        </p:blipFill>
        <p:spPr>
          <a:xfrm>
            <a:off x="4952880" y="2209680"/>
            <a:ext cx="3810240" cy="39625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"/>
          <p:cNvPicPr/>
          <p:nvPr/>
        </p:nvPicPr>
        <p:blipFill>
          <a:blip r:embed="rId3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f497d"/>
                </a:solidFill>
                <a:latin typeface="Calibri"/>
              </a:rPr>
              <a:t>What is ingenuity? </a:t>
            </a:r>
            <a:r>
              <a:rPr b="1" lang="en-GB" sz="4400" spc="-1" strike="noStrike">
                <a:solidFill>
                  <a:srgbClr val="ffc000"/>
                </a:solidFill>
                <a:latin typeface="Calibri"/>
              </a:rPr>
              <a:t>Phase 2…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pollo 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6840" y="2819160"/>
            <a:ext cx="404028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7960" y="2133360"/>
            <a:ext cx="404172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000"/>
                </a:solidFill>
                <a:latin typeface="Calibri"/>
              </a:rPr>
              <a:t>Phase 2– generate lots of IDE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019E3-6A72-4256-BCE2-F106B34A4C4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644720" y="3200040"/>
            <a:ext cx="4041720" cy="29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7" descr=""/>
          <p:cNvPicPr/>
          <p:nvPr/>
        </p:nvPicPr>
        <p:blipFill>
          <a:blip r:embed="rId1"/>
          <a:stretch/>
        </p:blipFill>
        <p:spPr>
          <a:xfrm>
            <a:off x="531720" y="2798640"/>
            <a:ext cx="4038840" cy="32338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8" descr=""/>
          <p:cNvPicPr/>
          <p:nvPr/>
        </p:nvPicPr>
        <p:blipFill>
          <a:blip r:embed="rId2"/>
          <a:stretch/>
        </p:blipFill>
        <p:spPr>
          <a:xfrm>
            <a:off x="531720" y="4971960"/>
            <a:ext cx="1067040" cy="10717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"/>
          <p:cNvPicPr/>
          <p:nvPr/>
        </p:nvPicPr>
        <p:blipFill>
          <a:blip r:embed="rId3"/>
          <a:stretch/>
        </p:blipFill>
        <p:spPr>
          <a:xfrm>
            <a:off x="4724280" y="3352680"/>
            <a:ext cx="3911760" cy="2691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" descr=""/>
          <p:cNvPicPr/>
          <p:nvPr/>
        </p:nvPicPr>
        <p:blipFill>
          <a:blip r:embed="rId4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33520" y="1980720"/>
            <a:ext cx="53337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genu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xplan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nd chemist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is session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HASE ONE - 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RED CA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head for next se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A9692-C78E-42B2-BC2F-177140D4DAE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800240" y="2133720"/>
            <a:ext cx="3886200" cy="3992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"/>
          <p:cNvPicPr/>
          <p:nvPr/>
        </p:nvPicPr>
        <p:blipFill>
          <a:blip r:embed="rId2"/>
          <a:stretch/>
        </p:blipFill>
        <p:spPr>
          <a:xfrm>
            <a:off x="4952880" y="2209680"/>
            <a:ext cx="3810240" cy="3962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3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4476600" y="1162080"/>
            <a:ext cx="1238400" cy="1704960"/>
          </a:xfrm>
          <a:prstGeom prst="rect">
            <a:avLst/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alibri"/>
              </a:rPr>
              <a:t>Phase 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alibri"/>
              </a:rPr>
              <a:t>Defini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5715000" y="1162080"/>
            <a:ext cx="3124080" cy="1704960"/>
          </a:xfrm>
          <a:prstGeom prst="rect">
            <a:avLst/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Problem Descrip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Problem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trategy to Solve Probl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4476600" y="3019320"/>
            <a:ext cx="1238400" cy="1704960"/>
          </a:xfrm>
          <a:prstGeom prst="rect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Phase 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isco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5715000" y="3019320"/>
            <a:ext cx="3124080" cy="1704960"/>
          </a:xfrm>
          <a:prstGeom prst="rect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roblem Stat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deas-Opportun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otential Concep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4476600" y="4924440"/>
            <a:ext cx="1238400" cy="1704960"/>
          </a:xfrm>
          <a:prstGeom prst="rect">
            <a:avLst/>
          </a:prstGeom>
          <a:solidFill>
            <a:srgbClr val="00b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Phase I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eterm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11"/>
          <p:cNvSpPr/>
          <p:nvPr/>
        </p:nvSpPr>
        <p:spPr>
          <a:xfrm>
            <a:off x="5715000" y="4924440"/>
            <a:ext cx="3124080" cy="1704960"/>
          </a:xfrm>
          <a:prstGeom prst="rect">
            <a:avLst/>
          </a:prstGeom>
          <a:solidFill>
            <a:srgbClr val="00b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Final Concep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election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Implementation Plan for Optimal Solu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90600" y="2130120"/>
            <a:ext cx="4038480" cy="22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INGENUITY   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Left Brace 1"/>
          <p:cNvSpPr/>
          <p:nvPr/>
        </p:nvSpPr>
        <p:spPr>
          <a:xfrm>
            <a:off x="3200400" y="1676520"/>
            <a:ext cx="990720" cy="4572000"/>
          </a:xfrm>
          <a:custGeom>
            <a:avLst/>
            <a:gdLst>
              <a:gd name="textAreaLeft" fmla="*/ 632880 w 990720"/>
              <a:gd name="textAreaRight" fmla="*/ 991080 w 990720"/>
              <a:gd name="textAreaTop" fmla="*/ 25560 h 4572000"/>
              <a:gd name="textAreaBottom" fmla="*/ 4546440 h 45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5"/>
                  <a:pt x="10800" y="390"/>
                </a:cubicBezTo>
                <a:lnTo>
                  <a:pt x="10800" y="10410"/>
                </a:lnTo>
                <a:cubicBezTo>
                  <a:pt x="10800" y="10605"/>
                  <a:pt x="5400" y="10800"/>
                  <a:pt x="0" y="10800"/>
                </a:cubicBezTo>
                <a:cubicBezTo>
                  <a:pt x="5400" y="10800"/>
                  <a:pt x="10800" y="10995"/>
                  <a:pt x="10800" y="11190"/>
                </a:cubicBezTo>
                <a:lnTo>
                  <a:pt x="10800" y="21210"/>
                </a:lnTo>
                <a:cubicBezTo>
                  <a:pt x="10800" y="21405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4A41F-53E9-4217-AF98-7EE9DD110A8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3"/>
          <p:cNvSpPr/>
          <p:nvPr/>
        </p:nvSpPr>
        <p:spPr>
          <a:xfrm>
            <a:off x="4724280" y="1981080"/>
            <a:ext cx="3124440" cy="4191120"/>
          </a:xfrm>
          <a:prstGeom prst="rect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Problem Statemen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PREPARE TO FIND SOLU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Ideas/Opportun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GENERATE MULTIPLE SOLU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Potential Concept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NOTICE AS REALISTIC CONCEPTS EMER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90600" y="2130120"/>
            <a:ext cx="2047680" cy="22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GB" sz="2800" spc="-1" strike="noStrike">
                <a:solidFill>
                  <a:srgbClr val="ffc000"/>
                </a:solidFill>
                <a:latin typeface="Calibri"/>
              </a:rPr>
              <a:t>ORANGE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Left Brace 1"/>
          <p:cNvSpPr/>
          <p:nvPr/>
        </p:nvSpPr>
        <p:spPr>
          <a:xfrm>
            <a:off x="2362320" y="1724040"/>
            <a:ext cx="990360" cy="4572000"/>
          </a:xfrm>
          <a:custGeom>
            <a:avLst/>
            <a:gdLst>
              <a:gd name="textAreaLeft" fmla="*/ 632880 w 990360"/>
              <a:gd name="textAreaRight" fmla="*/ 990720 w 990360"/>
              <a:gd name="textAreaTop" fmla="*/ 25560 h 4572000"/>
              <a:gd name="textAreaBottom" fmla="*/ 4546440 h 45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5"/>
                  <a:pt x="10800" y="390"/>
                </a:cubicBezTo>
                <a:lnTo>
                  <a:pt x="10800" y="10410"/>
                </a:lnTo>
                <a:cubicBezTo>
                  <a:pt x="10800" y="10605"/>
                  <a:pt x="5400" y="10800"/>
                  <a:pt x="0" y="10800"/>
                </a:cubicBezTo>
                <a:cubicBezTo>
                  <a:pt x="5400" y="10800"/>
                  <a:pt x="10800" y="10995"/>
                  <a:pt x="10800" y="11190"/>
                </a:cubicBezTo>
                <a:lnTo>
                  <a:pt x="10800" y="21210"/>
                </a:lnTo>
                <a:cubicBezTo>
                  <a:pt x="10800" y="21405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23DA1-D76A-4EBD-8B24-21776E76E42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3200400" y="1978200"/>
            <a:ext cx="1238400" cy="4190760"/>
          </a:xfrm>
          <a:prstGeom prst="rect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Phase 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isco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000"/>
                </a:solidFill>
                <a:latin typeface="Calibri"/>
              </a:rPr>
              <a:t>Thoughts on problem discovery…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reativity is the yeast of innovation; a small part of the recipe, useless on it’s own but see what happens when you miss it out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c000"/>
                </a:solidFill>
                <a:latin typeface="Calibri"/>
              </a:rPr>
              <a:t>	</a:t>
            </a:r>
            <a:r>
              <a:rPr b="0" i="1" lang="en-GB" sz="2800" spc="-1" strike="noStrike">
                <a:solidFill>
                  <a:srgbClr val="ffc000"/>
                </a:solidFill>
                <a:latin typeface="Calibri"/>
              </a:rPr>
              <a:t>William Be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b0f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op TI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isten (to yourself AND each oth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on’t interrup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ome useful questions when discovering the problem, see p62-8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C02C7-5CBB-4B5B-AC3E-AE79F63FA8F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2743200" y="5257800"/>
            <a:ext cx="1974960" cy="14508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" descr=""/>
          <p:cNvPicPr/>
          <p:nvPr/>
        </p:nvPicPr>
        <p:blipFill>
          <a:blip r:embed="rId2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Phase 1 – </a:t>
            </a:r>
            <a:r>
              <a:rPr b="0" lang="en-GB" sz="4400" spc="-1" strike="noStrike">
                <a:solidFill>
                  <a:srgbClr val="ffc000"/>
                </a:solidFill>
                <a:latin typeface="Calibri"/>
              </a:rPr>
              <a:t>define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esent a clear explan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onstruct a strate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ompose a stat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c000"/>
                </a:solidFill>
                <a:latin typeface="Calibri"/>
              </a:rPr>
              <a:t>Prepare </a:t>
            </a:r>
            <a:r>
              <a:rPr b="0" lang="en-GB" sz="2800" spc="-1" strike="noStrike">
                <a:solidFill>
                  <a:srgbClr val="ffc000"/>
                </a:solidFill>
                <a:latin typeface="Calibri"/>
              </a:rPr>
              <a:t>to find solu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1DBC5-70D9-44A3-9CCD-98988F20D2F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Lack of parking in the city</a:t>
            </a:r>
            <a:br>
              <a:rPr sz="4400"/>
            </a:b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2133720"/>
            <a:ext cx="44956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000"/>
                </a:solidFill>
                <a:latin typeface="Calibri"/>
              </a:rPr>
              <a:t>Problem Stat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c000"/>
                </a:solidFill>
                <a:latin typeface="Calibri"/>
              </a:rPr>
              <a:t>‘</a:t>
            </a:r>
            <a:r>
              <a:rPr b="0" i="1" lang="en-GB" sz="2400" spc="-1" strike="noStrike">
                <a:solidFill>
                  <a:srgbClr val="ffc000"/>
                </a:solidFill>
                <a:latin typeface="Calibri"/>
              </a:rPr>
              <a:t>there is an excess demand for parking in areas of insufficient supply for commuters in cities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629040" y="2133720"/>
            <a:ext cx="20574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4952880" y="2209680"/>
            <a:ext cx="3810240" cy="388620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2A309-B75B-4222-8DF7-F1AE017CE72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2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Phase 2 – </a:t>
            </a:r>
            <a:r>
              <a:rPr b="0" lang="en-GB" sz="4400" spc="-1" strike="noStrike">
                <a:solidFill>
                  <a:srgbClr val="ffc000"/>
                </a:solidFill>
                <a:latin typeface="Calibri"/>
              </a:rPr>
              <a:t>discover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eek analog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Generate non obvious id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ind as many idea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c000"/>
                </a:solidFill>
                <a:latin typeface="Calibri"/>
              </a:rPr>
              <a:t>Generate </a:t>
            </a:r>
            <a:r>
              <a:rPr b="0" lang="en-GB" sz="2800" spc="-1" strike="noStrike">
                <a:solidFill>
                  <a:srgbClr val="ffc000"/>
                </a:solidFill>
                <a:latin typeface="Calibri"/>
              </a:rPr>
              <a:t>multiple solu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77C02-0F81-4F21-A35D-ADBD0AA3BFF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Phase 3 – </a:t>
            </a:r>
            <a:r>
              <a:rPr b="0" lang="en-GB" sz="4400" spc="-1" strike="noStrike">
                <a:solidFill>
                  <a:srgbClr val="ffc000"/>
                </a:solidFill>
                <a:latin typeface="Calibri"/>
              </a:rPr>
              <a:t>determine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flect on nature and diversity of idea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ve all the permutations been explor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ve enough ideas been produc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c000"/>
                </a:solidFill>
                <a:latin typeface="Calibri"/>
              </a:rPr>
              <a:t>Notice </a:t>
            </a:r>
            <a:r>
              <a:rPr b="0" lang="en-GB" sz="2800" spc="-1" strike="noStrike">
                <a:solidFill>
                  <a:srgbClr val="ffc000"/>
                </a:solidFill>
                <a:latin typeface="Calibri"/>
              </a:rPr>
              <a:t>as realistic concepts begin to emer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A1F7C-708D-4440-BDAA-DCD557615A0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city parking – </a:t>
            </a:r>
            <a:r>
              <a:rPr b="0" lang="en-GB" sz="4400" spc="-1" strike="noStrike">
                <a:solidFill>
                  <a:srgbClr val="ffc000"/>
                </a:solidFill>
                <a:latin typeface="Calibri"/>
              </a:rPr>
              <a:t>multiple solutions</a:t>
            </a: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B5B79-6865-4EB0-A214-3D11818BBC6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nder water park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ark in middle of roa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odel specific par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arking on sides of build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obile car park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No lines in car par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ow roofs in car park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Jig saw c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r becomes a gener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isposable c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rs become delivery c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loating c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riverless car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bay car park auction for sp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llapsible car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ime share car par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No lorries in city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No shops in c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mmunity car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ortable off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000"/>
                </a:solidFill>
                <a:latin typeface="Calibri"/>
              </a:rPr>
              <a:t>Effect ideas discovery…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212580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op TI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Generate as many solutions as possible (&gt;5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Use post it no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ake a lateral, non linear jump to achieve creative insigh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itchhiking’ is encourag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343C6-1081-4F47-9C00-6774EE30471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Content Placeholder 2"/>
          <p:cNvSpPr/>
          <p:nvPr/>
        </p:nvSpPr>
        <p:spPr>
          <a:xfrm>
            <a:off x="4724280" y="2125800"/>
            <a:ext cx="4038840" cy="39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Arial"/>
              </a:rPr>
              <a:t>Top TI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No criticism is allow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Rank your ideas from 1= incremental innovation and 5 = radically ne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You should aim to generate at least 20 radically new ide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000"/>
                </a:solidFill>
                <a:latin typeface="Calibri"/>
                <a:ea typeface="Arial"/>
              </a:rPr>
              <a:t>use your knowledge of the latest research in your fie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3"/>
          <p:cNvSpPr/>
          <p:nvPr/>
        </p:nvSpPr>
        <p:spPr>
          <a:xfrm>
            <a:off x="4724280" y="1981080"/>
            <a:ext cx="3124440" cy="4191120"/>
          </a:xfrm>
          <a:prstGeom prst="rect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Problem Statemen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PREPARE TO FIND SOLU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Ideas/Opportun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GENERATE MULTIPLE SOLU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Potential Concept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NOTICE AS REALISTIC CONCEPTS EMER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80520" y="1523520"/>
            <a:ext cx="2048040" cy="22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GB" sz="2800" spc="-1" strike="noStrike">
                <a:solidFill>
                  <a:srgbClr val="ffc000"/>
                </a:solidFill>
                <a:latin typeface="Calibri"/>
              </a:rPr>
              <a:t>ORANGE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ard TAS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Left Brace 1"/>
          <p:cNvSpPr/>
          <p:nvPr/>
        </p:nvSpPr>
        <p:spPr>
          <a:xfrm>
            <a:off x="2362320" y="1724040"/>
            <a:ext cx="990360" cy="4572000"/>
          </a:xfrm>
          <a:custGeom>
            <a:avLst/>
            <a:gdLst>
              <a:gd name="textAreaLeft" fmla="*/ 632880 w 990360"/>
              <a:gd name="textAreaRight" fmla="*/ 990720 w 990360"/>
              <a:gd name="textAreaTop" fmla="*/ 25560 h 4572000"/>
              <a:gd name="textAreaBottom" fmla="*/ 4546440 h 45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5"/>
                  <a:pt x="10800" y="390"/>
                </a:cubicBezTo>
                <a:lnTo>
                  <a:pt x="10800" y="10410"/>
                </a:lnTo>
                <a:cubicBezTo>
                  <a:pt x="10800" y="10605"/>
                  <a:pt x="5400" y="10800"/>
                  <a:pt x="0" y="10800"/>
                </a:cubicBezTo>
                <a:cubicBezTo>
                  <a:pt x="5400" y="10800"/>
                  <a:pt x="10800" y="10995"/>
                  <a:pt x="10800" y="11190"/>
                </a:cubicBezTo>
                <a:lnTo>
                  <a:pt x="10800" y="21210"/>
                </a:lnTo>
                <a:cubicBezTo>
                  <a:pt x="10800" y="21405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51746-F138-4F11-9D2A-E03723BB934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3200400" y="1978200"/>
            <a:ext cx="1238400" cy="4190760"/>
          </a:xfrm>
          <a:prstGeom prst="rect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Phase 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isco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828720" y="3432240"/>
            <a:ext cx="1566720" cy="20606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"/>
          <p:cNvPicPr/>
          <p:nvPr/>
        </p:nvPicPr>
        <p:blipFill>
          <a:blip r:embed="rId2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What is ingenuity? In action…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pollo 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6840" y="2819160"/>
            <a:ext cx="404028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960" y="213336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he Million Dollar Homep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5691C-761E-431D-A395-1CFFF717C93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44720" y="2819160"/>
            <a:ext cx="404172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7" descr=""/>
          <p:cNvPicPr/>
          <p:nvPr/>
        </p:nvPicPr>
        <p:blipFill>
          <a:blip r:embed="rId1"/>
          <a:stretch/>
        </p:blipFill>
        <p:spPr>
          <a:xfrm>
            <a:off x="531720" y="2798640"/>
            <a:ext cx="4038840" cy="32338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"/>
          <p:cNvPicPr/>
          <p:nvPr/>
        </p:nvPicPr>
        <p:blipFill>
          <a:blip r:embed="rId2"/>
          <a:stretch/>
        </p:blipFill>
        <p:spPr>
          <a:xfrm>
            <a:off x="531720" y="4971960"/>
            <a:ext cx="1067040" cy="1071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"/>
          <p:cNvPicPr/>
          <p:nvPr/>
        </p:nvPicPr>
        <p:blipFill>
          <a:blip r:embed="rId3"/>
          <a:stretch/>
        </p:blipFill>
        <p:spPr>
          <a:xfrm>
            <a:off x="4724280" y="2816280"/>
            <a:ext cx="3962520" cy="32162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"/>
          <p:cNvPicPr/>
          <p:nvPr/>
        </p:nvPicPr>
        <p:blipFill>
          <a:blip r:embed="rId4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itle 1"/>
          <p:cNvSpPr/>
          <p:nvPr/>
        </p:nvSpPr>
        <p:spPr>
          <a:xfrm>
            <a:off x="83808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usiness Skills for Chemical Scienti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traight Connector 5"/>
          <p:cNvSpPr/>
          <p:nvPr/>
        </p:nvSpPr>
        <p:spPr>
          <a:xfrm>
            <a:off x="304920" y="1833480"/>
            <a:ext cx="8305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0FC97-6A61-48AC-B192-1DB651A4244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itle 1"/>
          <p:cNvSpPr/>
          <p:nvPr/>
        </p:nvSpPr>
        <p:spPr>
          <a:xfrm>
            <a:off x="685800" y="30258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  <a:ea typeface="Arial"/>
              </a:rPr>
              <a:t>Ingenuity</a:t>
            </a:r>
            <a:br>
              <a:rPr sz="4400"/>
            </a:br>
            <a:r>
              <a:rPr b="1" lang="en-US" sz="4400" spc="-1" strike="noStrike">
                <a:solidFill>
                  <a:srgbClr val="1f497d"/>
                </a:solidFill>
                <a:latin typeface="Calibri"/>
                <a:ea typeface="Arial"/>
              </a:rPr>
              <a:t>Part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f497d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980720"/>
            <a:ext cx="53337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genu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visit key poi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view progres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his session –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HASE THREE- </a:t>
            </a:r>
            <a:r>
              <a:rPr b="0" lang="en-GB" sz="2400" spc="-1" strike="noStrike">
                <a:solidFill>
                  <a:srgbClr val="92d050"/>
                </a:solidFill>
                <a:latin typeface="Calibri"/>
              </a:rPr>
              <a:t>GREEN CA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CEC25-86DC-4418-B280-5C4159269C0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4800240" y="2133720"/>
            <a:ext cx="3886200" cy="39924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7" descr=""/>
          <p:cNvPicPr/>
          <p:nvPr/>
        </p:nvPicPr>
        <p:blipFill>
          <a:blip r:embed="rId2"/>
          <a:stretch/>
        </p:blipFill>
        <p:spPr>
          <a:xfrm>
            <a:off x="4952880" y="2209680"/>
            <a:ext cx="3810240" cy="39625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" descr=""/>
          <p:cNvPicPr/>
          <p:nvPr/>
        </p:nvPicPr>
        <p:blipFill>
          <a:blip r:embed="rId3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f497d"/>
                </a:solidFill>
                <a:latin typeface="Calibri"/>
              </a:rPr>
              <a:t>What is ingenuity? </a:t>
            </a:r>
            <a:r>
              <a:rPr b="1" lang="en-GB" sz="4400" spc="-1" strike="noStrike">
                <a:solidFill>
                  <a:srgbClr val="92d050"/>
                </a:solidFill>
                <a:latin typeface="Calibri"/>
              </a:rPr>
              <a:t>Phase 3…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pollo 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6840" y="2819160"/>
            <a:ext cx="404028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47960" y="2133360"/>
            <a:ext cx="404172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2d050"/>
                </a:solidFill>
                <a:latin typeface="Calibri"/>
              </a:rPr>
              <a:t>Phase 3–at last, the SOLU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BA530-7E8E-44BF-96A9-3DC3E370397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644720" y="3200040"/>
            <a:ext cx="4041720" cy="29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7" name="Picture 7" descr=""/>
          <p:cNvPicPr/>
          <p:nvPr/>
        </p:nvPicPr>
        <p:blipFill>
          <a:blip r:embed="rId1"/>
          <a:stretch/>
        </p:blipFill>
        <p:spPr>
          <a:xfrm>
            <a:off x="531720" y="2798640"/>
            <a:ext cx="4038840" cy="32338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8" descr=""/>
          <p:cNvPicPr/>
          <p:nvPr/>
        </p:nvPicPr>
        <p:blipFill>
          <a:blip r:embed="rId2"/>
          <a:stretch/>
        </p:blipFill>
        <p:spPr>
          <a:xfrm>
            <a:off x="531720" y="4971960"/>
            <a:ext cx="1067040" cy="10717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" descr=""/>
          <p:cNvPicPr/>
          <p:nvPr/>
        </p:nvPicPr>
        <p:blipFill>
          <a:blip r:embed="rId3"/>
          <a:stretch/>
        </p:blipFill>
        <p:spPr>
          <a:xfrm>
            <a:off x="4724280" y="2798640"/>
            <a:ext cx="3965760" cy="32450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" descr=""/>
          <p:cNvPicPr/>
          <p:nvPr/>
        </p:nvPicPr>
        <p:blipFill>
          <a:blip r:embed="rId4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4476600" y="1162080"/>
            <a:ext cx="1238400" cy="1704960"/>
          </a:xfrm>
          <a:prstGeom prst="rect">
            <a:avLst/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alibri"/>
              </a:rPr>
              <a:t>Phase 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alibri"/>
              </a:rPr>
              <a:t>Defini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5715000" y="1162080"/>
            <a:ext cx="3124080" cy="1704960"/>
          </a:xfrm>
          <a:prstGeom prst="rect">
            <a:avLst/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Problem Descrip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Problem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trategy to Solve Probl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4476600" y="3019320"/>
            <a:ext cx="1238400" cy="1704960"/>
          </a:xfrm>
          <a:prstGeom prst="rect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Phase 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isco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5715000" y="3019320"/>
            <a:ext cx="3124080" cy="1704960"/>
          </a:xfrm>
          <a:prstGeom prst="rect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roblem Stat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deas-Opportun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otential Concep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4476600" y="4924440"/>
            <a:ext cx="1238400" cy="1704960"/>
          </a:xfrm>
          <a:prstGeom prst="rect">
            <a:avLst/>
          </a:prstGeom>
          <a:solidFill>
            <a:srgbClr val="00b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Phase I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eterm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11"/>
          <p:cNvSpPr/>
          <p:nvPr/>
        </p:nvSpPr>
        <p:spPr>
          <a:xfrm>
            <a:off x="5715000" y="4924440"/>
            <a:ext cx="3124080" cy="1704960"/>
          </a:xfrm>
          <a:prstGeom prst="rect">
            <a:avLst/>
          </a:prstGeom>
          <a:solidFill>
            <a:srgbClr val="00b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Final Concep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election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Implementation Plan for Optimal Solu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90600" y="2130120"/>
            <a:ext cx="4038480" cy="22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INGENUITY   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Left Brace 1"/>
          <p:cNvSpPr/>
          <p:nvPr/>
        </p:nvSpPr>
        <p:spPr>
          <a:xfrm>
            <a:off x="3200400" y="1676520"/>
            <a:ext cx="990720" cy="4572000"/>
          </a:xfrm>
          <a:custGeom>
            <a:avLst/>
            <a:gdLst>
              <a:gd name="textAreaLeft" fmla="*/ 632880 w 990720"/>
              <a:gd name="textAreaRight" fmla="*/ 991080 w 990720"/>
              <a:gd name="textAreaTop" fmla="*/ 25560 h 4572000"/>
              <a:gd name="textAreaBottom" fmla="*/ 4546440 h 45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5"/>
                  <a:pt x="10800" y="390"/>
                </a:cubicBezTo>
                <a:lnTo>
                  <a:pt x="10800" y="10410"/>
                </a:lnTo>
                <a:cubicBezTo>
                  <a:pt x="10800" y="10605"/>
                  <a:pt x="5400" y="10800"/>
                  <a:pt x="0" y="10800"/>
                </a:cubicBezTo>
                <a:cubicBezTo>
                  <a:pt x="5400" y="10800"/>
                  <a:pt x="10800" y="10995"/>
                  <a:pt x="10800" y="11190"/>
                </a:cubicBezTo>
                <a:lnTo>
                  <a:pt x="10800" y="21210"/>
                </a:lnTo>
                <a:cubicBezTo>
                  <a:pt x="10800" y="21405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2FD56-C1EB-4390-B3EF-2B910D1D53C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3"/>
          <p:cNvSpPr/>
          <p:nvPr/>
        </p:nvSpPr>
        <p:spPr>
          <a:xfrm>
            <a:off x="4724280" y="1981080"/>
            <a:ext cx="3124440" cy="4191120"/>
          </a:xfrm>
          <a:prstGeom prst="rect">
            <a:avLst/>
          </a:prstGeom>
          <a:solidFill>
            <a:srgbClr val="92d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Final Concept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ELECT AND ENGINEER POTENTIAL SOLU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election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FIND THE BEST SOLU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Look to the fu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CONSIDER IMPLEMEN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90600" y="2130120"/>
            <a:ext cx="2047680" cy="22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GB" sz="2800" spc="-1" strike="noStrike">
                <a:solidFill>
                  <a:srgbClr val="92d050"/>
                </a:solidFill>
                <a:latin typeface="Calibri"/>
              </a:rPr>
              <a:t>GREEN</a:t>
            </a:r>
            <a:r>
              <a:rPr b="0" lang="en-GB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Left Brace 1"/>
          <p:cNvSpPr/>
          <p:nvPr/>
        </p:nvSpPr>
        <p:spPr>
          <a:xfrm>
            <a:off x="2362320" y="1724040"/>
            <a:ext cx="990360" cy="4572000"/>
          </a:xfrm>
          <a:custGeom>
            <a:avLst/>
            <a:gdLst>
              <a:gd name="textAreaLeft" fmla="*/ 632880 w 990360"/>
              <a:gd name="textAreaRight" fmla="*/ 990720 w 990360"/>
              <a:gd name="textAreaTop" fmla="*/ 25560 h 4572000"/>
              <a:gd name="textAreaBottom" fmla="*/ 4546440 h 45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5"/>
                  <a:pt x="10800" y="390"/>
                </a:cubicBezTo>
                <a:lnTo>
                  <a:pt x="10800" y="10410"/>
                </a:lnTo>
                <a:cubicBezTo>
                  <a:pt x="10800" y="10605"/>
                  <a:pt x="5400" y="10800"/>
                  <a:pt x="0" y="10800"/>
                </a:cubicBezTo>
                <a:cubicBezTo>
                  <a:pt x="5400" y="10800"/>
                  <a:pt x="10800" y="10995"/>
                  <a:pt x="10800" y="11190"/>
                </a:cubicBezTo>
                <a:lnTo>
                  <a:pt x="10800" y="21210"/>
                </a:lnTo>
                <a:cubicBezTo>
                  <a:pt x="10800" y="21405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E9E19-8908-4715-8418-A2F5E0B2290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3200400" y="1978200"/>
            <a:ext cx="1238400" cy="4190760"/>
          </a:xfrm>
          <a:prstGeom prst="rect">
            <a:avLst/>
          </a:prstGeom>
          <a:solidFill>
            <a:srgbClr val="92d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Phase I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eterm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2d050"/>
                </a:solidFill>
                <a:latin typeface="Calibri"/>
              </a:rPr>
              <a:t>Thoughts on problem determination …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‘‘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eople who don’t take risks generally ma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bout two big mistakes a year. People who 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ake risks generally make about two bi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istakes a year’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b0f0"/>
                </a:solidFill>
                <a:latin typeface="Calibri"/>
              </a:rPr>
              <a:t>	</a:t>
            </a:r>
            <a:r>
              <a:rPr b="0" i="1" lang="en-GB" sz="2800" spc="-1" strike="noStrike">
                <a:solidFill>
                  <a:srgbClr val="92d05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92d050"/>
                </a:solidFill>
                <a:latin typeface="Calibri"/>
              </a:rPr>
              <a:t>Peter Druck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C3CF6-369E-45A6-8817-44A505D480F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4724280" y="2209680"/>
            <a:ext cx="3886200" cy="35816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2" descr=""/>
          <p:cNvPicPr/>
          <p:nvPr/>
        </p:nvPicPr>
        <p:blipFill>
          <a:blip r:embed="rId2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Phase 1 – </a:t>
            </a:r>
            <a:r>
              <a:rPr b="0" lang="en-GB" sz="4400" spc="-1" strike="noStrike">
                <a:solidFill>
                  <a:srgbClr val="92d050"/>
                </a:solidFill>
                <a:latin typeface="Calibri"/>
              </a:rPr>
              <a:t>define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ort and sift ideas into catego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onstruct realistic possibil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elect 3/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2d050"/>
                </a:solidFill>
                <a:latin typeface="Calibri"/>
              </a:rPr>
              <a:t>Select </a:t>
            </a:r>
            <a:r>
              <a:rPr b="0" lang="en-GB" sz="2800" spc="-1" strike="noStrike">
                <a:solidFill>
                  <a:srgbClr val="92d050"/>
                </a:solidFill>
                <a:latin typeface="Calibri"/>
              </a:rPr>
              <a:t>and engineer potential solu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1411D-29DB-4E74-9C5A-9EAB519F5AC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Phase 2 – </a:t>
            </a:r>
            <a:r>
              <a:rPr b="0" lang="en-GB" sz="4400" spc="-1" strike="noStrike">
                <a:solidFill>
                  <a:srgbClr val="92d050"/>
                </a:solidFill>
                <a:latin typeface="Calibri"/>
              </a:rPr>
              <a:t>discover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call criteria from problem definition st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ompare the alternati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hoose the optimal solu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2d050"/>
                </a:solidFill>
                <a:latin typeface="Calibri"/>
              </a:rPr>
              <a:t>Investigate </a:t>
            </a:r>
            <a:r>
              <a:rPr b="0" lang="en-GB" sz="2800" spc="-1" strike="noStrike">
                <a:solidFill>
                  <a:srgbClr val="92d050"/>
                </a:solidFill>
                <a:latin typeface="Calibri"/>
              </a:rPr>
              <a:t>the alternatives and </a:t>
            </a:r>
            <a:r>
              <a:rPr b="1" lang="en-GB" sz="2800" spc="-1" strike="noStrike">
                <a:solidFill>
                  <a:srgbClr val="92d050"/>
                </a:solidFill>
                <a:latin typeface="Calibri"/>
              </a:rPr>
              <a:t>find </a:t>
            </a:r>
            <a:r>
              <a:rPr b="0" lang="en-GB" sz="2800" spc="-1" strike="noStrike">
                <a:solidFill>
                  <a:srgbClr val="92d050"/>
                </a:solidFill>
                <a:latin typeface="Calibri"/>
              </a:rPr>
              <a:t>the best solu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518DB-F3AC-4DDB-8FC0-55C12D29033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Phase 3 – </a:t>
            </a:r>
            <a:r>
              <a:rPr b="0" lang="en-GB" sz="4400" spc="-1" strike="noStrike">
                <a:solidFill>
                  <a:srgbClr val="92d050"/>
                </a:solidFill>
                <a:latin typeface="Calibri"/>
              </a:rPr>
              <a:t>determine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esent chosen solu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xamine barriers to accep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oduce implementation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2d050"/>
                </a:solidFill>
                <a:latin typeface="Calibri"/>
              </a:rPr>
              <a:t>Concentrate </a:t>
            </a:r>
            <a:r>
              <a:rPr b="0" lang="en-GB" sz="2800" spc="-1" strike="noStrike">
                <a:solidFill>
                  <a:srgbClr val="92d050"/>
                </a:solidFill>
                <a:latin typeface="Calibri"/>
              </a:rPr>
              <a:t>on the imagined fu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30C1B-C39B-4E3F-B303-0E70DB4990D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7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city parking – </a:t>
            </a:r>
            <a:r>
              <a:rPr b="0" lang="en-GB" sz="4400" spc="-1" strike="noStrike">
                <a:solidFill>
                  <a:srgbClr val="92d050"/>
                </a:solidFill>
                <a:latin typeface="Calibri"/>
              </a:rPr>
              <a:t>final concepts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F9132-EE70-4577-A5EF-3E79C98551F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ategorised ideas into three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frastructure chan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igh tech solu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ocial enginee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oduced three super solutions – one from each categ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obile car pa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Yield management of car parks via tom toms, G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an lorr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2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Ingenuity starts with #1 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205740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focus on the ‘Huston we have a problem’ moment rather than ‘EUREKA! here’s the solution..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e tradition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entrepreneur (in the Schumpeter (1921) sense not 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veryone in business sen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ifting the paradigm (Kuhn, 196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nsions – between innovation and orthodox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FAF4E-84C6-4BC3-B85E-BD7FD8CF77B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2d050"/>
                </a:solidFill>
                <a:latin typeface="Calibri"/>
              </a:rPr>
              <a:t>Effective  determination …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685800" y="212580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2d050"/>
              </a:buClr>
              <a:buFont typeface="Arial"/>
              <a:buChar char="•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GB" sz="2800" spc="-1" strike="noStrike">
                <a:solidFill>
                  <a:srgbClr val="92d050"/>
                </a:solidFill>
                <a:latin typeface="Calibri"/>
              </a:rPr>
              <a:t>Final concep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92d050"/>
              </a:buClr>
              <a:buFont typeface="Wingdings" charset="2"/>
              <a:buChar char="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GB" sz="2400" spc="-1" strike="noStrike">
                <a:solidFill>
                  <a:srgbClr val="92d050"/>
                </a:solidFill>
                <a:latin typeface="Calibri"/>
              </a:rPr>
              <a:t>Categoris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ost-it no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me the ide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e flexible – force f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92d050"/>
              </a:buClr>
              <a:buFont typeface="Wingdings" charset="2"/>
              <a:buChar char="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GB" sz="2400" spc="-1" strike="noStrike">
                <a:solidFill>
                  <a:srgbClr val="92d050"/>
                </a:solidFill>
                <a:latin typeface="Calibri"/>
              </a:rPr>
              <a:t>Synthe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tart with a single idea and build from the r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2017C-C8AE-4A7F-AEFE-BE8BE618088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Content Placeholder 2"/>
          <p:cNvSpPr/>
          <p:nvPr/>
        </p:nvSpPr>
        <p:spPr>
          <a:xfrm>
            <a:off x="4724280" y="2125800"/>
            <a:ext cx="4038840" cy="39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 algn="just">
              <a:spcBef>
                <a:spcPts val="7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2d050"/>
                </a:solidFill>
                <a:latin typeface="Calibri"/>
                <a:ea typeface="Times New Roman"/>
              </a:rPr>
              <a:t>Sel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generate criteria required in a sol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score solution by cri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advantages/disadvantages matri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spcBef>
                <a:spcPts val="7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2d050"/>
                </a:solidFill>
                <a:latin typeface="Calibri"/>
                <a:ea typeface="Arial"/>
              </a:rPr>
              <a:t>Implement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imagine using a solution in pract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removing negatives:- borrow from other solutions and from phase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7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3"/>
          <p:cNvSpPr/>
          <p:nvPr/>
        </p:nvSpPr>
        <p:spPr>
          <a:xfrm>
            <a:off x="4724280" y="1981080"/>
            <a:ext cx="3124440" cy="4191120"/>
          </a:xfrm>
          <a:prstGeom prst="rect">
            <a:avLst/>
          </a:prstGeom>
          <a:solidFill>
            <a:srgbClr val="92d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Final Concept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ELECT AND ENGINEER POTENTIAL SOLU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election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FIND THE BEST SOLU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Look to the fu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CONSIDER IMPLEMEN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6840" y="1599840"/>
            <a:ext cx="2048040" cy="22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GB" sz="2800" spc="-1" strike="noStrike">
                <a:solidFill>
                  <a:srgbClr val="92d050"/>
                </a:solidFill>
                <a:latin typeface="Calibri"/>
              </a:rPr>
              <a:t>GREEN</a:t>
            </a:r>
            <a:r>
              <a:rPr b="0" lang="en-GB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ard TAS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Left Brace 1"/>
          <p:cNvSpPr/>
          <p:nvPr/>
        </p:nvSpPr>
        <p:spPr>
          <a:xfrm>
            <a:off x="2362320" y="1724040"/>
            <a:ext cx="990360" cy="4572000"/>
          </a:xfrm>
          <a:custGeom>
            <a:avLst/>
            <a:gdLst>
              <a:gd name="textAreaLeft" fmla="*/ 632880 w 990360"/>
              <a:gd name="textAreaRight" fmla="*/ 990720 w 990360"/>
              <a:gd name="textAreaTop" fmla="*/ 25560 h 4572000"/>
              <a:gd name="textAreaBottom" fmla="*/ 4546440 h 45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5"/>
                  <a:pt x="10800" y="390"/>
                </a:cubicBezTo>
                <a:lnTo>
                  <a:pt x="10800" y="10410"/>
                </a:lnTo>
                <a:cubicBezTo>
                  <a:pt x="10800" y="10605"/>
                  <a:pt x="5400" y="10800"/>
                  <a:pt x="0" y="10800"/>
                </a:cubicBezTo>
                <a:cubicBezTo>
                  <a:pt x="5400" y="10800"/>
                  <a:pt x="10800" y="10995"/>
                  <a:pt x="10800" y="11190"/>
                </a:cubicBezTo>
                <a:lnTo>
                  <a:pt x="10800" y="21210"/>
                </a:lnTo>
                <a:cubicBezTo>
                  <a:pt x="10800" y="21405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1578A-1774-43AF-BF90-E33E6736049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6"/>
          <p:cNvSpPr/>
          <p:nvPr/>
        </p:nvSpPr>
        <p:spPr>
          <a:xfrm>
            <a:off x="3200400" y="1978200"/>
            <a:ext cx="1238400" cy="4190760"/>
          </a:xfrm>
          <a:prstGeom prst="rect">
            <a:avLst/>
          </a:prstGeom>
          <a:solidFill>
            <a:srgbClr val="92d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Phase I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eterm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3" name="Picture 2" descr=""/>
          <p:cNvPicPr/>
          <p:nvPr/>
        </p:nvPicPr>
        <p:blipFill>
          <a:blip r:embed="rId1"/>
          <a:stretch/>
        </p:blipFill>
        <p:spPr>
          <a:xfrm>
            <a:off x="811080" y="3505320"/>
            <a:ext cx="1567080" cy="20602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2" descr=""/>
          <p:cNvPicPr/>
          <p:nvPr/>
        </p:nvPicPr>
        <p:blipFill>
          <a:blip r:embed="rId2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Ingenuity starts with #2 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blem solving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chanicall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acit knowing and trust 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ed for divergent thinking before rushing to convergent production of a single solution too s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648320" y="2133720"/>
            <a:ext cx="4038480" cy="3992400"/>
          </a:xfrm>
          <a:prstGeom prst="rect">
            <a:avLst/>
          </a:prstGeom>
          <a:ln w="0">
            <a:noFill/>
          </a:ln>
        </p:spPr>
      </p:pic>
      <p:sp>
        <p:nvSpPr>
          <p:cNvPr id="7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B7721-40C0-4151-A961-96D6FF0B9A5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4646520" y="2163600"/>
            <a:ext cx="4038840" cy="3932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"/>
          <p:cNvPicPr/>
          <p:nvPr/>
        </p:nvPicPr>
        <p:blipFill>
          <a:blip r:embed="rId3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4476600" y="1162080"/>
            <a:ext cx="1238400" cy="1704960"/>
          </a:xfrm>
          <a:prstGeom prst="rect">
            <a:avLst/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alibri"/>
              </a:rPr>
              <a:t>Phase 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alibri"/>
              </a:rPr>
              <a:t>Defini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5715000" y="1162080"/>
            <a:ext cx="3124080" cy="1704960"/>
          </a:xfrm>
          <a:prstGeom prst="rect">
            <a:avLst/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Problem Descrip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Problem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trategy to Solve Probl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4476600" y="3019320"/>
            <a:ext cx="1238400" cy="1704960"/>
          </a:xfrm>
          <a:prstGeom prst="rect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Phase 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isco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5715000" y="3019320"/>
            <a:ext cx="3124080" cy="1704960"/>
          </a:xfrm>
          <a:prstGeom prst="rect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roblem Stat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deas-Opportun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otential Concep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4476600" y="4924440"/>
            <a:ext cx="1238400" cy="1704960"/>
          </a:xfrm>
          <a:prstGeom prst="rect">
            <a:avLst/>
          </a:prstGeom>
          <a:solidFill>
            <a:srgbClr val="00b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Phase I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eterm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11"/>
          <p:cNvSpPr/>
          <p:nvPr/>
        </p:nvSpPr>
        <p:spPr>
          <a:xfrm>
            <a:off x="5715000" y="4924440"/>
            <a:ext cx="3124080" cy="1704960"/>
          </a:xfrm>
          <a:prstGeom prst="rect">
            <a:avLst/>
          </a:prstGeom>
          <a:solidFill>
            <a:srgbClr val="00b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Final Concep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election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Implementation Plan for Optimal Solu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90600" y="2130120"/>
            <a:ext cx="4038480" cy="22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INGENUITY   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xampl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Left Brace 1"/>
          <p:cNvSpPr/>
          <p:nvPr/>
        </p:nvSpPr>
        <p:spPr>
          <a:xfrm>
            <a:off x="3200400" y="1676520"/>
            <a:ext cx="990720" cy="4572000"/>
          </a:xfrm>
          <a:custGeom>
            <a:avLst/>
            <a:gdLst>
              <a:gd name="textAreaLeft" fmla="*/ 632880 w 990720"/>
              <a:gd name="textAreaRight" fmla="*/ 991080 w 990720"/>
              <a:gd name="textAreaTop" fmla="*/ 25560 h 4572000"/>
              <a:gd name="textAreaBottom" fmla="*/ 4546440 h 45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5"/>
                  <a:pt x="10800" y="390"/>
                </a:cubicBezTo>
                <a:lnTo>
                  <a:pt x="10800" y="10410"/>
                </a:lnTo>
                <a:cubicBezTo>
                  <a:pt x="10800" y="10605"/>
                  <a:pt x="5400" y="10800"/>
                  <a:pt x="0" y="10800"/>
                </a:cubicBezTo>
                <a:cubicBezTo>
                  <a:pt x="5400" y="10800"/>
                  <a:pt x="10800" y="10995"/>
                  <a:pt x="10800" y="11190"/>
                </a:cubicBezTo>
                <a:lnTo>
                  <a:pt x="10800" y="21210"/>
                </a:lnTo>
                <a:cubicBezTo>
                  <a:pt x="10800" y="21405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828BA-3B2A-4832-B025-9E9275900BA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AutoShape 12"/>
          <p:cNvSpPr/>
          <p:nvPr/>
        </p:nvSpPr>
        <p:spPr>
          <a:xfrm>
            <a:off x="52560" y="-944640"/>
            <a:ext cx="231444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13" descr=""/>
          <p:cNvPicPr/>
          <p:nvPr/>
        </p:nvPicPr>
        <p:blipFill>
          <a:blip r:embed="rId1"/>
          <a:stretch/>
        </p:blipFill>
        <p:spPr>
          <a:xfrm>
            <a:off x="885960" y="4114800"/>
            <a:ext cx="2314440" cy="1981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"/>
          <p:cNvPicPr/>
          <p:nvPr/>
        </p:nvPicPr>
        <p:blipFill>
          <a:blip r:embed="rId2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3276720" y="1981080"/>
            <a:ext cx="1238040" cy="4191120"/>
          </a:xfrm>
          <a:prstGeom prst="rect">
            <a:avLst/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alibri"/>
              </a:rPr>
              <a:t>Phase 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alibri"/>
              </a:rPr>
              <a:t>Defini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4724280" y="1981080"/>
            <a:ext cx="3124440" cy="4191120"/>
          </a:xfrm>
          <a:prstGeom prst="rect">
            <a:avLst/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Problem Descrip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DESCRIBE THE SYMPTO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Problem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FIND THE ROOT CAU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trategy to Solve Probl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DECIDE HOW TO ATTEMPT A SOLU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90600" y="2130120"/>
            <a:ext cx="2047680" cy="22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 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RED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c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Left Brace 1"/>
          <p:cNvSpPr/>
          <p:nvPr/>
        </p:nvSpPr>
        <p:spPr>
          <a:xfrm>
            <a:off x="2362320" y="1724040"/>
            <a:ext cx="990360" cy="4572000"/>
          </a:xfrm>
          <a:custGeom>
            <a:avLst/>
            <a:gdLst>
              <a:gd name="textAreaLeft" fmla="*/ 632880 w 990360"/>
              <a:gd name="textAreaRight" fmla="*/ 990720 w 990360"/>
              <a:gd name="textAreaTop" fmla="*/ 25560 h 4572000"/>
              <a:gd name="textAreaBottom" fmla="*/ 4546440 h 45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5"/>
                  <a:pt x="10800" y="390"/>
                </a:cubicBezTo>
                <a:lnTo>
                  <a:pt x="10800" y="10410"/>
                </a:lnTo>
                <a:cubicBezTo>
                  <a:pt x="10800" y="10605"/>
                  <a:pt x="5400" y="10800"/>
                  <a:pt x="0" y="10800"/>
                </a:cubicBezTo>
                <a:cubicBezTo>
                  <a:pt x="5400" y="10800"/>
                  <a:pt x="10800" y="10995"/>
                  <a:pt x="10800" y="11190"/>
                </a:cubicBezTo>
                <a:lnTo>
                  <a:pt x="10800" y="21210"/>
                </a:lnTo>
                <a:cubicBezTo>
                  <a:pt x="10800" y="21405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CDEC6-AC4C-4AF0-A808-3DE764E9DAA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Thoughts on problem definition…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ve lots of ideas and throw away the bad ones….You aren’t going to have good ideas unless you have lots of ideas and some sort of principle of selection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b0f0"/>
                </a:solidFill>
                <a:latin typeface="Calibri"/>
              </a:rPr>
              <a:t>	</a:t>
            </a:r>
            <a:r>
              <a:rPr b="0" i="1" lang="en-GB" sz="2800" spc="-1" strike="noStrike">
                <a:solidFill>
                  <a:srgbClr val="00b0f0"/>
                </a:solidFill>
                <a:latin typeface="Calibri"/>
              </a:rPr>
              <a:t>Linus Pau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op TI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isten (to yourself AND each oth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on’t interrup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ome useful questions when defining the problem, see p47-5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B8F55-A224-4DF9-9CEC-5A1D87625CA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Thoughts on problem definition…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2133720"/>
            <a:ext cx="41911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Intelligent people can juggle a half-dozen concepts simultaneously and make good decisions rapidly – and many of them seldom have a creative moment. They are so good at the standard answers and so eager to move on to the next decision that they never play around with nonstandard possibilities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There is such a thing as being “too good” because, in much of life, there are no correct answers. You have to invent new ones and contemplate them for some time.’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b0f0"/>
                </a:solidFill>
                <a:latin typeface="Calibri"/>
              </a:rPr>
              <a:t>W. H. Calv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800240" y="2133720"/>
            <a:ext cx="38862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op ti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pen your mind, say anyth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ause, slow down - notice when you are rushing ahead with the one solu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tay on task… define the probl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69EAC-FF85-45CD-A1B2-F382541DC5D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8T17:00:55Z</dcterms:created>
  <dc:creator>Suzanne Edinger</dc:creator>
  <dc:description/>
  <dc:language>en-US</dc:language>
  <cp:lastModifiedBy>Chris Runciman</cp:lastModifiedBy>
  <cp:lastPrinted>2012-02-03T11:56:17Z</cp:lastPrinted>
  <dcterms:modified xsi:type="dcterms:W3CDTF">2020-12-15T08:55:41Z</dcterms:modified>
  <cp:revision>93</cp:revision>
  <dc:subject/>
  <dc:title>Ingenuity presentation</dc:title>
</cp:coreProperties>
</file>