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DAC-723D-4C85-83D1-3ECE9C9526C4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FE6-0C1B-4CA1-83A2-AB64E712A1B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money.cnn.com/magazines/fortune/fortune_archive/2001/08/13/308077/index.htm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www.marketingteacher.com/lesson-store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970-D3BA-420E-9149-528F9C4FF9B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8FFB-50FB-4F68-86F4-D89A0BA03EEE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C4E-59C8-45DC-8F33-B79B4C9C0E2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54A1-AB35-406E-AFB8-4E309F2D0FC9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ney.cnn.com/magazines/fortune/fortune_archive/2001/08/13/308077/index.ht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4CA6-39B9-4629-9443-0A7E1532B60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d marketing website resource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arketingteacher.com/lesson-store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C9F-B183-42CC-8097-3B2469F5A0C2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3197-6E89-417A-824D-6757E2BFA6D8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0ACB-3353-4D4D-9B51-E28F717C5796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03C-743B-4C6A-BEA7-6E9837CB1593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E749-5712-4509-B96A-0719CD53DBB6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C718-116D-4F36-A416-33EC28AF4E9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6954-8195-4D54-AD1C-FF306FA68D89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3DD5-9D76-452C-9570-53E8DCC28267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0706-806C-4C9D-B8AF-64E5641408B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1BD3-E69D-4ED4-9DB7-A5C9F2A175F8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7270-8821-42C1-A738-2467362204AF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F726-71D4-4E13-B6AF-2DBAEB539C4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1259-953E-476C-AC97-89E5E73A4EC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88B-807B-416B-89A4-82D4159E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BFD-BAD4-486E-A0A8-996CD063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B69-8958-48A5-959D-3A754363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176-FB67-4DA5-9E2F-339D21D2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654-5687-4F30-8ADD-2B0FDD2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6CC-7A03-4F8D-9CBD-A854FA3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22D-492E-48B8-A389-E18799AC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8EA-3CB5-4F74-B1C6-3F1EF49E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0A74-5FCA-472C-837B-04F20D95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167-39DC-42AA-BDE7-18D786D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315-DE2F-459E-8881-1BE6DA7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BB0-D94B-49B5-AC75-DAD060C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B540-3C29-4311-BC38-C2B9F19734BD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4D2C-370C-49C8-B054-93123C91705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sc.li/3840bD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Business Skills for Chemical Scientis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2"/>
          <a:stretch/>
        </p:blipFill>
        <p:spPr>
          <a:xfrm>
            <a:off x="826920" y="2781360"/>
            <a:ext cx="216072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3"/>
          <a:stretch/>
        </p:blipFill>
        <p:spPr>
          <a:xfrm>
            <a:off x="4427640" y="4797360"/>
            <a:ext cx="222084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4"/>
          <a:stretch/>
        </p:blipFill>
        <p:spPr>
          <a:xfrm>
            <a:off x="6227640" y="2781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5"/>
          <a:stretch/>
        </p:blipFill>
        <p:spPr>
          <a:xfrm>
            <a:off x="3924360" y="1989000"/>
            <a:ext cx="132696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Bent Arrow 10"/>
          <p:cNvSpPr/>
          <p:nvPr/>
        </p:nvSpPr>
        <p:spPr>
          <a:xfrm>
            <a:off x="1692360" y="2205000"/>
            <a:ext cx="1942920" cy="432000"/>
          </a:xfrm>
          <a:custGeom>
            <a:avLst/>
            <a:gdLst/>
            <a:ahLst/>
            <a:rect l="l" t="t" r="r" b="b"/>
            <a:pathLst>
              <a:path w="1943100" h="431800">
                <a:moveTo>
                  <a:pt x="0" y="431800"/>
                </a:moveTo>
                <a:lnTo>
                  <a:pt x="0" y="242888"/>
                </a:lnTo>
                <a:cubicBezTo>
                  <a:pt x="0" y="138554"/>
                  <a:pt x="84579" y="53975"/>
                  <a:pt x="188913" y="53975"/>
                </a:cubicBezTo>
                <a:lnTo>
                  <a:pt x="1835150" y="53975"/>
                </a:lnTo>
                <a:lnTo>
                  <a:pt x="1835150" y="0"/>
                </a:lnTo>
                <a:lnTo>
                  <a:pt x="1943100" y="107950"/>
                </a:lnTo>
                <a:lnTo>
                  <a:pt x="1835150" y="215900"/>
                </a:lnTo>
                <a:lnTo>
                  <a:pt x="1835150" y="161925"/>
                </a:lnTo>
                <a:lnTo>
                  <a:pt x="188913" y="161925"/>
                </a:lnTo>
                <a:cubicBezTo>
                  <a:pt x="144198" y="161925"/>
                  <a:pt x="107950" y="198173"/>
                  <a:pt x="107950" y="242888"/>
                </a:cubicBezTo>
                <a:lnTo>
                  <a:pt x="107950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Bent Arrow 11"/>
          <p:cNvSpPr/>
          <p:nvPr/>
        </p:nvSpPr>
        <p:spPr>
          <a:xfrm rot="10800000">
            <a:off x="6732720" y="4508280"/>
            <a:ext cx="792000" cy="1152360"/>
          </a:xfrm>
          <a:custGeom>
            <a:avLst/>
            <a:gdLst/>
            <a:ahLst/>
            <a:rect l="l" t="t" r="r" b="b"/>
            <a:pathLst>
              <a:path w="792162" h="1152525">
                <a:moveTo>
                  <a:pt x="0" y="1152525"/>
                </a:moveTo>
                <a:lnTo>
                  <a:pt x="0" y="401646"/>
                </a:lnTo>
                <a:cubicBezTo>
                  <a:pt x="0" y="210240"/>
                  <a:pt x="155165" y="55075"/>
                  <a:pt x="346571" y="55075"/>
                </a:cubicBezTo>
                <a:lnTo>
                  <a:pt x="652718" y="55075"/>
                </a:lnTo>
                <a:lnTo>
                  <a:pt x="652718" y="0"/>
                </a:lnTo>
                <a:lnTo>
                  <a:pt x="792162" y="105262"/>
                </a:lnTo>
                <a:lnTo>
                  <a:pt x="652718" y="210525"/>
                </a:lnTo>
                <a:lnTo>
                  <a:pt x="652718" y="155450"/>
                </a:lnTo>
                <a:lnTo>
                  <a:pt x="346571" y="155450"/>
                </a:lnTo>
                <a:cubicBezTo>
                  <a:pt x="210601" y="155450"/>
                  <a:pt x="100375" y="265676"/>
                  <a:pt x="100375" y="401646"/>
                </a:cubicBezTo>
                <a:lnTo>
                  <a:pt x="1003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Bent Arrow 13"/>
          <p:cNvSpPr/>
          <p:nvPr/>
        </p:nvSpPr>
        <p:spPr>
          <a:xfrm rot="5400000">
            <a:off x="6299640" y="1411920"/>
            <a:ext cx="360360" cy="2089080"/>
          </a:xfrm>
          <a:custGeom>
            <a:avLst/>
            <a:gdLst/>
            <a:ahLst/>
            <a:rect l="l" t="t" r="r" b="b"/>
            <a:pathLst>
              <a:path w="360363" h="2089150">
                <a:moveTo>
                  <a:pt x="0" y="2089150"/>
                </a:moveTo>
                <a:lnTo>
                  <a:pt x="0" y="202704"/>
                </a:lnTo>
                <a:cubicBezTo>
                  <a:pt x="0" y="115631"/>
                  <a:pt x="70586" y="45045"/>
                  <a:pt x="157659" y="45045"/>
                </a:cubicBezTo>
                <a:lnTo>
                  <a:pt x="270272" y="45045"/>
                </a:lnTo>
                <a:lnTo>
                  <a:pt x="270272" y="0"/>
                </a:lnTo>
                <a:lnTo>
                  <a:pt x="360363" y="90091"/>
                </a:lnTo>
                <a:lnTo>
                  <a:pt x="270272" y="180182"/>
                </a:lnTo>
                <a:lnTo>
                  <a:pt x="270272" y="135136"/>
                </a:lnTo>
                <a:lnTo>
                  <a:pt x="157659" y="135136"/>
                </a:lnTo>
                <a:cubicBezTo>
                  <a:pt x="120342" y="135136"/>
                  <a:pt x="90091" y="165387"/>
                  <a:pt x="90091" y="202704"/>
                </a:cubicBezTo>
                <a:lnTo>
                  <a:pt x="90091" y="2089150"/>
                </a:lnTo>
                <a:lnTo>
                  <a:pt x="0" y="208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6"/>
          <a:stretch/>
        </p:blipFill>
        <p:spPr>
          <a:xfrm>
            <a:off x="2340000" y="4797360"/>
            <a:ext cx="136836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Bent Arrow 15"/>
          <p:cNvSpPr/>
          <p:nvPr/>
        </p:nvSpPr>
        <p:spPr>
          <a:xfrm rot="16200000">
            <a:off x="1366920" y="4760640"/>
            <a:ext cx="1081080" cy="576360"/>
          </a:xfrm>
          <a:custGeom>
            <a:avLst/>
            <a:gdLst/>
            <a:ahLst/>
            <a:rect l="l" t="t" r="r" b="b"/>
            <a:pathLst>
              <a:path w="1081088" h="576263">
                <a:moveTo>
                  <a:pt x="0" y="576263"/>
                </a:moveTo>
                <a:lnTo>
                  <a:pt x="0" y="314386"/>
                </a:lnTo>
                <a:cubicBezTo>
                  <a:pt x="0" y="175147"/>
                  <a:pt x="112876" y="62271"/>
                  <a:pt x="252115" y="62271"/>
                </a:cubicBezTo>
                <a:lnTo>
                  <a:pt x="970768" y="62271"/>
                </a:lnTo>
                <a:lnTo>
                  <a:pt x="970768" y="0"/>
                </a:lnTo>
                <a:lnTo>
                  <a:pt x="1081088" y="112100"/>
                </a:lnTo>
                <a:lnTo>
                  <a:pt x="970768" y="224201"/>
                </a:lnTo>
                <a:lnTo>
                  <a:pt x="970768" y="161930"/>
                </a:lnTo>
                <a:lnTo>
                  <a:pt x="252115" y="161930"/>
                </a:lnTo>
                <a:cubicBezTo>
                  <a:pt x="167916" y="161930"/>
                  <a:pt x="99659" y="230187"/>
                  <a:pt x="99659" y="314386"/>
                </a:cubicBezTo>
                <a:lnTo>
                  <a:pt x="99659" y="576263"/>
                </a:lnTo>
                <a:lnTo>
                  <a:pt x="0" y="5762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eft Arrow 16"/>
          <p:cNvSpPr/>
          <p:nvPr/>
        </p:nvSpPr>
        <p:spPr>
          <a:xfrm>
            <a:off x="3780000" y="5445000"/>
            <a:ext cx="504720" cy="21600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8325000" y="123840"/>
            <a:ext cx="78408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za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zac is an anti-depressant dru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developed by Eli Lilly in 1974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was submitted to the FDA in 1977 and approved in 1987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ame off patent in 200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Q.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 What was the marketing position of Prozac in 1987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is that Prozac address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improves the quality of people’s liv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jor depression, OCD, bulimia nervosa, panic disor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Eli Lilly’s solu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ke (through considerable R&amp;D) a new anti-depressant dru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8" descr="http://www.nottingham.ac.uk/xpert/attribution/pictureattrib/mangle.php?url=http://farm5.static.flickr.com/3382/3185754948_140ec71cbc_b.jpg&amp;original_url=http://www.flickr.com/10389914@N05/3185754948/&amp;license=flickr_1&amp;flickr_id=3185754948&amp;size=full&amp;picturename=new%20day"/>
          <p:cNvPicPr/>
          <p:nvPr/>
        </p:nvPicPr>
        <p:blipFill>
          <a:blip r:embed="rId1"/>
          <a:stretch/>
        </p:blipFill>
        <p:spPr>
          <a:xfrm>
            <a:off x="263520" y="189000"/>
            <a:ext cx="279576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is the market for Prozac (i.e. who benefits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&amp; the people with depression and other related disord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re is the market for Prozac? What is the market size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orldwide suffer from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% of Americans have major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8 – 12% of the population worldwide, or 500 – 800 million people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market be access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, but drug regulations will restrict access to different markets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 market growing or declin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zac is the first and only treatment for depression on the mark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will grow through better awareness and diagnosis of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long can Eli Lilly stay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an dominate this market until the patent expires in 2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Eli Lilly’s competitors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e in 1987 – Eli Lilly had a patent stopping others making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, non-related anti-depressant drugs may be develop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 &amp; these costs are significant (R&amp;D, clinical trials, patents etc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sts need to be recouped before profit is m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Eli Lilly expect to mak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ed to be no more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$70 mill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 year in 198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Prozac – Looking Back from Toda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it’s first year, Prozac t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35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sal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987 – 200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i Lilly ma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1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zac sa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came off patent in 20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ould not longer exclusively make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range of generic drugs were released onto the marke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cost Eli Lilly $2.4 billion per year in sa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generics are still popular toda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2010 there were 24.4 million prescriptions of Prozac generic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ill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most prescribed anti-depress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85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needs of your market/custom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akes considerable market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s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don’t want things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4857840" y="1979640"/>
            <a:ext cx="3457440" cy="3607560"/>
            <a:chOff x="4857840" y="1979640"/>
            <a:chExt cx="3457440" cy="3607560"/>
          </a:xfrm>
        </p:grpSpPr>
        <p:sp>
          <p:nvSpPr>
            <p:cNvPr id="114" name="Text Box 8"/>
            <p:cNvSpPr/>
            <p:nvPr/>
          </p:nvSpPr>
          <p:spPr>
            <a:xfrm>
              <a:off x="49114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8578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922080" y="306648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636732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9774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8"/>
            <p:cNvSpPr/>
            <p:nvPr/>
          </p:nvSpPr>
          <p:spPr>
            <a:xfrm>
              <a:off x="55879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4008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010200" y="197964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Down Arrow 21"/>
            <p:cNvSpPr/>
            <p:nvPr/>
          </p:nvSpPr>
          <p:spPr>
            <a:xfrm>
              <a:off x="651348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03280" y="21654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capability to develop and deliver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usiness strategy to achieve your goal and mak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you have a proven technical concept with unique attribute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these attributes match the market ne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ill it sell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e, distribute and mark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any regulatory issues to overcome (e.g. FDA approval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freedom to operate from pat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a sustainable competitive advantag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s your technology protected through patent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will your competitors respond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 this product fit in your existing product portfoli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Assessing </a:t>
            </a:r>
            <a:r>
              <a:rPr b="0" i="1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Your</a:t>
            </a: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WOT analysis is a strategic planning method used to ass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pability to develop and deliver your product to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assesses the Strengths, Weaknesses, Opportunities and Threats to a project o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9"/>
          <p:cNvGrpSpPr/>
          <p:nvPr/>
        </p:nvGrpSpPr>
        <p:grpSpPr>
          <a:xfrm>
            <a:off x="1692360" y="692280"/>
            <a:ext cx="5040360" cy="5040360"/>
            <a:chOff x="1692360" y="692280"/>
            <a:chExt cx="5040360" cy="5040360"/>
          </a:xfrm>
        </p:grpSpPr>
        <p:pic>
          <p:nvPicPr>
            <p:cNvPr id="132" name="Rectangle 6" descr=""/>
            <p:cNvPicPr/>
            <p:nvPr/>
          </p:nvPicPr>
          <p:blipFill>
            <a:blip r:embed="rId1"/>
            <a:stretch/>
          </p:blipFill>
          <p:spPr>
            <a:xfrm>
              <a:off x="240048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7"/>
            <p:cNvSpPr/>
            <p:nvPr/>
          </p:nvSpPr>
          <p:spPr>
            <a:xfrm>
              <a:off x="4566600" y="140976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240984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6660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40984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2409840" y="692280"/>
              <a:ext cx="215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LP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56660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14"/>
            <p:cNvSpPr/>
            <p:nvPr/>
          </p:nvSpPr>
          <p:spPr>
            <a:xfrm>
              <a:off x="4566600" y="692280"/>
              <a:ext cx="215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ARM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Rectangle 15" descr=""/>
            <p:cNvPicPr/>
            <p:nvPr/>
          </p:nvPicPr>
          <p:blipFill>
            <a:blip r:embed="rId2"/>
            <a:stretch/>
          </p:blipFill>
          <p:spPr>
            <a:xfrm>
              <a:off x="455436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6" descr=""/>
            <p:cNvPicPr/>
            <p:nvPr/>
          </p:nvPicPr>
          <p:blipFill>
            <a:blip r:embed="rId3"/>
            <a:stretch/>
          </p:blipFill>
          <p:spPr>
            <a:xfrm>
              <a:off x="240048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7" descr=""/>
            <p:cNvPicPr/>
            <p:nvPr/>
          </p:nvPicPr>
          <p:blipFill>
            <a:blip r:embed="rId4"/>
            <a:stretch/>
          </p:blipFill>
          <p:spPr>
            <a:xfrm>
              <a:off x="455436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8"/>
            <p:cNvSpPr/>
            <p:nvPr/>
          </p:nvSpPr>
          <p:spPr>
            <a:xfrm rot="16200000">
              <a:off x="901440" y="220032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Box 19"/>
            <p:cNvSpPr/>
            <p:nvPr/>
          </p:nvSpPr>
          <p:spPr>
            <a:xfrm rot="16200000">
              <a:off x="914040" y="2331720"/>
              <a:ext cx="215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 rot="16200000">
              <a:off x="901440" y="43570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21"/>
            <p:cNvSpPr/>
            <p:nvPr/>
          </p:nvSpPr>
          <p:spPr>
            <a:xfrm rot="16200000">
              <a:off x="914760" y="4487760"/>
              <a:ext cx="21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EX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advantages does your company hav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you do better than anyone els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people in your market see as your strength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ould be improv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people in the market likely to see as weaknesse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nteresting trends you are aware of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ful opportunities can come from megatrends e.g. social patterns (population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festyle changes etc.), markets, government policy, changes in technology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obstacles do you fac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s the competition do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re the required specifications for products or services chang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uld any of the weaknesses seriously threaten the busines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6516720" y="115920"/>
            <a:ext cx="2468520" cy="2346120"/>
            <a:chOff x="6516720" y="115920"/>
            <a:chExt cx="2468520" cy="2346120"/>
          </a:xfrm>
        </p:grpSpPr>
        <p:pic>
          <p:nvPicPr>
            <p:cNvPr id="150" name="Rectangle 5" descr=""/>
            <p:cNvPicPr/>
            <p:nvPr/>
          </p:nvPicPr>
          <p:blipFill>
            <a:blip r:embed="rId1"/>
            <a:stretch/>
          </p:blipFill>
          <p:spPr>
            <a:xfrm>
              <a:off x="6516720" y="115920"/>
              <a:ext cx="12434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"/>
            <p:cNvSpPr/>
            <p:nvPr/>
          </p:nvSpPr>
          <p:spPr>
            <a:xfrm>
              <a:off x="7750080" y="127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6528600" y="1288800"/>
              <a:ext cx="12211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750080" y="1288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Rectangle 13" descr=""/>
            <p:cNvPicPr/>
            <p:nvPr/>
          </p:nvPicPr>
          <p:blipFill>
            <a:blip r:embed="rId2"/>
            <a:stretch/>
          </p:blipFill>
          <p:spPr>
            <a:xfrm>
              <a:off x="7736040" y="115920"/>
              <a:ext cx="12492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Rectangle 14" descr=""/>
            <p:cNvPicPr/>
            <p:nvPr/>
          </p:nvPicPr>
          <p:blipFill>
            <a:blip r:embed="rId3"/>
            <a:stretch/>
          </p:blipFill>
          <p:spPr>
            <a:xfrm>
              <a:off x="6516720" y="1274040"/>
              <a:ext cx="12434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15" descr=""/>
            <p:cNvPicPr/>
            <p:nvPr/>
          </p:nvPicPr>
          <p:blipFill>
            <a:blip r:embed="rId4"/>
            <a:stretch/>
          </p:blipFill>
          <p:spPr>
            <a:xfrm>
              <a:off x="7736040" y="1274040"/>
              <a:ext cx="1249200" cy="11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http://www.nottingham.ac.uk/xpert/attribution/pictureattrib/mangle.php?url=http://farm5.static.flickr.com/7164/6467037789_61a5d66b93_b.jpg&amp;original_url=http://www.flickr.com/45462355@N07/6467037789/&amp;license=flickr_3&amp;flickr_id=6467037789&amp;size=full&amp;picturename=Y%20Archives%20-%2012/1953%20-%20Photographer%20Warren%20Moody%20-%20Sherwood%20Eddy%20Pete%20Ingalls%20Dean%20Leeper%20shake%20hands"/>
          <p:cNvPicPr/>
          <p:nvPr/>
        </p:nvPicPr>
        <p:blipFill>
          <a:blip r:embed="rId1"/>
          <a:stretch/>
        </p:blipFill>
        <p:spPr>
          <a:xfrm>
            <a:off x="2193840" y="2209680"/>
            <a:ext cx="4753080" cy="390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701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capability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any to develop and deliv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assesses the Strengths, Weaknesses, Opportunities and Threats to a business or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 are influenced by both internal and external factors, some of which are helpful and some harmful to you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next….?? 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must lead to the development of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lan or set of recommendations to achieve your chosen go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(budget)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tage–Gate Model of Project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roject is divided into manageable 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separat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St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 planned actions take place to achieve planned deliverab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the deliverable, and propose an action plan for the next s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G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decision point     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  <a:ea typeface="Arial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i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Ho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00b0f0"/>
                </a:solidFill>
                <a:latin typeface="Arial"/>
                <a:ea typeface="Arial"/>
              </a:rPr>
              <a:t>Recy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 the quality of deliverables – does the project make business sense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403280" y="371628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sosceles Triangle 7"/>
          <p:cNvSpPr/>
          <p:nvPr/>
        </p:nvSpPr>
        <p:spPr>
          <a:xfrm flipV="1" rot="16200000">
            <a:off x="1655280" y="483300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ight Arrow 105"/>
          <p:cNvSpPr/>
          <p:nvPr/>
        </p:nvSpPr>
        <p:spPr>
          <a:xfrm rot="5400000">
            <a:off x="2447640" y="87300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3"/>
          <p:cNvSpPr/>
          <p:nvPr/>
        </p:nvSpPr>
        <p:spPr>
          <a:xfrm>
            <a:off x="2195640" y="1197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74"/>
          <p:cNvSpPr/>
          <p:nvPr/>
        </p:nvSpPr>
        <p:spPr>
          <a:xfrm>
            <a:off x="2195640" y="126828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2325600" y="260280"/>
            <a:ext cx="595080" cy="425520"/>
            <a:chOff x="2325600" y="260280"/>
            <a:chExt cx="595080" cy="425520"/>
          </a:xfrm>
        </p:grpSpPr>
        <p:sp>
          <p:nvSpPr>
            <p:cNvPr id="170" name="Oval 20"/>
            <p:cNvSpPr/>
            <p:nvPr/>
          </p:nvSpPr>
          <p:spPr>
            <a:xfrm>
              <a:off x="2325600" y="260280"/>
              <a:ext cx="59508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2370960" y="3315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de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19"/>
          <p:cNvGrpSpPr/>
          <p:nvPr/>
        </p:nvGrpSpPr>
        <p:grpSpPr>
          <a:xfrm>
            <a:off x="2411280" y="6237360"/>
            <a:ext cx="425520" cy="425520"/>
            <a:chOff x="2411280" y="6237360"/>
            <a:chExt cx="425520" cy="425520"/>
          </a:xfrm>
        </p:grpSpPr>
        <p:sp>
          <p:nvSpPr>
            <p:cNvPr id="173" name="Oval 20"/>
            <p:cNvSpPr/>
            <p:nvPr/>
          </p:nvSpPr>
          <p:spPr>
            <a:xfrm>
              <a:off x="2411280" y="6237360"/>
              <a:ext cx="42552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2445480" y="6302520"/>
              <a:ext cx="363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££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Isosceles Triangle 107"/>
          <p:cNvSpPr/>
          <p:nvPr/>
        </p:nvSpPr>
        <p:spPr>
          <a:xfrm flipV="1" rot="16200000">
            <a:off x="2231640" y="65628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8"/>
          <p:cNvSpPr/>
          <p:nvPr/>
        </p:nvSpPr>
        <p:spPr>
          <a:xfrm>
            <a:off x="1042920" y="6922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29"/>
          <p:cNvSpPr/>
          <p:nvPr/>
        </p:nvSpPr>
        <p:spPr>
          <a:xfrm>
            <a:off x="3211200" y="1197000"/>
            <a:ext cx="30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 the product, market &amp; compet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31"/>
          <p:cNvSpPr/>
          <p:nvPr/>
        </p:nvSpPr>
        <p:spPr>
          <a:xfrm>
            <a:off x="3215520" y="2133720"/>
            <a:ext cx="53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 definition, market research, production costs, legal &amp; regulatory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e time, personnel, financial resource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ASIBILITY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ight Arrow 140"/>
          <p:cNvSpPr/>
          <p:nvPr/>
        </p:nvSpPr>
        <p:spPr>
          <a:xfrm rot="5400000">
            <a:off x="2447640" y="1881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41"/>
          <p:cNvSpPr/>
          <p:nvPr/>
        </p:nvSpPr>
        <p:spPr>
          <a:xfrm>
            <a:off x="2195640" y="2205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42"/>
          <p:cNvSpPr/>
          <p:nvPr/>
        </p:nvSpPr>
        <p:spPr>
          <a:xfrm>
            <a:off x="2195640" y="2276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203640" y="3141720"/>
            <a:ext cx="511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plans from stage 2 – make a prototype and develop a marketing and sale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49"/>
          <p:cNvSpPr/>
          <p:nvPr/>
        </p:nvSpPr>
        <p:spPr>
          <a:xfrm rot="5400000">
            <a:off x="2447640" y="2889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0"/>
          <p:cNvSpPr/>
          <p:nvPr/>
        </p:nvSpPr>
        <p:spPr>
          <a:xfrm>
            <a:off x="2195640" y="3213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51"/>
          <p:cNvSpPr/>
          <p:nvPr/>
        </p:nvSpPr>
        <p:spPr>
          <a:xfrm>
            <a:off x="2195640" y="3284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54"/>
          <p:cNvSpPr/>
          <p:nvPr/>
        </p:nvSpPr>
        <p:spPr>
          <a:xfrm>
            <a:off x="3203640" y="4149720"/>
            <a:ext cx="51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sting &amp; Valid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te the project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product (field testing), manufacture, customers, financial mer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ight Arrow 155"/>
          <p:cNvSpPr/>
          <p:nvPr/>
        </p:nvSpPr>
        <p:spPr>
          <a:xfrm rot="5400000">
            <a:off x="2447640" y="3897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6"/>
          <p:cNvSpPr/>
          <p:nvPr/>
        </p:nvSpPr>
        <p:spPr>
          <a:xfrm>
            <a:off x="2195640" y="4221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57"/>
          <p:cNvSpPr/>
          <p:nvPr/>
        </p:nvSpPr>
        <p:spPr>
          <a:xfrm>
            <a:off x="2195640" y="4292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60"/>
          <p:cNvSpPr/>
          <p:nvPr/>
        </p:nvSpPr>
        <p:spPr>
          <a:xfrm>
            <a:off x="3235320" y="5300640"/>
            <a:ext cx="49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marketing, sales, distribution, pricing, estimate the initial de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ight Arrow 161"/>
          <p:cNvSpPr/>
          <p:nvPr/>
        </p:nvSpPr>
        <p:spPr>
          <a:xfrm rot="5400000">
            <a:off x="2447640" y="4905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62"/>
          <p:cNvSpPr/>
          <p:nvPr/>
        </p:nvSpPr>
        <p:spPr>
          <a:xfrm>
            <a:off x="2195640" y="522936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63"/>
          <p:cNvSpPr/>
          <p:nvPr/>
        </p:nvSpPr>
        <p:spPr>
          <a:xfrm>
            <a:off x="2195640" y="5300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ight Arrow 166"/>
          <p:cNvSpPr/>
          <p:nvPr/>
        </p:nvSpPr>
        <p:spPr>
          <a:xfrm rot="5400000">
            <a:off x="2447640" y="5913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68"/>
          <p:cNvSpPr/>
          <p:nvPr/>
        </p:nvSpPr>
        <p:spPr>
          <a:xfrm>
            <a:off x="112680" y="2708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69"/>
          <p:cNvSpPr/>
          <p:nvPr/>
        </p:nvSpPr>
        <p:spPr>
          <a:xfrm>
            <a:off x="3211920" y="6308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 of th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sosceles Triangle 172"/>
          <p:cNvSpPr/>
          <p:nvPr/>
        </p:nvSpPr>
        <p:spPr>
          <a:xfrm flipV="1" rot="16200000">
            <a:off x="2231640" y="1664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173"/>
          <p:cNvSpPr/>
          <p:nvPr/>
        </p:nvSpPr>
        <p:spPr>
          <a:xfrm>
            <a:off x="900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sosceles Triangle 174"/>
          <p:cNvSpPr/>
          <p:nvPr/>
        </p:nvSpPr>
        <p:spPr>
          <a:xfrm flipV="1" rot="16200000">
            <a:off x="2231640" y="2672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75"/>
          <p:cNvSpPr/>
          <p:nvPr/>
        </p:nvSpPr>
        <p:spPr>
          <a:xfrm>
            <a:off x="1258920" y="2781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sosceles Triangle 176"/>
          <p:cNvSpPr/>
          <p:nvPr/>
        </p:nvSpPr>
        <p:spPr>
          <a:xfrm flipV="1" rot="16200000">
            <a:off x="2231640" y="3680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7"/>
          <p:cNvSpPr/>
          <p:nvPr/>
        </p:nvSpPr>
        <p:spPr>
          <a:xfrm>
            <a:off x="125892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sosceles Triangle 178"/>
          <p:cNvSpPr/>
          <p:nvPr/>
        </p:nvSpPr>
        <p:spPr>
          <a:xfrm flipV="1" rot="16200000">
            <a:off x="2231640" y="4688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79"/>
          <p:cNvSpPr/>
          <p:nvPr/>
        </p:nvSpPr>
        <p:spPr>
          <a:xfrm>
            <a:off x="1258920" y="4797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Bent Arrow 180"/>
          <p:cNvSpPr/>
          <p:nvPr/>
        </p:nvSpPr>
        <p:spPr>
          <a:xfrm>
            <a:off x="539640" y="1341360"/>
            <a:ext cx="1511280" cy="1295640"/>
          </a:xfrm>
          <a:custGeom>
            <a:avLst/>
            <a:gdLst/>
            <a:ahLst/>
            <a:rect l="l" t="t" r="r" b="b"/>
            <a:pathLst>
              <a:path w="1511300" h="1295400">
                <a:moveTo>
                  <a:pt x="0" y="1295400"/>
                </a:moveTo>
                <a:lnTo>
                  <a:pt x="0" y="617135"/>
                </a:lnTo>
                <a:cubicBezTo>
                  <a:pt x="0" y="298568"/>
                  <a:pt x="258249" y="40319"/>
                  <a:pt x="576816" y="40319"/>
                </a:cubicBezTo>
                <a:lnTo>
                  <a:pt x="1354466" y="40319"/>
                </a:lnTo>
                <a:lnTo>
                  <a:pt x="1354466" y="0"/>
                </a:lnTo>
                <a:lnTo>
                  <a:pt x="1511300" y="94901"/>
                </a:lnTo>
                <a:lnTo>
                  <a:pt x="1354466" y="189802"/>
                </a:lnTo>
                <a:lnTo>
                  <a:pt x="1354466" y="149483"/>
                </a:lnTo>
                <a:lnTo>
                  <a:pt x="576816" y="149483"/>
                </a:lnTo>
                <a:cubicBezTo>
                  <a:pt x="318539" y="149483"/>
                  <a:pt x="109164" y="358858"/>
                  <a:pt x="109164" y="617135"/>
                </a:cubicBezTo>
                <a:cubicBezTo>
                  <a:pt x="109164" y="843223"/>
                  <a:pt x="109163" y="1069312"/>
                  <a:pt x="109163" y="1295400"/>
                </a:cubicBezTo>
                <a:lnTo>
                  <a:pt x="0" y="129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81"/>
          <p:cNvSpPr/>
          <p:nvPr/>
        </p:nvSpPr>
        <p:spPr>
          <a:xfrm rot="10800000">
            <a:off x="1115640" y="28526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68"/>
          <p:cNvSpPr/>
          <p:nvPr/>
        </p:nvSpPr>
        <p:spPr>
          <a:xfrm>
            <a:off x="112680" y="3716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ight Arrow 45"/>
          <p:cNvSpPr/>
          <p:nvPr/>
        </p:nvSpPr>
        <p:spPr>
          <a:xfrm rot="10800000">
            <a:off x="1096560" y="38638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Arrow 46"/>
          <p:cNvSpPr/>
          <p:nvPr/>
        </p:nvSpPr>
        <p:spPr>
          <a:xfrm rot="16200000">
            <a:off x="304920" y="3336840"/>
            <a:ext cx="574560" cy="1843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ailure….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3b5b"/>
                </a:solidFill>
                <a:latin typeface="Arial"/>
                <a:ea typeface="Arial"/>
              </a:rPr>
              <a:t>Don’t be scared to exit or recycle a project if it doesn’t make business sen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6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Dr. Spencer Silver, a 3M chemist was trying to develop a strong adhesive glue – this project failed resulting in a low-tack, reusable adhesi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five years, Dr. Silver promoted his invention within 3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A 3M colleague, Art Fry, came up with the idea of using the adhesive to anchor his bookmark into his hymnboo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y developed the idea within 3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The "Press 'n Peel” note was launched – but it’s sales were disappoint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Following market-research, the “Post-It Note” was launche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00 m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 b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yellow colour was chosen by accident; a lab next-door to the Post-It team had scrap yellow paper which the team initially use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ge–Gate Model divides the project into a series of manageable ac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eparated by deci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not be scared to exit an idea/project or recycle it if the project no longer makes business sense – it may save your company in the long run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inancial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5192640" y="1979640"/>
            <a:ext cx="3457800" cy="3607560"/>
            <a:chOff x="5192640" y="1979640"/>
            <a:chExt cx="3457800" cy="3607560"/>
          </a:xfrm>
        </p:grpSpPr>
        <p:sp>
          <p:nvSpPr>
            <p:cNvPr id="219" name="Text Box 8"/>
            <p:cNvSpPr/>
            <p:nvPr/>
          </p:nvSpPr>
          <p:spPr>
            <a:xfrm>
              <a:off x="52462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4"/>
            <p:cNvSpPr/>
            <p:nvPr/>
          </p:nvSpPr>
          <p:spPr>
            <a:xfrm>
              <a:off x="51926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257240" y="3066480"/>
              <a:ext cx="134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670248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3122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>
              <a:off x="59227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67356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6345000" y="1979640"/>
              <a:ext cx="12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Down Arrow 21"/>
            <p:cNvSpPr/>
            <p:nvPr/>
          </p:nvSpPr>
          <p:spPr>
            <a:xfrm>
              <a:off x="684864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263520" y="1281240"/>
            <a:ext cx="55958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ng your financial re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a balancing ac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oney t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Outgoing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ey taken =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ould we expect to se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customer p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tgoings = capability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uch will it cost to develop, protec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, promote, distribu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investment, operating and IP cos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long will you have a competitive ed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052640"/>
            <a:ext cx="8567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to each customer depends up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ir specific 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the seller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identified three potenti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buyers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owner of an oil refine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Middle-Eastern Sheik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24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o will you sell your oil t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20000" y="3068640"/>
            <a:ext cx="1901880" cy="284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The Se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seller”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 at a price of $9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What is 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crude oil to you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be an acceptable profit for the sale of 10,000 barrel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 50,000 (~ 5% profi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t wha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$ per barrel) should you aim to sell the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5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520" y="1268280"/>
            <a:ext cx="8772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s to make a quick profit – he see the oil as a tradable ass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does have expertise in oil so knows that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oil is $100 per barrel, but is constantly rising allowing him to make a prof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he offers $100 per barrel how much will this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him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If the seller accepts $100 per barrel what would his profit be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trader says that he can’t get the money until tomorrow…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ake a depos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egotiate a percentage of his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052280"/>
            <a:ext cx="85676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has the capability to refine the oil into more valuable products with a final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2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efined products 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refinery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the refin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marketing an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ales 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oil was bought for $100 per barrel, how much profit will the refinery make from the 10,000 barrels of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7390440" y="33210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390440" y="37353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90440" y="40734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Business Starts with a Plan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usiness plan gives credibility to your propos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tement of business go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asons these goals are attain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lan for reaching those goals over the next 3 –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usiness plan typically contain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company &amp;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product/serv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the market and a marketing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i.e. how you will implement the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forecast of the financial profit and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197000"/>
            <a:ext cx="8567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ikh owns one of the largest oil reserves in the world – 10,000 barrels is insignificant to hi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im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lift his oil from the grou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drill for new oil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t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marketing, distribution and other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Sheikh’s breakeven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per barrel of crude oil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ill he buy your crude oil at a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which is acceptable to you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o would you sell to at this point…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most likely that you would sell to the oil refinery at this poi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s you a profit of $100,000 which is greater than your target of $50,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room for further negotiation to enhance this (i.e. cut into their profi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have the money to give you unlike the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uying the oil, the owner of the oil refi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ists upon testing the crude oil for quality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ests showed that what you thought was crud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was in fact refined aviation fu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164360" y="342900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68000" y="1268280"/>
            <a:ext cx="8567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sells refined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ill still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0 per barrel for them to sell the fuel (marketing and tax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fuel was bought for $100 per barrel, how much profit will the refinery make from the 10,000 barrels of aviation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 + 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3520" y="1197000"/>
            <a:ext cx="8772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does not have expertise in aviation fuel so he does not know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is product. He will not pay more than $1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e now has the money 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trader offers $100 per barrel how much will this cost him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you,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ept $100 per barrel what would your profit b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aviation fuel is in fact $140 per barrel – what would the traders profit be if he sold at this price? 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000" y="1143000"/>
            <a:ext cx="856764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le the Sheikh had no interest in your crude oil, he does however own his own private jet. He buys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him 10,000 barrels has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Sheikh would happily pay $130 per barrel. What is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o him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3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How much money will this save the Sheikh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your profit as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be on this sal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would sell to the Sheik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Summary – Cost, Price and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factors affect the cost, price and value of an i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ustomers are buying the (perceived) benefits of the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the products themsel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 is key to securing the best deal and maximising your financial return – this may require considerable resear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93080" y="2852640"/>
            <a:ext cx="1401480" cy="2097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naging Ris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47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innovation is about managing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k is made up of commercial and technical unknow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mmercial Unknown (Market Ne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 we understand our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echnical Unknown (Your Capabil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we sure we can develop, manufacture and distribute the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strong is the threat that our competitors will get there firs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es it fit with our existing business activiti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additional resources will we need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balance the risk against the potential reward and your commitment (time and £) – this involves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, Reward &amp; Investment…An Exam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19700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is building was built, a metal box containing cash was buried under the grass outside….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   Would you go and find the box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. There is high risk that you may not find the box and the rewar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s 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told you the box contained £500,000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es you would look, but still there is a high risk that you may no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find the bo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gave you £200, how could you improve this situ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vest the £200 in a metal detector and a spade – this decreas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risk giving you a better chance of finding the £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 and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sult of good risk management is that as we increase investment, the risk decreases rapid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 comes in many forms e.g. capital (£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ime and re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1502280" y="2421000"/>
            <a:ext cx="5925240" cy="2928240"/>
            <a:chOff x="1502280" y="2421000"/>
            <a:chExt cx="5925240" cy="2928240"/>
          </a:xfrm>
        </p:grpSpPr>
        <p:sp>
          <p:nvSpPr>
            <p:cNvPr id="275" name="Line 3"/>
            <p:cNvSpPr/>
            <p:nvPr/>
          </p:nvSpPr>
          <p:spPr>
            <a:xfrm>
              <a:off x="2294280" y="2421000"/>
              <a:ext cx="0" cy="2828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"/>
            <p:cNvSpPr/>
            <p:nvPr/>
          </p:nvSpPr>
          <p:spPr>
            <a:xfrm>
              <a:off x="1833840" y="4919760"/>
              <a:ext cx="5589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1502280" y="355536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s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4021560" y="49809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294280" y="2656440"/>
              <a:ext cx="4274280" cy="1980360"/>
            </a:xfrm>
            <a:custGeom>
              <a:avLst/>
              <a:gdLst>
                <a:gd name="textAreaLeft" fmla="*/ 0 w 4274280"/>
                <a:gd name="textAreaRight" fmla="*/ 4274640 w 427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3120" h="2016">
                  <a:moveTo>
                    <a:pt x="0" y="0"/>
                  </a:moveTo>
                  <a:cubicBezTo>
                    <a:pt x="172" y="528"/>
                    <a:pt x="344" y="1056"/>
                    <a:pt x="864" y="1392"/>
                  </a:cubicBezTo>
                  <a:cubicBezTo>
                    <a:pt x="1384" y="1728"/>
                    <a:pt x="2252" y="1872"/>
                    <a:pt x="3120" y="2016"/>
                  </a:cubicBezTo>
                </a:path>
              </a:pathLst>
            </a:custGeom>
            <a:noFill/>
            <a:ln cap="sq"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623640" y="4480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b050"/>
                  </a:solidFill>
                  <a:latin typeface="Arial"/>
                  <a:ea typeface="Arial"/>
                </a:rPr>
                <a:t>G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>
              <a:off x="2294280" y="2656440"/>
              <a:ext cx="4274280" cy="61272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662880" y="31752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How to Gain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o are typical investor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unders of th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mily memb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Angels &amp; Venture Capitali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at do investors typically look f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management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al with sustainable competitive advan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rights, patents and freedom-to-oper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marke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is will all have to be demonstrated in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asic Business Plan 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ition 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Validation – proof the customer will buy your product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ing Plan 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Plan 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it Strategy 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e hand out for an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Investor Has Different Nee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413000"/>
            <a:ext cx="86295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ular interest repayments, trading business, personal guarant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enture Capitalists (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holder, board position or appoint a Director, will take a business from A to B and want a exit strategy agreed at the start of the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is important to understand your inves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C is looking to make a 10x return on their investment in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 is very important as this is how they get their money bac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ailor your proposal to the investor you are targe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Financial Re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197000"/>
            <a:ext cx="8629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shows past performance) – like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shows present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on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shows future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y are these Importa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94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will look at each of these financial reports to assess if a business is a viable and ‘safe’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These repots show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t performance of the business (Profit/Loss Statemen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financial position of the business (Balance Shee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ability of the business to stay afloat (Cash Flow Foreca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 to pay running expenses (e.g. invoices, salaries and make purchas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Finance &amp;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036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ward = Money taken vs Outgoings over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t worth it?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aging risk is critical to the succes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isk can be reduced to an acceptable level through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ors are different, but they look for similar things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urate financial information is one of the keys to gaining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ethods of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In-House Commercialis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Owning a house and living in i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sell a product through the inventors existing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must have access to the required capability and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full control and maximises the inventors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for Rapid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ar all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cor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6084720" y="4302000"/>
            <a:ext cx="2671920" cy="1791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Joint Venture – i.e. Find a Partn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har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some capability and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tners have the missing el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 of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ing of the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Licensing Your Product / IP to a 3</a:t>
            </a:r>
            <a:r>
              <a:rPr b="1" lang="en-GB" sz="2800" spc="-1" strike="noStrike" baseline="30000">
                <a:solidFill>
                  <a:srgbClr val="003a74"/>
                </a:solidFill>
                <a:latin typeface="Arial"/>
                <a:ea typeface="Arial"/>
              </a:rPr>
              <a:t>rd</a:t>
            </a: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Rent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little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e bears all the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input from the inv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 &amp; on-going royal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ssignment of your 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ell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no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furth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Form Your Own Compan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Building your own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assembles capability (acquisition or inves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credibility, drive and commitment to succe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ward must be high enough to warrant the effort, investment &amp;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eward for the invent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ge investment of time and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-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methods of commercialising an ide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-house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gn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m your own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key that you choose the method which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"/>
              </a:rPr>
              <a:t>MAKES YOU THE MOST MONEY!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4537080" y="2276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mmunicating Your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methods of communicating your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‘Elevator Pitch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tching to investors (e.g. the ‘Dragons’ Den’ pitc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ritten report (typically 20 – 40 p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ry business plan is different and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e tailored to it’s audience. Typical audi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(e.g. banks, venture capitalists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Now Back To </a:t>
            </a:r>
            <a:r>
              <a:rPr b="0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Your </a:t>
            </a: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usiness Plan…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3280" y="1323720"/>
            <a:ext cx="77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The Propos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Researc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Valid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proof the customer will buy and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Marketing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peration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Exit Strateg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Financial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00160" y="2181240"/>
            <a:ext cx="122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0240" y="3860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74600" y="5072040"/>
            <a:ext cx="12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</a:rPr>
              <a:t>RE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24"/>
          <p:cNvSpPr/>
          <p:nvPr/>
        </p:nvSpPr>
        <p:spPr>
          <a:xfrm>
            <a:off x="1428840" y="2071800"/>
            <a:ext cx="0" cy="8650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31"/>
          <p:cNvSpPr/>
          <p:nvPr/>
        </p:nvSpPr>
        <p:spPr>
          <a:xfrm>
            <a:off x="1428840" y="3009960"/>
            <a:ext cx="0" cy="17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traight Connector 33"/>
          <p:cNvSpPr/>
          <p:nvPr/>
        </p:nvSpPr>
        <p:spPr>
          <a:xfrm>
            <a:off x="1428840" y="4870440"/>
            <a:ext cx="0" cy="7430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228600" y="167652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2050920" y="609444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94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ims to introduce some of the basic skills, concepts and understand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 to devel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skills will form the basis of your group’s ‘Dragons’ Den’ Pitch at the end of this cour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skills includ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awareness (i.e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ne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– understanding you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w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risk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ations for gaining invest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of commercialising your id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 all have ideas, but how do w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ck winner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ximise progress and financial retur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ise the risk of failur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451400" y="2851200"/>
            <a:ext cx="3457440" cy="3607560"/>
            <a:chOff x="4451400" y="2851200"/>
            <a:chExt cx="3457440" cy="3607560"/>
          </a:xfrm>
        </p:grpSpPr>
        <p:sp>
          <p:nvSpPr>
            <p:cNvPr id="81" name="Text Box 8"/>
            <p:cNvSpPr/>
            <p:nvPr/>
          </p:nvSpPr>
          <p:spPr>
            <a:xfrm>
              <a:off x="4506120" y="393804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445140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6642360" y="393804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596088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5571000" y="581616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5181480" y="44816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5994360" y="449100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22"/>
            <p:cNvSpPr/>
            <p:nvPr/>
          </p:nvSpPr>
          <p:spPr>
            <a:xfrm>
              <a:off x="5603760" y="285120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Down Arrow 14"/>
            <p:cNvSpPr/>
            <p:nvPr/>
          </p:nvSpPr>
          <p:spPr>
            <a:xfrm>
              <a:off x="6107040" y="319716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Rectangle 9"/>
          <p:cNvSpPr/>
          <p:nvPr/>
        </p:nvSpPr>
        <p:spPr>
          <a:xfrm>
            <a:off x="479520" y="369576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Success start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understand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needs of your mar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Megatrends in society drive market ne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&amp; Aging Popul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 Demand &amp; Climate Prot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ase and Urb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bility and Trans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Changes….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(largely) don’t want things, 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Understanding Your Mark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need to understan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that you are address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solu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is your market (i.e. who benefits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is your market, what is it’s size and can you access i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your market growing or declin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long can you stay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are your competitors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you expect to mak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takes much research to get a good picture of your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cp:lastPrinted>2012-02-15T15:04:15Z</cp:lastPrinted>
  <dcterms:modified xsi:type="dcterms:W3CDTF">2020-12-15T09:02:00Z</dcterms:modified>
  <cp:revision>214</cp:revision>
  <dc:subject/>
  <dc:title>Basic rules of business presentation</dc:title>
</cp:coreProperties>
</file>