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85417-805F-4B6D-A50B-FDEA133A4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35CB7-4C3F-4671-91B5-28782DEB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4BE3-6BA5-473C-A77D-ADDF36B82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D9B7D-7562-4395-A0A7-1968CFE7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60E4-A8B3-43FB-A680-DC4615BB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0920B-2841-4498-802C-95EF64E0F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78596-939E-4262-9675-F38D691BB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D710-1684-47DA-BBF7-02677EA5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CD20B-07D3-4FC3-A354-2760E5A4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1CC0-4331-41AF-8F85-A92BA0840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C5C0-C957-4E53-A36A-28F910D02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F7D92-B3B2-4C18-BF03-011A07090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9AE8-A173-47A4-9265-212246301D80}" type="datetime">
              <a:rPr b="0" lang="en-GB" sz="1200" spc="-1" strike="noStrike">
                <a:solidFill>
                  <a:srgbClr val="ffffff"/>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899E-5152-4CE6-98D2-296AE7FE62BF}"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