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222E-79F0-49F6-8B94-1A55C03158DE}" type="datetime">
              <a:rPr b="0" lang="en-GB" sz="13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007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5007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E54B-20AB-4A49-9483-8811D5743EA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s://money.cnn.com/magazines/fortune/fortune_archive/2001/08/13/308077/index.htm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www.marketingteacher.com/lesson-store/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BA82-A5CF-44CA-A0E4-5BA87A97FCC6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99B0-41A9-46B9-AF00-51CEA3ED3B92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75EC-0505-43D0-B37B-B8ED765712FA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D37D-87B3-4C3C-AEB3-56C4A9C0529A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money.cnn.com/magazines/fortune/fortune_archive/2001/08/13/308077/index.ht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9A15-FFA3-4396-8F40-7B351A42ED6A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od marketing website resource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arketingteacher.com/lesson-store/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BA04-B80A-4031-B6E8-C25305FA1120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DD9C-971F-4504-9D55-17CB6C075C80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F94A-7427-44A4-A560-ADDF14AA897A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0353-5F3F-4C11-8512-024530BF9761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FC12-AF4A-4F33-8716-07B857398673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626A-1657-495B-B99F-7F95D1615AA6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80D6-8B2C-4A4B-869F-79E0867A52B4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F140-C0C0-40A4-9B9F-20536AD1BE46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32F3-7BD0-4F4F-B60D-276226EFFF24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9E92-ED7D-417C-BA82-69EDC86D2383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738B-0856-47D7-9765-27F958E2D8ED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B6AC-1C77-4F61-8B94-52C76A698A7F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778B-5028-4BC6-9282-483EE4FA297F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CD5-EA84-4271-9DAF-179D4F2C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A4D-723E-4EE1-B5E6-3A64E013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C2E-B467-470C-A9D3-E184CCDF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5FB-0571-49D5-B405-2CDB551E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DA6-6B12-4E93-98B7-C64A0177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3F9-63FA-4FFE-852E-35DD6E9E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487-6867-4FF4-8011-0CFB789A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4DA-BE84-4D76-A28B-6AF6EBC0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CE3-8037-413B-AA32-707445CE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A6B-4CB6-4E5B-883E-BE97E6C0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900-9472-4E33-A87C-75E8CDA1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B6C-DE5B-427E-9BE4-62B9C444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2115-633C-4023-AB39-75F1B0DE6D6C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B075-9E0A-476D-8936-234CEFE0F07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rsc.li/3840bDs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Business Skills for Chemical Scientis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nottingham.ac.uk/xpert/attribution/pictureattrib/mangle.php?url=http://farm5.static.flickr.com/4016/4712925031_76d0cecdf3_b.jpg&amp;original_url=http://www.flickr.com/49503002894@N01/4712925031/&amp;license=flickr_1&amp;flickr_id=4712925031&amp;size=full&amp;picturename=A%20Gulf%20Oil%20Rig"/>
          <p:cNvPicPr/>
          <p:nvPr/>
        </p:nvPicPr>
        <p:blipFill>
          <a:blip r:embed="rId2"/>
          <a:stretch/>
        </p:blipFill>
        <p:spPr>
          <a:xfrm>
            <a:off x="826920" y="2781360"/>
            <a:ext cx="2160720" cy="160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nottingham.ac.uk/xpert/attribution/pictureattrib/mangle.php?url=http://farm5.static.flickr.com/5011/5513586978_0a09f8e7d7_b.jpg&amp;original_url=http://www.flickr.com/88651026@N00/5513586978/&amp;license=flickr_1&amp;flickr_id=5513586978&amp;size=full&amp;picturename=Art%20Store%20Lust"/>
          <p:cNvPicPr/>
          <p:nvPr/>
        </p:nvPicPr>
        <p:blipFill>
          <a:blip r:embed="rId3"/>
          <a:stretch/>
        </p:blipFill>
        <p:spPr>
          <a:xfrm>
            <a:off x="4427640" y="4797360"/>
            <a:ext cx="2220840" cy="172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://www.nottingham.ac.uk/xpert/attribution/pictureattrib/mangle.php?url=http://farm5.static.flickr.com/7002/6469183731_5c557818ff_b.jpg&amp;original_url=http://www.flickr.com/28011375@N04/6469183731/&amp;license=flickr_1&amp;flickr_id=6469183731&amp;size=full&amp;picturename=green%20monster"/>
          <p:cNvPicPr/>
          <p:nvPr/>
        </p:nvPicPr>
        <p:blipFill>
          <a:blip r:embed="rId4"/>
          <a:stretch/>
        </p:blipFill>
        <p:spPr>
          <a:xfrm>
            <a:off x="6227640" y="2781360"/>
            <a:ext cx="2160720" cy="161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5"/>
          <a:stretch/>
        </p:blipFill>
        <p:spPr>
          <a:xfrm>
            <a:off x="3924360" y="1989000"/>
            <a:ext cx="1326960" cy="1800360"/>
          </a:xfrm>
          <a:prstGeom prst="rect">
            <a:avLst/>
          </a:prstGeom>
          <a:ln w="0">
            <a:noFill/>
          </a:ln>
        </p:spPr>
      </p:pic>
      <p:sp>
        <p:nvSpPr>
          <p:cNvPr id="54" name="Bent Arrow 10"/>
          <p:cNvSpPr/>
          <p:nvPr/>
        </p:nvSpPr>
        <p:spPr>
          <a:xfrm>
            <a:off x="1692360" y="2205000"/>
            <a:ext cx="1942920" cy="432000"/>
          </a:xfrm>
          <a:custGeom>
            <a:avLst/>
            <a:gdLst/>
            <a:ahLst/>
            <a:rect l="l" t="t" r="r" b="b"/>
            <a:pathLst>
              <a:path w="1943100" h="431800">
                <a:moveTo>
                  <a:pt x="0" y="431800"/>
                </a:moveTo>
                <a:lnTo>
                  <a:pt x="0" y="242888"/>
                </a:lnTo>
                <a:cubicBezTo>
                  <a:pt x="0" y="138554"/>
                  <a:pt x="84579" y="53975"/>
                  <a:pt x="188913" y="53975"/>
                </a:cubicBezTo>
                <a:lnTo>
                  <a:pt x="1835150" y="53975"/>
                </a:lnTo>
                <a:lnTo>
                  <a:pt x="1835150" y="0"/>
                </a:lnTo>
                <a:lnTo>
                  <a:pt x="1943100" y="107950"/>
                </a:lnTo>
                <a:lnTo>
                  <a:pt x="1835150" y="215900"/>
                </a:lnTo>
                <a:lnTo>
                  <a:pt x="1835150" y="161925"/>
                </a:lnTo>
                <a:lnTo>
                  <a:pt x="188913" y="161925"/>
                </a:lnTo>
                <a:cubicBezTo>
                  <a:pt x="144198" y="161925"/>
                  <a:pt x="107950" y="198173"/>
                  <a:pt x="107950" y="242888"/>
                </a:cubicBezTo>
                <a:lnTo>
                  <a:pt x="107950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Bent Arrow 11"/>
          <p:cNvSpPr/>
          <p:nvPr/>
        </p:nvSpPr>
        <p:spPr>
          <a:xfrm rot="10800000">
            <a:off x="6732720" y="4508280"/>
            <a:ext cx="792000" cy="1152360"/>
          </a:xfrm>
          <a:custGeom>
            <a:avLst/>
            <a:gdLst/>
            <a:ahLst/>
            <a:rect l="l" t="t" r="r" b="b"/>
            <a:pathLst>
              <a:path w="792162" h="1152525">
                <a:moveTo>
                  <a:pt x="0" y="1152525"/>
                </a:moveTo>
                <a:lnTo>
                  <a:pt x="0" y="401646"/>
                </a:lnTo>
                <a:cubicBezTo>
                  <a:pt x="0" y="210240"/>
                  <a:pt x="155165" y="55075"/>
                  <a:pt x="346571" y="55075"/>
                </a:cubicBezTo>
                <a:lnTo>
                  <a:pt x="652718" y="55075"/>
                </a:lnTo>
                <a:lnTo>
                  <a:pt x="652718" y="0"/>
                </a:lnTo>
                <a:lnTo>
                  <a:pt x="792162" y="105262"/>
                </a:lnTo>
                <a:lnTo>
                  <a:pt x="652718" y="210525"/>
                </a:lnTo>
                <a:lnTo>
                  <a:pt x="652718" y="155450"/>
                </a:lnTo>
                <a:lnTo>
                  <a:pt x="346571" y="155450"/>
                </a:lnTo>
                <a:cubicBezTo>
                  <a:pt x="210601" y="155450"/>
                  <a:pt x="100375" y="265676"/>
                  <a:pt x="100375" y="401646"/>
                </a:cubicBezTo>
                <a:lnTo>
                  <a:pt x="100375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Bent Arrow 13"/>
          <p:cNvSpPr/>
          <p:nvPr/>
        </p:nvSpPr>
        <p:spPr>
          <a:xfrm rot="5400000">
            <a:off x="6299640" y="1411920"/>
            <a:ext cx="360360" cy="2089080"/>
          </a:xfrm>
          <a:custGeom>
            <a:avLst/>
            <a:gdLst/>
            <a:ahLst/>
            <a:rect l="l" t="t" r="r" b="b"/>
            <a:pathLst>
              <a:path w="360363" h="2089150">
                <a:moveTo>
                  <a:pt x="0" y="2089150"/>
                </a:moveTo>
                <a:lnTo>
                  <a:pt x="0" y="202704"/>
                </a:lnTo>
                <a:cubicBezTo>
                  <a:pt x="0" y="115631"/>
                  <a:pt x="70586" y="45045"/>
                  <a:pt x="157659" y="45045"/>
                </a:cubicBezTo>
                <a:lnTo>
                  <a:pt x="270272" y="45045"/>
                </a:lnTo>
                <a:lnTo>
                  <a:pt x="270272" y="0"/>
                </a:lnTo>
                <a:lnTo>
                  <a:pt x="360363" y="90091"/>
                </a:lnTo>
                <a:lnTo>
                  <a:pt x="270272" y="180182"/>
                </a:lnTo>
                <a:lnTo>
                  <a:pt x="270272" y="135136"/>
                </a:lnTo>
                <a:lnTo>
                  <a:pt x="157659" y="135136"/>
                </a:lnTo>
                <a:cubicBezTo>
                  <a:pt x="120342" y="135136"/>
                  <a:pt x="90091" y="165387"/>
                  <a:pt x="90091" y="202704"/>
                </a:cubicBezTo>
                <a:lnTo>
                  <a:pt x="90091" y="2089150"/>
                </a:lnTo>
                <a:lnTo>
                  <a:pt x="0" y="20891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6"/>
          <a:stretch/>
        </p:blipFill>
        <p:spPr>
          <a:xfrm>
            <a:off x="2340000" y="4797360"/>
            <a:ext cx="1368360" cy="1724040"/>
          </a:xfrm>
          <a:prstGeom prst="rect">
            <a:avLst/>
          </a:prstGeom>
          <a:ln w="0">
            <a:noFill/>
          </a:ln>
        </p:spPr>
      </p:pic>
      <p:sp>
        <p:nvSpPr>
          <p:cNvPr id="58" name="Bent Arrow 15"/>
          <p:cNvSpPr/>
          <p:nvPr/>
        </p:nvSpPr>
        <p:spPr>
          <a:xfrm rot="16200000">
            <a:off x="1366920" y="4760640"/>
            <a:ext cx="1081080" cy="576360"/>
          </a:xfrm>
          <a:custGeom>
            <a:avLst/>
            <a:gdLst/>
            <a:ahLst/>
            <a:rect l="l" t="t" r="r" b="b"/>
            <a:pathLst>
              <a:path w="1081088" h="576263">
                <a:moveTo>
                  <a:pt x="0" y="576263"/>
                </a:moveTo>
                <a:lnTo>
                  <a:pt x="0" y="314386"/>
                </a:lnTo>
                <a:cubicBezTo>
                  <a:pt x="0" y="175147"/>
                  <a:pt x="112876" y="62271"/>
                  <a:pt x="252115" y="62271"/>
                </a:cubicBezTo>
                <a:lnTo>
                  <a:pt x="970768" y="62271"/>
                </a:lnTo>
                <a:lnTo>
                  <a:pt x="970768" y="0"/>
                </a:lnTo>
                <a:lnTo>
                  <a:pt x="1081088" y="112100"/>
                </a:lnTo>
                <a:lnTo>
                  <a:pt x="970768" y="224201"/>
                </a:lnTo>
                <a:lnTo>
                  <a:pt x="970768" y="161930"/>
                </a:lnTo>
                <a:lnTo>
                  <a:pt x="252115" y="161930"/>
                </a:lnTo>
                <a:cubicBezTo>
                  <a:pt x="167916" y="161930"/>
                  <a:pt x="99659" y="230187"/>
                  <a:pt x="99659" y="314386"/>
                </a:cubicBezTo>
                <a:lnTo>
                  <a:pt x="99659" y="576263"/>
                </a:lnTo>
                <a:lnTo>
                  <a:pt x="0" y="5762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eft Arrow 16"/>
          <p:cNvSpPr/>
          <p:nvPr/>
        </p:nvSpPr>
        <p:spPr>
          <a:xfrm>
            <a:off x="3780000" y="5445000"/>
            <a:ext cx="504720" cy="216000"/>
          </a:xfrm>
          <a:prstGeom prst="leftArrow">
            <a:avLst>
              <a:gd name="adj1" fmla="val 50000"/>
              <a:gd name="adj2" fmla="val 4996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7"/>
          <a:stretch/>
        </p:blipFill>
        <p:spPr>
          <a:xfrm>
            <a:off x="8325000" y="123840"/>
            <a:ext cx="784080" cy="1833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8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Prozac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3160" y="1268280"/>
            <a:ext cx="8642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zac is an anti-depressant dru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developed by Eli Lilly in 1974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was submitted to the FDA in 1977 and approved in 1987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came off patent in 2001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Q.</a:t>
            </a: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 What was the marketing position of Prozac in 1987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problem is that Prozac addresse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t improves the quality of people’s liv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jor depression, OCD, bulimia nervosa, panic disor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Eli Lilly’s solu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ke (through considerable R&amp;D) a new anti-depressant dru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8" descr="http://www.nottingham.ac.uk/xpert/attribution/pictureattrib/mangle.php?url=http://farm5.static.flickr.com/3382/3185754948_140ec71cbc_b.jpg&amp;original_url=http://www.flickr.com/10389914@N05/3185754948/&amp;license=flickr_1&amp;flickr_id=3185754948&amp;size=full&amp;picturename=new%20day"/>
          <p:cNvPicPr/>
          <p:nvPr/>
        </p:nvPicPr>
        <p:blipFill>
          <a:blip r:embed="rId1"/>
          <a:stretch/>
        </p:blipFill>
        <p:spPr>
          <a:xfrm>
            <a:off x="263520" y="189000"/>
            <a:ext cx="2795760" cy="1739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o is the market for Prozac (i.e. who benefits)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ciety &amp; the people with depression and other related disord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ere is the market for Prozac? What is the market size?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ople worldwide suffer from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7% of Americans have major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ypically 8 – 12% of the population worldwide, or 500 – 800 million people worldw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n the market be access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es, but drug regulations will restrict access to different markets worldw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the market growing or declining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zac is the first and only treatment for depression on the marke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market will grow through better awareness and diagnosis of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long can Eli Lilly stay in this marke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i Lilly can dominate this market until the patent expires in 200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o are Eli Lilly’s competitors in this marke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ne in 1987 – Eli Lilly had a patent stopping others making Proza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, non-related anti-depressant drugs may be develope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re there significant regulatory costs &amp; requirement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es &amp; these costs are significant (R&amp;D, clinical trials, patents etc.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sts need to be recouped before profit is m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much money can Eli Lilly expect to mak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edicted to be no more tha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$70 mill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r year in 198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Prozac – Looking Back from Toda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it’s first year, Prozac took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35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sal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987 – 2001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i Lilly mad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21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rom Prozac sa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zac came off patent in 200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i Lilly could not longer exclusively make Proza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range of generic drugs were released onto the market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cost Eli Lilly $2.4 billion per year in sa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zac generics are still popular toda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 2010 there were 24.4 million prescriptions of Prozac generic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ill the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most prescribed anti-depressa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844280"/>
            <a:ext cx="8856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must understand the needs of your market/custom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takes considerable market resear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ey points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You can only sell things if people want to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eople don’t want things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they want what those things do for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4857840" y="1979640"/>
            <a:ext cx="3457440" cy="3607560"/>
            <a:chOff x="4857840" y="1979640"/>
            <a:chExt cx="3457440" cy="3607560"/>
          </a:xfrm>
        </p:grpSpPr>
        <p:sp>
          <p:nvSpPr>
            <p:cNvPr id="114" name="Text Box 8"/>
            <p:cNvSpPr/>
            <p:nvPr/>
          </p:nvSpPr>
          <p:spPr>
            <a:xfrm>
              <a:off x="4911480" y="3066480"/>
              <a:ext cx="9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485784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6922080" y="3066480"/>
              <a:ext cx="134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6"/>
            <p:cNvSpPr/>
            <p:nvPr/>
          </p:nvSpPr>
          <p:spPr>
            <a:xfrm>
              <a:off x="636732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5977440" y="494460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8"/>
            <p:cNvSpPr/>
            <p:nvPr/>
          </p:nvSpPr>
          <p:spPr>
            <a:xfrm>
              <a:off x="5587920" y="36100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9"/>
            <p:cNvSpPr/>
            <p:nvPr/>
          </p:nvSpPr>
          <p:spPr>
            <a:xfrm>
              <a:off x="6400800" y="361944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Box 22"/>
            <p:cNvSpPr/>
            <p:nvPr/>
          </p:nvSpPr>
          <p:spPr>
            <a:xfrm>
              <a:off x="6010200" y="1979640"/>
              <a:ext cx="12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Down Arrow 21"/>
            <p:cNvSpPr/>
            <p:nvPr/>
          </p:nvSpPr>
          <p:spPr>
            <a:xfrm>
              <a:off x="6513480" y="232560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Rectangle 9"/>
          <p:cNvSpPr/>
          <p:nvPr/>
        </p:nvSpPr>
        <p:spPr>
          <a:xfrm>
            <a:off x="503280" y="2165400"/>
            <a:ext cx="39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capability to develop and deliver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product to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Business strategy to achieve your goal and mak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o you have a proven technical concept with unique attributes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o these attributes match the market need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ill it sell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e, distribute and marke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roduc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there any regulatory issues to overcome (e.g. FDA approval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you have freedom to operate from patent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you have a sustainable competitive advantag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s your technology protected through patents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ow will your competitors respond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es this product fit in your existing product portfolio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Assessing </a:t>
            </a:r>
            <a:r>
              <a:rPr b="0" i="1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Your</a:t>
            </a: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 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WOT analysis is a strategic planning method used to asses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capability to develop and deliver your product to the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assesses the Strengths, Weaknesses, Opportunities and Threats to a project or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9"/>
          <p:cNvGrpSpPr/>
          <p:nvPr/>
        </p:nvGrpSpPr>
        <p:grpSpPr>
          <a:xfrm>
            <a:off x="1692360" y="692280"/>
            <a:ext cx="5040360" cy="5040360"/>
            <a:chOff x="1692360" y="692280"/>
            <a:chExt cx="5040360" cy="5040360"/>
          </a:xfrm>
        </p:grpSpPr>
        <p:pic>
          <p:nvPicPr>
            <p:cNvPr id="132" name="Rectangle 6" descr=""/>
            <p:cNvPicPr/>
            <p:nvPr/>
          </p:nvPicPr>
          <p:blipFill>
            <a:blip r:embed="rId1"/>
            <a:stretch/>
          </p:blipFill>
          <p:spPr>
            <a:xfrm>
              <a:off x="2400480" y="140076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7"/>
            <p:cNvSpPr/>
            <p:nvPr/>
          </p:nvSpPr>
          <p:spPr>
            <a:xfrm>
              <a:off x="4566600" y="140976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2409840" y="356652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4566600" y="356652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2409840" y="6922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Box 11"/>
            <p:cNvSpPr/>
            <p:nvPr/>
          </p:nvSpPr>
          <p:spPr>
            <a:xfrm>
              <a:off x="2409840" y="692280"/>
              <a:ext cx="2151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HELPFU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to achieve the objec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4566600" y="6922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Box 14"/>
            <p:cNvSpPr/>
            <p:nvPr/>
          </p:nvSpPr>
          <p:spPr>
            <a:xfrm>
              <a:off x="4566600" y="692280"/>
              <a:ext cx="215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HARMFU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to achieve the objec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Rectangle 15" descr=""/>
            <p:cNvPicPr/>
            <p:nvPr/>
          </p:nvPicPr>
          <p:blipFill>
            <a:blip r:embed="rId2"/>
            <a:stretch/>
          </p:blipFill>
          <p:spPr>
            <a:xfrm>
              <a:off x="4554360" y="140076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Rectangle 16" descr=""/>
            <p:cNvPicPr/>
            <p:nvPr/>
          </p:nvPicPr>
          <p:blipFill>
            <a:blip r:embed="rId3"/>
            <a:stretch/>
          </p:blipFill>
          <p:spPr>
            <a:xfrm>
              <a:off x="2400480" y="355464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Rectangle 17" descr=""/>
            <p:cNvPicPr/>
            <p:nvPr/>
          </p:nvPicPr>
          <p:blipFill>
            <a:blip r:embed="rId4"/>
            <a:stretch/>
          </p:blipFill>
          <p:spPr>
            <a:xfrm>
              <a:off x="4554360" y="355464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18"/>
            <p:cNvSpPr/>
            <p:nvPr/>
          </p:nvSpPr>
          <p:spPr>
            <a:xfrm rot="16200000">
              <a:off x="901440" y="220032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Box 19"/>
            <p:cNvSpPr/>
            <p:nvPr/>
          </p:nvSpPr>
          <p:spPr>
            <a:xfrm rot="16200000">
              <a:off x="914040" y="2331720"/>
              <a:ext cx="215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INTERNAL ORIG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 rot="16200000">
              <a:off x="901440" y="43570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Box 21"/>
            <p:cNvSpPr/>
            <p:nvPr/>
          </p:nvSpPr>
          <p:spPr>
            <a:xfrm rot="16200000">
              <a:off x="914760" y="4487760"/>
              <a:ext cx="214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EXTERNAL ORIG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5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rength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advantages does your company hav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do you do better than anyone els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do people in your market see as your strength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aknes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could be improved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people in the market likely to see as weaknesse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portun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interesting trends you are aware of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seful opportunities can come from megatrends e.g. social patterns (population,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ifestyle changes etc.), markets, government policy, changes in technology etc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re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obstacles do you fac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is the competition doing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re the required specifications for products or services changing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ould any of the weaknesses seriously threaten the busines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9"/>
          <p:cNvGrpSpPr/>
          <p:nvPr/>
        </p:nvGrpSpPr>
        <p:grpSpPr>
          <a:xfrm>
            <a:off x="6516720" y="115920"/>
            <a:ext cx="2468520" cy="2346120"/>
            <a:chOff x="6516720" y="115920"/>
            <a:chExt cx="2468520" cy="2346120"/>
          </a:xfrm>
        </p:grpSpPr>
        <p:pic>
          <p:nvPicPr>
            <p:cNvPr id="150" name="Rectangle 5" descr=""/>
            <p:cNvPicPr/>
            <p:nvPr/>
          </p:nvPicPr>
          <p:blipFill>
            <a:blip r:embed="rId1"/>
            <a:stretch/>
          </p:blipFill>
          <p:spPr>
            <a:xfrm>
              <a:off x="6516720" y="115920"/>
              <a:ext cx="1243440" cy="118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6"/>
            <p:cNvSpPr/>
            <p:nvPr/>
          </p:nvSpPr>
          <p:spPr>
            <a:xfrm>
              <a:off x="7750080" y="127800"/>
              <a:ext cx="12229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6528600" y="1288800"/>
              <a:ext cx="12211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750080" y="1288800"/>
              <a:ext cx="12229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Rectangle 13" descr=""/>
            <p:cNvPicPr/>
            <p:nvPr/>
          </p:nvPicPr>
          <p:blipFill>
            <a:blip r:embed="rId2"/>
            <a:stretch/>
          </p:blipFill>
          <p:spPr>
            <a:xfrm>
              <a:off x="7736040" y="115920"/>
              <a:ext cx="124920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Rectangle 14" descr=""/>
            <p:cNvPicPr/>
            <p:nvPr/>
          </p:nvPicPr>
          <p:blipFill>
            <a:blip r:embed="rId3"/>
            <a:stretch/>
          </p:blipFill>
          <p:spPr>
            <a:xfrm>
              <a:off x="6516720" y="1274040"/>
              <a:ext cx="124344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Rectangle 15" descr=""/>
            <p:cNvPicPr/>
            <p:nvPr/>
          </p:nvPicPr>
          <p:blipFill>
            <a:blip r:embed="rId4"/>
            <a:stretch/>
          </p:blipFill>
          <p:spPr>
            <a:xfrm>
              <a:off x="7736040" y="1274040"/>
              <a:ext cx="1249200" cy="118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Picture 2" descr=""/>
          <p:cNvPicPr/>
          <p:nvPr/>
        </p:nvPicPr>
        <p:blipFill>
          <a:blip r:embed="rId5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Basic Rules of Busi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7" descr="http://www.nottingham.ac.uk/xpert/attribution/pictureattrib/mangle.php?url=http://farm5.static.flickr.com/7164/6467037789_61a5d66b93_b.jpg&amp;original_url=http://www.flickr.com/45462355@N07/6467037789/&amp;license=flickr_3&amp;flickr_id=6467037789&amp;size=full&amp;picturename=Y%20Archives%20-%2012/1953%20-%20Photographer%20Warren%20Moody%20-%20Sherwood%20Eddy%20Pete%20Ingalls%20Dean%20Leeper%20shake%20hands"/>
          <p:cNvPicPr/>
          <p:nvPr/>
        </p:nvPicPr>
        <p:blipFill>
          <a:blip r:embed="rId1"/>
          <a:stretch/>
        </p:blipFill>
        <p:spPr>
          <a:xfrm>
            <a:off x="2193840" y="2209680"/>
            <a:ext cx="4753080" cy="3903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2506680" y="627048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8701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must understand the capability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pany to develop and deliv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roduct t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alysis assesses the Strengths, Weaknesses, Opportunities and Threats to a business or proj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 are influenced by both internal and external factors, some of which are helpful and some harmful to your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next….?? 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alysis must lead to the development of 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lan or set of recommendations to achieve your chosen go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Project Manage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 is the planning, organising and management of resources to achieve a specific go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are usually constrained by time, funding (budget) and resour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tage–Gate Model of Project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roject is divided into manageable 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ag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 separated b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a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 Sta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 planned actions take place to achieve planned deliverab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alyse the deliverable, and propose an action plan for the next stag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 G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a decision point      </a:t>
            </a:r>
            <a:r>
              <a:rPr b="0" lang="en-GB" sz="2800" spc="-1" strike="noStrike">
                <a:solidFill>
                  <a:srgbClr val="00b050"/>
                </a:solidFill>
                <a:latin typeface="Arial"/>
                <a:ea typeface="Arial"/>
              </a:rPr>
              <a:t>G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Ki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ffc000"/>
                </a:solidFill>
                <a:latin typeface="Arial"/>
                <a:ea typeface="Arial"/>
              </a:rPr>
              <a:t>Hol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00b0f0"/>
                </a:solidFill>
                <a:latin typeface="Arial"/>
                <a:ea typeface="Arial"/>
              </a:rPr>
              <a:t>Recy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 the quality of deliverables – does the project make business sense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403280" y="371628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Isosceles Triangle 7"/>
          <p:cNvSpPr/>
          <p:nvPr/>
        </p:nvSpPr>
        <p:spPr>
          <a:xfrm flipV="1" rot="16200000">
            <a:off x="1655280" y="483300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ight Arrow 105"/>
          <p:cNvSpPr/>
          <p:nvPr/>
        </p:nvSpPr>
        <p:spPr>
          <a:xfrm rot="5400000">
            <a:off x="2447640" y="87300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73"/>
          <p:cNvSpPr/>
          <p:nvPr/>
        </p:nvSpPr>
        <p:spPr>
          <a:xfrm>
            <a:off x="2195640" y="1197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74"/>
          <p:cNvSpPr/>
          <p:nvPr/>
        </p:nvSpPr>
        <p:spPr>
          <a:xfrm>
            <a:off x="2195640" y="126828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19"/>
          <p:cNvGrpSpPr/>
          <p:nvPr/>
        </p:nvGrpSpPr>
        <p:grpSpPr>
          <a:xfrm>
            <a:off x="2325600" y="260280"/>
            <a:ext cx="595080" cy="425520"/>
            <a:chOff x="2325600" y="260280"/>
            <a:chExt cx="595080" cy="425520"/>
          </a:xfrm>
        </p:grpSpPr>
        <p:sp>
          <p:nvSpPr>
            <p:cNvPr id="170" name="Oval 20"/>
            <p:cNvSpPr/>
            <p:nvPr/>
          </p:nvSpPr>
          <p:spPr>
            <a:xfrm>
              <a:off x="2325600" y="260280"/>
              <a:ext cx="595080" cy="425520"/>
            </a:xfrm>
            <a:prstGeom prst="ellipse">
              <a:avLst/>
            </a:prstGeom>
            <a:solidFill>
              <a:srgbClr val="d9319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21"/>
            <p:cNvSpPr/>
            <p:nvPr/>
          </p:nvSpPr>
          <p:spPr>
            <a:xfrm>
              <a:off x="2370960" y="331560"/>
              <a:ext cx="5130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Ide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Group 19"/>
          <p:cNvGrpSpPr/>
          <p:nvPr/>
        </p:nvGrpSpPr>
        <p:grpSpPr>
          <a:xfrm>
            <a:off x="2411280" y="6237360"/>
            <a:ext cx="425520" cy="425520"/>
            <a:chOff x="2411280" y="6237360"/>
            <a:chExt cx="425520" cy="425520"/>
          </a:xfrm>
        </p:grpSpPr>
        <p:sp>
          <p:nvSpPr>
            <p:cNvPr id="173" name="Oval 20"/>
            <p:cNvSpPr/>
            <p:nvPr/>
          </p:nvSpPr>
          <p:spPr>
            <a:xfrm>
              <a:off x="2411280" y="6237360"/>
              <a:ext cx="425520" cy="425520"/>
            </a:xfrm>
            <a:prstGeom prst="ellipse">
              <a:avLst/>
            </a:prstGeom>
            <a:solidFill>
              <a:srgbClr val="d9319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21"/>
            <p:cNvSpPr/>
            <p:nvPr/>
          </p:nvSpPr>
          <p:spPr>
            <a:xfrm>
              <a:off x="2445480" y="6302520"/>
              <a:ext cx="363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££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Isosceles Triangle 107"/>
          <p:cNvSpPr/>
          <p:nvPr/>
        </p:nvSpPr>
        <p:spPr>
          <a:xfrm flipV="1" rot="16200000">
            <a:off x="2231640" y="65628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08"/>
          <p:cNvSpPr/>
          <p:nvPr/>
        </p:nvSpPr>
        <p:spPr>
          <a:xfrm>
            <a:off x="1042920" y="69228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cre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29"/>
          <p:cNvSpPr/>
          <p:nvPr/>
        </p:nvSpPr>
        <p:spPr>
          <a:xfrm>
            <a:off x="3211200" y="1197000"/>
            <a:ext cx="305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liminary Invest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e the product, market &amp; compet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131"/>
          <p:cNvSpPr/>
          <p:nvPr/>
        </p:nvSpPr>
        <p:spPr>
          <a:xfrm>
            <a:off x="3215520" y="2133720"/>
            <a:ext cx="53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 definition, market research, production costs, legal &amp; regulatory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imate time, personnel, financial resources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EASIBILITY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ight Arrow 140"/>
          <p:cNvSpPr/>
          <p:nvPr/>
        </p:nvSpPr>
        <p:spPr>
          <a:xfrm rot="5400000">
            <a:off x="2447640" y="1881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41"/>
          <p:cNvSpPr/>
          <p:nvPr/>
        </p:nvSpPr>
        <p:spPr>
          <a:xfrm>
            <a:off x="2195640" y="2205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142"/>
          <p:cNvSpPr/>
          <p:nvPr/>
        </p:nvSpPr>
        <p:spPr>
          <a:xfrm>
            <a:off x="2195640" y="2276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148"/>
          <p:cNvSpPr/>
          <p:nvPr/>
        </p:nvSpPr>
        <p:spPr>
          <a:xfrm>
            <a:off x="3203640" y="3141720"/>
            <a:ext cx="511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 plans from stage 2 – make a prototype and develop a marketing and sale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ight Arrow 149"/>
          <p:cNvSpPr/>
          <p:nvPr/>
        </p:nvSpPr>
        <p:spPr>
          <a:xfrm rot="5400000">
            <a:off x="2447640" y="2889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50"/>
          <p:cNvSpPr/>
          <p:nvPr/>
        </p:nvSpPr>
        <p:spPr>
          <a:xfrm>
            <a:off x="2195640" y="3213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51"/>
          <p:cNvSpPr/>
          <p:nvPr/>
        </p:nvSpPr>
        <p:spPr>
          <a:xfrm>
            <a:off x="2195640" y="3284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154"/>
          <p:cNvSpPr/>
          <p:nvPr/>
        </p:nvSpPr>
        <p:spPr>
          <a:xfrm>
            <a:off x="3203640" y="4149720"/>
            <a:ext cx="518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sting &amp; Valid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idate the project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the product (field testing), manufacture, customers, financial mer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ight Arrow 155"/>
          <p:cNvSpPr/>
          <p:nvPr/>
        </p:nvSpPr>
        <p:spPr>
          <a:xfrm rot="5400000">
            <a:off x="2447640" y="3897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56"/>
          <p:cNvSpPr/>
          <p:nvPr/>
        </p:nvSpPr>
        <p:spPr>
          <a:xfrm>
            <a:off x="2195640" y="4221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157"/>
          <p:cNvSpPr/>
          <p:nvPr/>
        </p:nvSpPr>
        <p:spPr>
          <a:xfrm>
            <a:off x="2195640" y="4292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60"/>
          <p:cNvSpPr/>
          <p:nvPr/>
        </p:nvSpPr>
        <p:spPr>
          <a:xfrm>
            <a:off x="3235320" y="5300640"/>
            <a:ext cx="49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 marketing, sales, distribution, pricing, estimate the initial dem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ight Arrow 161"/>
          <p:cNvSpPr/>
          <p:nvPr/>
        </p:nvSpPr>
        <p:spPr>
          <a:xfrm rot="5400000">
            <a:off x="2447640" y="4905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162"/>
          <p:cNvSpPr/>
          <p:nvPr/>
        </p:nvSpPr>
        <p:spPr>
          <a:xfrm>
            <a:off x="2195640" y="522936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163"/>
          <p:cNvSpPr/>
          <p:nvPr/>
        </p:nvSpPr>
        <p:spPr>
          <a:xfrm>
            <a:off x="2195640" y="5300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ight Arrow 166"/>
          <p:cNvSpPr/>
          <p:nvPr/>
        </p:nvSpPr>
        <p:spPr>
          <a:xfrm rot="5400000">
            <a:off x="2447640" y="5913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68"/>
          <p:cNvSpPr/>
          <p:nvPr/>
        </p:nvSpPr>
        <p:spPr>
          <a:xfrm>
            <a:off x="112680" y="270828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ILL 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169"/>
          <p:cNvSpPr/>
          <p:nvPr/>
        </p:nvSpPr>
        <p:spPr>
          <a:xfrm>
            <a:off x="3211920" y="6308640"/>
            <a:ext cx="171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 of th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sosceles Triangle 172"/>
          <p:cNvSpPr/>
          <p:nvPr/>
        </p:nvSpPr>
        <p:spPr>
          <a:xfrm flipV="1" rot="16200000">
            <a:off x="2231640" y="1664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173"/>
          <p:cNvSpPr/>
          <p:nvPr/>
        </p:nvSpPr>
        <p:spPr>
          <a:xfrm>
            <a:off x="900000" y="17002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ond scre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sosceles Triangle 174"/>
          <p:cNvSpPr/>
          <p:nvPr/>
        </p:nvSpPr>
        <p:spPr>
          <a:xfrm flipV="1" rot="16200000">
            <a:off x="2231640" y="2672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175"/>
          <p:cNvSpPr/>
          <p:nvPr/>
        </p:nvSpPr>
        <p:spPr>
          <a:xfrm>
            <a:off x="1258920" y="2781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Isosceles Triangle 176"/>
          <p:cNvSpPr/>
          <p:nvPr/>
        </p:nvSpPr>
        <p:spPr>
          <a:xfrm flipV="1" rot="16200000">
            <a:off x="2231640" y="3680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177"/>
          <p:cNvSpPr/>
          <p:nvPr/>
        </p:nvSpPr>
        <p:spPr>
          <a:xfrm>
            <a:off x="1258920" y="3789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Isosceles Triangle 178"/>
          <p:cNvSpPr/>
          <p:nvPr/>
        </p:nvSpPr>
        <p:spPr>
          <a:xfrm flipV="1" rot="16200000">
            <a:off x="2231640" y="4688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179"/>
          <p:cNvSpPr/>
          <p:nvPr/>
        </p:nvSpPr>
        <p:spPr>
          <a:xfrm>
            <a:off x="1258920" y="4797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Bent Arrow 180"/>
          <p:cNvSpPr/>
          <p:nvPr/>
        </p:nvSpPr>
        <p:spPr>
          <a:xfrm>
            <a:off x="539640" y="1341360"/>
            <a:ext cx="1511280" cy="1295640"/>
          </a:xfrm>
          <a:custGeom>
            <a:avLst/>
            <a:gdLst/>
            <a:ahLst/>
            <a:rect l="l" t="t" r="r" b="b"/>
            <a:pathLst>
              <a:path w="1511300" h="1295400">
                <a:moveTo>
                  <a:pt x="0" y="1295400"/>
                </a:moveTo>
                <a:lnTo>
                  <a:pt x="0" y="617135"/>
                </a:lnTo>
                <a:cubicBezTo>
                  <a:pt x="0" y="298568"/>
                  <a:pt x="258249" y="40319"/>
                  <a:pt x="576816" y="40319"/>
                </a:cubicBezTo>
                <a:lnTo>
                  <a:pt x="1354466" y="40319"/>
                </a:lnTo>
                <a:lnTo>
                  <a:pt x="1354466" y="0"/>
                </a:lnTo>
                <a:lnTo>
                  <a:pt x="1511300" y="94901"/>
                </a:lnTo>
                <a:lnTo>
                  <a:pt x="1354466" y="189802"/>
                </a:lnTo>
                <a:lnTo>
                  <a:pt x="1354466" y="149483"/>
                </a:lnTo>
                <a:lnTo>
                  <a:pt x="576816" y="149483"/>
                </a:lnTo>
                <a:cubicBezTo>
                  <a:pt x="318539" y="149483"/>
                  <a:pt x="109164" y="358858"/>
                  <a:pt x="109164" y="617135"/>
                </a:cubicBezTo>
                <a:cubicBezTo>
                  <a:pt x="109164" y="843223"/>
                  <a:pt x="109163" y="1069312"/>
                  <a:pt x="109163" y="1295400"/>
                </a:cubicBezTo>
                <a:lnTo>
                  <a:pt x="0" y="129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ight Arrow 181"/>
          <p:cNvSpPr/>
          <p:nvPr/>
        </p:nvSpPr>
        <p:spPr>
          <a:xfrm rot="10800000">
            <a:off x="1115640" y="285264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168"/>
          <p:cNvSpPr/>
          <p:nvPr/>
        </p:nvSpPr>
        <p:spPr>
          <a:xfrm>
            <a:off x="112680" y="371628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ILL 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ight Arrow 45"/>
          <p:cNvSpPr/>
          <p:nvPr/>
        </p:nvSpPr>
        <p:spPr>
          <a:xfrm rot="10800000">
            <a:off x="1096560" y="386388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ight Arrow 46"/>
          <p:cNvSpPr/>
          <p:nvPr/>
        </p:nvSpPr>
        <p:spPr>
          <a:xfrm rot="16200000">
            <a:off x="304920" y="3336840"/>
            <a:ext cx="574560" cy="18432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Failure….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928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3b5b"/>
                </a:solidFill>
                <a:latin typeface="Arial"/>
                <a:ea typeface="Arial"/>
              </a:rPr>
              <a:t>Don’t be scared to exit or recycle a project if it doesn’t make business sen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6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Dr. Spencer Silver, a 3M chemist was trying to develop a strong adhesive glue – this project failed resulting in a low-tack, reusable adhesiv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r five years, Dr. Silver promoted his invention within 3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7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A 3M colleague, Art Fry, came up with the idea of using the adhesive to anchor his bookmark into his hymnbook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y developed the idea within 3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7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The "Press 'n Peel” note was launched – but it’s sales were disappoint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Following market-research, the “Post-It Note” was launched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sales topped $100 million per ye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sales topped $1 billion per ye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yellow colour was chosen by accident; a lab next-door to the Post-It team had scrap yellow paper which the team initially used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Project Manage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 is the planning, organising and management of resources to achieve a specific go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are usually constrained by time, funding and resour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tage–Gate Model divides the project into a series of manageable act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ag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eparated by decis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a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not be scared to exit an idea/project or recycle it if the project no longer makes business sense – it may save your company in the long run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Financial Rewar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5192640" y="1979640"/>
            <a:ext cx="3457800" cy="3607560"/>
            <a:chOff x="5192640" y="1979640"/>
            <a:chExt cx="3457800" cy="3607560"/>
          </a:xfrm>
        </p:grpSpPr>
        <p:sp>
          <p:nvSpPr>
            <p:cNvPr id="219" name="Text Box 8"/>
            <p:cNvSpPr/>
            <p:nvPr/>
          </p:nvSpPr>
          <p:spPr>
            <a:xfrm>
              <a:off x="5246280" y="3066480"/>
              <a:ext cx="9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4"/>
            <p:cNvSpPr/>
            <p:nvPr/>
          </p:nvSpPr>
          <p:spPr>
            <a:xfrm>
              <a:off x="519264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7257240" y="3066480"/>
              <a:ext cx="134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6"/>
            <p:cNvSpPr/>
            <p:nvPr/>
          </p:nvSpPr>
          <p:spPr>
            <a:xfrm>
              <a:off x="670248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8"/>
            <p:cNvSpPr/>
            <p:nvPr/>
          </p:nvSpPr>
          <p:spPr>
            <a:xfrm>
              <a:off x="6312240" y="494460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18"/>
            <p:cNvSpPr/>
            <p:nvPr/>
          </p:nvSpPr>
          <p:spPr>
            <a:xfrm>
              <a:off x="5922720" y="36100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6735600" y="361944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Box 22"/>
            <p:cNvSpPr/>
            <p:nvPr/>
          </p:nvSpPr>
          <p:spPr>
            <a:xfrm>
              <a:off x="6345000" y="1979640"/>
              <a:ext cx="12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Down Arrow 21"/>
            <p:cNvSpPr/>
            <p:nvPr/>
          </p:nvSpPr>
          <p:spPr>
            <a:xfrm>
              <a:off x="6848640" y="232560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Rectangle 9"/>
          <p:cNvSpPr/>
          <p:nvPr/>
        </p:nvSpPr>
        <p:spPr>
          <a:xfrm>
            <a:off x="263520" y="1281240"/>
            <a:ext cx="55958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ng your financial rew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a balancing ac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     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Money ta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        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v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Outgoings o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ey taken = market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many could we expect to sel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would the customer p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utgoings = capability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much will it cost to develop, protect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e, promote, distribu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pital investment, operating and IP cos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long will you have a competitive ed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st, Price and Valu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052640"/>
            <a:ext cx="8567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it cos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duce/manufactur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re selling the product for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stom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prepared to pay for i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to each customer depends up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ir specific 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the seller”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ought 10,000 barrels of crude o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identified three potentia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buyers”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 the o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commodity tra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owner of an oil refine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Middle-Eastern Sheik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24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o will you sell your oil to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2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020000" y="3068640"/>
            <a:ext cx="1901880" cy="2846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The Selle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63160" y="1413000"/>
            <a:ext cx="86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seller”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ought 10,000 barrels of crude oil at a price of $9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What is 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crude oil to you?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9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would be an acceptable profit for the sale of 10,000 barrel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 50,000 (~ 5% profi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t wha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$ per barrel) should you aim to sell the crude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95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1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Commodity Trad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63520" y="1268280"/>
            <a:ext cx="877248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rader 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ts to make a quick profit – he see the oil as a tradable asset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 does have expertise in oil so knows that the curren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oil is $100 per barrel, but is constantly rising allowing him to make a profi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he offers $100 per barrel how much will this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him?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If the seller accepts $100 per barrel what would his profit be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0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trader says that he can’t get the money until tomorrow…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ake a deposi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egotiate a percentage of his profi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2</a:t>
            </a:r>
            <a:br>
              <a:rPr sz="24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Owner of an Oil Refine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000" y="1052280"/>
            <a:ext cx="85676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il refinery has the capability to refine the oil into more valuable products with a final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20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total marke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refined barrels of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 the refined products i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the refinery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0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the refining proc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5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marketing an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0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in sales ta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are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s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inc. taxes) payable by the refinery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oil was bought for $100 per barrel, how much profit will the refinery make from the 10,000 barrels of crude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7390440" y="33210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7390440" y="37353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7390440" y="40734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0800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94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Every Business Starts with a Plan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business plan gives credibility to your propos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tatement of business go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reasons these goals are attainab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lan for reaching those goals over the next 3 – 5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business plan typically contains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 information about the company &amp;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 information about the product/serv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alysis of the market and a marketing pla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siness strategy i.e. how you will implement the pla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forecast of the financial profit and cos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3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Sheik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000" y="1197000"/>
            <a:ext cx="856764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heikh owns one of the largest oil reserves in the world – 10,000 barrels is insignificant to hi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him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5 per barrel to lift his oil from the grou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5 per barrel to drill for new oil suppl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10 per barrel in tax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10 per barrel in marketing, distribution and other cos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Sheikh’s breakeven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per barrel of crude oil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3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ill he buy your crude oil at a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which is acceptable to you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63160" y="-36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Who would you sell to at this point…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63160" y="1413000"/>
            <a:ext cx="86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most likely that you would sell to the oil refinery at this poi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ives you a profit of $100,000 which is greater than your target of $50,0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room for further negotiation to enhance this (i.e. cut into their profit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y have the money to give you unlike the commodity tra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fore buying the oil, the owner of the oil refine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sists upon testing the crude oil for quality…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tests showed that what you thought was crud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il was in fact refined aviation fu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1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164360" y="3429000"/>
            <a:ext cx="1643040" cy="2457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68000" y="1268280"/>
            <a:ext cx="856764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il refinery sells refined aviation fuel at a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4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will still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20 per barrel for them to sell the fuel (marketing and tax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total marke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refined barrels of fue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are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s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inc. taxes) payable by the refinery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fuel was bought for $100 per barrel, how much profit will the refinery make from the 10,000 barrels of aviation fue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 + 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i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2</a:t>
            </a:r>
            <a:br>
              <a:rPr sz="24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Owner of an Oil Refin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63520" y="1197000"/>
            <a:ext cx="87724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rader does not have expertise in aviation fuel so he does not know the curren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is product. He will not pay more than $10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he now has the money availab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trader offers $100 per barrel how much will this cost him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you, the 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“seller”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ccept $100 per barrel what would your profit b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aviation fuel is in fact $140 per barrel – what would the traders profit be if he sold at this price? 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4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1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Commodity Tr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68000" y="1143000"/>
            <a:ext cx="856764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ile the Sheikh had no interest in your crude oil, he does however own his own private jet. He buys aviation fuel at a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40 per barre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him 10,000 barrels has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Sheikh would happily pay $130 per barrel. What is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o him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3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How much money will this save the Sheikh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would your profit as the 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“seller”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be on this sal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4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would sell to the Sheik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3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Sheik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Summary – Cost, Price and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000" y="141300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Many factors affect the cost, price and value of an ite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Customers are buying the (perceived) benefits of the produc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t the products themsel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nsider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y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derstanding of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yer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er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&amp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 is key to securing the best deal and maximising your financial return – this may require considerable researc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4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093080" y="2852640"/>
            <a:ext cx="1401480" cy="2097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anaging Risk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47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innovation is about managing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isk is made up of commercial and technical unknow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mmercial Unknown (Market Need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well do we understand our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echnical Unknown (Your Capabil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we sure we can develop, manufacture and distribute the produc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strong is the threat that our competitors will get there firs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well does it fit with our existing business activitie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additional resources will we need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need to balance the risk against the potential reward and your commitment (time and £) – this involves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Risk, Reward &amp; Investment…An Examp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1197000"/>
            <a:ext cx="8353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n this building was built, a metal box containing cash was buried under the grass outside….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   Would you go and find the box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. There is high risk that you may not find the box and the rewar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is unknow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f I told you the box contained £500,000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Yes you would look, but still there is a high risk that you may no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find the box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f I gave you £200, how could you improve this situatio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Invest the £200 in a metal detector and a spade – this decrease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risk giving you a better chance of finding the £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Risk and Invest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result of good risk management is that as we increase investment, the risk decreases rapidl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stment comes in many forms e.g. capital (£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ime and resour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74" name="Group 5"/>
          <p:cNvGrpSpPr/>
          <p:nvPr/>
        </p:nvGrpSpPr>
        <p:grpSpPr>
          <a:xfrm>
            <a:off x="1502280" y="2421000"/>
            <a:ext cx="5925240" cy="2928240"/>
            <a:chOff x="1502280" y="2421000"/>
            <a:chExt cx="5925240" cy="2928240"/>
          </a:xfrm>
        </p:grpSpPr>
        <p:sp>
          <p:nvSpPr>
            <p:cNvPr id="275" name="Line 3"/>
            <p:cNvSpPr/>
            <p:nvPr/>
          </p:nvSpPr>
          <p:spPr>
            <a:xfrm>
              <a:off x="2294280" y="2421000"/>
              <a:ext cx="0" cy="28288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4"/>
            <p:cNvSpPr/>
            <p:nvPr/>
          </p:nvSpPr>
          <p:spPr>
            <a:xfrm>
              <a:off x="1833840" y="4919760"/>
              <a:ext cx="5589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5"/>
            <p:cNvSpPr/>
            <p:nvPr/>
          </p:nvSpPr>
          <p:spPr>
            <a:xfrm>
              <a:off x="1502280" y="355536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s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v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8"/>
            <p:cNvSpPr/>
            <p:nvPr/>
          </p:nvSpPr>
          <p:spPr>
            <a:xfrm>
              <a:off x="4021560" y="498096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2294280" y="2656440"/>
              <a:ext cx="4274280" cy="1980360"/>
            </a:xfrm>
            <a:custGeom>
              <a:avLst/>
              <a:gdLst>
                <a:gd name="textAreaLeft" fmla="*/ 0 w 4274280"/>
                <a:gd name="textAreaRight" fmla="*/ 4274640 w 4274280"/>
                <a:gd name="textAreaTop" fmla="*/ 0 h 1980360"/>
                <a:gd name="textAreaBottom" fmla="*/ 1980720 h 1980360"/>
              </a:gdLst>
              <a:ahLst/>
              <a:rect l="textAreaLeft" t="textAreaTop" r="textAreaRight" b="textAreaBottom"/>
              <a:pathLst>
                <a:path w="3120" h="2016">
                  <a:moveTo>
                    <a:pt x="0" y="0"/>
                  </a:moveTo>
                  <a:cubicBezTo>
                    <a:pt x="172" y="528"/>
                    <a:pt x="344" y="1056"/>
                    <a:pt x="864" y="1392"/>
                  </a:cubicBezTo>
                  <a:cubicBezTo>
                    <a:pt x="1384" y="1728"/>
                    <a:pt x="2252" y="1872"/>
                    <a:pt x="3120" y="2016"/>
                  </a:cubicBezTo>
                </a:path>
              </a:pathLst>
            </a:custGeom>
            <a:noFill/>
            <a:ln cap="sq" w="255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12"/>
            <p:cNvSpPr/>
            <p:nvPr/>
          </p:nvSpPr>
          <p:spPr>
            <a:xfrm>
              <a:off x="6623640" y="44809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b050"/>
                  </a:solidFill>
                  <a:latin typeface="Arial"/>
                  <a:ea typeface="Arial"/>
                </a:rPr>
                <a:t>Goo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3"/>
            <p:cNvSpPr/>
            <p:nvPr/>
          </p:nvSpPr>
          <p:spPr>
            <a:xfrm>
              <a:off x="2294280" y="2656440"/>
              <a:ext cx="4274280" cy="61272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6662880" y="317520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B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How to Gain Invest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Who are typical investor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unders of the compan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amily memb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mploy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nk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Angels &amp; Venture Capitalis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What do investors typically look fo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rong management tea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al with sustainable competitive advantag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rights, patents and freedom-to-operat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rowth marke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 exit strate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is will all have to be demonstrated in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Basic Business Plan 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itle, legal notices, company detail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ecutive Summa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Proposition – description of the product/service/technolo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Research – size, structure, drivers and competi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Validation – proof the customer will buy your product at your pri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ing Plan – how you will get your product to the custom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dvertising, PR, promotion, sales, sales foreca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eating the competition, IP protection, patent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al Plan – the nuts and bolts of your busine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, distribution, premises, personnel, management team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it Strategy – timescale, forecast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nancial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cash flow, P&amp;L, balance sheet, investment needed and whe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endices – full CVs of management team, external report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e hand out for an examp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Every Investor Has Different Nee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160" y="1413000"/>
            <a:ext cx="86295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Bank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ular interest repayments, trading business, personal guarante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Venture Capitalists (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eholder, board position or appoint a Director, will take a business from A to B and want a exit strategy agreed at the start of the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It is important to understand your invest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VC is looking to make a 10x return on their investment in 5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 exit strategy is very important as this is how they get their money bac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ailor your proposal to the investor you are targe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Key Financial Repor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160" y="1197000"/>
            <a:ext cx="8629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 (shows past performance) – like a bank stat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the performance of the business over a given tim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Profit/Loss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Balance Sheet (shows present 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 balance sheet is a summary of the financial balances of a business on a specific date, such as the end of the financial year. It typically includes a list of the business assets, liabilities and ownership equ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(shows future liquid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 to ensure the future availability of a suitable quantity of liquid cas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Why are these Important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7640" y="1413000"/>
            <a:ext cx="8947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stors will look at each of these financial reports to assess if a business is a viable and ‘safe’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These repots show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ast performance of the business (Profit/Loss Statemen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urrent financial position of the business (Balance Shee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ability of the business to stay afloat (Cash Flow Forecas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Many businesses make a profi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fail because they run out of CASH to pay running expenses (e.g. invoices, salaries and make purchas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Arial"/>
              </a:rPr>
              <a:t>CASH IS KING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thout cash your business can’t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Finance &amp; Rewar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9036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ward = Money taken vs Outgoings over 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it worth it?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naging risk is critical to the success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isk can be reduced to an acceptable level through invest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vestors are different, but they look for similar things 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curate financial information is one of the keys to gaining invest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ethods of Commercialisa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In-House Commercialis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Owning a house and living in i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and sell a product through the inventors existing compan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must have access to the required capability and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tain full control and maximises the inventors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tential for Rapid develop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ar all risk, costs &amp;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t the cor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1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6084720" y="4302000"/>
            <a:ext cx="2671920" cy="1791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Joint Venture – i.e. Find a Partn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Shar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some capability and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rtners have the missing el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e of risk, costs &amp;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find appropriate partn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loss of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ing of the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4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Licensing Your Product / IP to a 3</a:t>
            </a:r>
            <a:r>
              <a:rPr b="1" lang="en-GB" sz="2800" spc="-1" strike="noStrike" baseline="30000">
                <a:solidFill>
                  <a:srgbClr val="003a74"/>
                </a:solidFill>
                <a:latin typeface="Arial"/>
                <a:ea typeface="Arial"/>
              </a:rPr>
              <a:t>rd</a:t>
            </a: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 Par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Rent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little capability or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 the intellectual property to another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e bears all the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nimal input from the inven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sh immediately &amp; on-going royalt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find appropriate partn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ss of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wer share of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7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ssignment of your 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Sell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no capability or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 the intellectual property to another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sh immediatel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ss of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 further share of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0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Form Your Own Compan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Building your own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assembles capability (acquisition or investmen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credibility, drive and commitment to succe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ward must be high enough to warrant the effort, investment &amp;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 reward for the invento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tain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uge investment of time and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- Commercialisa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several methods of commercialising an idea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-house develop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oint ven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 your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ign your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m your own compan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key that you choose the method which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  <a:ea typeface="Arial"/>
              </a:rPr>
              <a:t>MAKES YOU THE MOST MONEY!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4537080" y="2276640"/>
            <a:ext cx="2987640" cy="20016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mmunicating Your Pla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many methods of communicating your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‘Elevator Pitch’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itching to investors (e.g. the ‘Dragons’ Den’ pitch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ritten report (typically 20 – 40 pag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very business plan is different and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e tailored to it’s audience. Typical audiences includ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stors (e.g. banks, venture capitalists etc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ustom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ternal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Now Back To </a:t>
            </a:r>
            <a:r>
              <a:rPr b="0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Your </a:t>
            </a: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Business Plan…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03280" y="1323720"/>
            <a:ext cx="77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itle, legal notices, company detail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ecutive Summa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The Proposi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description of the product/service/technolo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Market Research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size, structure, drivers and competi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Market Valid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proof the customer will buy and at your pri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Marketing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how you will get your product to the custom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dvertising, PR, promotion, sales, sales foreca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eating the competition, IP protection, patent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perational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the nuts and bolts of your busine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, distribution, premises, personnel, management team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Exit Strateg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timescale, forecast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Financial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cash flow, P&amp;L, balance sheet, investment needed and whe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endices – full CVs of management team, external report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200160" y="2181240"/>
            <a:ext cx="122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</a:rPr>
              <a:t>NE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30240" y="386064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P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174600" y="5072040"/>
            <a:ext cx="125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</a:rPr>
              <a:t>REW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Straight Connector 24"/>
          <p:cNvSpPr/>
          <p:nvPr/>
        </p:nvSpPr>
        <p:spPr>
          <a:xfrm>
            <a:off x="1428840" y="2071800"/>
            <a:ext cx="0" cy="86508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traight Connector 31"/>
          <p:cNvSpPr/>
          <p:nvPr/>
        </p:nvSpPr>
        <p:spPr>
          <a:xfrm>
            <a:off x="1428840" y="3009960"/>
            <a:ext cx="0" cy="1738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Straight Connector 33"/>
          <p:cNvSpPr/>
          <p:nvPr/>
        </p:nvSpPr>
        <p:spPr>
          <a:xfrm>
            <a:off x="1428840" y="4870440"/>
            <a:ext cx="0" cy="743040"/>
          </a:xfrm>
          <a:prstGeom prst="line">
            <a:avLst/>
          </a:prstGeom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331" name="TextBox 7"/>
          <p:cNvSpPr/>
          <p:nvPr/>
        </p:nvSpPr>
        <p:spPr>
          <a:xfrm>
            <a:off x="250920" y="333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228600" y="167652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90920" y="3157560"/>
            <a:ext cx="4032000" cy="1795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3"/>
          <a:stretch/>
        </p:blipFill>
        <p:spPr>
          <a:xfrm>
            <a:off x="2050920" y="609444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640" y="981000"/>
            <a:ext cx="8947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ims to introduce some of the basic skills, concepts and understand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ed to develop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ny of these skills will form the basis of your group’s ‘Dragons’ Den’ Pitch at the end of this cour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se skills include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awareness (i.e.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ne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strategy – understanding you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pabil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wa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d risk manage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ations for gaining invest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of commercialising your ide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e all have ideas, but how do w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ick winner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ximise progress and financial retur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nimise the risk of failur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4451400" y="2851200"/>
            <a:ext cx="3457440" cy="3607560"/>
            <a:chOff x="4451400" y="2851200"/>
            <a:chExt cx="3457440" cy="3607560"/>
          </a:xfrm>
        </p:grpSpPr>
        <p:sp>
          <p:nvSpPr>
            <p:cNvPr id="81" name="Text Box 8"/>
            <p:cNvSpPr/>
            <p:nvPr/>
          </p:nvSpPr>
          <p:spPr>
            <a:xfrm>
              <a:off x="4506120" y="3938040"/>
              <a:ext cx="97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7"/>
            <p:cNvSpPr/>
            <p:nvPr/>
          </p:nvSpPr>
          <p:spPr>
            <a:xfrm>
              <a:off x="4451400" y="32954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8"/>
            <p:cNvSpPr/>
            <p:nvPr/>
          </p:nvSpPr>
          <p:spPr>
            <a:xfrm>
              <a:off x="6642360" y="393804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9"/>
            <p:cNvSpPr/>
            <p:nvPr/>
          </p:nvSpPr>
          <p:spPr>
            <a:xfrm>
              <a:off x="5960880" y="32954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8"/>
            <p:cNvSpPr/>
            <p:nvPr/>
          </p:nvSpPr>
          <p:spPr>
            <a:xfrm>
              <a:off x="5571000" y="581616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1"/>
            <p:cNvSpPr/>
            <p:nvPr/>
          </p:nvSpPr>
          <p:spPr>
            <a:xfrm>
              <a:off x="5181480" y="44816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2"/>
            <p:cNvSpPr/>
            <p:nvPr/>
          </p:nvSpPr>
          <p:spPr>
            <a:xfrm>
              <a:off x="5994360" y="449100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22"/>
            <p:cNvSpPr/>
            <p:nvPr/>
          </p:nvSpPr>
          <p:spPr>
            <a:xfrm>
              <a:off x="5603760" y="2851200"/>
              <a:ext cx="12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Down Arrow 14"/>
            <p:cNvSpPr/>
            <p:nvPr/>
          </p:nvSpPr>
          <p:spPr>
            <a:xfrm>
              <a:off x="6107040" y="319716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Rectangle 9"/>
          <p:cNvSpPr/>
          <p:nvPr/>
        </p:nvSpPr>
        <p:spPr>
          <a:xfrm>
            <a:off x="479520" y="369576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Success starts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understanding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needs of your mark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Megatrends in society drive market ne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owing &amp; Aging Popul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ergy Demand &amp; Climate Protec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ease and Urbanis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obility and Transp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echnology Changes….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You can only sell things if people want to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eople (largely) don’t want things, they want what those things do for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Understanding Your Marke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need to understand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the problem that you are addressing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your solutio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o is your market (i.e. who benefits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re is your market, what is it’s size and can you access i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your market growing or declining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long can you stay in this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o are your competitors in this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there significant regulatory costs &amp; requirement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money can you expect to mak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It takes much research to get a good picture of your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cp:lastPrinted>2012-02-15T15:04:15Z</cp:lastPrinted>
  <dcterms:modified xsi:type="dcterms:W3CDTF">2020-12-15T09:02:00Z</dcterms:modified>
  <cp:revision>214</cp:revision>
  <dc:subject/>
  <dc:title>Basic rules of business presentation</dc:title>
</cp:coreProperties>
</file>