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8.gif" ContentType="image/gif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19A3-E2C4-4993-B13A-C75F1351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2E1F-D783-4C35-B408-E6CB030A4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F11-228A-4862-BFD1-73D9BF32C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states: https://commons.wikimedia.org/wiki/File%3ATransition_metal_oxidation_states_2.png By No machine-readable author provided. Felix Wan assumed (based on copyright claims). [GFDL (http://www.gnu.org/copyleft/fdl.html), CC-BY-SA-3.0 (http://creativecommons.org/licenses/by-sa/3.0/) or 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FB8-3CF3-4A42-99DA-4C3D64468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youtu.be/CQ4145kog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94A-8A2F-4C5D-B493-6BD66118F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ED19-9918-45EB-90DB-B414A0E30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scan: User-fastfission-brain.gif CC BY SA 3.0 https://commons.wikimedia.org/wiki/File:User-FastFission-brain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I machine: https://commons.wikimedia.org/wiki/File%3AMRI-Philips.JPG By Jan Ainali (Own work) [CC BY 3.0 (http://creativecommons.org/licenses/by/3.0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A06-0FED-49C1-9AF1-D52B8C70F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: https://youtu.be/VDMgrgSVjd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CC27-BBC6-4C27-8905-353A0FE33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378-4B60-4E56-AD34-C099D12AD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gnetic properties: https://youtu.be/Hh2vA0vVijQ?t=7m29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lex ion formation: http://bit.ly/2anb2J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oured compounds: http://bit.ly/2ajFe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ariable oxidation states (top): http://bit.ly/2awlyA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ariable oxidation states (bottom): http://bit.ly/2aiM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talytic activity (top): http://bit.ly/2aAcL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talytic activity (bottom): http://bit.ly/2a9Or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3661-6882-4024-8D8C-7B3285EDD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rdRage: https://www.youtube.com/channel/UCIgKGGJkt1MrNmhq3vRib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69B-83AD-4D16-B1D4-95E3C8C11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l demonstration: http://bit.ly/2ajH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9A0F-4B5A-413D-AC39-A1AC11BCE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246D-E928-4F52-B522-B2DBD6871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Jynto [CC0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670-DB54-4392-BD72-43A2713DE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0FB-8079-4053-987B-D53F1778F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A21D-4540-4C59-A866-9CFD9489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C4E-61E4-4DC1-A6B1-E335EE49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1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53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4.png"/><Relationship Id="rId19" Type="http://schemas.openxmlformats.org/officeDocument/2006/relationships/slideLayout" Target="../slideLayouts/slideLayout49.xml"/><Relationship Id="rId2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gif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920"/>
            <a:ext cx="691164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ighting up copper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demonstration of the properties of transition metals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t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sc.li/EiC5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3"/>
          <p:cNvGrpSpPr/>
          <p:nvPr/>
        </p:nvGrpSpPr>
        <p:grpSpPr>
          <a:xfrm>
            <a:off x="152640" y="664560"/>
            <a:ext cx="5410080" cy="2262240"/>
            <a:chOff x="152640" y="664560"/>
            <a:chExt cx="5410080" cy="2262240"/>
          </a:xfrm>
        </p:grpSpPr>
        <p:sp>
          <p:nvSpPr>
            <p:cNvPr id="403" name="Rounded Rectangle 4"/>
            <p:cNvSpPr/>
            <p:nvPr/>
          </p:nvSpPr>
          <p:spPr>
            <a:xfrm>
              <a:off x="1392840" y="1342440"/>
              <a:ext cx="4169880" cy="10317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[Cu(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O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6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]</a:t>
              </a:r>
              <a:r>
                <a:rPr b="0" i="1" lang="en-US" sz="2800" spc="-1" strike="noStrike" baseline="30000">
                  <a:solidFill>
                    <a:srgbClr val="ff0000"/>
                  </a:solidFill>
                  <a:latin typeface="Museo Sans 500"/>
                  <a:ea typeface="Museo Sans 500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4" name="Picture 5" descr=""/>
            <p:cNvPicPr/>
            <p:nvPr/>
          </p:nvPicPr>
          <p:blipFill>
            <a:blip r:embed="rId1"/>
            <a:stretch/>
          </p:blipFill>
          <p:spPr>
            <a:xfrm rot="20958600">
              <a:off x="320400" y="808200"/>
              <a:ext cx="1735560" cy="197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13"/>
          <p:cNvGrpSpPr/>
          <p:nvPr/>
        </p:nvGrpSpPr>
        <p:grpSpPr>
          <a:xfrm>
            <a:off x="1652760" y="2946240"/>
            <a:ext cx="5732280" cy="1727280"/>
            <a:chOff x="1652760" y="2946240"/>
            <a:chExt cx="5732280" cy="1727280"/>
          </a:xfrm>
        </p:grpSpPr>
        <p:pic>
          <p:nvPicPr>
            <p:cNvPr id="406" name="Picture 12" descr=""/>
            <p:cNvPicPr/>
            <p:nvPr/>
          </p:nvPicPr>
          <p:blipFill>
            <a:blip r:embed="rId2"/>
            <a:stretch/>
          </p:blipFill>
          <p:spPr>
            <a:xfrm>
              <a:off x="1652760" y="2946240"/>
              <a:ext cx="26157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Rounded Rectangle 7"/>
            <p:cNvSpPr/>
            <p:nvPr/>
          </p:nvSpPr>
          <p:spPr>
            <a:xfrm>
              <a:off x="3214800" y="3642120"/>
              <a:ext cx="4170240" cy="103140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[Cu(N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3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4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(H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O)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Museo Sans 500"/>
                  <a:ea typeface="Museo Sans 500"/>
                </a:rPr>
                <a:t>2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]</a:t>
              </a:r>
              <a:r>
                <a:rPr b="0" i="1" lang="en-US" sz="2800" spc="-1" strike="noStrike" baseline="30000">
                  <a:solidFill>
                    <a:srgbClr val="ff0000"/>
                  </a:solidFill>
                  <a:latin typeface="Museo Sans 500"/>
                  <a:ea typeface="Museo Sans 500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8" name="Picture 14" descr=""/>
          <p:cNvPicPr/>
          <p:nvPr/>
        </p:nvPicPr>
        <p:blipFill>
          <a:blip r:embed="rId3"/>
          <a:stretch/>
        </p:blipFill>
        <p:spPr>
          <a:xfrm rot="3359400">
            <a:off x="7740720" y="1037880"/>
            <a:ext cx="900000" cy="649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"/>
          <p:cNvPicPr/>
          <p:nvPr/>
        </p:nvPicPr>
        <p:blipFill>
          <a:blip r:embed="rId4"/>
          <a:stretch/>
        </p:blipFill>
        <p:spPr>
          <a:xfrm>
            <a:off x="6424560" y="152280"/>
            <a:ext cx="1203480" cy="8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6" descr=""/>
          <p:cNvPicPr/>
          <p:nvPr/>
        </p:nvPicPr>
        <p:blipFill>
          <a:blip r:embed="rId5"/>
          <a:stretch/>
        </p:blipFill>
        <p:spPr>
          <a:xfrm>
            <a:off x="6388200" y="3038400"/>
            <a:ext cx="1204920" cy="866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7" descr=""/>
          <p:cNvPicPr/>
          <p:nvPr/>
        </p:nvPicPr>
        <p:blipFill>
          <a:blip r:embed="rId6"/>
          <a:stretch/>
        </p:blipFill>
        <p:spPr>
          <a:xfrm rot="18680400">
            <a:off x="5433120" y="1078920"/>
            <a:ext cx="900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12" name="Oval 18"/>
          <p:cNvGrpSpPr/>
          <p:nvPr/>
        </p:nvGrpSpPr>
        <p:grpSpPr>
          <a:xfrm>
            <a:off x="6407280" y="1481040"/>
            <a:ext cx="1170000" cy="1146240"/>
            <a:chOff x="6407280" y="1481040"/>
            <a:chExt cx="1170000" cy="1146240"/>
          </a:xfrm>
        </p:grpSpPr>
        <p:pic>
          <p:nvPicPr>
            <p:cNvPr id="413" name="Oval 18" descr=""/>
            <p:cNvPicPr/>
            <p:nvPr/>
          </p:nvPicPr>
          <p:blipFill>
            <a:blip r:embed="rId7"/>
            <a:stretch/>
          </p:blipFill>
          <p:spPr>
            <a:xfrm>
              <a:off x="6407280" y="1481040"/>
              <a:ext cx="1170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620040" y="1665360"/>
              <a:ext cx="7412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Museo Sans 500"/>
                  <a:ea typeface="Museo Sans 500"/>
                </a:rPr>
                <a:t>Cu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Museo Sans 500"/>
                  <a:ea typeface="Museo Sans 500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5" name="Picture 19" descr=""/>
          <p:cNvPicPr/>
          <p:nvPr/>
        </p:nvPicPr>
        <p:blipFill>
          <a:blip r:embed="rId8"/>
          <a:stretch/>
        </p:blipFill>
        <p:spPr>
          <a:xfrm rot="7537200">
            <a:off x="7411680" y="2066760"/>
            <a:ext cx="1598400" cy="1150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0" descr=""/>
          <p:cNvPicPr/>
          <p:nvPr/>
        </p:nvPicPr>
        <p:blipFill>
          <a:blip r:embed="rId9"/>
          <a:stretch/>
        </p:blipFill>
        <p:spPr>
          <a:xfrm rot="13807200">
            <a:off x="5014440" y="2148840"/>
            <a:ext cx="15987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1111E-006 L -0.00069 0.07315 E">
                                      <p:cBhvr>
                                        <p:cTn id="326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045E-016 L 2.77778E-007 -0.07531 E">
                                      <p:cBhvr>
                                        <p:cTn id="328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-4.81481E-006 L -0.04497 0.05217 E">
                                      <p:cBhvr>
                                        <p:cTn id="330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062 L -0.04427 -0.04105 E">
                                      <p:cBhvr>
                                        <p:cTn id="334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8.64198E-007 L 0.0415 0.04938 E">
                                      <p:cBhvr>
                                        <p:cTn id="33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062 L 0.0408 -0.03982 E">
                                      <p:cBhvr>
                                        <p:cTn id="342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41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Chart 6" descr=""/>
          <p:cNvPicPr/>
          <p:nvPr/>
        </p:nvPicPr>
        <p:blipFill>
          <a:blip r:embed="rId1"/>
          <a:stretch/>
        </p:blipFill>
        <p:spPr>
          <a:xfrm>
            <a:off x="171360" y="1189080"/>
            <a:ext cx="6620040" cy="3840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2"/>
          <a:stretch/>
        </p:blipFill>
        <p:spPr>
          <a:xfrm>
            <a:off x="6640560" y="2270160"/>
            <a:ext cx="2355840" cy="21067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1467000" y="139680"/>
            <a:ext cx="3414600" cy="2783160"/>
            <a:chOff x="1467000" y="139680"/>
            <a:chExt cx="3414600" cy="2783160"/>
          </a:xfrm>
        </p:grpSpPr>
        <p:sp>
          <p:nvSpPr>
            <p:cNvPr id="420" name="Rounded Rectangle 9"/>
            <p:cNvSpPr/>
            <p:nvPr/>
          </p:nvSpPr>
          <p:spPr>
            <a:xfrm>
              <a:off x="1467000" y="139680"/>
              <a:ext cx="3414600" cy="103104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big jump after 1</a:t>
              </a:r>
              <a:r>
                <a:rPr b="0" lang="en-US" sz="2400" spc="-1" strike="noStrike" baseline="30000">
                  <a:solidFill>
                    <a:srgbClr val="f79646"/>
                  </a:solidFill>
                  <a:latin typeface="Museo Slab 700"/>
                  <a:ea typeface="Museo Slab 700"/>
                </a:rPr>
                <a:t>st</a:t>
              </a:r>
              <a:r>
                <a:rPr b="0" lang="en-US" sz="24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 I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only +1 oxidation st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21" name="Straight Arrow Connector 12"/>
            <p:cNvCxnSpPr/>
            <p:nvPr/>
          </p:nvCxnSpPr>
          <p:spPr>
            <a:xfrm flipH="1">
              <a:off x="1909800" y="1191600"/>
              <a:ext cx="980280" cy="1731600"/>
            </a:xfrm>
            <a:prstGeom prst="straightConnector1">
              <a:avLst/>
            </a:prstGeom>
            <a:ln w="76320">
              <a:solidFill>
                <a:srgbClr val="f79646"/>
              </a:solidFill>
              <a:miter/>
              <a:tailEnd len="med" type="triangle" w="med"/>
            </a:ln>
          </p:spPr>
        </p:cxnSp>
      </p:grpSp>
      <p:pic>
        <p:nvPicPr>
          <p:cNvPr id="422" name="Group 14" descr=""/>
          <p:cNvPicPr/>
          <p:nvPr/>
        </p:nvPicPr>
        <p:blipFill>
          <a:blip r:embed="rId3"/>
          <a:stretch/>
        </p:blipFill>
        <p:spPr>
          <a:xfrm>
            <a:off x="5145120" y="109440"/>
            <a:ext cx="3541680" cy="2249640"/>
          </a:xfrm>
          <a:prstGeom prst="rect">
            <a:avLst/>
          </a:prstGeom>
          <a:ln w="0">
            <a:noFill/>
          </a:ln>
        </p:spPr>
      </p:pic>
      <p:sp>
        <p:nvSpPr>
          <p:cNvPr id="423" name="Rounded Rectangle 19"/>
          <p:cNvSpPr/>
          <p:nvPr/>
        </p:nvSpPr>
        <p:spPr>
          <a:xfrm>
            <a:off x="7702560" y="2720880"/>
            <a:ext cx="316080" cy="136548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1365480"/>
              <a:gd name="textAreaBottom" fmla="*/ 1350360 h 1365480"/>
            </a:gdLst>
            <a:ahLst/>
            <a:rect l="textAreaLeft" t="textAreaTop" r="textAreaRight" b="textAreaBottom"/>
            <a:pathLst>
              <a:path w="21600" h="93231">
                <a:moveTo>
                  <a:pt x="3600" y="0"/>
                </a:moveTo>
                <a:arcTo wR="3600" hR="3600" stAng="16200000" swAng="-5400000"/>
                <a:lnTo>
                  <a:pt x="0" y="89631"/>
                </a:lnTo>
                <a:arcTo wR="3600" hR="3600" stAng="10800000" swAng="-5400000"/>
                <a:lnTo>
                  <a:pt x="18000" y="9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3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1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7"/>
          <p:cNvGrpSpPr/>
          <p:nvPr/>
        </p:nvGrpSpPr>
        <p:grpSpPr>
          <a:xfrm>
            <a:off x="7501320" y="975240"/>
            <a:ext cx="550080" cy="786240"/>
            <a:chOff x="7501320" y="975240"/>
            <a:chExt cx="550080" cy="786240"/>
          </a:xfrm>
        </p:grpSpPr>
        <p:pic>
          <p:nvPicPr>
            <p:cNvPr id="425" name="Picture 28" descr=""/>
            <p:cNvPicPr/>
            <p:nvPr/>
          </p:nvPicPr>
          <p:blipFill>
            <a:blip r:embed="rId1"/>
            <a:stretch/>
          </p:blipFill>
          <p:spPr>
            <a:xfrm rot="483600">
              <a:off x="7549920" y="1003320"/>
              <a:ext cx="4521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9" descr=""/>
            <p:cNvPicPr/>
            <p:nvPr/>
          </p:nvPicPr>
          <p:blipFill>
            <a:blip r:embed="rId2"/>
            <a:stretch/>
          </p:blipFill>
          <p:spPr>
            <a:xfrm>
              <a:off x="7593840" y="1087920"/>
              <a:ext cx="408600" cy="24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18"/>
          <p:cNvGrpSpPr/>
          <p:nvPr/>
        </p:nvGrpSpPr>
        <p:grpSpPr>
          <a:xfrm>
            <a:off x="6471000" y="721080"/>
            <a:ext cx="550440" cy="786600"/>
            <a:chOff x="6471000" y="721080"/>
            <a:chExt cx="550440" cy="786600"/>
          </a:xfrm>
        </p:grpSpPr>
        <p:pic>
          <p:nvPicPr>
            <p:cNvPr id="428" name="Picture 19" descr=""/>
            <p:cNvPicPr/>
            <p:nvPr/>
          </p:nvPicPr>
          <p:blipFill>
            <a:blip r:embed="rId3"/>
            <a:stretch/>
          </p:blipFill>
          <p:spPr>
            <a:xfrm rot="483600">
              <a:off x="6519600" y="74916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0" descr=""/>
            <p:cNvPicPr/>
            <p:nvPr/>
          </p:nvPicPr>
          <p:blipFill>
            <a:blip r:embed="rId4"/>
            <a:stretch/>
          </p:blipFill>
          <p:spPr>
            <a:xfrm>
              <a:off x="6563520" y="83376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21"/>
          <p:cNvGrpSpPr/>
          <p:nvPr/>
        </p:nvGrpSpPr>
        <p:grpSpPr>
          <a:xfrm>
            <a:off x="6809040" y="910080"/>
            <a:ext cx="550440" cy="786600"/>
            <a:chOff x="6809040" y="910080"/>
            <a:chExt cx="550440" cy="786600"/>
          </a:xfrm>
        </p:grpSpPr>
        <p:pic>
          <p:nvPicPr>
            <p:cNvPr id="431" name="Picture 22" descr=""/>
            <p:cNvPicPr/>
            <p:nvPr/>
          </p:nvPicPr>
          <p:blipFill>
            <a:blip r:embed="rId5"/>
            <a:stretch/>
          </p:blipFill>
          <p:spPr>
            <a:xfrm rot="483600">
              <a:off x="6857640" y="93816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3" descr=""/>
            <p:cNvPicPr/>
            <p:nvPr/>
          </p:nvPicPr>
          <p:blipFill>
            <a:blip r:embed="rId6"/>
            <a:stretch/>
          </p:blipFill>
          <p:spPr>
            <a:xfrm>
              <a:off x="6901560" y="102276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24"/>
          <p:cNvGrpSpPr/>
          <p:nvPr/>
        </p:nvGrpSpPr>
        <p:grpSpPr>
          <a:xfrm>
            <a:off x="7193160" y="817920"/>
            <a:ext cx="550440" cy="786600"/>
            <a:chOff x="7193160" y="817920"/>
            <a:chExt cx="550440" cy="786600"/>
          </a:xfrm>
        </p:grpSpPr>
        <p:pic>
          <p:nvPicPr>
            <p:cNvPr id="434" name="Picture 25" descr=""/>
            <p:cNvPicPr/>
            <p:nvPr/>
          </p:nvPicPr>
          <p:blipFill>
            <a:blip r:embed="rId7"/>
            <a:stretch/>
          </p:blipFill>
          <p:spPr>
            <a:xfrm rot="483600">
              <a:off x="7241760" y="846000"/>
              <a:ext cx="4525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6" descr=""/>
            <p:cNvPicPr/>
            <p:nvPr/>
          </p:nvPicPr>
          <p:blipFill>
            <a:blip r:embed="rId8"/>
            <a:stretch/>
          </p:blipFill>
          <p:spPr>
            <a:xfrm>
              <a:off x="7285680" y="930600"/>
              <a:ext cx="40896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Group 30"/>
          <p:cNvGrpSpPr/>
          <p:nvPr/>
        </p:nvGrpSpPr>
        <p:grpSpPr>
          <a:xfrm>
            <a:off x="7809120" y="729000"/>
            <a:ext cx="548640" cy="786600"/>
            <a:chOff x="7809120" y="729000"/>
            <a:chExt cx="548640" cy="786600"/>
          </a:xfrm>
        </p:grpSpPr>
        <p:pic>
          <p:nvPicPr>
            <p:cNvPr id="437" name="Picture 31" descr=""/>
            <p:cNvPicPr/>
            <p:nvPr/>
          </p:nvPicPr>
          <p:blipFill>
            <a:blip r:embed="rId9"/>
            <a:stretch/>
          </p:blipFill>
          <p:spPr>
            <a:xfrm rot="483600">
              <a:off x="7857720" y="756720"/>
              <a:ext cx="45072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32" descr=""/>
            <p:cNvPicPr/>
            <p:nvPr/>
          </p:nvPicPr>
          <p:blipFill>
            <a:blip r:embed="rId10"/>
            <a:stretch/>
          </p:blipFill>
          <p:spPr>
            <a:xfrm>
              <a:off x="7901280" y="841680"/>
              <a:ext cx="407520" cy="24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ounded Rectangle 8"/>
          <p:cNvSpPr/>
          <p:nvPr/>
        </p:nvSpPr>
        <p:spPr>
          <a:xfrm>
            <a:off x="396720" y="3083040"/>
            <a:ext cx="5656320" cy="126504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ED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ethylenediaminetetraacet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1"/>
          <a:stretch/>
        </p:blipFill>
        <p:spPr>
          <a:xfrm>
            <a:off x="1031760" y="477720"/>
            <a:ext cx="4451400" cy="3105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6000"/>
              </a:srgbClr>
            </a:outerShdw>
          </a:effectLst>
        </p:spPr>
      </p:pic>
      <p:sp>
        <p:nvSpPr>
          <p:cNvPr id="441" name="Rounded Rectangle 10"/>
          <p:cNvSpPr/>
          <p:nvPr/>
        </p:nvSpPr>
        <p:spPr>
          <a:xfrm>
            <a:off x="6121440" y="1395360"/>
            <a:ext cx="2477880" cy="12636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poly</a:t>
            </a:r>
            <a:r>
              <a:rPr b="0" lang="en-US" sz="28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dent</a:t>
            </a: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ate lig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14"/>
          <p:cNvGrpSpPr/>
          <p:nvPr/>
        </p:nvGrpSpPr>
        <p:grpSpPr>
          <a:xfrm>
            <a:off x="6826320" y="355680"/>
            <a:ext cx="961920" cy="1376280"/>
            <a:chOff x="6826320" y="355680"/>
            <a:chExt cx="961920" cy="1376280"/>
          </a:xfrm>
        </p:grpSpPr>
        <p:pic>
          <p:nvPicPr>
            <p:cNvPr id="443" name="Picture 13" descr=""/>
            <p:cNvPicPr/>
            <p:nvPr/>
          </p:nvPicPr>
          <p:blipFill>
            <a:blip r:embed="rId12"/>
            <a:stretch/>
          </p:blipFill>
          <p:spPr>
            <a:xfrm rot="483600">
              <a:off x="6912000" y="404640"/>
              <a:ext cx="79056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2" descr=""/>
            <p:cNvPicPr/>
            <p:nvPr/>
          </p:nvPicPr>
          <p:blipFill>
            <a:blip r:embed="rId13"/>
            <a:stretch/>
          </p:blipFill>
          <p:spPr>
            <a:xfrm>
              <a:off x="6987960" y="552600"/>
              <a:ext cx="714600" cy="42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15"/>
          <p:cNvGrpSpPr/>
          <p:nvPr/>
        </p:nvGrpSpPr>
        <p:grpSpPr>
          <a:xfrm>
            <a:off x="6132600" y="859320"/>
            <a:ext cx="549000" cy="786600"/>
            <a:chOff x="6132600" y="859320"/>
            <a:chExt cx="549000" cy="786600"/>
          </a:xfrm>
        </p:grpSpPr>
        <p:pic>
          <p:nvPicPr>
            <p:cNvPr id="446" name="Picture 16" descr=""/>
            <p:cNvPicPr/>
            <p:nvPr/>
          </p:nvPicPr>
          <p:blipFill>
            <a:blip r:embed="rId14"/>
            <a:stretch/>
          </p:blipFill>
          <p:spPr>
            <a:xfrm rot="483600">
              <a:off x="6181200" y="887040"/>
              <a:ext cx="4510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7" descr=""/>
            <p:cNvPicPr/>
            <p:nvPr/>
          </p:nvPicPr>
          <p:blipFill>
            <a:blip r:embed="rId15"/>
            <a:stretch/>
          </p:blipFill>
          <p:spPr>
            <a:xfrm rot="20970000">
              <a:off x="6224400" y="972000"/>
              <a:ext cx="407880" cy="24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33"/>
          <p:cNvGrpSpPr/>
          <p:nvPr/>
        </p:nvGrpSpPr>
        <p:grpSpPr>
          <a:xfrm>
            <a:off x="8055360" y="947520"/>
            <a:ext cx="547200" cy="785880"/>
            <a:chOff x="8055360" y="947520"/>
            <a:chExt cx="547200" cy="785880"/>
          </a:xfrm>
        </p:grpSpPr>
        <p:pic>
          <p:nvPicPr>
            <p:cNvPr id="449" name="Picture 34" descr=""/>
            <p:cNvPicPr/>
            <p:nvPr/>
          </p:nvPicPr>
          <p:blipFill>
            <a:blip r:embed="rId16"/>
            <a:stretch/>
          </p:blipFill>
          <p:spPr>
            <a:xfrm rot="21135000">
              <a:off x="8102520" y="974520"/>
              <a:ext cx="4525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35" descr=""/>
            <p:cNvPicPr/>
            <p:nvPr/>
          </p:nvPicPr>
          <p:blipFill>
            <a:blip r:embed="rId17"/>
            <a:stretch/>
          </p:blipFill>
          <p:spPr>
            <a:xfrm rot="298800">
              <a:off x="8101440" y="1059480"/>
              <a:ext cx="408960" cy="24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1" name="Picture 36" descr=""/>
          <p:cNvPicPr/>
          <p:nvPr/>
        </p:nvPicPr>
        <p:blipFill>
          <a:blip r:embed="rId18"/>
          <a:stretch/>
        </p:blipFill>
        <p:spPr>
          <a:xfrm>
            <a:off x="1523880" y="887400"/>
            <a:ext cx="6096240" cy="33559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452" name="TextBox 1"/>
          <p:cNvSpPr/>
          <p:nvPr/>
        </p:nvSpPr>
        <p:spPr>
          <a:xfrm>
            <a:off x="1476360" y="3870360"/>
            <a:ext cx="46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urdRage: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s://youtu.be/CQ4145kogv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3" descr=""/>
          <p:cNvPicPr/>
          <p:nvPr/>
        </p:nvPicPr>
        <p:blipFill>
          <a:blip r:embed="rId1"/>
          <a:stretch/>
        </p:blipFill>
        <p:spPr>
          <a:xfrm>
            <a:off x="1297080" y="201600"/>
            <a:ext cx="3044880" cy="2768760"/>
          </a:xfrm>
          <a:prstGeom prst="rect">
            <a:avLst/>
          </a:prstGeom>
          <a:ln w="0">
            <a:noFill/>
          </a:ln>
        </p:spPr>
      </p:pic>
      <p:sp>
        <p:nvSpPr>
          <p:cNvPr id="454" name="Rounded Rectangle 5"/>
          <p:cNvSpPr/>
          <p:nvPr/>
        </p:nvSpPr>
        <p:spPr>
          <a:xfrm>
            <a:off x="2786040" y="2367000"/>
            <a:ext cx="3382920" cy="11635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ch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favoured by entro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ounded Rectangle 6"/>
          <p:cNvSpPr/>
          <p:nvPr/>
        </p:nvSpPr>
        <p:spPr>
          <a:xfrm>
            <a:off x="247680" y="3843360"/>
            <a:ext cx="8570880" cy="676080"/>
          </a:xfrm>
          <a:prstGeom prst="roundRect">
            <a:avLst>
              <a:gd name="adj" fmla="val 16667"/>
            </a:avLst>
          </a:prstGeom>
          <a:solidFill>
            <a:srgbClr val="00b050">
              <a:alpha val="10000"/>
            </a:srgbClr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[Cu(N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)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(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)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H]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+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EDTA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4-</a:t>
            </a:r>
            <a:r>
              <a:rPr b="0" lang="en-US" sz="2000" spc="-1" strike="noStrike">
                <a:solidFill>
                  <a:srgbClr val="00b050"/>
                </a:solidFill>
                <a:latin typeface="Museo Slab 700"/>
                <a:ea typeface="Museo Slab 700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Royal Society of Chemistry"/>
                <a:ea typeface="Royal Society of Chemistry"/>
              </a:rPr>
              <a:t>→ 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[Cu(EDTA)]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2-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2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2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O + OH</a:t>
            </a:r>
            <a:r>
              <a:rPr b="0" lang="en-US" sz="2000" spc="-1" strike="noStrike" baseline="30000">
                <a:solidFill>
                  <a:srgbClr val="00b050"/>
                </a:solidFill>
                <a:latin typeface="Museo Sans 500"/>
                <a:ea typeface="Museo Sans 500"/>
              </a:rPr>
              <a:t>-</a:t>
            </a:r>
            <a:r>
              <a:rPr b="0" lang="en-US" sz="2000" spc="-1" strike="noStrike">
                <a:solidFill>
                  <a:srgbClr val="00b050"/>
                </a:solidFill>
                <a:latin typeface="Museo Sans 500"/>
                <a:ea typeface="Museo Sans 500"/>
              </a:rPr>
              <a:t> + 3NH</a:t>
            </a:r>
            <a:r>
              <a:rPr b="0" lang="en-US" sz="2000" spc="-1" strike="noStrike" baseline="-25000">
                <a:solidFill>
                  <a:srgbClr val="00b050"/>
                </a:solidFill>
                <a:latin typeface="Museo Sans 500"/>
                <a:ea typeface="Museo Sans 500"/>
              </a:rPr>
              <a:t>3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5407200" y="171360"/>
            <a:ext cx="2233440" cy="309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7" name="Oval 7"/>
          <p:cNvSpPr/>
          <p:nvPr/>
        </p:nvSpPr>
        <p:spPr>
          <a:xfrm>
            <a:off x="1333440" y="4370400"/>
            <a:ext cx="432000" cy="43164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3348000" y="4379760"/>
            <a:ext cx="432000" cy="432000"/>
          </a:xfrm>
          <a:prstGeom prst="ellipse">
            <a:avLst/>
          </a:prstGeom>
          <a:solidFill>
            <a:srgbClr val="e6b9b8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4834080" y="4367160"/>
            <a:ext cx="43164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Oval 18"/>
          <p:cNvSpPr/>
          <p:nvPr/>
        </p:nvSpPr>
        <p:spPr>
          <a:xfrm>
            <a:off x="6018120" y="4375080"/>
            <a:ext cx="43200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6469200" y="4371840"/>
            <a:ext cx="43164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Oval 20"/>
          <p:cNvSpPr/>
          <p:nvPr/>
        </p:nvSpPr>
        <p:spPr>
          <a:xfrm>
            <a:off x="7080120" y="4367160"/>
            <a:ext cx="432000" cy="4320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Oval 21"/>
          <p:cNvSpPr/>
          <p:nvPr/>
        </p:nvSpPr>
        <p:spPr>
          <a:xfrm>
            <a:off x="7675560" y="4389480"/>
            <a:ext cx="431640" cy="4316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Oval 22"/>
          <p:cNvSpPr/>
          <p:nvPr/>
        </p:nvSpPr>
        <p:spPr>
          <a:xfrm>
            <a:off x="8102520" y="4384800"/>
            <a:ext cx="432000" cy="4316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Oval 23"/>
          <p:cNvSpPr/>
          <p:nvPr/>
        </p:nvSpPr>
        <p:spPr>
          <a:xfrm>
            <a:off x="8540640" y="4405320"/>
            <a:ext cx="433440" cy="43344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Museo Slab 700"/>
                <a:ea typeface="Museo Slab 700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ounded Rectangle 24"/>
          <p:cNvSpPr/>
          <p:nvPr/>
        </p:nvSpPr>
        <p:spPr>
          <a:xfrm>
            <a:off x="5570640" y="2492280"/>
            <a:ext cx="3382920" cy="116208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030a0"/>
                </a:solidFill>
                <a:latin typeface="Museo Sans 500"/>
                <a:ea typeface="Museo Sans 500"/>
              </a:rPr>
              <a:t>More particles on the right: entropy of system incr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4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800"/>
                            </p:stCondLst>
                            <p:childTnLst>
                              <p:par>
                                <p:cTn id="5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0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2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788 -0.00155 E">
                                      <p:cBhvr>
                                        <p:cTn id="524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"/>
          <p:cNvPicPr/>
          <p:nvPr/>
        </p:nvPicPr>
        <p:blipFill>
          <a:blip r:embed="rId1"/>
          <a:stretch/>
        </p:blipFill>
        <p:spPr>
          <a:xfrm>
            <a:off x="2536920" y="2762280"/>
            <a:ext cx="4157640" cy="2124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"/>
          <p:cNvPicPr/>
          <p:nvPr/>
        </p:nvPicPr>
        <p:blipFill>
          <a:blip r:embed="rId2"/>
          <a:stretch/>
        </p:blipFill>
        <p:spPr>
          <a:xfrm>
            <a:off x="1050840" y="820800"/>
            <a:ext cx="2343240" cy="25430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69" name="Picture 6" descr=""/>
          <p:cNvPicPr/>
          <p:nvPr/>
        </p:nvPicPr>
        <p:blipFill>
          <a:blip r:embed="rId3"/>
          <a:stretch/>
        </p:blipFill>
        <p:spPr>
          <a:xfrm>
            <a:off x="5676840" y="806400"/>
            <a:ext cx="2784600" cy="25401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470" name="Rounded Rectangle 8"/>
          <p:cNvSpPr/>
          <p:nvPr/>
        </p:nvSpPr>
        <p:spPr>
          <a:xfrm>
            <a:off x="2386080" y="1471680"/>
            <a:ext cx="4386240" cy="10317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MRI contrast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Diagram 1" descr=""/>
          <p:cNvPicPr/>
          <p:nvPr/>
        </p:nvPicPr>
        <p:blipFill>
          <a:blip r:embed="rId1"/>
          <a:stretch/>
        </p:blipFill>
        <p:spPr>
          <a:xfrm>
            <a:off x="1962000" y="480960"/>
            <a:ext cx="5224680" cy="4969080"/>
          </a:xfrm>
          <a:prstGeom prst="rect">
            <a:avLst/>
          </a:prstGeom>
          <a:ln w="0">
            <a:noFill/>
          </a:ln>
        </p:spPr>
      </p:pic>
      <p:sp>
        <p:nvSpPr>
          <p:cNvPr id="472" name="Oval 17"/>
          <p:cNvSpPr/>
          <p:nvPr/>
        </p:nvSpPr>
        <p:spPr>
          <a:xfrm>
            <a:off x="3181320" y="1905120"/>
            <a:ext cx="2844720" cy="28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TRAN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21" descr=""/>
          <p:cNvPicPr/>
          <p:nvPr/>
        </p:nvPicPr>
        <p:blipFill>
          <a:blip r:embed="rId2"/>
          <a:stretch/>
        </p:blipFill>
        <p:spPr>
          <a:xfrm>
            <a:off x="282600" y="1951200"/>
            <a:ext cx="1495440" cy="1360440"/>
          </a:xfrm>
          <a:prstGeom prst="rect">
            <a:avLst/>
          </a:prstGeom>
          <a:ln w="57240">
            <a:solidFill>
              <a:srgbClr val="f79646"/>
            </a:solidFill>
            <a:miter/>
          </a:ln>
        </p:spPr>
      </p:pic>
      <p:pic>
        <p:nvPicPr>
          <p:cNvPr id="474" name="Picture 23" descr=""/>
          <p:cNvPicPr/>
          <p:nvPr/>
        </p:nvPicPr>
        <p:blipFill>
          <a:blip r:embed="rId3"/>
          <a:stretch/>
        </p:blipFill>
        <p:spPr>
          <a:xfrm>
            <a:off x="3295800" y="152280"/>
            <a:ext cx="2616120" cy="1127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5" descr=""/>
          <p:cNvPicPr/>
          <p:nvPr/>
        </p:nvPicPr>
        <p:blipFill>
          <a:blip r:embed="rId4"/>
          <a:stretch/>
        </p:blipFill>
        <p:spPr>
          <a:xfrm>
            <a:off x="6948360" y="3448080"/>
            <a:ext cx="1947960" cy="1071360"/>
          </a:xfrm>
          <a:prstGeom prst="rect">
            <a:avLst/>
          </a:prstGeom>
          <a:ln w="60480">
            <a:solidFill>
              <a:srgbClr val="7030a0"/>
            </a:solidFill>
            <a:miter/>
          </a:ln>
        </p:spPr>
      </p:pic>
      <p:sp>
        <p:nvSpPr>
          <p:cNvPr id="476" name="TextBox 2"/>
          <p:cNvSpPr/>
          <p:nvPr/>
        </p:nvSpPr>
        <p:spPr>
          <a:xfrm>
            <a:off x="8172360" y="4300560"/>
            <a:ext cx="144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NurdRag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58920"/>
            <a:ext cx="691164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ighting up copper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demonstration of the properties of transition metals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pt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sc.li/EiC5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Diagram 1" descr=""/>
          <p:cNvPicPr/>
          <p:nvPr/>
        </p:nvPicPr>
        <p:blipFill>
          <a:blip r:embed="rId1"/>
          <a:stretch/>
        </p:blipFill>
        <p:spPr>
          <a:xfrm>
            <a:off x="1962000" y="480960"/>
            <a:ext cx="5224680" cy="4969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"/>
          <p:cNvPicPr/>
          <p:nvPr/>
        </p:nvPicPr>
        <p:blipFill>
          <a:blip r:embed="rId2"/>
          <a:stretch/>
        </p:blipFill>
        <p:spPr>
          <a:xfrm>
            <a:off x="1039680" y="1219320"/>
            <a:ext cx="1656000" cy="922320"/>
          </a:xfrm>
          <a:prstGeom prst="rect">
            <a:avLst/>
          </a:prstGeom>
          <a:ln w="57240">
            <a:solidFill>
              <a:srgbClr val="f79646"/>
            </a:solidFill>
            <a:miter/>
          </a:ln>
        </p:spPr>
      </p:pic>
      <p:pic>
        <p:nvPicPr>
          <p:cNvPr id="289" name="Picture 11" descr=""/>
          <p:cNvPicPr/>
          <p:nvPr/>
        </p:nvPicPr>
        <p:blipFill>
          <a:blip r:embed="rId3"/>
          <a:stretch/>
        </p:blipFill>
        <p:spPr>
          <a:xfrm>
            <a:off x="7277040" y="3797280"/>
            <a:ext cx="1665360" cy="933480"/>
          </a:xfrm>
          <a:prstGeom prst="rect">
            <a:avLst/>
          </a:prstGeom>
          <a:ln w="57240">
            <a:solidFill>
              <a:srgbClr val="8064a2"/>
            </a:solidFill>
            <a:miter/>
          </a:ln>
        </p:spPr>
      </p:pic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325440" y="3795840"/>
            <a:ext cx="1666800" cy="936360"/>
          </a:xfrm>
          <a:prstGeom prst="rect">
            <a:avLst/>
          </a:prstGeom>
          <a:ln w="57240">
            <a:solidFill>
              <a:srgbClr val="4bacc6"/>
            </a:solidFill>
            <a:miter/>
          </a:ln>
        </p:spPr>
      </p:pic>
      <p:pic>
        <p:nvPicPr>
          <p:cNvPr id="291" name="Picture 13" descr=""/>
          <p:cNvPicPr/>
          <p:nvPr/>
        </p:nvPicPr>
        <p:blipFill>
          <a:blip r:embed="rId5"/>
          <a:stretch/>
        </p:blipFill>
        <p:spPr>
          <a:xfrm>
            <a:off x="7277040" y="2651040"/>
            <a:ext cx="1665360" cy="922320"/>
          </a:xfrm>
          <a:prstGeom prst="rect">
            <a:avLst/>
          </a:prstGeom>
          <a:ln w="57240">
            <a:solidFill>
              <a:srgbClr val="8064a2"/>
            </a:solidFill>
            <a:miter/>
          </a:ln>
        </p:spPr>
      </p:pic>
      <p:pic>
        <p:nvPicPr>
          <p:cNvPr id="292" name="Picture 14" descr=""/>
          <p:cNvPicPr/>
          <p:nvPr/>
        </p:nvPicPr>
        <p:blipFill>
          <a:blip r:embed="rId6"/>
          <a:stretch/>
        </p:blipFill>
        <p:spPr>
          <a:xfrm>
            <a:off x="3743280" y="281160"/>
            <a:ext cx="1657440" cy="9144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293" name="Picture 15" descr=""/>
          <p:cNvPicPr/>
          <p:nvPr/>
        </p:nvPicPr>
        <p:blipFill>
          <a:blip r:embed="rId7"/>
          <a:stretch/>
        </p:blipFill>
        <p:spPr>
          <a:xfrm>
            <a:off x="6550200" y="1282680"/>
            <a:ext cx="1655640" cy="925560"/>
          </a:xfrm>
          <a:prstGeom prst="rect">
            <a:avLst/>
          </a:prstGeom>
          <a:ln w="57240">
            <a:solidFill>
              <a:srgbClr val="9bbb59"/>
            </a:solidFill>
            <a:miter/>
          </a:ln>
        </p:spPr>
      </p:pic>
      <p:pic>
        <p:nvPicPr>
          <p:cNvPr id="294" name="Picture 16" descr=""/>
          <p:cNvPicPr/>
          <p:nvPr/>
        </p:nvPicPr>
        <p:blipFill>
          <a:blip r:embed="rId8"/>
          <a:stretch/>
        </p:blipFill>
        <p:spPr>
          <a:xfrm>
            <a:off x="6550200" y="158760"/>
            <a:ext cx="1661760" cy="925560"/>
          </a:xfrm>
          <a:prstGeom prst="rect">
            <a:avLst/>
          </a:prstGeom>
          <a:ln w="57240">
            <a:solidFill>
              <a:srgbClr val="9bbb59"/>
            </a:solidFill>
            <a:miter/>
          </a:ln>
        </p:spPr>
      </p:pic>
      <p:sp>
        <p:nvSpPr>
          <p:cNvPr id="295" name="Oval 17"/>
          <p:cNvSpPr/>
          <p:nvPr/>
        </p:nvSpPr>
        <p:spPr>
          <a:xfrm>
            <a:off x="3181320" y="1905120"/>
            <a:ext cx="2844720" cy="28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useo Slab 700"/>
                <a:ea typeface="Museo Slab 700"/>
              </a:rPr>
              <a:t>Tran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useo Slab 700"/>
                <a:ea typeface="Museo Slab 700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392120" y="519120"/>
            <a:ext cx="6359760" cy="410544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93360" y="371160"/>
            <a:ext cx="7021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emical reactions </a:t>
            </a:r>
            <a:r>
              <a:rPr b="0" lang="en-US" sz="3600" spc="-1" strike="noStrike" u="sng">
                <a:solidFill>
                  <a:srgbClr val="505759"/>
                </a:solidFill>
                <a:uFillTx/>
                <a:latin typeface="Museo Slab 700"/>
                <a:ea typeface="Museo Slab 700"/>
              </a:rPr>
              <a:t>normally</a:t>
            </a: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release or absorb </a:t>
            </a:r>
            <a:r>
              <a:rPr b="0" lang="en-US" sz="3600" spc="-1" strike="noStrike">
                <a:solidFill>
                  <a:srgbClr val="f79646"/>
                </a:solidFill>
                <a:latin typeface="Museo Slab 700"/>
                <a:ea typeface="Museo Slab 700"/>
              </a:rPr>
              <a:t>heat </a:t>
            </a:r>
            <a:r>
              <a:rPr b="0" lang="en-US" sz="36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4734000" y="1866960"/>
            <a:ext cx="3757680" cy="207000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grpSp>
        <p:nvGrpSpPr>
          <p:cNvPr id="299" name="Group 40"/>
          <p:cNvGrpSpPr/>
          <p:nvPr/>
        </p:nvGrpSpPr>
        <p:grpSpPr>
          <a:xfrm>
            <a:off x="1182240" y="1563480"/>
            <a:ext cx="3098160" cy="2169000"/>
            <a:chOff x="1182240" y="1563480"/>
            <a:chExt cx="3098160" cy="2169000"/>
          </a:xfrm>
        </p:grpSpPr>
        <p:sp>
          <p:nvSpPr>
            <p:cNvPr id="300" name="Arc 6"/>
            <p:cNvSpPr/>
            <p:nvPr/>
          </p:nvSpPr>
          <p:spPr>
            <a:xfrm>
              <a:off x="2267640" y="170784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Straight Connector 8"/>
            <p:cNvSpPr/>
            <p:nvPr/>
          </p:nvSpPr>
          <p:spPr>
            <a:xfrm>
              <a:off x="1417320" y="261324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Straight Connector 9"/>
            <p:cNvSpPr/>
            <p:nvPr/>
          </p:nvSpPr>
          <p:spPr>
            <a:xfrm>
              <a:off x="3255480" y="331812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traight Connector 10"/>
            <p:cNvSpPr/>
            <p:nvPr/>
          </p:nvSpPr>
          <p:spPr>
            <a:xfrm>
              <a:off x="3255480" y="262080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4" name="Group 23"/>
            <p:cNvGrpSpPr/>
            <p:nvPr/>
          </p:nvGrpSpPr>
          <p:grpSpPr>
            <a:xfrm>
              <a:off x="1182240" y="1563480"/>
              <a:ext cx="3098160" cy="2169000"/>
              <a:chOff x="1182240" y="1563480"/>
              <a:chExt cx="3098160" cy="2169000"/>
            </a:xfrm>
          </p:grpSpPr>
          <p:cxnSp>
            <p:nvCxnSpPr>
              <p:cNvPr id="305" name="Straight Arrow Connector 15"/>
              <p:cNvCxnSpPr/>
              <p:nvPr/>
            </p:nvCxnSpPr>
            <p:spPr>
              <a:xfrm flipV="1">
                <a:off x="1182240" y="1563480"/>
                <a:ext cx="1080" cy="208656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6" name="Straight Arrow Connector 16"/>
              <p:cNvCxnSpPr/>
              <p:nvPr/>
            </p:nvCxnSpPr>
            <p:spPr>
              <a:xfrm>
                <a:off x="1182600" y="3693960"/>
                <a:ext cx="309816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7" name="Straight Arrow Connector 19"/>
          <p:cNvCxnSpPr/>
          <p:nvPr/>
        </p:nvCxnSpPr>
        <p:spPr>
          <a:xfrm>
            <a:off x="2801520" y="2643120"/>
            <a:ext cx="1080" cy="69912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Rectangle 22"/>
          <p:cNvSpPr/>
          <p:nvPr/>
        </p:nvSpPr>
        <p:spPr>
          <a:xfrm>
            <a:off x="1303920" y="228456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3352680" y="29322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traight Connector 25"/>
          <p:cNvSpPr/>
          <p:nvPr/>
        </p:nvSpPr>
        <p:spPr>
          <a:xfrm>
            <a:off x="2351160" y="2620800"/>
            <a:ext cx="95544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30"/>
          <p:cNvSpPr/>
          <p:nvPr/>
        </p:nvSpPr>
        <p:spPr>
          <a:xfrm>
            <a:off x="2335320" y="3316320"/>
            <a:ext cx="95724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2347200" y="27874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2673360" y="1691280"/>
            <a:ext cx="1087200" cy="1505520"/>
            <a:chOff x="2673360" y="1691280"/>
            <a:chExt cx="1087200" cy="1505520"/>
          </a:xfrm>
        </p:grpSpPr>
        <p:pic>
          <p:nvPicPr>
            <p:cNvPr id="314" name="Picture 41" descr=""/>
            <p:cNvPicPr/>
            <p:nvPr/>
          </p:nvPicPr>
          <p:blipFill>
            <a:blip r:embed="rId2"/>
            <a:stretch/>
          </p:blipFill>
          <p:spPr>
            <a:xfrm rot="1188600">
              <a:off x="2883960" y="1763640"/>
              <a:ext cx="66528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42" descr=""/>
            <p:cNvPicPr/>
            <p:nvPr/>
          </p:nvPicPr>
          <p:blipFill>
            <a:blip r:embed="rId3"/>
            <a:stretch/>
          </p:blipFill>
          <p:spPr>
            <a:xfrm>
              <a:off x="2904120" y="2690280"/>
              <a:ext cx="340200" cy="20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Title 2"/>
          <p:cNvSpPr/>
          <p:nvPr/>
        </p:nvSpPr>
        <p:spPr>
          <a:xfrm>
            <a:off x="4495680" y="4057560"/>
            <a:ext cx="408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metimes more energy is released as </a:t>
            </a:r>
            <a:r>
              <a:rPr b="0" lang="en-US" sz="24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"/>
          <p:cNvSpPr/>
          <p:nvPr/>
        </p:nvSpPr>
        <p:spPr>
          <a:xfrm rot="16200000">
            <a:off x="597240" y="252144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Oval 26"/>
          <p:cNvGrpSpPr/>
          <p:nvPr/>
        </p:nvGrpSpPr>
        <p:grpSpPr>
          <a:xfrm>
            <a:off x="2212920" y="4267080"/>
            <a:ext cx="469800" cy="470160"/>
            <a:chOff x="2212920" y="4267080"/>
            <a:chExt cx="469800" cy="470160"/>
          </a:xfrm>
        </p:grpSpPr>
        <p:pic>
          <p:nvPicPr>
            <p:cNvPr id="319" name="Oval 26" descr=""/>
            <p:cNvPicPr/>
            <p:nvPr/>
          </p:nvPicPr>
          <p:blipFill>
            <a:blip r:embed="rId4"/>
            <a:stretch/>
          </p:blipFill>
          <p:spPr>
            <a:xfrm>
              <a:off x="2212920" y="4267080"/>
              <a:ext cx="46980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20920" y="4352760"/>
              <a:ext cx="254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Oval 27"/>
          <p:cNvGrpSpPr/>
          <p:nvPr/>
        </p:nvGrpSpPr>
        <p:grpSpPr>
          <a:xfrm>
            <a:off x="2487600" y="4206960"/>
            <a:ext cx="468360" cy="468360"/>
            <a:chOff x="2487600" y="4206960"/>
            <a:chExt cx="468360" cy="468360"/>
          </a:xfrm>
        </p:grpSpPr>
        <p:pic>
          <p:nvPicPr>
            <p:cNvPr id="322" name="Oval 27" descr=""/>
            <p:cNvPicPr/>
            <p:nvPr/>
          </p:nvPicPr>
          <p:blipFill>
            <a:blip r:embed="rId5"/>
            <a:stretch/>
          </p:blipFill>
          <p:spPr>
            <a:xfrm>
              <a:off x="2487600" y="4206960"/>
              <a:ext cx="4683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595600" y="4290840"/>
              <a:ext cx="2538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Straight Arrow Connector 28" descr=""/>
          <p:cNvPicPr/>
          <p:nvPr/>
        </p:nvPicPr>
        <p:blipFill>
          <a:blip r:embed="rId6"/>
          <a:stretch/>
        </p:blipFill>
        <p:spPr>
          <a:xfrm>
            <a:off x="2511360" y="1573200"/>
            <a:ext cx="579600" cy="2060640"/>
          </a:xfrm>
          <a:prstGeom prst="rect">
            <a:avLst/>
          </a:prstGeom>
          <a:ln w="0">
            <a:noFill/>
          </a:ln>
        </p:spPr>
      </p:pic>
      <p:pic>
        <p:nvPicPr>
          <p:cNvPr id="325" name="Straight Arrow Connector 29" descr=""/>
          <p:cNvPicPr/>
          <p:nvPr/>
        </p:nvPicPr>
        <p:blipFill>
          <a:blip r:embed="rId7"/>
          <a:stretch/>
        </p:blipFill>
        <p:spPr>
          <a:xfrm>
            <a:off x="2498760" y="14018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3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6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100"/>
                            </p:stCondLst>
                            <p:childTnLst>
                              <p:par>
                                <p:cTn id="92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34568E-006 C -0.00018 2.34568E-006 0.00156 -0.00062 0.00243 -0.00124 C 0.00278 -0.00155 0.00364 -0.00247 0.00347 -0.0034 C 0.0033 -0.00432 0.00243 -0.00401 0.00173 -0.00432 C 0.00573 -0.00648 0.00208 -0.00401 1.66667E-006 -0.00618 C -0.00052 -0.00679 0.00121 -0.00679 0.00173 -0.00741 C 0.0026 -0.00803 0.0033 -0.00864 0.00417 -0.00926 C 0.00451 -0.00864 0.00538 -0.00834 0.00538 -0.00741 C 0.00538 -0.00556 0.00382 -0.00247 0.00295 -0.00124 C 0.0026 -0.00062 0.00017 2.34568E-006 1.66667E-006 2.34568E-006 Z">
                                      <p:cBhvr>
                                        <p:cTn id="110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7531E-006 C 5.55556E-007 0.00031 0.00156 -0.00123 0.00226 -0.00185 C 0.00278 -0.00216 0.00399 -0.00185 0.00399 -0.00278 C 0.00399 -0.00401 0.00278 -0.0037 0.00226 -0.00401 C 0.00156 -0.00432 0.00069 -0.00463 5.55556E-007 -0.00494 C -0.00052 -0.00524 -0.00226 -0.00586 -0.00174 -0.00586 C 0.00191 -0.00586 0.00556 -0.00524 0.0092 -0.00494 C 0.00851 -0.00463 0.00799 -0.00432 0.00746 -0.00401 C 0.00677 -0.00339 0.00625 -0.00247 0.00573 -0.00185 C 0.00469 -0.00092 0.00226 -1.97530999999999E-006 0.00226 0.00031 C 0.00191 -0.00092 0.00104 -0.00154 0.00121 -0.00278 C 0.00121 -0.00463 0.00226 -0.00555 0.00278 -0.00679 C 0.00451 -0.01111 0.0033 -0.00895 0.00573 -0.01173 C 0.00521 -0.0108 0.00347 -0.00524 0.00226 -0.00401 C 0.00208 -0.0037 5.55556E-007 -0.00031 5.55556E-007 -1.97531E-006 Z">
                                      <p:cBhvr>
                                        <p:cTn id="112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7531E-006 L 0.08472 0.00679 E">
                                      <p:cBhvr>
                                        <p:cTn id="115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34568E-006 L -0.08785 -0.00185 E">
                                      <p:cBhvr>
                                        <p:cTn id="117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472 0.00679 L -2.5E-006 2.09877E-006 E">
                                      <p:cBhvr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63 -0.00185 L 4.72222E-006 1.85185E-006 E">
                                      <p:cBhvr>
                                        <p:cTn id="12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58720" y="286920"/>
            <a:ext cx="7848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me reactions release energy as light: </a:t>
            </a:r>
            <a:r>
              <a:rPr b="0" lang="en-US" sz="32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chemiluminescence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cxnSp>
        <p:nvCxnSpPr>
          <p:cNvPr id="327" name="Straight Arrow Connector 11"/>
          <p:cNvCxnSpPr/>
          <p:nvPr/>
        </p:nvCxnSpPr>
        <p:spPr>
          <a:xfrm flipV="1">
            <a:off x="1168200" y="990000"/>
            <a:ext cx="13320" cy="3205800"/>
          </a:xfrm>
          <a:prstGeom prst="straightConnector1">
            <a:avLst/>
          </a:prstGeom>
          <a:ln cap="rnd" w="507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8" name="Group 22"/>
          <p:cNvGrpSpPr/>
          <p:nvPr/>
        </p:nvGrpSpPr>
        <p:grpSpPr>
          <a:xfrm>
            <a:off x="1201680" y="1550520"/>
            <a:ext cx="2979720" cy="2500560"/>
            <a:chOff x="1201680" y="1550520"/>
            <a:chExt cx="2979720" cy="2500560"/>
          </a:xfrm>
        </p:grpSpPr>
        <p:sp>
          <p:nvSpPr>
            <p:cNvPr id="329" name="Straight Connector 17"/>
            <p:cNvSpPr/>
            <p:nvPr/>
          </p:nvSpPr>
          <p:spPr>
            <a:xfrm flipV="1">
              <a:off x="1201680" y="403416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V="1">
              <a:off x="1215720" y="244008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V="1">
              <a:off x="1217520" y="192744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V="1">
              <a:off x="1208880" y="168048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V="1">
              <a:off x="1215360" y="1550520"/>
              <a:ext cx="2963880" cy="16920"/>
            </a:xfrm>
            <a:prstGeom prst="line">
              <a:avLst/>
            </a:prstGeom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Oval 3"/>
          <p:cNvGrpSpPr/>
          <p:nvPr/>
        </p:nvGrpSpPr>
        <p:grpSpPr>
          <a:xfrm>
            <a:off x="1835280" y="3193920"/>
            <a:ext cx="901440" cy="901800"/>
            <a:chOff x="1835280" y="3193920"/>
            <a:chExt cx="901440" cy="901800"/>
          </a:xfrm>
        </p:grpSpPr>
        <p:pic>
          <p:nvPicPr>
            <p:cNvPr id="335" name="Oval 3" descr=""/>
            <p:cNvPicPr/>
            <p:nvPr/>
          </p:nvPicPr>
          <p:blipFill>
            <a:blip r:embed="rId1"/>
            <a:stretch/>
          </p:blipFill>
          <p:spPr>
            <a:xfrm>
              <a:off x="1835280" y="3193920"/>
              <a:ext cx="9014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08080" y="333864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Oval 4"/>
          <p:cNvGrpSpPr/>
          <p:nvPr/>
        </p:nvGrpSpPr>
        <p:grpSpPr>
          <a:xfrm>
            <a:off x="2541600" y="3181320"/>
            <a:ext cx="896760" cy="903240"/>
            <a:chOff x="2541600" y="3181320"/>
            <a:chExt cx="896760" cy="903240"/>
          </a:xfrm>
        </p:grpSpPr>
        <p:pic>
          <p:nvPicPr>
            <p:cNvPr id="338" name="Oval 4" descr=""/>
            <p:cNvPicPr/>
            <p:nvPr/>
          </p:nvPicPr>
          <p:blipFill>
            <a:blip r:embed="rId2"/>
            <a:stretch/>
          </p:blipFill>
          <p:spPr>
            <a:xfrm>
              <a:off x="2541600" y="3181320"/>
              <a:ext cx="89676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2709720" y="333072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Oval 23"/>
          <p:cNvGrpSpPr/>
          <p:nvPr/>
        </p:nvGrpSpPr>
        <p:grpSpPr>
          <a:xfrm>
            <a:off x="2779560" y="3425760"/>
            <a:ext cx="135000" cy="201600"/>
            <a:chOff x="2779560" y="3425760"/>
            <a:chExt cx="135000" cy="201600"/>
          </a:xfrm>
        </p:grpSpPr>
        <p:pic>
          <p:nvPicPr>
            <p:cNvPr id="341" name="Oval 23" descr=""/>
            <p:cNvPicPr/>
            <p:nvPr/>
          </p:nvPicPr>
          <p:blipFill>
            <a:blip r:embed="rId3"/>
            <a:stretch/>
          </p:blipFill>
          <p:spPr>
            <a:xfrm>
              <a:off x="2779560" y="3425760"/>
              <a:ext cx="13500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806560" y="345744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Oval 24"/>
          <p:cNvGrpSpPr/>
          <p:nvPr/>
        </p:nvGrpSpPr>
        <p:grpSpPr>
          <a:xfrm>
            <a:off x="2262240" y="3718080"/>
            <a:ext cx="133200" cy="195120"/>
            <a:chOff x="2262240" y="3718080"/>
            <a:chExt cx="133200" cy="195120"/>
          </a:xfrm>
        </p:grpSpPr>
        <p:pic>
          <p:nvPicPr>
            <p:cNvPr id="344" name="Oval 24" descr=""/>
            <p:cNvPicPr/>
            <p:nvPr/>
          </p:nvPicPr>
          <p:blipFill>
            <a:blip r:embed="rId4"/>
            <a:stretch/>
          </p:blipFill>
          <p:spPr>
            <a:xfrm>
              <a:off x="2262240" y="3718080"/>
              <a:ext cx="1332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2292480" y="3749760"/>
              <a:ext cx="7272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Oval 25"/>
          <p:cNvGrpSpPr/>
          <p:nvPr/>
        </p:nvGrpSpPr>
        <p:grpSpPr>
          <a:xfrm>
            <a:off x="1871640" y="1590840"/>
            <a:ext cx="901800" cy="903240"/>
            <a:chOff x="1871640" y="1590840"/>
            <a:chExt cx="901800" cy="903240"/>
          </a:xfrm>
        </p:grpSpPr>
        <p:pic>
          <p:nvPicPr>
            <p:cNvPr id="347" name="Oval 25" descr=""/>
            <p:cNvPicPr/>
            <p:nvPr/>
          </p:nvPicPr>
          <p:blipFill>
            <a:blip r:embed="rId5"/>
            <a:stretch/>
          </p:blipFill>
          <p:spPr>
            <a:xfrm>
              <a:off x="1871640" y="1590840"/>
              <a:ext cx="9018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039760" y="1735200"/>
              <a:ext cx="5605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Oval 26"/>
          <p:cNvGrpSpPr/>
          <p:nvPr/>
        </p:nvGrpSpPr>
        <p:grpSpPr>
          <a:xfrm>
            <a:off x="2571840" y="1579680"/>
            <a:ext cx="903240" cy="901440"/>
            <a:chOff x="2571840" y="1579680"/>
            <a:chExt cx="903240" cy="901440"/>
          </a:xfrm>
        </p:grpSpPr>
        <p:pic>
          <p:nvPicPr>
            <p:cNvPr id="350" name="Oval 26" descr=""/>
            <p:cNvPicPr/>
            <p:nvPr/>
          </p:nvPicPr>
          <p:blipFill>
            <a:blip r:embed="rId6"/>
            <a:stretch/>
          </p:blipFill>
          <p:spPr>
            <a:xfrm>
              <a:off x="2571840" y="1579680"/>
              <a:ext cx="9032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741760" y="1727280"/>
              <a:ext cx="560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Oval 27"/>
          <p:cNvGrpSpPr/>
          <p:nvPr/>
        </p:nvGrpSpPr>
        <p:grpSpPr>
          <a:xfrm>
            <a:off x="2809800" y="1822320"/>
            <a:ext cx="135000" cy="201600"/>
            <a:chOff x="2809800" y="1822320"/>
            <a:chExt cx="135000" cy="201600"/>
          </a:xfrm>
        </p:grpSpPr>
        <p:pic>
          <p:nvPicPr>
            <p:cNvPr id="353" name="Oval 27" descr=""/>
            <p:cNvPicPr/>
            <p:nvPr/>
          </p:nvPicPr>
          <p:blipFill>
            <a:blip r:embed="rId7"/>
            <a:stretch/>
          </p:blipFill>
          <p:spPr>
            <a:xfrm>
              <a:off x="2809800" y="1822320"/>
              <a:ext cx="13500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2838600" y="1854360"/>
              <a:ext cx="727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Oval 28"/>
          <p:cNvGrpSpPr/>
          <p:nvPr/>
        </p:nvGrpSpPr>
        <p:grpSpPr>
          <a:xfrm>
            <a:off x="2292480" y="2114640"/>
            <a:ext cx="133200" cy="195120"/>
            <a:chOff x="2292480" y="2114640"/>
            <a:chExt cx="133200" cy="195120"/>
          </a:xfrm>
        </p:grpSpPr>
        <p:pic>
          <p:nvPicPr>
            <p:cNvPr id="356" name="Oval 28" descr=""/>
            <p:cNvPicPr/>
            <p:nvPr/>
          </p:nvPicPr>
          <p:blipFill>
            <a:blip r:embed="rId8"/>
            <a:stretch/>
          </p:blipFill>
          <p:spPr>
            <a:xfrm>
              <a:off x="2292480" y="2114640"/>
              <a:ext cx="1332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324160" y="2146320"/>
              <a:ext cx="730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Title 2" descr=""/>
          <p:cNvPicPr/>
          <p:nvPr/>
        </p:nvPicPr>
        <p:blipFill>
          <a:blip r:embed="rId9"/>
          <a:stretch/>
        </p:blipFill>
        <p:spPr>
          <a:xfrm>
            <a:off x="4645080" y="1901880"/>
            <a:ext cx="4254480" cy="1639800"/>
          </a:xfrm>
          <a:prstGeom prst="rect">
            <a:avLst/>
          </a:prstGeom>
          <a:ln w="0">
            <a:noFill/>
          </a:ln>
        </p:spPr>
      </p:pic>
      <p:grpSp>
        <p:nvGrpSpPr>
          <p:cNvPr id="359" name="Oval 30"/>
          <p:cNvGrpSpPr/>
          <p:nvPr/>
        </p:nvGrpSpPr>
        <p:grpSpPr>
          <a:xfrm>
            <a:off x="3578400" y="3103560"/>
            <a:ext cx="291960" cy="285840"/>
            <a:chOff x="3578400" y="3103560"/>
            <a:chExt cx="291960" cy="285840"/>
          </a:xfrm>
        </p:grpSpPr>
        <p:pic>
          <p:nvPicPr>
            <p:cNvPr id="360" name="Oval 30" descr=""/>
            <p:cNvPicPr/>
            <p:nvPr/>
          </p:nvPicPr>
          <p:blipFill>
            <a:blip r:embed="rId10"/>
            <a:stretch/>
          </p:blipFill>
          <p:spPr>
            <a:xfrm>
              <a:off x="3578400" y="3103560"/>
              <a:ext cx="2919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662280" y="3159000"/>
              <a:ext cx="127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31"/>
          <p:cNvSpPr/>
          <p:nvPr/>
        </p:nvSpPr>
        <p:spPr>
          <a:xfrm rot="16200000">
            <a:off x="572040" y="2421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84 -0.02808 C 0.01875 -0.02777 0.02083 -0.02901 0.0217 -0.02901 C 0.02257 -0.02993 0.02344 -0.03024 0.02396 -0.03024 C 0.02552 -0.03086 0.02691 -0.03117 0.0283 -0.03117 C 0.03073 -0.03333 0.02917 -0.0324 0.03333 -0.03456 C 0.03611 -0.03611 0.03472 -0.03549 0.0375 -0.03672 C 0.04497 -0.03518 0.04184 -0.03981 0.04323 -0.0324 C 0.0434 -0.03117 0.04375 -0.03024 0.04392 -0.02901 C 0.04375 -0.01913 0.04358 -0.00895 0.04323 0.00186 C 0.04323 0.00402 0.04219 0.00834 0.04219 0.00865 C 0.04549 0.01142 0.04323 0.00834 0.04549 0.01482 C 0.04635 0.01698 0.04826 0.02099 0.04826 0.02161 C 0.04878 0.02562 0.04983 0.02871 0.04861 0.03395 C 0.04844 0.03488 0.04792 0.03488 0.04722 0.03612 C 0.04392 0.04044 0.04705 0.03612 0.04358 0.0392 C 0.04271 0.03951 0.04236 0.04074 0.04184 0.04136 C 0.04115 0.04167 0.04062 0.04167 0.03976 0.0426 C 0.03594 0.04568 0.03976 0.04352 0.03646 0.04568 C 0.03611 0.04568 0.0342 0.04661 0.03333 0.04784 C 0.03212 0.04939 0.03108 0.05124 0.02969 0.05309 C 0.02847 0.05432 0.02726 0.05525 0.02587 0.05649 C 0.02448 0.05679 0.02344 0.05741 0.0217 0.05865 C 0.02083 0.05741 0.01962 0.05741 0.0184 0.05649 C 0.01146 0.04784 0.02309 0.05741 0.0151 0.05093 C 0.01476 0.05031 0.01389 0.05 0.01337 0.05 C 0.00885 0.04784 0.00729 0.04815 0.00122 0.04784 C -0.00104 0.04784 -0.00365 0.04723 -0.00625 0.04877 C -0.00764 0.04939 -0.0066 0.05895 -0.00799 0.05957 L -0.01979 0.06266 C -0.02049 0.06328 -0.02153 0.06389 -0.0224 0.06482 C -0.02361 0.06513 -0.02483 0.06698 -0.02622 0.06821 C -0.02795 0.06914 -0.02951 0.07068 -0.03177 0.07253 C -0.03403 0.07346 -0.03281 0.07284 -0.03507 0.07439 C -0.03681 0.07377 -0.03872 0.07439 -0.04045 0.07346 C -0.04115 0.07284 -0.0408 0.0713 -0.04115 0.07037 C -0.04201 0.05093 -0.0408 0.06513 -0.04184 0.05525 C -0.04549 0.05525 -0.04896 0.05525 -0.0526 0.05649 C -0.0533 0.05649 -0.05382 0.05772 -0.05451 0.05865 C -0.05556 0.05895 -0.05677 0.05957 -0.05816 0.0605 C -0.05868 0.0605 -0.0592 0.06112 -0.05955 0.06173 C -0.06059 0.06173 -0.06146 0.06204 -0.0625 0.06266 C -0.06302 0.06266 -0.06389 0.06328 -0.06476 0.06389 C -0.06563 0.06482 -0.06632 0.06636 -0.06753 0.06821 C -0.06823 0.06852 -0.06892 0.06914 -0.06997 0.07037 C -0.07101 0.0713 -0.07205 0.07284 -0.07361 0.07439 C -0.07448 0.07562 -0.07552 0.07593 -0.07674 0.07778 C -0.07726 0.07809 -0.07795 0.07902 -0.07865 0.07994 C -0.07934 0.08025 -0.08003 0.08025 -0.08108 0.08087 C -0.08247 0.08303 -0.08247 0.08334 -0.0842 0.08519 C -0.08438 0.08519 -0.08524 0.0855 -0.08559 0.08642 C -0.08611 0.08457 -0.08663 0.08303 -0.08698 0.0821 C -0.08733 0.08087 -0.08733 0.07902 -0.0875 0.07871 C -0.08767 0.07716 -0.08802 0.07562 -0.08854 0.07439 C -0.08854 0.07253 -0.08872 0.07068 -0.08889 0.06914 C -0.08889 0.06729 -0.08924 0.06698 -0.08924 0.06605 C -0.08906 0.06328 -0.08872 0.06173 -0.08854 0.05957 L -0.08802 0.05525 C -0.08802 0.04723 -0.08993 0.03488 -0.08698 0.02747 C -0.08611 0.0247 -0.08438 0.02346 -0.08316 0.02315 C -0.08264 0.01698 -0.08229 0.01482 -0.08316 0.0071 C -0.08368 0.00494 -0.08438 0.00402 -0.08524 0.00309 C -0.08698 -0.00123 -0.08663 -0.0003 -0.08889 -0.00123 C -0.08924 -0.00308 -0.0901 -0.00432 -0.09063 -0.00555 C -0.0908 -0.00679 -0.0908 -0.00771 -0.0908 -0.00895 C -0.0908 -0.0108 -0.0908 -0.01265 -0.09063 -0.01419 C -0.08993 -0.01913 -0.08802 -0.01944 -0.08663 -0.0216 C -0.08576 -0.02284 -0.08559 -0.02345 -0.08524 -0.02376 C -0.0842 -0.02469 -0.08368 -0.02592 -0.08281 -0.02592 C -0.08142 -0.02685 -0.08021 -0.02685 -0.07917 -0.02685 C -0.07674 -0.02685 -0.07483 -0.02685 -0.07257 -0.02592 C -0.07153 -0.02592 -0.07066 -0.02469 -0.06997 -0.02376 C -0.06771 -0.02284 -0.06875 -0.02376 -0.06701 -0.02068 L -0.06319 -0.02901 C -0.06285 -0.03024 -0.0625 -0.03209 -0.06181 -0.0324 L -0.0592 -0.03672 L -0.05781 -0.03858 C -0.05503 -0.03827 -0.05243 -0.03827 -0.04983 -0.03672 C -0.04913 -0.03672 -0.04896 -0.03518 -0.04861 -0.03456 C -0.04792 -0.03395 -0.0474 -0.03395 -0.04705 -0.03333 C -0.04635 -0.03302 -0.04618 -0.0324 -0.04566 -0.03117 C -0.0441 -0.02901 -0.04392 -0.02993 -0.04253 -0.02808 C -0.04167 -0.02685 -0.0401 -0.02284 -0.03906 -0.02284 C -0.03819 -0.02345 -0.0375 -0.02469 -0.03681 -0.02592 C -0.03611 -0.02685 -0.03542 -0.02777 -0.03507 -0.02808 C -0.0342 -0.02901 -0.03368 -0.03086 -0.03316 -0.03117 C -0.03247 -0.0324 -0.03177 -0.03302 -0.03125 -0.03333 C -0.02726 -0.0395 -0.02986 -0.03672 -0.02726 -0.03858 C -0.02639 -0.03981 -0.02604 -0.04166 -0.02517 -0.04197 C -0.02292 -0.04444 -0.01875 -0.04259 -0.01736 -0.04197 C -0.01615 -0.04043 -0.01528 -0.0395 -0.01441 -0.03672 C -0.01163 -0.02685 -0.01667 -0.04043 -0.01302 -0.03024 C -0.01267 -0.02901 -0.01233 -0.02777 -0.01163 -0.02685 C -0.00382 -0.02592 0.00417 -0.02654 0.01198 -0.02592 C 0.01354 -0.02654 0.0151 -0.02592 0.01667 -0.02685 C 0.01736 -0.02777 0.01753 -0.02993 0.01806 -0.03024 C 0.0184 -0.03117 0.01892 -0.03209 0.01944 -0.0324 C 0.01979 -0.03302 0.02049 -0.03333 0.02083 -0.03333 C 0.02118 -0.03395 0.0184 -0.02901 0.0184 -0.02808 Z">
                                      <p:cBhvr>
                                        <p:cTn id="159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77778E-007 0.01605 C -0.00243 0.01605 -0.00781 0.0213 -0.01163 0.01605 C -0.01319 0.01328 -0.01128 0.00556 -0.01215 0.00186 C -0.01267 -0.00061 -0.01441 0.00124 -0.01545 0.00124 C -0.01615 0.00062 -0.01684 -0.0003 -0.01753 -0.0003 C -0.01771 -0.00247 -0.01788 -0.0037 -0.01788 -0.00524 C -0.01806 -0.00679 -0.01823 -0.00771 -0.01823 -0.00833 C -0.01875 -0.01574 -0.01875 -0.02222 -0.0191 -0.02901 C -0.01927 -0.03055 -0.02101 -0.03703 -0.02153 -0.03734 C -0.02292 -0.03827 -0.02413 -0.03827 -0.02517 -0.03827 C -0.025 -0.04074 -0.02483 -0.04382 -0.02413 -0.04598 C -0.02396 -0.04753 -0.02326 -0.04814 -0.02292 -0.04907 C -0.02205 -0.05185 -0.02222 -0.05185 -0.02153 -0.05555 C -0.0217 -0.05956 -0.0217 -0.06358 -0.02205 -0.06697 C -0.02222 -0.06882 -0.02274 -0.06913 -0.02292 -0.07037 C -0.02413 -0.07685 -0.02222 -0.07067 -0.02448 -0.07685 C -0.02448 -0.0787 -0.02448 -0.08086 -0.02413 -0.08209 C -0.02396 -0.08364 -0.02153 -0.0895 -0.02049 -0.09074 C -0.01979 -0.09166 -0.01788 -0.0929 -0.01788 -0.09197 C -0.01736 -0.09197 -0.01649 -0.09166 -0.0158 -0.09074 C -0.0151 -0.09012 -0.01458 -0.08827 -0.01372 -0.08765 C -0.01319 -0.08703 -0.01267 -0.08703 -0.01215 -0.08611 C -0.01076 -0.08395 -0.01076 -0.08364 -0.0092 -0.08209 C -0.00833 -0.08148 -0.00729 -0.08086 -0.00625 -0.07993 C -0.00174 -0.08271 -0.00642 -0.07963 -0.00243 -0.08333 C -0.00087 -0.08549 -0.00087 -0.08364 0.00087 -0.08611 C 0.00156 -0.08796 0.00191 -0.0895 0.00243 -0.09074 C 0.0033 -0.0929 0.00434 -0.09475 0.00538 -0.09598 C 0.00677 -0.09598 0.00781 -0.0966 0.0092 -0.09475 C 0.00972 -0.09444 0.01007 -0.09166 0.01076 -0.0895 C 0.01094 -0.08919 0.01181 -0.08827 0.01215 -0.08765 C 0.0125 -0.08703 0.01285 -0.08549 0.01337 -0.08395 L 0.01788 -0.08611 C 0.01858 -0.08703 0.0191 -0.08703 0.01997 -0.08765 C 0.02101 -0.08919 0.02222 -0.09012 0.02344 -0.09166 C 0.02413 -0.09351 0.02465 -0.09567 0.02569 -0.09598 C 0.02778 -0.09722 0.02691 -0.09691 0.02865 -0.09753 C 0.02934 -0.09722 0.03021 -0.09722 0.03073 -0.09598 C 0.03194 -0.09351 0.03229 -0.0895 0.03333 -0.08611 L 0.03455 -0.08209 C 0.03455 -0.08086 0.03455 -0.07993 0.03507 -0.0787 C 0.03576 -0.07685 0.03681 -0.0787 0.03785 -0.07993 C 0.03976 -0.08364 0.03889 -0.08271 0.0408 -0.08611 C 0.04149 -0.08827 0.04253 -0.09012 0.04375 -0.09166 C 0.04375 -0.09074 0.04375 -0.08919 0.0441 -0.08765 C 0.04635 -0.07284 0.04514 -0.08487 0.04618 -0.07469 C 0.04757 -0.07561 0.04913 -0.07623 0.05069 -0.07685 C 0.05868 -0.08209 0.04618 -0.07623 0.05538 -0.07993 C 0.05972 -0.08549 0.05625 -0.08209 0.06111 -0.08549 C 0.06198 -0.08611 0.0625 -0.08765 0.06372 -0.08765 C 0.0651 -0.08827 0.06701 -0.08919 0.06875 -0.0895 L 0.07101 -0.09074 C 0.0717 -0.09166 0.0724 -0.0929 0.07309 -0.0929 C 0.07587 -0.09382 0.07413 -0.08919 0.07535 -0.08395 C 0.07552 -0.08333 0.07622 -0.08209 0.07691 -0.08086 C 0.07726 -0.08055 0.0776 -0.08055 0.07812 -0.07993 C 0.08142 -0.07963 0.0849 -0.07963 0.08872 -0.0787 C 0.09028 -0.07685 0.09045 -0.07747 0.09201 -0.07253 C 0.09462 -0.06388 0.09236 -0.06821 0.09479 -0.06388 C 0.0974 -0.05123 0.09497 -0.06358 0.09601 -0.03209 C 0.09601 -0.03086 0.09618 -0.03055 0.09635 -0.02901 C 0.09635 -0.02747 0.09653 -0.02623 0.09705 -0.02469 C 0.09653 -0.02191 0.09635 -0.01913 0.09635 -0.01605 C 0.09618 -0.01481 0.09601 -0.01419 0.09601 -0.01265 C 0.09583 -0.01049 0.09583 -0.00802 0.09566 -0.00524 C 0.09531 -0.0037 0.09479 -0.00277 0.09444 -0.00092 C 0.09358 0.00062 0.09167 0.00525 0.09097 0.00679 C 0.08993 0.00741 0.08785 0.00834 0.08698 0.00957 C 0.08472 0.00834 0.08247 0.00926 0.08073 0.00741 C 0.07934 0.00679 0.07865 -0.0003 0.07812 -0.00247 C 0.0776 -0.00401 0.07656 -0.00771 0.07604 -0.00833 C 0.07552 -0.00956 0.07483 -0.00956 0.07448 -0.00956 C 0.07309 -0.00956 0.0717 -0.00956 0.07066 -0.00833 C 0.06892 -0.00802 0.06597 -0.0003 0.06528 0.00124 C 0.06406 0.00186 0.06302 0.00463 0.06198 0.00525 C 0.06128 0.00525 0.06076 0.00556 0.06042 0.00679 C 0.05625 0.01019 0.06094 0.0071 0.05642 0.00957 C 0.05486 0.00834 0.05347 0.00834 0.05208 0.00741 C 0.05104 0.00679 0.05069 0.00494 0.05035 0.00463 C 0.04913 0.00186 0.04774 0.00155 0.04705 -0.0003 C 0.04653 -0.00092 0.04618 -0.00247 0.04566 -0.00247 C 0.04514 -0.00308 0.04444 -0.00308 0.0441 -0.00308 C 0.04358 -0.00401 0.04271 -0.00493 0.04236 -0.00524 L 0.03611 -0.00247 C 0.03559 -0.00247 0.03507 -0.00123 0.03455 -0.00092 C 0.03056 0.00278 0.03524 -0.00061 0.03073 0.00186 C 0.02899 0.00463 0.02865 0.00494 0.02674 0.00679 C 0.02101 0.01019 0.02778 0.00463 0.0224 0.00957 C 0.02205 0.00957 0.02135 0.00957 0.02118 0.0105 C 0.02031 0.01204 0.01927 0.01266 0.01875 0.01482 C 0.0184 0.01605 0.01788 0.01698 0.01753 0.01821 C 0.01684 0.01852 0.01615 0.01852 0.0158 0.01976 C 0.01389 0.01852 0.01215 0.01852 0.01042 0.01821 C 0.00972 0.01791 0.00955 0.01605 0.0092 0.01605 C 0.00764 0.01451 0.00399 0.01389 0.00347 0.01389 C 0.00069 0.01112 0.00243 0.01574 2.77778E-007 0.01605 Z">
                                      <p:cBhvr>
                                        <p:cTn id="16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04083E-016 L 0.68715 -0.79074 E">
                                      <p:cBhvr>
                                        <p:cTn id="18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694 0.00309 C 0.00712 0.0034 0.00868 0.00247 0.00937 0.00247 C 0.01007 0.00216 0.01059 0.00185 0.01111 0.00185 C 0.01215 0.00155 0.01319 0.00124 0.01423 0.00124 C 0.01614 -2.34568000000005E-006 0.01493 0.00062 0.01805 -0.00061 C 0.02014 -0.00154 0.01909 -0.00123 0.02118 -0.00185 C 0.02673 -0.00092 0.0243 -0.0037 0.02534 0.00062 C 0.02552 0.00124 0.02587 0.00185 0.02604 0.00247 C 0.02587 0.00834 0.02569 0.0142 0.02534 0.02037 C 0.02534 0.02161 0.02465 0.02408 0.02465 0.02439 C 0.02708 0.02593 0.02534 0.02408 0.02708 0.02778 C 0.02778 0.02901 0.02916 0.03148 0.02916 0.03179 C 0.02969 0.03426 0.03038 0.0358 0.02951 0.03889 C 0.02934 0.03951 0.02882 0.03951 0.02847 0.04013 C 0.02604 0.04259 0.0283 0.04013 0.02569 0.04198 C 0.02517 0.04229 0.02482 0.0429 0.0243 0.04321 C 0.02396 0.04352 0.02344 0.04352 0.02291 0.04383 C 0.01996 0.04568 0.02291 0.04445 0.02048 0.04568 C 0.02014 0.04568 0.01857 0.0463 0.01805 0.04692 C 0.01719 0.04784 0.01632 0.04908 0.01528 0.05 C 0.01441 0.05062 0.01354 0.05124 0.0125 0.05185 C 0.01146 0.05216 0.01059 0.05247 0.00937 0.05309 C 0.00868 0.05247 0.00781 0.05247 0.00694 0.05185 C 0.00173 0.04692 0.01041 0.05247 0.00451 0.04877 C 0.00416 0.04846 0.00364 0.04815 0.00312 0.04815 C -0.00018 0.04692 -0.00139 0.04722 -0.00591 0.04692 C -0.00764 0.04692 -0.00955 0.04661 -0.01146 0.04753 C -0.0125 0.04784 -0.01181 0.0534 -0.01285 0.05371 L -0.02153 0.05556 C -0.02222 0.05587 -0.02292 0.05618 -0.02361 0.05679 C -0.02448 0.0571 -0.02535 0.05803 -0.02639 0.05864 C -0.02778 0.05926 -0.029 0.06019 -0.03056 0.06111 C -0.03229 0.06173 -0.03143 0.06142 -0.03299 0.06235 C -0.03438 0.06204 -0.03577 0.06235 -0.03716 0.06173 C -0.0375 0.06142 -0.03733 0.0605 -0.0375 0.05988 C -0.03837 0.04877 -0.03733 0.0571 -0.0382 0.05124 C -0.0408 0.05124 -0.04341 0.05124 -0.04618 0.05185 C -0.0467 0.05185 -0.04705 0.05278 -0.04757 0.05309 C -0.04844 0.0534 -0.04931 0.05371 -0.05035 0.05432 C -0.0507 0.05432 -0.05104 0.05463 -0.05139 0.05494 C -0.05209 0.05494 -0.05278 0.05525 -0.05347 0.05556 C -0.054 0.05556 -0.05452 0.05587 -0.05521 0.05618 C -0.05591 0.05679 -0.05643 0.05772 -0.05729 0.05864 C -0.05781 0.05895 -0.05834 0.05926 -0.05903 0.05988 C -0.0599 0.0605 -0.06077 0.06142 -0.06181 0.06235 C -0.0625 0.06297 -0.06337 0.06327 -0.06424 0.0642 C -0.06459 0.06451 -0.06511 0.06513 -0.06563 0.06543 C -0.06615 0.06574 -0.06667 0.06574 -0.06736 0.06605 C -0.06841 0.06729 -0.06841 0.06759 -0.06979 0.06852 C -0.06997 0.06852 -0.07049 0.06883 -0.07084 0.06914 C -0.07118 0.06821 -0.07153 0.06729 -0.07188 0.06667 C -0.07205 0.06605 -0.07205 0.06513 -0.07222 0.06482 C -0.0724 0.06389 -0.07257 0.06297 -0.07292 0.06235 C -0.07292 0.06111 -0.07309 0.06019 -0.07327 0.05926 C -0.07327 0.05834 -0.07361 0.05803 -0.07361 0.05741 C -0.07344 0.05587 -0.07309 0.05494 -0.07292 0.05371 L -0.07257 0.05124 C -0.07257 0.04661 -0.07396 0.03951 -0.07188 0.03519 C -0.07118 0.03364 -0.06997 0.03303 -0.0691 0.03272 C -0.06858 0.02901 -0.06823 0.02778 -0.0691 0.02346 C -0.06927 0.02222 -0.06997 0.02161 -0.07049 0.02099 C -0.07188 0.01852 -0.07153 0.01914 -0.07327 0.01852 C -0.07361 0.01759 -0.07413 0.01698 -0.07466 0.01605 C -0.07483 0.01543 -0.07483 0.01482 -0.07483 0.0142 C -0.07483 0.01297 -0.07483 0.01204 -0.07466 0.01111 C -0.07396 0.00834 -0.07257 0.00803 -0.07153 0.00679 C -0.07101 0.00618 -0.07084 0.00587 -0.07049 0.00556 C -0.06979 0.00494 -0.06927 0.00432 -0.06875 0.00432 C -0.06771 0.00371 -0.06684 0.00371 -0.06597 0.00371 C -0.06424 0.00371 -0.06268 0.00371 -0.06111 0.00432 C -0.06025 0.00432 -0.05972 0.00494 -0.05903 0.00556 C -0.05747 0.00618 -0.05816 0.00556 -0.05695 0.00741 L -0.05417 0.00247 C -0.05382 0.00185 -0.05347 0.00093 -0.05313 0.00062 L -0.05104 -0.00185 L -0.05 -0.00308 C -0.04792 -0.00278 -0.04601 -0.00278 -0.0441 -0.00185 C -0.04358 -0.00185 -0.04341 -0.00092 -0.04306 -0.00061 C -0.04271 -0.00031 -0.04219 -0.00031 -0.04202 -2.34568E-006 C -0.0415 0.00031 -0.04132 0.00062 -0.04097 0.00124 C -0.03976 0.00247 -0.03959 0.00216 -0.03854 0.00309 C -0.03802 0.00371 -0.03681 0.00618 -0.03611 0.00618 C -0.03542 0.00587 -0.0349 0.00494 -0.03438 0.00432 C -0.03386 0.00371 -0.03334 0.0034 -0.03299 0.00309 C -0.03247 0.00247 -0.03195 0.00155 -0.0316 0.00124 C -0.03108 0.00062 -0.03056 0.00031 -0.03021 -2.34568E-006 C -0.02709 -0.00339 -0.02917 -0.00185 -0.02709 -0.00308 C -0.02656 -0.0037 -0.02622 -0.00463 -0.0257 -0.00494 C -0.02396 -0.00648 -0.02084 -0.00524 -0.01979 -0.00494 C -0.01893 -0.00401 -0.01823 -0.00339 -0.01771 -0.00185 C -0.01563 0.00371 -0.01927 -0.00401 -0.01667 0.00185 C -0.01632 0.00247 -0.01597 0.0034 -0.01563 0.00371 C -0.00972 0.00432 -0.00382 0.00401 0.00208 0.00432 C 0.0033 0.00401 0.00451 0.00432 0.00555 0.00371 C 0.00607 0.0034 0.00625 0.00216 0.00659 0.00185 C 0.00694 0.00124 0.00729 0.00093 0.00764 0.00062 C 0.00798 0.00031 0.00833 -2.34568E-006 0.00868 -2.34568E-006 C 0.00903 -0.00031 0.00694 0.00247 0.00694 0.00309 Z">
                                      <p:cBhvr>
                                        <p:cTn id="20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2.5E-006 -2.46914E-006 C -0.00209 -2.46914E-006 -0.0066 0.00309 -0.00972 -2.46914E-006 C -0.01111 -0.00154 -0.00938 -0.00586 -0.01007 -0.00802 C -0.01059 -0.00957 -0.01198 -0.00864 -0.01285 -0.00864 C -0.01354 -0.00895 -0.01406 -0.00926 -0.01459 -0.00926 C -0.01476 -0.01049 -0.01493 -0.01142 -0.01493 -0.01234 C -0.01511 -0.01327 -0.01528 -0.01358 -0.01528 -0.0142 C -0.01563 -0.01821 -0.01563 -0.02222 -0.01597 -0.02592 C -0.01615 -0.02685 -0.01754 -0.03055 -0.01806 -0.03086 C -0.0191 -0.03148 -0.02014 -0.03148 -0.02118 -0.03148 C -0.02101 -0.03302 -0.02084 -0.03457 -0.02014 -0.0358 C -0.01997 -0.03673 -0.01945 -0.03703 -0.0191 -0.03765 C -0.01841 -0.0395 -0.01858 -0.0395 -0.01806 -0.04136 C -0.01823 -0.04382 -0.01823 -0.04599 -0.01841 -0.04815 C -0.01858 -0.04907 -0.01893 -0.04938 -0.0191 -0.05 C -0.02014 -0.0537 -0.01858 -0.05031 -0.02049 -0.0537 C -0.02049 -0.05494 -0.02049 -0.05617 -0.02014 -0.05679 C -0.01997 -0.05771 -0.01806 -0.06111 -0.01702 -0.06173 C -0.0165 -0.06234 -0.01493 -0.06296 -0.01493 -0.06265 C -0.01441 -0.06265 -0.01389 -0.06234 -0.0132 -0.06173 C -0.01268 -0.06142 -0.01216 -0.06049 -0.01146 -0.05987 C -0.01111 -0.05957 -0.01059 -0.05957 -0.01007 -0.05926 C -0.00903 -0.05802 -0.00903 -0.05771 -0.00764 -0.05679 C -0.00695 -0.05648 -0.00608 -0.05617 -0.00521 -0.05555 C -0.00156 -0.0571 -0.00538 -0.05524 -0.00209 -0.0574 C -0.0007 -0.05864 -0.0007 -0.05771 0.00069 -0.05926 C 0.00121 -0.06018 0.00156 -0.06111 0.00208 -0.06173 C 0.0026 -0.06296 0.00364 -0.0642 0.00451 -0.06481 C 0.00555 -0.06481 0.00659 -0.06512 0.00764 -0.0642 C 0.00816 -0.06389 0.00833 -0.06234 0.00903 -0.06111 C 0.0092 -0.0608 0.00972 -0.06049 0.01007 -0.05987 C 0.01041 -0.05957 0.01076 -0.05864 0.01111 -0.05802 L 0.01493 -0.05926 C 0.01545 -0.05957 0.01597 -0.05957 0.01666 -0.05987 C 0.01753 -0.0608 0.01857 -0.06142 0.01944 -0.06234 C 0.02014 -0.06327 0.02066 -0.0645 0.02153 -0.06481 C 0.02326 -0.06574 0.02239 -0.06543 0.02396 -0.06605 C 0.02448 -0.06574 0.02517 -0.06574 0.02569 -0.06481 C 0.02656 -0.06327 0.02691 -0.06111 0.02778 -0.05926 L 0.02882 -0.05679 C 0.02882 -0.05617 0.02882 -0.05555 0.02916 -0.05494 C 0.02986 -0.0537 0.03073 -0.05494 0.03159 -0.05555 C 0.03333 -0.05771 0.03246 -0.0571 0.03403 -0.05926 C 0.03472 -0.06049 0.03559 -0.06142 0.03646 -0.06234 C 0.03646 -0.06173 0.03646 -0.0608 0.0368 -0.05987 C 0.03871 -0.05154 0.03767 -0.05833 0.03854 -0.05247 C 0.03975 -0.05308 0.04097 -0.05339 0.04236 -0.0537 C 0.04896 -0.05679 0.03854 -0.05339 0.04618 -0.05555 C 0.05 -0.05864 0.04705 -0.05679 0.05104 -0.05864 C 0.05173 -0.05926 0.05225 -0.05987 0.05312 -0.05987 C 0.05434 -0.06049 0.0559 -0.0608 0.05729 -0.06111 L 0.05937 -0.06173 C 0.05989 -0.06234 0.06041 -0.06296 0.06111 -0.06296 C 0.06337 -0.06358 0.06198 -0.0608 0.06284 -0.05802 C 0.06302 -0.0574 0.06371 -0.05679 0.06423 -0.05617 C 0.06441 -0.05586 0.06475 -0.05586 0.06528 -0.05555 C 0.06805 -0.05524 0.071 -0.05524 0.07396 -0.05494 C 0.07534 -0.0537 0.07552 -0.05401 0.07673 -0.05123 C 0.07899 -0.04629 0.07708 -0.04876 0.07916 -0.04629 C 0.08125 -0.03889 0.07934 -0.04599 0.08021 -0.02778 C 0.08021 -0.02716 0.08038 -0.02685 0.08055 -0.02592 C 0.08055 -0.02531 0.08073 -0.02438 0.0809 -0.02345 C 0.08073 -0.02191 0.08055 -0.02037 0.08055 -0.01852 C 0.08038 -0.0179 0.08021 -0.01759 0.08021 -0.01666 C 0.08003 -0.01543 0.08003 -0.01389 0.07986 -0.01234 C 0.07951 -0.01142 0.07916 -0.0108 0.07882 -0.00987 C 0.07812 -0.00895 0.07656 -0.00617 0.07604 -0.00555 C 0.07517 -0.00494 0.07344 -0.00432 0.07257 -0.0037 C 0.07083 -0.00432 0.06892 -0.00401 0.06736 -0.00494 C 0.06632 -0.00555 0.06562 -0.00926 0.06528 -0.01049 C 0.06475 -0.01173 0.06406 -0.01358 0.06354 -0.0142 C 0.06302 -0.01481 0.0625 -0.01481 0.06215 -0.01481 C 0.06111 -0.01481 0.05989 -0.01481 0.05903 -0.0142 C 0.05746 -0.01389 0.05503 -0.00926 0.05451 -0.00864 C 0.05347 -0.00802 0.0526 -0.00679 0.05173 -0.00617 C 0.05121 -0.00617 0.05069 -0.00586 0.05034 -0.00555 C 0.04705 -0.00339 0.05087 -0.00524 0.04722 -0.0037 C 0.04583 -0.00432 0.04462 -0.00432 0.0434 -0.00494 C 0.04271 -0.00555 0.04236 -0.00648 0.04201 -0.00679 C 0.04097 -0.00802 0.03993 -0.00833 0.03923 -0.00926 C 0.03889 -0.00987 0.03854 -0.01049 0.03819 -0.01049 C 0.03767 -0.01111 0.03715 -0.01111 0.0368 -0.01111 C 0.03628 -0.01173 0.03576 -0.01203 0.03541 -0.01234 L 0.03021 -0.01049 C 0.02969 -0.01049 0.02916 -0.01018 0.02882 -0.00987 C 0.02552 -0.00771 0.02934 -0.00957 0.02569 -0.00802 C 0.02413 -0.00679 0.02396 -0.00648 0.02222 -0.00555 C 0.01753 -0.00339 0.02326 -0.00679 0.01875 -0.0037 C 0.0184 -0.0037 0.01788 -0.0037 0.01771 -0.00308 C 0.01684 -0.00247 0.01614 -0.00185 0.01562 -0.00061 C 0.01528 -2.46914000000004E-006 0.01493 0.00062 0.01458 0.00124 C 0.01406 0.00155 0.01354 0.00155 0.01319 0.00185 C 0.01163 0.00155 0.01007 0.00155 0.00868 0.00124 C 0.00816 0.00093 0.00798 -2.46914E-006 0.00764 -2.46914E-006 C 0.00642 -0.00092 0.0033 -0.00123 0.00278 -0.00123 C 0.00052 -0.00278 0.00208 -0.00031 2.5E-006 -2.46914E-006 Z">
                                      <p:cBhvr>
                                        <p:cTn id="20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ounded Rectangle 1"/>
          <p:cNvSpPr/>
          <p:nvPr/>
        </p:nvSpPr>
        <p:spPr>
          <a:xfrm>
            <a:off x="1455840" y="3687840"/>
            <a:ext cx="5867280" cy="10317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Museo Slab 700"/>
                <a:ea typeface="Museo Slab 700"/>
              </a:rPr>
              <a:t>Lumin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5-amino-2,3-dihydro-1,4-phthalazined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16"/>
          <p:cNvGrpSpPr/>
          <p:nvPr/>
        </p:nvGrpSpPr>
        <p:grpSpPr>
          <a:xfrm>
            <a:off x="1506600" y="355680"/>
            <a:ext cx="2303640" cy="2328840"/>
            <a:chOff x="1506600" y="355680"/>
            <a:chExt cx="2303640" cy="2328840"/>
          </a:xfrm>
        </p:grpSpPr>
        <p:sp>
          <p:nvSpPr>
            <p:cNvPr id="365" name="Rounded Rectangle 4"/>
            <p:cNvSpPr/>
            <p:nvPr/>
          </p:nvSpPr>
          <p:spPr>
            <a:xfrm>
              <a:off x="2141640" y="35568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0432ff">
                <a:alpha val="20000"/>
              </a:srgbClr>
            </a:solidFill>
            <a:ln w="76320">
              <a:solidFill>
                <a:srgbClr val="043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32ff"/>
                  </a:solidFill>
                  <a:latin typeface="Museo Slab 700"/>
                  <a:ea typeface="Museo Slab 700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ounded Rectangle 7"/>
            <p:cNvSpPr/>
            <p:nvPr/>
          </p:nvSpPr>
          <p:spPr>
            <a:xfrm>
              <a:off x="1506600" y="189252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d9d9d9"/>
            </a:solidFill>
            <a:ln w="7632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62626"/>
                  </a:solidFill>
                  <a:latin typeface="Museo Slab 700"/>
                  <a:ea typeface="Museo Slab 700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67" name="Straight Arrow Connector 9"/>
            <p:cNvCxnSpPr/>
            <p:nvPr/>
          </p:nvCxnSpPr>
          <p:spPr>
            <a:xfrm flipV="1">
              <a:off x="2412360" y="1765080"/>
              <a:ext cx="762840" cy="44496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  <p:cxnSp>
          <p:nvCxnSpPr>
            <p:cNvPr id="368" name="Straight Arrow Connector 10"/>
            <p:cNvCxnSpPr/>
            <p:nvPr/>
          </p:nvCxnSpPr>
          <p:spPr>
            <a:xfrm>
              <a:off x="3035160" y="787320"/>
              <a:ext cx="775440" cy="640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</p:grpSp>
      <p:grpSp>
        <p:nvGrpSpPr>
          <p:cNvPr id="369" name="Group 17"/>
          <p:cNvGrpSpPr/>
          <p:nvPr/>
        </p:nvGrpSpPr>
        <p:grpSpPr>
          <a:xfrm>
            <a:off x="5460120" y="393840"/>
            <a:ext cx="1905840" cy="2349360"/>
            <a:chOff x="5460120" y="393840"/>
            <a:chExt cx="1905840" cy="2349360"/>
          </a:xfrm>
        </p:grpSpPr>
        <p:sp>
          <p:nvSpPr>
            <p:cNvPr id="370" name="Rounded Rectangle 5"/>
            <p:cNvSpPr/>
            <p:nvPr/>
          </p:nvSpPr>
          <p:spPr>
            <a:xfrm>
              <a:off x="6573960" y="187956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f2f2f2"/>
            </a:solidFill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Museo Slab 700"/>
                  <a:ea typeface="Museo Slab 700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ounded Rectangle 6"/>
            <p:cNvSpPr/>
            <p:nvPr/>
          </p:nvSpPr>
          <p:spPr>
            <a:xfrm>
              <a:off x="5989680" y="393840"/>
              <a:ext cx="792000" cy="792000"/>
            </a:xfrm>
            <a:prstGeom prst="roundRect">
              <a:avLst>
                <a:gd name="adj" fmla="val 10255"/>
              </a:avLst>
            </a:prstGeom>
            <a:solidFill>
              <a:srgbClr val="ff0000">
                <a:alpha val="2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72" name="Straight Arrow Connector 12"/>
            <p:cNvCxnSpPr/>
            <p:nvPr/>
          </p:nvCxnSpPr>
          <p:spPr>
            <a:xfrm flipH="1">
              <a:off x="5460120" y="850680"/>
              <a:ext cx="407160" cy="766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  <p:cxnSp>
          <p:nvCxnSpPr>
            <p:cNvPr id="373" name="Straight Arrow Connector 14"/>
            <p:cNvCxnSpPr/>
            <p:nvPr/>
          </p:nvCxnSpPr>
          <p:spPr>
            <a:xfrm flipH="1">
              <a:off x="5968440" y="2425680"/>
              <a:ext cx="496080" cy="317880"/>
            </a:xfrm>
            <a:prstGeom prst="straightConnector1">
              <a:avLst/>
            </a:prstGeom>
            <a:ln w="31680">
              <a:solidFill>
                <a:srgbClr val="0d0d0d"/>
              </a:solidFill>
              <a:miter/>
              <a:tailEnd len="med" type="triangle" w="med"/>
            </a:ln>
          </p:spPr>
        </p:cxnSp>
      </p:grpSp>
      <p:pic>
        <p:nvPicPr>
          <p:cNvPr id="374" name="Picture 13" descr=""/>
          <p:cNvPicPr/>
          <p:nvPr/>
        </p:nvPicPr>
        <p:blipFill>
          <a:blip r:embed="rId1"/>
          <a:stretch/>
        </p:blipFill>
        <p:spPr>
          <a:xfrm rot="494400">
            <a:off x="2687760" y="338040"/>
            <a:ext cx="35352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1"/>
          <p:cNvGrpSpPr/>
          <p:nvPr/>
        </p:nvGrpSpPr>
        <p:grpSpPr>
          <a:xfrm>
            <a:off x="2421000" y="-89280"/>
            <a:ext cx="5331960" cy="2014920"/>
            <a:chOff x="2421000" y="-89280"/>
            <a:chExt cx="5331960" cy="2014920"/>
          </a:xfrm>
        </p:grpSpPr>
        <p:sp>
          <p:nvSpPr>
            <p:cNvPr id="376" name="Rounded Rectangle 3"/>
            <p:cNvSpPr/>
            <p:nvPr/>
          </p:nvSpPr>
          <p:spPr>
            <a:xfrm>
              <a:off x="2421000" y="893880"/>
              <a:ext cx="4170240" cy="103176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10000"/>
              </a:srgbClr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Museo Slab 700"/>
                  <a:ea typeface="Museo Slab 700"/>
                </a:rPr>
                <a:t>oxidising ag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b050"/>
                  </a:solidFill>
                  <a:latin typeface="Museo Sans 500"/>
                  <a:ea typeface="Museo Sans 500"/>
                </a:rPr>
                <a:t>hydrogen peroxid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7" name="Picture 6" descr=""/>
            <p:cNvPicPr/>
            <p:nvPr/>
          </p:nvPicPr>
          <p:blipFill>
            <a:blip r:embed="rId1"/>
            <a:stretch/>
          </p:blipFill>
          <p:spPr>
            <a:xfrm rot="1614000">
              <a:off x="5975280" y="201600"/>
              <a:ext cx="1582920" cy="12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Group 12"/>
          <p:cNvGrpSpPr/>
          <p:nvPr/>
        </p:nvGrpSpPr>
        <p:grpSpPr>
          <a:xfrm>
            <a:off x="1206720" y="1562760"/>
            <a:ext cx="5410080" cy="2261160"/>
            <a:chOff x="1206720" y="1562760"/>
            <a:chExt cx="5410080" cy="2261160"/>
          </a:xfrm>
        </p:grpSpPr>
        <p:sp>
          <p:nvSpPr>
            <p:cNvPr id="379" name="Rounded Rectangle 4"/>
            <p:cNvSpPr/>
            <p:nvPr/>
          </p:nvSpPr>
          <p:spPr>
            <a:xfrm>
              <a:off x="2446920" y="2240280"/>
              <a:ext cx="4169880" cy="1031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cataly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copper(II) 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0" name="Picture 8" descr=""/>
            <p:cNvPicPr/>
            <p:nvPr/>
          </p:nvPicPr>
          <p:blipFill>
            <a:blip r:embed="rId2"/>
            <a:stretch/>
          </p:blipFill>
          <p:spPr>
            <a:xfrm rot="20958600">
              <a:off x="1374480" y="1706400"/>
              <a:ext cx="1735560" cy="197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13"/>
          <p:cNvGrpSpPr/>
          <p:nvPr/>
        </p:nvGrpSpPr>
        <p:grpSpPr>
          <a:xfrm>
            <a:off x="2446200" y="3045240"/>
            <a:ext cx="5414040" cy="2212200"/>
            <a:chOff x="2446200" y="3045240"/>
            <a:chExt cx="5414040" cy="2212200"/>
          </a:xfrm>
        </p:grpSpPr>
        <p:sp>
          <p:nvSpPr>
            <p:cNvPr id="382" name="Rounded Rectangle 5"/>
            <p:cNvSpPr/>
            <p:nvPr/>
          </p:nvSpPr>
          <p:spPr>
            <a:xfrm>
              <a:off x="2446200" y="3651120"/>
              <a:ext cx="4170240" cy="103032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alkal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am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3" name="Picture 10" descr=""/>
            <p:cNvPicPr/>
            <p:nvPr/>
          </p:nvPicPr>
          <p:blipFill>
            <a:blip r:embed="rId3"/>
            <a:stretch/>
          </p:blipFill>
          <p:spPr>
            <a:xfrm rot="2366400">
              <a:off x="5874120" y="3427200"/>
              <a:ext cx="1722240" cy="14475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00"/>
              </a:outerShdw>
            </a:effectLst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992160" y="627120"/>
            <a:ext cx="7542360" cy="4102200"/>
          </a:xfrm>
          <a:prstGeom prst="rect">
            <a:avLst/>
          </a:prstGeom>
          <a:ln w="0">
            <a:noFill/>
          </a:ln>
        </p:spPr>
      </p:pic>
      <p:sp>
        <p:nvSpPr>
          <p:cNvPr id="385" name="Rounded Rectangle 16"/>
          <p:cNvSpPr/>
          <p:nvPr/>
        </p:nvSpPr>
        <p:spPr>
          <a:xfrm>
            <a:off x="8010360" y="1204920"/>
            <a:ext cx="317520" cy="717480"/>
          </a:xfrm>
          <a:custGeom>
            <a:avLst/>
            <a:gdLst>
              <a:gd name="textAreaLeft" fmla="*/ 15480 w 317520"/>
              <a:gd name="textAreaRight" fmla="*/ 302040 w 317520"/>
              <a:gd name="textAreaTop" fmla="*/ 15480 h 717480"/>
              <a:gd name="textAreaBottom" fmla="*/ 702000 h 717480"/>
            </a:gdLst>
            <a:ahLst/>
            <a:rect l="textAreaLeft" t="textAreaTop" r="textAreaRight" b="textAreaBottom"/>
            <a:pathLst>
              <a:path w="21600" h="48777">
                <a:moveTo>
                  <a:pt x="3600" y="0"/>
                </a:moveTo>
                <a:arcTo wR="3600" hR="3600" stAng="16200000" swAng="-5400000"/>
                <a:lnTo>
                  <a:pt x="0" y="45177"/>
                </a:lnTo>
                <a:arcTo wR="3600" hR="3600" stAng="10800000" swAng="-5400000"/>
                <a:lnTo>
                  <a:pt x="18000" y="48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94760"/>
            <a:ext cx="64803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The reaction is an </a:t>
            </a:r>
            <a:r>
              <a:rPr b="0" lang="en-US" sz="32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oxidation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pic>
        <p:nvPicPr>
          <p:cNvPr id="387" name="Picture 17" descr=""/>
          <p:cNvPicPr/>
          <p:nvPr/>
        </p:nvPicPr>
        <p:blipFill>
          <a:blip r:embed="rId2"/>
          <a:stretch/>
        </p:blipFill>
        <p:spPr>
          <a:xfrm>
            <a:off x="4100400" y="3863880"/>
            <a:ext cx="943200" cy="560520"/>
          </a:xfrm>
          <a:prstGeom prst="rect">
            <a:avLst/>
          </a:prstGeom>
          <a:ln w="0">
            <a:noFill/>
          </a:ln>
        </p:spPr>
      </p:pic>
      <p:pic>
        <p:nvPicPr>
          <p:cNvPr id="388" name="Title 2" descr=""/>
          <p:cNvPicPr/>
          <p:nvPr/>
        </p:nvPicPr>
        <p:blipFill>
          <a:blip r:embed="rId3"/>
          <a:stretch/>
        </p:blipFill>
        <p:spPr>
          <a:xfrm>
            <a:off x="2627280" y="4290840"/>
            <a:ext cx="424980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9"/>
          <p:cNvGrpSpPr/>
          <p:nvPr/>
        </p:nvGrpSpPr>
        <p:grpSpPr>
          <a:xfrm>
            <a:off x="5326200" y="320760"/>
            <a:ext cx="3585960" cy="1877760"/>
            <a:chOff x="5326200" y="320760"/>
            <a:chExt cx="3585960" cy="1877760"/>
          </a:xfrm>
        </p:grpSpPr>
        <p:pic>
          <p:nvPicPr>
            <p:cNvPr id="390" name="Picture 2" descr=""/>
            <p:cNvPicPr/>
            <p:nvPr/>
          </p:nvPicPr>
          <p:blipFill>
            <a:blip r:embed="rId1"/>
            <a:stretch/>
          </p:blipFill>
          <p:spPr>
            <a:xfrm>
              <a:off x="5326200" y="320760"/>
              <a:ext cx="358596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7"/>
            <p:cNvSpPr/>
            <p:nvPr/>
          </p:nvSpPr>
          <p:spPr>
            <a:xfrm>
              <a:off x="5728680" y="340200"/>
              <a:ext cx="19764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Group 11"/>
          <p:cNvGrpSpPr/>
          <p:nvPr/>
        </p:nvGrpSpPr>
        <p:grpSpPr>
          <a:xfrm>
            <a:off x="1046160" y="-89280"/>
            <a:ext cx="5331960" cy="2014920"/>
            <a:chOff x="1046160" y="-89280"/>
            <a:chExt cx="5331960" cy="2014920"/>
          </a:xfrm>
        </p:grpSpPr>
        <p:sp>
          <p:nvSpPr>
            <p:cNvPr id="393" name="Rounded Rectangle 3"/>
            <p:cNvSpPr/>
            <p:nvPr/>
          </p:nvSpPr>
          <p:spPr>
            <a:xfrm>
              <a:off x="1046160" y="893880"/>
              <a:ext cx="4170240" cy="1031760"/>
            </a:xfrm>
            <a:prstGeom prst="roundRect">
              <a:avLst>
                <a:gd name="adj" fmla="val 16667"/>
              </a:avLst>
            </a:prstGeom>
            <a:solidFill>
              <a:srgbClr val="00b050">
                <a:alpha val="10000"/>
              </a:srgbClr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b050"/>
                  </a:solidFill>
                  <a:latin typeface="Museo Slab 700"/>
                  <a:ea typeface="Museo Slab 700"/>
                </a:rPr>
                <a:t>oxidising agen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b050"/>
                  </a:solidFill>
                  <a:latin typeface="Museo Sans 500"/>
                  <a:ea typeface="Museo Sans 500"/>
                </a:rPr>
                <a:t>hydrogen peroxid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6" descr=""/>
            <p:cNvPicPr/>
            <p:nvPr/>
          </p:nvPicPr>
          <p:blipFill>
            <a:blip r:embed="rId2"/>
            <a:stretch/>
          </p:blipFill>
          <p:spPr>
            <a:xfrm rot="1614000">
              <a:off x="4600440" y="201600"/>
              <a:ext cx="1582920" cy="12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Group 12"/>
          <p:cNvGrpSpPr/>
          <p:nvPr/>
        </p:nvGrpSpPr>
        <p:grpSpPr>
          <a:xfrm>
            <a:off x="-168120" y="1562760"/>
            <a:ext cx="5410080" cy="2261160"/>
            <a:chOff x="-168120" y="1562760"/>
            <a:chExt cx="5410080" cy="2261160"/>
          </a:xfrm>
        </p:grpSpPr>
        <p:sp>
          <p:nvSpPr>
            <p:cNvPr id="396" name="Rounded Rectangle 4"/>
            <p:cNvSpPr/>
            <p:nvPr/>
          </p:nvSpPr>
          <p:spPr>
            <a:xfrm>
              <a:off x="1072080" y="2240280"/>
              <a:ext cx="4169880" cy="10314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Museo Slab 700"/>
                  <a:ea typeface="Museo Slab 700"/>
                </a:rPr>
                <a:t>cataly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Museo Sans 500"/>
                  <a:ea typeface="Museo Sans 500"/>
                </a:rPr>
                <a:t>copper(II) 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7" name="Picture 8" descr=""/>
            <p:cNvPicPr/>
            <p:nvPr/>
          </p:nvPicPr>
          <p:blipFill>
            <a:blip r:embed="rId3"/>
            <a:stretch/>
          </p:blipFill>
          <p:spPr>
            <a:xfrm rot="20958600">
              <a:off x="0" y="1706400"/>
              <a:ext cx="1735560" cy="197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Group 13"/>
          <p:cNvGrpSpPr/>
          <p:nvPr/>
        </p:nvGrpSpPr>
        <p:grpSpPr>
          <a:xfrm>
            <a:off x="1071720" y="3045240"/>
            <a:ext cx="5414760" cy="2212200"/>
            <a:chOff x="1071720" y="3045240"/>
            <a:chExt cx="5414760" cy="2212200"/>
          </a:xfrm>
        </p:grpSpPr>
        <p:sp>
          <p:nvSpPr>
            <p:cNvPr id="399" name="Rounded Rectangle 5"/>
            <p:cNvSpPr/>
            <p:nvPr/>
          </p:nvSpPr>
          <p:spPr>
            <a:xfrm>
              <a:off x="1071720" y="3651120"/>
              <a:ext cx="4170960" cy="1030320"/>
            </a:xfrm>
            <a:prstGeom prst="roundRect">
              <a:avLst>
                <a:gd name="adj" fmla="val 16667"/>
              </a:avLst>
            </a:prstGeom>
            <a:solidFill>
              <a:srgbClr val="f79646">
                <a:alpha val="10000"/>
              </a:srgbClr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79646"/>
                  </a:solidFill>
                  <a:latin typeface="Museo Slab 700"/>
                  <a:ea typeface="Museo Slab 700"/>
                </a:rPr>
                <a:t>alkal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79646"/>
                  </a:solidFill>
                  <a:latin typeface="Museo Sans 500"/>
                  <a:ea typeface="Museo Sans 500"/>
                </a:rPr>
                <a:t>am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0" name="Picture 10" descr=""/>
            <p:cNvPicPr/>
            <p:nvPr/>
          </p:nvPicPr>
          <p:blipFill>
            <a:blip r:embed="rId4"/>
            <a:stretch/>
          </p:blipFill>
          <p:spPr>
            <a:xfrm rot="2366400">
              <a:off x="4500000" y="3427560"/>
              <a:ext cx="1722600" cy="14475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00"/>
              </a:outerShdw>
            </a:effectLst>
          </p:spPr>
        </p:pic>
      </p:grpSp>
      <p:sp>
        <p:nvSpPr>
          <p:cNvPr id="401" name="Down Arrow 14"/>
          <p:cNvSpPr/>
          <p:nvPr/>
        </p:nvSpPr>
        <p:spPr>
          <a:xfrm>
            <a:off x="6653160" y="176040"/>
            <a:ext cx="320760" cy="641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1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528 0.00154 E">
                                      <p:cBhvr>
                                        <p:cTn id="294" dur="4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08-08T09:54:56Z</dcterms:modified>
  <cp:revision>108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