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B8DE-66BA-4A59-B552-E08AC9E67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A501-FF8C-4DDC-95BB-B1AD7CAF28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14C7-98DF-43FE-885E-E0715641FE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AE5-DAD5-44D5-ADFB-BA7CF16640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55400-B270-46CB-B4F5-E2A2BEBB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A3703-829A-4028-93AB-E469139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A63B3-BF3B-4035-83AE-64A6CE61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C5583-32D4-4710-B3B3-EF37E81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6FE54-35CC-44FF-BBAB-A4993F8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BDBB4-96F2-494C-9821-6F9A681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CCD0C-6815-4FE9-9E07-FAAB1CF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BF41E-ACDC-4B1F-B472-C92064A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83548-9CD3-4D63-8A70-7ED9738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2C6C9-8764-4018-9B82-01DE1F4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354E1-9F4A-4119-8F70-E9E9354F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E0649-E635-4FC3-BDD0-02AB5979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79D-892D-4F1C-90F3-56C0DE8D0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png"/><Relationship Id="rId38" Type="http://schemas.openxmlformats.org/officeDocument/2006/relationships/image" Target="../media/image42.png"/><Relationship Id="rId39" Type="http://schemas.openxmlformats.org/officeDocument/2006/relationships/image" Target="../media/image43.png"/><Relationship Id="rId40" Type="http://schemas.openxmlformats.org/officeDocument/2006/relationships/image" Target="../media/image44.png"/><Relationship Id="rId41" Type="http://schemas.openxmlformats.org/officeDocument/2006/relationships/slideLayout" Target="../slideLayouts/slideLayout85.xml"/><Relationship Id="rId4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5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60.png"/><Relationship Id="rId20" Type="http://schemas.openxmlformats.org/officeDocument/2006/relationships/image" Target="../media/image60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66.png"/><Relationship Id="rId27" Type="http://schemas.openxmlformats.org/officeDocument/2006/relationships/image" Target="../media/image67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70.png"/><Relationship Id="rId31" Type="http://schemas.openxmlformats.org/officeDocument/2006/relationships/image" Target="../media/image71.png"/><Relationship Id="rId32" Type="http://schemas.openxmlformats.org/officeDocument/2006/relationships/image" Target="../media/image69.png"/><Relationship Id="rId33" Type="http://schemas.openxmlformats.org/officeDocument/2006/relationships/image" Target="../media/image69.png"/><Relationship Id="rId34" Type="http://schemas.openxmlformats.org/officeDocument/2006/relationships/image" Target="../media/image69.png"/><Relationship Id="rId35" Type="http://schemas.openxmlformats.org/officeDocument/2006/relationships/image" Target="../media/image72.png"/><Relationship Id="rId36" Type="http://schemas.openxmlformats.org/officeDocument/2006/relationships/image" Target="../media/image73.png"/><Relationship Id="rId37" Type="http://schemas.openxmlformats.org/officeDocument/2006/relationships/image" Target="../media/image74.png"/><Relationship Id="rId38" Type="http://schemas.openxmlformats.org/officeDocument/2006/relationships/image" Target="../media/image75.png"/><Relationship Id="rId39" Type="http://schemas.openxmlformats.org/officeDocument/2006/relationships/image" Target="../media/image76.png"/><Relationship Id="rId40" Type="http://schemas.openxmlformats.org/officeDocument/2006/relationships/image" Target="../media/image77.png"/><Relationship Id="rId41" Type="http://schemas.openxmlformats.org/officeDocument/2006/relationships/slideLayout" Target="../slideLayouts/slideLayout85.xml"/><Relationship Id="rId4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88.png"/><Relationship Id="rId12" Type="http://schemas.openxmlformats.org/officeDocument/2006/relationships/image" Target="../media/image89.png"/><Relationship Id="rId13" Type="http://schemas.openxmlformats.org/officeDocument/2006/relationships/image" Target="../media/image90.png"/><Relationship Id="rId14" Type="http://schemas.openxmlformats.org/officeDocument/2006/relationships/image" Target="../media/image91.png"/><Relationship Id="rId15" Type="http://schemas.openxmlformats.org/officeDocument/2006/relationships/image" Target="../media/image92.png"/><Relationship Id="rId16" Type="http://schemas.openxmlformats.org/officeDocument/2006/relationships/image" Target="../media/image93.png"/><Relationship Id="rId17" Type="http://schemas.openxmlformats.org/officeDocument/2006/relationships/image" Target="../media/image94.png"/><Relationship Id="rId18" Type="http://schemas.openxmlformats.org/officeDocument/2006/relationships/image" Target="../media/image95.png"/><Relationship Id="rId19" Type="http://schemas.openxmlformats.org/officeDocument/2006/relationships/image" Target="../media/image96.png"/><Relationship Id="rId20" Type="http://schemas.openxmlformats.org/officeDocument/2006/relationships/image" Target="../media/image97.png"/><Relationship Id="rId21" Type="http://schemas.openxmlformats.org/officeDocument/2006/relationships/image" Target="../media/image98.png"/><Relationship Id="rId22" Type="http://schemas.openxmlformats.org/officeDocument/2006/relationships/image" Target="../media/image99.png"/><Relationship Id="rId23" Type="http://schemas.openxmlformats.org/officeDocument/2006/relationships/image" Target="../media/image100.png"/><Relationship Id="rId24" Type="http://schemas.openxmlformats.org/officeDocument/2006/relationships/image" Target="../media/image101.png"/><Relationship Id="rId25" Type="http://schemas.openxmlformats.org/officeDocument/2006/relationships/image" Target="../media/image102.png"/><Relationship Id="rId26" Type="http://schemas.openxmlformats.org/officeDocument/2006/relationships/image" Target="../media/image103.png"/><Relationship Id="rId27" Type="http://schemas.openxmlformats.org/officeDocument/2006/relationships/image" Target="../media/image104.png"/><Relationship Id="rId28" Type="http://schemas.openxmlformats.org/officeDocument/2006/relationships/image" Target="../media/image105.png"/><Relationship Id="rId29" Type="http://schemas.openxmlformats.org/officeDocument/2006/relationships/image" Target="../media/image106.png"/><Relationship Id="rId30" Type="http://schemas.openxmlformats.org/officeDocument/2006/relationships/image" Target="../media/image107.png"/><Relationship Id="rId31" Type="http://schemas.openxmlformats.org/officeDocument/2006/relationships/image" Target="../media/image108.png"/><Relationship Id="rId32" Type="http://schemas.openxmlformats.org/officeDocument/2006/relationships/image" Target="../media/image109.png"/><Relationship Id="rId33" Type="http://schemas.openxmlformats.org/officeDocument/2006/relationships/image" Target="../media/image110.png"/><Relationship Id="rId34" Type="http://schemas.openxmlformats.org/officeDocument/2006/relationships/image" Target="../media/image111.png"/><Relationship Id="rId35" Type="http://schemas.openxmlformats.org/officeDocument/2006/relationships/image" Target="../media/image112.png"/><Relationship Id="rId36" Type="http://schemas.openxmlformats.org/officeDocument/2006/relationships/image" Target="../media/image113.png"/><Relationship Id="rId37" Type="http://schemas.openxmlformats.org/officeDocument/2006/relationships/image" Target="../media/image114.png"/><Relationship Id="rId38" Type="http://schemas.openxmlformats.org/officeDocument/2006/relationships/image" Target="../media/image115.png"/><Relationship Id="rId39" Type="http://schemas.openxmlformats.org/officeDocument/2006/relationships/image" Target="../media/image116.png"/><Relationship Id="rId40" Type="http://schemas.openxmlformats.org/officeDocument/2006/relationships/image" Target="../media/image117.png"/><Relationship Id="rId41" Type="http://schemas.openxmlformats.org/officeDocument/2006/relationships/slideLayout" Target="../slideLayouts/slideLayout85.xml"/><Relationship Id="rId4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893880"/>
            <a:ext cx="640872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05759"/>
                </a:solidFill>
                <a:latin typeface="Arial"/>
              </a:rPr>
              <a:t>Clarifying compounds and mixtures</a:t>
            </a:r>
            <a:endParaRPr b="0" lang="en-US" sz="38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39640" y="19778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05759"/>
                </a:solidFill>
                <a:latin typeface="Arial"/>
              </a:rPr>
              <a:t>The reaction of aluminium with iodine</a:t>
            </a:r>
            <a:endParaRPr b="0" lang="en-US" sz="28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5102280" y="386712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ducation in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sc.li/EiC617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Oval 18"/>
          <p:cNvGrpSpPr/>
          <p:nvPr/>
        </p:nvGrpSpPr>
        <p:grpSpPr>
          <a:xfrm>
            <a:off x="5864400" y="1468440"/>
            <a:ext cx="768240" cy="768240"/>
            <a:chOff x="5864400" y="1468440"/>
            <a:chExt cx="768240" cy="768240"/>
          </a:xfrm>
        </p:grpSpPr>
        <p:pic>
          <p:nvPicPr>
            <p:cNvPr id="330" name="Oval 18" descr=""/>
            <p:cNvPicPr/>
            <p:nvPr/>
          </p:nvPicPr>
          <p:blipFill>
            <a:blip r:embed="rId1"/>
            <a:stretch/>
          </p:blipFill>
          <p:spPr>
            <a:xfrm>
              <a:off x="5864400" y="1468440"/>
              <a:ext cx="7682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018120" y="1598760"/>
              <a:ext cx="465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Group 2"/>
          <p:cNvGrpSpPr/>
          <p:nvPr/>
        </p:nvGrpSpPr>
        <p:grpSpPr>
          <a:xfrm>
            <a:off x="1979640" y="1147680"/>
            <a:ext cx="3506400" cy="1270080"/>
            <a:chOff x="1979640" y="1147680"/>
            <a:chExt cx="3506400" cy="1270080"/>
          </a:xfrm>
        </p:grpSpPr>
        <p:grpSp>
          <p:nvGrpSpPr>
            <p:cNvPr id="333" name="Group 51"/>
            <p:cNvGrpSpPr/>
            <p:nvPr/>
          </p:nvGrpSpPr>
          <p:grpSpPr>
            <a:xfrm>
              <a:off x="4317480" y="1147680"/>
              <a:ext cx="1168560" cy="877320"/>
              <a:chOff x="4317480" y="1147680"/>
              <a:chExt cx="1168560" cy="877320"/>
            </a:xfrm>
          </p:grpSpPr>
          <p:grpSp>
            <p:nvGrpSpPr>
              <p:cNvPr id="334" name="Oval 52"/>
              <p:cNvGrpSpPr/>
              <p:nvPr/>
            </p:nvGrpSpPr>
            <p:grpSpPr>
              <a:xfrm>
                <a:off x="4317480" y="1147680"/>
                <a:ext cx="751320" cy="741960"/>
                <a:chOff x="4317480" y="1147680"/>
                <a:chExt cx="751320" cy="741960"/>
              </a:xfrm>
            </p:grpSpPr>
            <p:pic>
              <p:nvPicPr>
                <p:cNvPr id="335" name="Oval 5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17480" y="1147680"/>
                  <a:ext cx="7513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>
                  <a:off x="4464000" y="127008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7" name="Oval 54"/>
              <p:cNvGrpSpPr/>
              <p:nvPr/>
            </p:nvGrpSpPr>
            <p:grpSpPr>
              <a:xfrm>
                <a:off x="4734720" y="1288440"/>
                <a:ext cx="751320" cy="736560"/>
                <a:chOff x="4734720" y="1288440"/>
                <a:chExt cx="751320" cy="736560"/>
              </a:xfrm>
            </p:grpSpPr>
            <p:pic>
              <p:nvPicPr>
                <p:cNvPr id="338" name="Oval 5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34720" y="128844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>
                  <a:off x="4882320" y="14090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0" name="Group 58"/>
            <p:cNvGrpSpPr/>
            <p:nvPr/>
          </p:nvGrpSpPr>
          <p:grpSpPr>
            <a:xfrm>
              <a:off x="3148560" y="1565280"/>
              <a:ext cx="1214640" cy="852480"/>
              <a:chOff x="3148560" y="1565280"/>
              <a:chExt cx="1214640" cy="852480"/>
            </a:xfrm>
          </p:grpSpPr>
          <p:grpSp>
            <p:nvGrpSpPr>
              <p:cNvPr id="341" name="Oval 59"/>
              <p:cNvGrpSpPr/>
              <p:nvPr/>
            </p:nvGrpSpPr>
            <p:grpSpPr>
              <a:xfrm>
                <a:off x="3148560" y="1678320"/>
                <a:ext cx="752400" cy="739440"/>
                <a:chOff x="3148560" y="1678320"/>
                <a:chExt cx="752400" cy="739440"/>
              </a:xfrm>
            </p:grpSpPr>
            <p:pic>
              <p:nvPicPr>
                <p:cNvPr id="342" name="Oval 5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48560" y="1678320"/>
                  <a:ext cx="75240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3296520" y="1800720"/>
                  <a:ext cx="4593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4" name="Oval 60"/>
              <p:cNvGrpSpPr/>
              <p:nvPr/>
            </p:nvGrpSpPr>
            <p:grpSpPr>
              <a:xfrm>
                <a:off x="3610800" y="1565280"/>
                <a:ext cx="752400" cy="734040"/>
                <a:chOff x="3610800" y="1565280"/>
                <a:chExt cx="752400" cy="734040"/>
              </a:xfrm>
            </p:grpSpPr>
            <p:pic>
              <p:nvPicPr>
                <p:cNvPr id="345" name="Oval 6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10800" y="1565280"/>
                  <a:ext cx="75240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>
                  <a:off x="3756960" y="1684440"/>
                  <a:ext cx="4593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7" name="Group 61"/>
            <p:cNvGrpSpPr/>
            <p:nvPr/>
          </p:nvGrpSpPr>
          <p:grpSpPr>
            <a:xfrm>
              <a:off x="1979640" y="1188000"/>
              <a:ext cx="1168920" cy="877320"/>
              <a:chOff x="1979640" y="1188000"/>
              <a:chExt cx="1168920" cy="877320"/>
            </a:xfrm>
          </p:grpSpPr>
          <p:grpSp>
            <p:nvGrpSpPr>
              <p:cNvPr id="348" name="Oval 62"/>
              <p:cNvGrpSpPr/>
              <p:nvPr/>
            </p:nvGrpSpPr>
            <p:grpSpPr>
              <a:xfrm>
                <a:off x="1979640" y="1188000"/>
                <a:ext cx="749520" cy="736560"/>
                <a:chOff x="1979640" y="1188000"/>
                <a:chExt cx="749520" cy="736560"/>
              </a:xfrm>
            </p:grpSpPr>
            <p:pic>
              <p:nvPicPr>
                <p:cNvPr id="349" name="Oval 6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79640" y="118800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>
                  <a:off x="2124000" y="130860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1" name="Oval 63"/>
              <p:cNvGrpSpPr/>
              <p:nvPr/>
            </p:nvGrpSpPr>
            <p:grpSpPr>
              <a:xfrm>
                <a:off x="2399040" y="1328760"/>
                <a:ext cx="749520" cy="736560"/>
                <a:chOff x="2399040" y="1328760"/>
                <a:chExt cx="749520" cy="736560"/>
              </a:xfrm>
            </p:grpSpPr>
            <p:pic>
              <p:nvPicPr>
                <p:cNvPr id="352" name="Oval 6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99040" y="132876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>
                  <a:off x="2544480" y="144756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4" name="Group 67"/>
          <p:cNvGrpSpPr/>
          <p:nvPr/>
        </p:nvGrpSpPr>
        <p:grpSpPr>
          <a:xfrm>
            <a:off x="1981080" y="1982880"/>
            <a:ext cx="3506760" cy="1270080"/>
            <a:chOff x="1981080" y="1982880"/>
            <a:chExt cx="3506760" cy="1270080"/>
          </a:xfrm>
        </p:grpSpPr>
        <p:grpSp>
          <p:nvGrpSpPr>
            <p:cNvPr id="355" name="Group 68"/>
            <p:cNvGrpSpPr/>
            <p:nvPr/>
          </p:nvGrpSpPr>
          <p:grpSpPr>
            <a:xfrm>
              <a:off x="4318920" y="1982880"/>
              <a:ext cx="1168920" cy="877320"/>
              <a:chOff x="4318920" y="1982880"/>
              <a:chExt cx="1168920" cy="877320"/>
            </a:xfrm>
          </p:grpSpPr>
          <p:grpSp>
            <p:nvGrpSpPr>
              <p:cNvPr id="356" name="Oval 75"/>
              <p:cNvGrpSpPr/>
              <p:nvPr/>
            </p:nvGrpSpPr>
            <p:grpSpPr>
              <a:xfrm>
                <a:off x="4318920" y="1982880"/>
                <a:ext cx="749520" cy="741960"/>
                <a:chOff x="4318920" y="1982880"/>
                <a:chExt cx="749520" cy="741960"/>
              </a:xfrm>
            </p:grpSpPr>
            <p:pic>
              <p:nvPicPr>
                <p:cNvPr id="357" name="Oval 7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18920" y="1982880"/>
                  <a:ext cx="7495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>
                  <a:off x="4461840" y="210492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9" name="Oval 76"/>
              <p:cNvGrpSpPr/>
              <p:nvPr/>
            </p:nvGrpSpPr>
            <p:grpSpPr>
              <a:xfrm>
                <a:off x="4738320" y="2123640"/>
                <a:ext cx="749520" cy="736560"/>
                <a:chOff x="4738320" y="2123640"/>
                <a:chExt cx="749520" cy="736560"/>
              </a:xfrm>
            </p:grpSpPr>
            <p:pic>
              <p:nvPicPr>
                <p:cNvPr id="360" name="Oval 7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38320" y="212364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4882320" y="224424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2" name="Group 69"/>
            <p:cNvGrpSpPr/>
            <p:nvPr/>
          </p:nvGrpSpPr>
          <p:grpSpPr>
            <a:xfrm>
              <a:off x="3150000" y="2400480"/>
              <a:ext cx="1214640" cy="852480"/>
              <a:chOff x="3150000" y="2400480"/>
              <a:chExt cx="1214640" cy="852480"/>
            </a:xfrm>
          </p:grpSpPr>
          <p:grpSp>
            <p:nvGrpSpPr>
              <p:cNvPr id="363" name="Oval 73"/>
              <p:cNvGrpSpPr/>
              <p:nvPr/>
            </p:nvGrpSpPr>
            <p:grpSpPr>
              <a:xfrm>
                <a:off x="3150000" y="2513520"/>
                <a:ext cx="750240" cy="739440"/>
                <a:chOff x="3150000" y="2513520"/>
                <a:chExt cx="750240" cy="739440"/>
              </a:xfrm>
            </p:grpSpPr>
            <p:pic>
              <p:nvPicPr>
                <p:cNvPr id="364" name="Oval 7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150000" y="2513520"/>
                  <a:ext cx="75024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>
                  <a:off x="3294360" y="2635920"/>
                  <a:ext cx="4615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6" name="Oval 74"/>
              <p:cNvGrpSpPr/>
              <p:nvPr/>
            </p:nvGrpSpPr>
            <p:grpSpPr>
              <a:xfrm>
                <a:off x="3609000" y="2400480"/>
                <a:ext cx="755640" cy="734040"/>
                <a:chOff x="3609000" y="2400480"/>
                <a:chExt cx="755640" cy="734040"/>
              </a:xfrm>
            </p:grpSpPr>
            <p:pic>
              <p:nvPicPr>
                <p:cNvPr id="367" name="Oval 7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609000" y="2400480"/>
                  <a:ext cx="7556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8" name=""/>
                <p:cNvSpPr/>
                <p:nvPr/>
              </p:nvSpPr>
              <p:spPr>
                <a:xfrm>
                  <a:off x="3757320" y="2519640"/>
                  <a:ext cx="4611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9" name="Group 70"/>
            <p:cNvGrpSpPr/>
            <p:nvPr/>
          </p:nvGrpSpPr>
          <p:grpSpPr>
            <a:xfrm>
              <a:off x="1981080" y="2023200"/>
              <a:ext cx="1168560" cy="877320"/>
              <a:chOff x="1981080" y="2023200"/>
              <a:chExt cx="1168560" cy="877320"/>
            </a:xfrm>
          </p:grpSpPr>
          <p:grpSp>
            <p:nvGrpSpPr>
              <p:cNvPr id="370" name="Oval 71"/>
              <p:cNvGrpSpPr/>
              <p:nvPr/>
            </p:nvGrpSpPr>
            <p:grpSpPr>
              <a:xfrm>
                <a:off x="1981080" y="2023200"/>
                <a:ext cx="751320" cy="736560"/>
                <a:chOff x="1981080" y="2023200"/>
                <a:chExt cx="751320" cy="736560"/>
              </a:xfrm>
            </p:grpSpPr>
            <p:pic>
              <p:nvPicPr>
                <p:cNvPr id="371" name="Oval 7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981080" y="202320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2" name=""/>
                <p:cNvSpPr/>
                <p:nvPr/>
              </p:nvSpPr>
              <p:spPr>
                <a:xfrm>
                  <a:off x="2126160" y="21434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3" name="Oval 72"/>
              <p:cNvGrpSpPr/>
              <p:nvPr/>
            </p:nvGrpSpPr>
            <p:grpSpPr>
              <a:xfrm>
                <a:off x="2398320" y="2163960"/>
                <a:ext cx="751320" cy="736560"/>
                <a:chOff x="2398320" y="2163960"/>
                <a:chExt cx="751320" cy="736560"/>
              </a:xfrm>
            </p:grpSpPr>
            <p:pic>
              <p:nvPicPr>
                <p:cNvPr id="374" name="Oval 7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398320" y="216396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" name=""/>
                <p:cNvSpPr/>
                <p:nvPr/>
              </p:nvSpPr>
              <p:spPr>
                <a:xfrm>
                  <a:off x="2544480" y="22824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76" name="Group 77"/>
          <p:cNvGrpSpPr/>
          <p:nvPr/>
        </p:nvGrpSpPr>
        <p:grpSpPr>
          <a:xfrm>
            <a:off x="1982880" y="2789280"/>
            <a:ext cx="3506400" cy="1270080"/>
            <a:chOff x="1982880" y="2789280"/>
            <a:chExt cx="3506400" cy="1270080"/>
          </a:xfrm>
        </p:grpSpPr>
        <p:grpSp>
          <p:nvGrpSpPr>
            <p:cNvPr id="377" name="Group 78"/>
            <p:cNvGrpSpPr/>
            <p:nvPr/>
          </p:nvGrpSpPr>
          <p:grpSpPr>
            <a:xfrm>
              <a:off x="4320720" y="2789280"/>
              <a:ext cx="1168560" cy="877320"/>
              <a:chOff x="4320720" y="2789280"/>
              <a:chExt cx="1168560" cy="877320"/>
            </a:xfrm>
          </p:grpSpPr>
          <p:grpSp>
            <p:nvGrpSpPr>
              <p:cNvPr id="378" name="Oval 85"/>
              <p:cNvGrpSpPr/>
              <p:nvPr/>
            </p:nvGrpSpPr>
            <p:grpSpPr>
              <a:xfrm>
                <a:off x="4320720" y="2789280"/>
                <a:ext cx="745920" cy="741240"/>
                <a:chOff x="4320720" y="2789280"/>
                <a:chExt cx="745920" cy="741240"/>
              </a:xfrm>
            </p:grpSpPr>
            <p:pic>
              <p:nvPicPr>
                <p:cNvPr id="379" name="Oval 8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320720" y="2789280"/>
                  <a:ext cx="745920" cy="74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4464360" y="2908440"/>
                  <a:ext cx="458640" cy="45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1" name="Oval 86"/>
              <p:cNvGrpSpPr/>
              <p:nvPr/>
            </p:nvGrpSpPr>
            <p:grpSpPr>
              <a:xfrm>
                <a:off x="4737960" y="2925360"/>
                <a:ext cx="751320" cy="741240"/>
                <a:chOff x="4737960" y="2925360"/>
                <a:chExt cx="751320" cy="741240"/>
              </a:xfrm>
            </p:grpSpPr>
            <p:pic>
              <p:nvPicPr>
                <p:cNvPr id="382" name="Oval 8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737960" y="2925360"/>
                  <a:ext cx="751320" cy="74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3" name=""/>
                <p:cNvSpPr/>
                <p:nvPr/>
              </p:nvSpPr>
              <p:spPr>
                <a:xfrm>
                  <a:off x="4882680" y="3048120"/>
                  <a:ext cx="458640" cy="45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4" name="Group 79"/>
            <p:cNvGrpSpPr/>
            <p:nvPr/>
          </p:nvGrpSpPr>
          <p:grpSpPr>
            <a:xfrm>
              <a:off x="3151800" y="3206880"/>
              <a:ext cx="1214640" cy="852480"/>
              <a:chOff x="3151800" y="3206880"/>
              <a:chExt cx="1214640" cy="852480"/>
            </a:xfrm>
          </p:grpSpPr>
          <p:grpSp>
            <p:nvGrpSpPr>
              <p:cNvPr id="385" name="Oval 83"/>
              <p:cNvGrpSpPr/>
              <p:nvPr/>
            </p:nvGrpSpPr>
            <p:grpSpPr>
              <a:xfrm>
                <a:off x="3151800" y="3325320"/>
                <a:ext cx="755640" cy="734040"/>
                <a:chOff x="3151800" y="3325320"/>
                <a:chExt cx="755640" cy="734040"/>
              </a:xfrm>
            </p:grpSpPr>
            <p:pic>
              <p:nvPicPr>
                <p:cNvPr id="386" name="Oval 8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51800" y="3325320"/>
                  <a:ext cx="7556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7" name=""/>
                <p:cNvSpPr/>
                <p:nvPr/>
              </p:nvSpPr>
              <p:spPr>
                <a:xfrm>
                  <a:off x="3297600" y="3443760"/>
                  <a:ext cx="4611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8" name="Oval 84"/>
              <p:cNvGrpSpPr/>
              <p:nvPr/>
            </p:nvGrpSpPr>
            <p:grpSpPr>
              <a:xfrm>
                <a:off x="3616200" y="3206880"/>
                <a:ext cx="750240" cy="734040"/>
                <a:chOff x="3616200" y="3206880"/>
                <a:chExt cx="750240" cy="734040"/>
              </a:xfrm>
            </p:grpSpPr>
            <p:pic>
              <p:nvPicPr>
                <p:cNvPr id="389" name="Oval 8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616200" y="3206880"/>
                  <a:ext cx="7502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"/>
                <p:cNvSpPr/>
                <p:nvPr/>
              </p:nvSpPr>
              <p:spPr>
                <a:xfrm>
                  <a:off x="3760560" y="3327480"/>
                  <a:ext cx="4615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91" name="Group 80"/>
            <p:cNvGrpSpPr/>
            <p:nvPr/>
          </p:nvGrpSpPr>
          <p:grpSpPr>
            <a:xfrm>
              <a:off x="1982880" y="2829600"/>
              <a:ext cx="1168560" cy="877320"/>
              <a:chOff x="1982880" y="2829600"/>
              <a:chExt cx="1168560" cy="877320"/>
            </a:xfrm>
          </p:grpSpPr>
          <p:grpSp>
            <p:nvGrpSpPr>
              <p:cNvPr id="392" name="Oval 81"/>
              <p:cNvGrpSpPr/>
              <p:nvPr/>
            </p:nvGrpSpPr>
            <p:grpSpPr>
              <a:xfrm>
                <a:off x="1982880" y="2829600"/>
                <a:ext cx="751320" cy="736560"/>
                <a:chOff x="1982880" y="2829600"/>
                <a:chExt cx="751320" cy="736560"/>
              </a:xfrm>
            </p:grpSpPr>
            <p:pic>
              <p:nvPicPr>
                <p:cNvPr id="393" name="Oval 8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982880" y="282960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2129400" y="29516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5" name="Oval 82"/>
              <p:cNvGrpSpPr/>
              <p:nvPr/>
            </p:nvGrpSpPr>
            <p:grpSpPr>
              <a:xfrm>
                <a:off x="2400120" y="2970360"/>
                <a:ext cx="751320" cy="736560"/>
                <a:chOff x="2400120" y="2970360"/>
                <a:chExt cx="751320" cy="736560"/>
              </a:xfrm>
            </p:grpSpPr>
            <p:pic>
              <p:nvPicPr>
                <p:cNvPr id="396" name="Oval 8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400120" y="297036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"/>
                <p:cNvSpPr/>
                <p:nvPr/>
              </p:nvSpPr>
              <p:spPr>
                <a:xfrm>
                  <a:off x="2547720" y="30906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98" name="Oval 87"/>
          <p:cNvGrpSpPr/>
          <p:nvPr/>
        </p:nvGrpSpPr>
        <p:grpSpPr>
          <a:xfrm>
            <a:off x="6540480" y="1504800"/>
            <a:ext cx="768240" cy="768600"/>
            <a:chOff x="6540480" y="1504800"/>
            <a:chExt cx="768240" cy="768600"/>
          </a:xfrm>
        </p:grpSpPr>
        <p:pic>
          <p:nvPicPr>
            <p:cNvPr id="399" name="Oval 87" descr=""/>
            <p:cNvPicPr/>
            <p:nvPr/>
          </p:nvPicPr>
          <p:blipFill>
            <a:blip r:embed="rId20"/>
            <a:stretch/>
          </p:blipFill>
          <p:spPr>
            <a:xfrm>
              <a:off x="6540480" y="150480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691320" y="1630440"/>
              <a:ext cx="465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Oval 88"/>
          <p:cNvGrpSpPr/>
          <p:nvPr/>
        </p:nvGrpSpPr>
        <p:grpSpPr>
          <a:xfrm>
            <a:off x="7199280" y="1511280"/>
            <a:ext cx="768240" cy="768240"/>
            <a:chOff x="7199280" y="1511280"/>
            <a:chExt cx="768240" cy="768240"/>
          </a:xfrm>
        </p:grpSpPr>
        <p:pic>
          <p:nvPicPr>
            <p:cNvPr id="402" name="Oval 88" descr=""/>
            <p:cNvPicPr/>
            <p:nvPr/>
          </p:nvPicPr>
          <p:blipFill>
            <a:blip r:embed="rId21"/>
            <a:stretch/>
          </p:blipFill>
          <p:spPr>
            <a:xfrm>
              <a:off x="7199280" y="1511280"/>
              <a:ext cx="7682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7351560" y="1639800"/>
              <a:ext cx="465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Oval 89"/>
          <p:cNvGrpSpPr/>
          <p:nvPr/>
        </p:nvGrpSpPr>
        <p:grpSpPr>
          <a:xfrm>
            <a:off x="6175440" y="2084400"/>
            <a:ext cx="768240" cy="762120"/>
            <a:chOff x="6175440" y="2084400"/>
            <a:chExt cx="768240" cy="762120"/>
          </a:xfrm>
        </p:grpSpPr>
        <p:pic>
          <p:nvPicPr>
            <p:cNvPr id="405" name="Oval 89" descr=""/>
            <p:cNvPicPr/>
            <p:nvPr/>
          </p:nvPicPr>
          <p:blipFill>
            <a:blip r:embed="rId22"/>
            <a:stretch/>
          </p:blipFill>
          <p:spPr>
            <a:xfrm>
              <a:off x="6175440" y="2084400"/>
              <a:ext cx="76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324480" y="2209680"/>
              <a:ext cx="465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Oval 90"/>
          <p:cNvGrpSpPr/>
          <p:nvPr/>
        </p:nvGrpSpPr>
        <p:grpSpPr>
          <a:xfrm>
            <a:off x="6821640" y="2109960"/>
            <a:ext cx="768240" cy="766440"/>
            <a:chOff x="6821640" y="2109960"/>
            <a:chExt cx="768240" cy="766440"/>
          </a:xfrm>
        </p:grpSpPr>
        <p:pic>
          <p:nvPicPr>
            <p:cNvPr id="408" name="Oval 90" descr=""/>
            <p:cNvPicPr/>
            <p:nvPr/>
          </p:nvPicPr>
          <p:blipFill>
            <a:blip r:embed="rId23"/>
            <a:stretch/>
          </p:blipFill>
          <p:spPr>
            <a:xfrm>
              <a:off x="6821640" y="2109960"/>
              <a:ext cx="76824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972480" y="2236680"/>
              <a:ext cx="465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Oval 91"/>
          <p:cNvGrpSpPr/>
          <p:nvPr/>
        </p:nvGrpSpPr>
        <p:grpSpPr>
          <a:xfrm>
            <a:off x="5815080" y="2676600"/>
            <a:ext cx="768240" cy="761760"/>
            <a:chOff x="5815080" y="2676600"/>
            <a:chExt cx="768240" cy="761760"/>
          </a:xfrm>
        </p:grpSpPr>
        <p:pic>
          <p:nvPicPr>
            <p:cNvPr id="411" name="Oval 91" descr=""/>
            <p:cNvPicPr/>
            <p:nvPr/>
          </p:nvPicPr>
          <p:blipFill>
            <a:blip r:embed="rId24"/>
            <a:stretch/>
          </p:blipFill>
          <p:spPr>
            <a:xfrm>
              <a:off x="5815080" y="2676600"/>
              <a:ext cx="7682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964120" y="2800440"/>
              <a:ext cx="465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Oval 92"/>
          <p:cNvGrpSpPr/>
          <p:nvPr/>
        </p:nvGrpSpPr>
        <p:grpSpPr>
          <a:xfrm>
            <a:off x="6473880" y="2693880"/>
            <a:ext cx="768240" cy="768600"/>
            <a:chOff x="6473880" y="2693880"/>
            <a:chExt cx="768240" cy="768600"/>
          </a:xfrm>
        </p:grpSpPr>
        <p:pic>
          <p:nvPicPr>
            <p:cNvPr id="414" name="Oval 92" descr=""/>
            <p:cNvPicPr/>
            <p:nvPr/>
          </p:nvPicPr>
          <p:blipFill>
            <a:blip r:embed="rId25"/>
            <a:stretch/>
          </p:blipFill>
          <p:spPr>
            <a:xfrm>
              <a:off x="6473880" y="26938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626160" y="2822400"/>
              <a:ext cx="465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Oval 93"/>
          <p:cNvGrpSpPr/>
          <p:nvPr/>
        </p:nvGrpSpPr>
        <p:grpSpPr>
          <a:xfrm>
            <a:off x="7149960" y="2719440"/>
            <a:ext cx="768600" cy="762120"/>
            <a:chOff x="7149960" y="2719440"/>
            <a:chExt cx="768600" cy="762120"/>
          </a:xfrm>
        </p:grpSpPr>
        <p:pic>
          <p:nvPicPr>
            <p:cNvPr id="417" name="Oval 93" descr=""/>
            <p:cNvPicPr/>
            <p:nvPr/>
          </p:nvPicPr>
          <p:blipFill>
            <a:blip r:embed="rId26"/>
            <a:stretch/>
          </p:blipFill>
          <p:spPr>
            <a:xfrm>
              <a:off x="7149960" y="2719440"/>
              <a:ext cx="768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299360" y="2843280"/>
              <a:ext cx="465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Oval 94"/>
          <p:cNvGrpSpPr/>
          <p:nvPr/>
        </p:nvGrpSpPr>
        <p:grpSpPr>
          <a:xfrm>
            <a:off x="5522760" y="2060640"/>
            <a:ext cx="768600" cy="761760"/>
            <a:chOff x="5522760" y="2060640"/>
            <a:chExt cx="768600" cy="761760"/>
          </a:xfrm>
        </p:grpSpPr>
        <p:pic>
          <p:nvPicPr>
            <p:cNvPr id="420" name="Oval 94" descr=""/>
            <p:cNvPicPr/>
            <p:nvPr/>
          </p:nvPicPr>
          <p:blipFill>
            <a:blip r:embed="rId27"/>
            <a:stretch/>
          </p:blipFill>
          <p:spPr>
            <a:xfrm>
              <a:off x="5522760" y="2060640"/>
              <a:ext cx="7686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672160" y="2185920"/>
              <a:ext cx="4651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Oval 95"/>
          <p:cNvGrpSpPr/>
          <p:nvPr/>
        </p:nvGrpSpPr>
        <p:grpSpPr>
          <a:xfrm>
            <a:off x="7491240" y="2127240"/>
            <a:ext cx="768600" cy="768240"/>
            <a:chOff x="7491240" y="2127240"/>
            <a:chExt cx="768600" cy="768240"/>
          </a:xfrm>
        </p:grpSpPr>
        <p:pic>
          <p:nvPicPr>
            <p:cNvPr id="423" name="Oval 95" descr=""/>
            <p:cNvPicPr/>
            <p:nvPr/>
          </p:nvPicPr>
          <p:blipFill>
            <a:blip r:embed="rId28"/>
            <a:stretch/>
          </p:blipFill>
          <p:spPr>
            <a:xfrm>
              <a:off x="7491240" y="2127240"/>
              <a:ext cx="7686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643880" y="2255760"/>
              <a:ext cx="465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useo 300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Group 96"/>
          <p:cNvGrpSpPr/>
          <p:nvPr/>
        </p:nvGrpSpPr>
        <p:grpSpPr>
          <a:xfrm>
            <a:off x="1979640" y="3635280"/>
            <a:ext cx="3506400" cy="1270080"/>
            <a:chOff x="1979640" y="3635280"/>
            <a:chExt cx="3506400" cy="1270080"/>
          </a:xfrm>
        </p:grpSpPr>
        <p:grpSp>
          <p:nvGrpSpPr>
            <p:cNvPr id="426" name="Group 97"/>
            <p:cNvGrpSpPr/>
            <p:nvPr/>
          </p:nvGrpSpPr>
          <p:grpSpPr>
            <a:xfrm>
              <a:off x="4317480" y="3635280"/>
              <a:ext cx="1168560" cy="877320"/>
              <a:chOff x="4317480" y="3635280"/>
              <a:chExt cx="1168560" cy="877320"/>
            </a:xfrm>
          </p:grpSpPr>
          <p:grpSp>
            <p:nvGrpSpPr>
              <p:cNvPr id="427" name="Oval 104"/>
              <p:cNvGrpSpPr/>
              <p:nvPr/>
            </p:nvGrpSpPr>
            <p:grpSpPr>
              <a:xfrm>
                <a:off x="4317480" y="3635280"/>
                <a:ext cx="751320" cy="741960"/>
                <a:chOff x="4317480" y="3635280"/>
                <a:chExt cx="751320" cy="741960"/>
              </a:xfrm>
            </p:grpSpPr>
            <p:pic>
              <p:nvPicPr>
                <p:cNvPr id="428" name="Oval 104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317480" y="3635280"/>
                  <a:ext cx="7513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4464000" y="37580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0" name="Oval 105"/>
              <p:cNvGrpSpPr/>
              <p:nvPr/>
            </p:nvGrpSpPr>
            <p:grpSpPr>
              <a:xfrm>
                <a:off x="4734720" y="3776040"/>
                <a:ext cx="751320" cy="736560"/>
                <a:chOff x="4734720" y="3776040"/>
                <a:chExt cx="751320" cy="736560"/>
              </a:xfrm>
            </p:grpSpPr>
            <p:pic>
              <p:nvPicPr>
                <p:cNvPr id="431" name="Oval 105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734720" y="377604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2" name=""/>
                <p:cNvSpPr/>
                <p:nvPr/>
              </p:nvSpPr>
              <p:spPr>
                <a:xfrm>
                  <a:off x="4882320" y="38970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33" name="Group 98"/>
            <p:cNvGrpSpPr/>
            <p:nvPr/>
          </p:nvGrpSpPr>
          <p:grpSpPr>
            <a:xfrm>
              <a:off x="3148560" y="4052880"/>
              <a:ext cx="1214640" cy="852480"/>
              <a:chOff x="3148560" y="4052880"/>
              <a:chExt cx="1214640" cy="852480"/>
            </a:xfrm>
          </p:grpSpPr>
          <p:grpSp>
            <p:nvGrpSpPr>
              <p:cNvPr id="434" name="Oval 102"/>
              <p:cNvGrpSpPr/>
              <p:nvPr/>
            </p:nvGrpSpPr>
            <p:grpSpPr>
              <a:xfrm>
                <a:off x="3148560" y="4165920"/>
                <a:ext cx="752400" cy="739440"/>
                <a:chOff x="3148560" y="4165920"/>
                <a:chExt cx="752400" cy="739440"/>
              </a:xfrm>
            </p:grpSpPr>
            <p:pic>
              <p:nvPicPr>
                <p:cNvPr id="435" name="Oval 102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148560" y="4165920"/>
                  <a:ext cx="75240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>
                  <a:off x="3296520" y="4288680"/>
                  <a:ext cx="4593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7" name="Oval 103"/>
              <p:cNvGrpSpPr/>
              <p:nvPr/>
            </p:nvGrpSpPr>
            <p:grpSpPr>
              <a:xfrm>
                <a:off x="3610800" y="4052880"/>
                <a:ext cx="752400" cy="734040"/>
                <a:chOff x="3610800" y="4052880"/>
                <a:chExt cx="752400" cy="734040"/>
              </a:xfrm>
            </p:grpSpPr>
            <p:pic>
              <p:nvPicPr>
                <p:cNvPr id="438" name="Oval 103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610800" y="4052880"/>
                  <a:ext cx="75240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>
                  <a:off x="3756960" y="4172400"/>
                  <a:ext cx="4593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0" name="Group 99"/>
            <p:cNvGrpSpPr/>
            <p:nvPr/>
          </p:nvGrpSpPr>
          <p:grpSpPr>
            <a:xfrm>
              <a:off x="1979640" y="3675600"/>
              <a:ext cx="1168920" cy="877320"/>
              <a:chOff x="1979640" y="3675600"/>
              <a:chExt cx="1168920" cy="877320"/>
            </a:xfrm>
          </p:grpSpPr>
          <p:grpSp>
            <p:nvGrpSpPr>
              <p:cNvPr id="441" name="Oval 100"/>
              <p:cNvGrpSpPr/>
              <p:nvPr/>
            </p:nvGrpSpPr>
            <p:grpSpPr>
              <a:xfrm>
                <a:off x="1979640" y="3675600"/>
                <a:ext cx="749520" cy="736560"/>
                <a:chOff x="1979640" y="3675600"/>
                <a:chExt cx="749520" cy="736560"/>
              </a:xfrm>
            </p:grpSpPr>
            <p:pic>
              <p:nvPicPr>
                <p:cNvPr id="442" name="Oval 10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1979640" y="367560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2124000" y="379656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4" name="Oval 101"/>
              <p:cNvGrpSpPr/>
              <p:nvPr/>
            </p:nvGrpSpPr>
            <p:grpSpPr>
              <a:xfrm>
                <a:off x="2399040" y="3816360"/>
                <a:ext cx="749520" cy="736560"/>
                <a:chOff x="2399040" y="3816360"/>
                <a:chExt cx="749520" cy="736560"/>
              </a:xfrm>
            </p:grpSpPr>
            <p:pic>
              <p:nvPicPr>
                <p:cNvPr id="445" name="Oval 10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399040" y="381636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2544480" y="393552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47" name="Group 106"/>
          <p:cNvGrpSpPr/>
          <p:nvPr/>
        </p:nvGrpSpPr>
        <p:grpSpPr>
          <a:xfrm>
            <a:off x="1982880" y="318960"/>
            <a:ext cx="3506400" cy="1270080"/>
            <a:chOff x="1982880" y="318960"/>
            <a:chExt cx="3506400" cy="1270080"/>
          </a:xfrm>
        </p:grpSpPr>
        <p:grpSp>
          <p:nvGrpSpPr>
            <p:cNvPr id="448" name="Group 107"/>
            <p:cNvGrpSpPr/>
            <p:nvPr/>
          </p:nvGrpSpPr>
          <p:grpSpPr>
            <a:xfrm>
              <a:off x="4320720" y="318960"/>
              <a:ext cx="1168560" cy="877320"/>
              <a:chOff x="4320720" y="318960"/>
              <a:chExt cx="1168560" cy="877320"/>
            </a:xfrm>
          </p:grpSpPr>
          <p:grpSp>
            <p:nvGrpSpPr>
              <p:cNvPr id="449" name="Oval 114"/>
              <p:cNvGrpSpPr/>
              <p:nvPr/>
            </p:nvGrpSpPr>
            <p:grpSpPr>
              <a:xfrm>
                <a:off x="4320720" y="318960"/>
                <a:ext cx="745920" cy="741960"/>
                <a:chOff x="4320720" y="318960"/>
                <a:chExt cx="745920" cy="741960"/>
              </a:xfrm>
            </p:grpSpPr>
            <p:pic>
              <p:nvPicPr>
                <p:cNvPr id="450" name="Oval 114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4320720" y="318960"/>
                  <a:ext cx="7459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"/>
                <p:cNvSpPr/>
                <p:nvPr/>
              </p:nvSpPr>
              <p:spPr>
                <a:xfrm>
                  <a:off x="4464360" y="44172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2" name="Oval 115"/>
              <p:cNvGrpSpPr/>
              <p:nvPr/>
            </p:nvGrpSpPr>
            <p:grpSpPr>
              <a:xfrm>
                <a:off x="4737960" y="459720"/>
                <a:ext cx="751320" cy="736560"/>
                <a:chOff x="4737960" y="459720"/>
                <a:chExt cx="751320" cy="736560"/>
              </a:xfrm>
            </p:grpSpPr>
            <p:pic>
              <p:nvPicPr>
                <p:cNvPr id="453" name="Oval 115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4737960" y="45972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4882680" y="58068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5" name="Group 108"/>
            <p:cNvGrpSpPr/>
            <p:nvPr/>
          </p:nvGrpSpPr>
          <p:grpSpPr>
            <a:xfrm>
              <a:off x="3151800" y="736560"/>
              <a:ext cx="1214640" cy="852480"/>
              <a:chOff x="3151800" y="736560"/>
              <a:chExt cx="1214640" cy="852480"/>
            </a:xfrm>
          </p:grpSpPr>
          <p:grpSp>
            <p:nvGrpSpPr>
              <p:cNvPr id="456" name="Oval 112"/>
              <p:cNvGrpSpPr/>
              <p:nvPr/>
            </p:nvGrpSpPr>
            <p:grpSpPr>
              <a:xfrm>
                <a:off x="3151800" y="849600"/>
                <a:ext cx="755640" cy="739440"/>
                <a:chOff x="3151800" y="849600"/>
                <a:chExt cx="755640" cy="739440"/>
              </a:xfrm>
            </p:grpSpPr>
            <p:pic>
              <p:nvPicPr>
                <p:cNvPr id="457" name="Oval 112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3151800" y="849600"/>
                  <a:ext cx="75564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>
                  <a:off x="3297600" y="972360"/>
                  <a:ext cx="46116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9" name="Oval 113"/>
              <p:cNvGrpSpPr/>
              <p:nvPr/>
            </p:nvGrpSpPr>
            <p:grpSpPr>
              <a:xfrm>
                <a:off x="3616200" y="736560"/>
                <a:ext cx="750240" cy="734040"/>
                <a:chOff x="3616200" y="736560"/>
                <a:chExt cx="750240" cy="734040"/>
              </a:xfrm>
            </p:grpSpPr>
            <p:pic>
              <p:nvPicPr>
                <p:cNvPr id="460" name="Oval 113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616200" y="736560"/>
                  <a:ext cx="7502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"/>
                <p:cNvSpPr/>
                <p:nvPr/>
              </p:nvSpPr>
              <p:spPr>
                <a:xfrm>
                  <a:off x="3760560" y="856080"/>
                  <a:ext cx="4615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62" name="Group 109"/>
            <p:cNvGrpSpPr/>
            <p:nvPr/>
          </p:nvGrpSpPr>
          <p:grpSpPr>
            <a:xfrm>
              <a:off x="1982880" y="359280"/>
              <a:ext cx="1168560" cy="877320"/>
              <a:chOff x="1982880" y="359280"/>
              <a:chExt cx="1168560" cy="877320"/>
            </a:xfrm>
          </p:grpSpPr>
          <p:grpSp>
            <p:nvGrpSpPr>
              <p:cNvPr id="463" name="Oval 110"/>
              <p:cNvGrpSpPr/>
              <p:nvPr/>
            </p:nvGrpSpPr>
            <p:grpSpPr>
              <a:xfrm>
                <a:off x="1982880" y="359280"/>
                <a:ext cx="751320" cy="736560"/>
                <a:chOff x="1982880" y="359280"/>
                <a:chExt cx="751320" cy="736560"/>
              </a:xfrm>
            </p:grpSpPr>
            <p:pic>
              <p:nvPicPr>
                <p:cNvPr id="464" name="Oval 110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1982880" y="35928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>
                  <a:off x="2129400" y="4802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6" name="Oval 111"/>
              <p:cNvGrpSpPr/>
              <p:nvPr/>
            </p:nvGrpSpPr>
            <p:grpSpPr>
              <a:xfrm>
                <a:off x="2400120" y="500040"/>
                <a:ext cx="751320" cy="736560"/>
                <a:chOff x="2400120" y="500040"/>
                <a:chExt cx="751320" cy="736560"/>
              </a:xfrm>
            </p:grpSpPr>
            <p:pic>
              <p:nvPicPr>
                <p:cNvPr id="467" name="Oval 111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2400120" y="50004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>
                  <a:off x="2547720" y="6192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9" name="Rounded Rectangle 4"/>
          <p:cNvSpPr/>
          <p:nvPr/>
        </p:nvSpPr>
        <p:spPr>
          <a:xfrm>
            <a:off x="220680" y="3538440"/>
            <a:ext cx="1519200" cy="1343160"/>
          </a:xfrm>
          <a:prstGeom prst="roundRect">
            <a:avLst>
              <a:gd name="adj" fmla="val 16667"/>
            </a:avLst>
          </a:prstGeom>
          <a:solidFill>
            <a:srgbClr val="00b0f0">
              <a:alpha val="35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crystal of solid i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116"/>
          <p:cNvSpPr/>
          <p:nvPr/>
        </p:nvSpPr>
        <p:spPr>
          <a:xfrm>
            <a:off x="6823080" y="3481560"/>
            <a:ext cx="1994040" cy="1341360"/>
          </a:xfrm>
          <a:prstGeom prst="roundRect">
            <a:avLst>
              <a:gd name="adj" fmla="val 16667"/>
            </a:avLst>
          </a:prstGeom>
          <a:solidFill>
            <a:srgbClr val="ff2600">
              <a:alpha val="35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crystal of solid alumi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8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10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1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14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1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1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20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22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10065 -0.00371 E">
                                      <p:cBhvr>
                                        <p:cTn id="24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738360" y="1860480"/>
            <a:ext cx="3197520" cy="2019960"/>
            <a:chOff x="738360" y="1860480"/>
            <a:chExt cx="3197520" cy="2019960"/>
          </a:xfrm>
        </p:grpSpPr>
        <p:grpSp>
          <p:nvGrpSpPr>
            <p:cNvPr id="472" name="Group 51"/>
            <p:cNvGrpSpPr/>
            <p:nvPr/>
          </p:nvGrpSpPr>
          <p:grpSpPr>
            <a:xfrm>
              <a:off x="2757240" y="1860480"/>
              <a:ext cx="1178640" cy="840600"/>
              <a:chOff x="2757240" y="1860480"/>
              <a:chExt cx="1178640" cy="840600"/>
            </a:xfrm>
          </p:grpSpPr>
          <p:grpSp>
            <p:nvGrpSpPr>
              <p:cNvPr id="473" name="Oval 52"/>
              <p:cNvGrpSpPr/>
              <p:nvPr/>
            </p:nvGrpSpPr>
            <p:grpSpPr>
              <a:xfrm>
                <a:off x="2757240" y="1939680"/>
                <a:ext cx="801000" cy="761400"/>
                <a:chOff x="2757240" y="1939680"/>
                <a:chExt cx="801000" cy="761400"/>
              </a:xfrm>
            </p:grpSpPr>
            <p:pic>
              <p:nvPicPr>
                <p:cNvPr id="474" name="Oval 52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2757240" y="1939320"/>
                  <a:ext cx="801000" cy="7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 rot="19840800">
                  <a:off x="2955240" y="2126160"/>
                  <a:ext cx="40248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6" name="Oval 54"/>
              <p:cNvGrpSpPr/>
              <p:nvPr/>
            </p:nvGrpSpPr>
            <p:grpSpPr>
              <a:xfrm>
                <a:off x="3134880" y="1860480"/>
                <a:ext cx="801000" cy="761400"/>
                <a:chOff x="3134880" y="1860480"/>
                <a:chExt cx="801000" cy="761400"/>
              </a:xfrm>
            </p:grpSpPr>
            <p:pic>
              <p:nvPicPr>
                <p:cNvPr id="477" name="Oval 54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3134880" y="1860120"/>
                  <a:ext cx="801000" cy="7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8" name=""/>
                <p:cNvSpPr/>
                <p:nvPr/>
              </p:nvSpPr>
              <p:spPr>
                <a:xfrm rot="19840800">
                  <a:off x="3333600" y="2049840"/>
                  <a:ext cx="40248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79" name="Group 58"/>
            <p:cNvGrpSpPr/>
            <p:nvPr/>
          </p:nvGrpSpPr>
          <p:grpSpPr>
            <a:xfrm>
              <a:off x="1988280" y="2676240"/>
              <a:ext cx="1114560" cy="1038600"/>
              <a:chOff x="1988280" y="2676240"/>
              <a:chExt cx="1114560" cy="1038600"/>
            </a:xfrm>
          </p:grpSpPr>
          <p:grpSp>
            <p:nvGrpSpPr>
              <p:cNvPr id="480" name="Oval 59"/>
              <p:cNvGrpSpPr/>
              <p:nvPr/>
            </p:nvGrpSpPr>
            <p:grpSpPr>
              <a:xfrm>
                <a:off x="1988280" y="2960280"/>
                <a:ext cx="806400" cy="754560"/>
                <a:chOff x="1988280" y="2960280"/>
                <a:chExt cx="806400" cy="754560"/>
              </a:xfrm>
            </p:grpSpPr>
            <p:pic>
              <p:nvPicPr>
                <p:cNvPr id="481" name="Oval 59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1988280" y="2959920"/>
                  <a:ext cx="80640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2" name=""/>
                <p:cNvSpPr/>
                <p:nvPr/>
              </p:nvSpPr>
              <p:spPr>
                <a:xfrm rot="19840800">
                  <a:off x="2187360" y="3147120"/>
                  <a:ext cx="405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3" name="Oval 60"/>
              <p:cNvGrpSpPr/>
              <p:nvPr/>
            </p:nvGrpSpPr>
            <p:grpSpPr>
              <a:xfrm>
                <a:off x="2291400" y="2676240"/>
                <a:ext cx="811440" cy="754560"/>
                <a:chOff x="2291400" y="2676240"/>
                <a:chExt cx="811440" cy="754560"/>
              </a:xfrm>
            </p:grpSpPr>
            <p:pic>
              <p:nvPicPr>
                <p:cNvPr id="484" name="Oval 60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2291400" y="2675880"/>
                  <a:ext cx="81144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5" name=""/>
                <p:cNvSpPr/>
                <p:nvPr/>
              </p:nvSpPr>
              <p:spPr>
                <a:xfrm rot="19840800">
                  <a:off x="2493720" y="2862360"/>
                  <a:ext cx="405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86" name="Group 61"/>
            <p:cNvGrpSpPr/>
            <p:nvPr/>
          </p:nvGrpSpPr>
          <p:grpSpPr>
            <a:xfrm>
              <a:off x="738360" y="3044520"/>
              <a:ext cx="1179720" cy="835920"/>
              <a:chOff x="738360" y="3044520"/>
              <a:chExt cx="1179720" cy="835920"/>
            </a:xfrm>
          </p:grpSpPr>
          <p:grpSp>
            <p:nvGrpSpPr>
              <p:cNvPr id="487" name="Oval 62"/>
              <p:cNvGrpSpPr/>
              <p:nvPr/>
            </p:nvGrpSpPr>
            <p:grpSpPr>
              <a:xfrm>
                <a:off x="738360" y="3119040"/>
                <a:ext cx="803520" cy="761400"/>
                <a:chOff x="738360" y="3119040"/>
                <a:chExt cx="803520" cy="761400"/>
              </a:xfrm>
            </p:grpSpPr>
            <p:pic>
              <p:nvPicPr>
                <p:cNvPr id="488" name="Oval 6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738360" y="3118680"/>
                  <a:ext cx="803520" cy="7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 rot="19840800">
                  <a:off x="940680" y="3307320"/>
                  <a:ext cx="40140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0" name="Oval 63"/>
              <p:cNvGrpSpPr/>
              <p:nvPr/>
            </p:nvGrpSpPr>
            <p:grpSpPr>
              <a:xfrm>
                <a:off x="1119240" y="3044520"/>
                <a:ext cx="798840" cy="756720"/>
                <a:chOff x="1119240" y="3044520"/>
                <a:chExt cx="798840" cy="756720"/>
              </a:xfrm>
            </p:grpSpPr>
            <p:pic>
              <p:nvPicPr>
                <p:cNvPr id="491" name="Oval 63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1119240" y="3044160"/>
                  <a:ext cx="798840" cy="75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 rot="19840800">
                  <a:off x="1317240" y="3230280"/>
                  <a:ext cx="40140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93" name="Group 67"/>
          <p:cNvGrpSpPr/>
          <p:nvPr/>
        </p:nvGrpSpPr>
        <p:grpSpPr>
          <a:xfrm>
            <a:off x="1364040" y="498600"/>
            <a:ext cx="3478680" cy="1357920"/>
            <a:chOff x="1364040" y="498600"/>
            <a:chExt cx="3478680" cy="1357920"/>
          </a:xfrm>
        </p:grpSpPr>
        <p:grpSp>
          <p:nvGrpSpPr>
            <p:cNvPr id="494" name="Group 68"/>
            <p:cNvGrpSpPr/>
            <p:nvPr/>
          </p:nvGrpSpPr>
          <p:grpSpPr>
            <a:xfrm>
              <a:off x="3691800" y="721080"/>
              <a:ext cx="1150920" cy="923760"/>
              <a:chOff x="3691800" y="721080"/>
              <a:chExt cx="1150920" cy="923760"/>
            </a:xfrm>
          </p:grpSpPr>
          <p:grpSp>
            <p:nvGrpSpPr>
              <p:cNvPr id="495" name="Oval 75"/>
              <p:cNvGrpSpPr/>
              <p:nvPr/>
            </p:nvGrpSpPr>
            <p:grpSpPr>
              <a:xfrm>
                <a:off x="3691800" y="721080"/>
                <a:ext cx="748080" cy="741600"/>
                <a:chOff x="3691800" y="721080"/>
                <a:chExt cx="748080" cy="741600"/>
              </a:xfrm>
            </p:grpSpPr>
            <p:pic>
              <p:nvPicPr>
                <p:cNvPr id="496" name="Oval 75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3691800" y="720720"/>
                  <a:ext cx="748080" cy="7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387000">
                  <a:off x="3835440" y="859320"/>
                  <a:ext cx="46008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8" name="Oval 76"/>
              <p:cNvGrpSpPr/>
              <p:nvPr/>
            </p:nvGrpSpPr>
            <p:grpSpPr>
              <a:xfrm>
                <a:off x="4094640" y="903240"/>
                <a:ext cx="748080" cy="741600"/>
                <a:chOff x="4094640" y="903240"/>
                <a:chExt cx="748080" cy="741600"/>
              </a:xfrm>
            </p:grpSpPr>
            <p:pic>
              <p:nvPicPr>
                <p:cNvPr id="499" name="Oval 76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094640" y="902880"/>
                  <a:ext cx="748080" cy="74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 rot="387000">
                  <a:off x="4237560" y="1041120"/>
                  <a:ext cx="46008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1" name="Group 69"/>
            <p:cNvGrpSpPr/>
            <p:nvPr/>
          </p:nvGrpSpPr>
          <p:grpSpPr>
            <a:xfrm>
              <a:off x="2470680" y="1056600"/>
              <a:ext cx="1224360" cy="799920"/>
              <a:chOff x="2470680" y="1056600"/>
              <a:chExt cx="1224360" cy="799920"/>
            </a:xfrm>
          </p:grpSpPr>
          <p:grpSp>
            <p:nvGrpSpPr>
              <p:cNvPr id="502" name="Oval 73"/>
              <p:cNvGrpSpPr/>
              <p:nvPr/>
            </p:nvGrpSpPr>
            <p:grpSpPr>
              <a:xfrm>
                <a:off x="2470680" y="1117080"/>
                <a:ext cx="755280" cy="739440"/>
                <a:chOff x="2470680" y="1117080"/>
                <a:chExt cx="755280" cy="739440"/>
              </a:xfrm>
            </p:grpSpPr>
            <p:pic>
              <p:nvPicPr>
                <p:cNvPr id="503" name="Oval 73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2470680" y="1116720"/>
                  <a:ext cx="75528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 rot="387000">
                  <a:off x="2616840" y="1254960"/>
                  <a:ext cx="461160" cy="4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5" name="Oval 74"/>
              <p:cNvGrpSpPr/>
              <p:nvPr/>
            </p:nvGrpSpPr>
            <p:grpSpPr>
              <a:xfrm>
                <a:off x="2945160" y="1056600"/>
                <a:ext cx="749880" cy="739440"/>
                <a:chOff x="2945160" y="1056600"/>
                <a:chExt cx="749880" cy="739440"/>
              </a:xfrm>
            </p:grpSpPr>
            <p:pic>
              <p:nvPicPr>
                <p:cNvPr id="506" name="Oval 74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2945160" y="1056240"/>
                  <a:ext cx="749880" cy="73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7" name=""/>
                <p:cNvSpPr/>
                <p:nvPr/>
              </p:nvSpPr>
              <p:spPr>
                <a:xfrm rot="387000">
                  <a:off x="3089520" y="1194120"/>
                  <a:ext cx="461160" cy="4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8" name="Group 70"/>
            <p:cNvGrpSpPr/>
            <p:nvPr/>
          </p:nvGrpSpPr>
          <p:grpSpPr>
            <a:xfrm>
              <a:off x="1364040" y="498600"/>
              <a:ext cx="1150920" cy="923400"/>
              <a:chOff x="1364040" y="498600"/>
              <a:chExt cx="1150920" cy="923400"/>
            </a:xfrm>
          </p:grpSpPr>
          <p:grpSp>
            <p:nvGrpSpPr>
              <p:cNvPr id="509" name="Oval 71"/>
              <p:cNvGrpSpPr/>
              <p:nvPr/>
            </p:nvGrpSpPr>
            <p:grpSpPr>
              <a:xfrm>
                <a:off x="1364040" y="498600"/>
                <a:ext cx="753840" cy="740520"/>
                <a:chOff x="1364040" y="498600"/>
                <a:chExt cx="753840" cy="740520"/>
              </a:xfrm>
            </p:grpSpPr>
            <p:pic>
              <p:nvPicPr>
                <p:cNvPr id="510" name="Oval 71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1364040" y="498240"/>
                  <a:ext cx="753840" cy="74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1" name=""/>
                <p:cNvSpPr/>
                <p:nvPr/>
              </p:nvSpPr>
              <p:spPr>
                <a:xfrm rot="387000">
                  <a:off x="1509480" y="634320"/>
                  <a:ext cx="4600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2" name="Oval 72"/>
              <p:cNvGrpSpPr/>
              <p:nvPr/>
            </p:nvGrpSpPr>
            <p:grpSpPr>
              <a:xfrm>
                <a:off x="1766880" y="681480"/>
                <a:ext cx="748080" cy="740520"/>
                <a:chOff x="1766880" y="681480"/>
                <a:chExt cx="748080" cy="740520"/>
              </a:xfrm>
            </p:grpSpPr>
            <p:pic>
              <p:nvPicPr>
                <p:cNvPr id="513" name="Oval 72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1766880" y="681120"/>
                  <a:ext cx="748080" cy="74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4" name=""/>
                <p:cNvSpPr/>
                <p:nvPr/>
              </p:nvSpPr>
              <p:spPr>
                <a:xfrm rot="387000">
                  <a:off x="1911600" y="817200"/>
                  <a:ext cx="4600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15" name="Group 77"/>
          <p:cNvGrpSpPr/>
          <p:nvPr/>
        </p:nvGrpSpPr>
        <p:grpSpPr>
          <a:xfrm>
            <a:off x="3224160" y="2603520"/>
            <a:ext cx="3506760" cy="1270080"/>
            <a:chOff x="3224160" y="2603520"/>
            <a:chExt cx="3506760" cy="1270080"/>
          </a:xfrm>
        </p:grpSpPr>
        <p:grpSp>
          <p:nvGrpSpPr>
            <p:cNvPr id="516" name="Group 78"/>
            <p:cNvGrpSpPr/>
            <p:nvPr/>
          </p:nvGrpSpPr>
          <p:grpSpPr>
            <a:xfrm>
              <a:off x="5562000" y="2603520"/>
              <a:ext cx="1168920" cy="877320"/>
              <a:chOff x="5562000" y="2603520"/>
              <a:chExt cx="1168920" cy="877320"/>
            </a:xfrm>
          </p:grpSpPr>
          <p:grpSp>
            <p:nvGrpSpPr>
              <p:cNvPr id="517" name="Oval 85"/>
              <p:cNvGrpSpPr/>
              <p:nvPr/>
            </p:nvGrpSpPr>
            <p:grpSpPr>
              <a:xfrm>
                <a:off x="5562000" y="2603520"/>
                <a:ext cx="751320" cy="736560"/>
                <a:chOff x="5562000" y="2603520"/>
                <a:chExt cx="751320" cy="736560"/>
              </a:xfrm>
            </p:grpSpPr>
            <p:pic>
              <p:nvPicPr>
                <p:cNvPr id="518" name="Oval 85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562000" y="260352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"/>
                <p:cNvSpPr/>
                <p:nvPr/>
              </p:nvSpPr>
              <p:spPr>
                <a:xfrm>
                  <a:off x="5709240" y="27248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0" name="Oval 86"/>
              <p:cNvGrpSpPr/>
              <p:nvPr/>
            </p:nvGrpSpPr>
            <p:grpSpPr>
              <a:xfrm>
                <a:off x="5985000" y="2744280"/>
                <a:ext cx="745920" cy="736560"/>
                <a:chOff x="5985000" y="2744280"/>
                <a:chExt cx="745920" cy="736560"/>
              </a:xfrm>
            </p:grpSpPr>
            <p:pic>
              <p:nvPicPr>
                <p:cNvPr id="521" name="Oval 8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985000" y="2744280"/>
                  <a:ext cx="7459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"/>
                <p:cNvSpPr/>
                <p:nvPr/>
              </p:nvSpPr>
              <p:spPr>
                <a:xfrm>
                  <a:off x="6127920" y="28638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23" name="Group 79"/>
            <p:cNvGrpSpPr/>
            <p:nvPr/>
          </p:nvGrpSpPr>
          <p:grpSpPr>
            <a:xfrm>
              <a:off x="4393080" y="3021120"/>
              <a:ext cx="1214640" cy="852480"/>
              <a:chOff x="4393080" y="3021120"/>
              <a:chExt cx="1214640" cy="852480"/>
            </a:xfrm>
          </p:grpSpPr>
          <p:grpSp>
            <p:nvGrpSpPr>
              <p:cNvPr id="524" name="Oval 83"/>
              <p:cNvGrpSpPr/>
              <p:nvPr/>
            </p:nvGrpSpPr>
            <p:grpSpPr>
              <a:xfrm>
                <a:off x="4393080" y="3134880"/>
                <a:ext cx="750240" cy="738720"/>
                <a:chOff x="4393080" y="3134880"/>
                <a:chExt cx="750240" cy="738720"/>
              </a:xfrm>
            </p:grpSpPr>
            <p:pic>
              <p:nvPicPr>
                <p:cNvPr id="525" name="Oval 8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393080" y="3134880"/>
                  <a:ext cx="750240" cy="73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6" name=""/>
                <p:cNvSpPr/>
                <p:nvPr/>
              </p:nvSpPr>
              <p:spPr>
                <a:xfrm>
                  <a:off x="4537080" y="3256920"/>
                  <a:ext cx="461520" cy="45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7" name="Oval 84"/>
              <p:cNvGrpSpPr/>
              <p:nvPr/>
            </p:nvGrpSpPr>
            <p:grpSpPr>
              <a:xfrm>
                <a:off x="4852080" y="3021120"/>
                <a:ext cx="755640" cy="738720"/>
                <a:chOff x="4852080" y="3021120"/>
                <a:chExt cx="755640" cy="738720"/>
              </a:xfrm>
            </p:grpSpPr>
            <p:pic>
              <p:nvPicPr>
                <p:cNvPr id="528" name="Oval 84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852080" y="3021120"/>
                  <a:ext cx="755640" cy="73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9" name=""/>
                <p:cNvSpPr/>
                <p:nvPr/>
              </p:nvSpPr>
              <p:spPr>
                <a:xfrm>
                  <a:off x="5000040" y="3140280"/>
                  <a:ext cx="461160" cy="45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0" name="Group 80"/>
            <p:cNvGrpSpPr/>
            <p:nvPr/>
          </p:nvGrpSpPr>
          <p:grpSpPr>
            <a:xfrm>
              <a:off x="3224160" y="2643840"/>
              <a:ext cx="1168560" cy="877320"/>
              <a:chOff x="3224160" y="2643840"/>
              <a:chExt cx="1168560" cy="877320"/>
            </a:xfrm>
          </p:grpSpPr>
          <p:grpSp>
            <p:nvGrpSpPr>
              <p:cNvPr id="531" name="Oval 81"/>
              <p:cNvGrpSpPr/>
              <p:nvPr/>
            </p:nvGrpSpPr>
            <p:grpSpPr>
              <a:xfrm>
                <a:off x="3224160" y="2643840"/>
                <a:ext cx="745920" cy="736560"/>
                <a:chOff x="3224160" y="2643840"/>
                <a:chExt cx="745920" cy="736560"/>
              </a:xfrm>
            </p:grpSpPr>
            <p:pic>
              <p:nvPicPr>
                <p:cNvPr id="532" name="Oval 8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24160" y="2643840"/>
                  <a:ext cx="7459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3" name=""/>
                <p:cNvSpPr/>
                <p:nvPr/>
              </p:nvSpPr>
              <p:spPr>
                <a:xfrm>
                  <a:off x="3368520" y="276336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4" name="Oval 82"/>
              <p:cNvGrpSpPr/>
              <p:nvPr/>
            </p:nvGrpSpPr>
            <p:grpSpPr>
              <a:xfrm>
                <a:off x="3641400" y="2779200"/>
                <a:ext cx="751320" cy="741960"/>
                <a:chOff x="3641400" y="2779200"/>
                <a:chExt cx="751320" cy="741960"/>
              </a:xfrm>
            </p:grpSpPr>
            <p:pic>
              <p:nvPicPr>
                <p:cNvPr id="535" name="Oval 82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41400" y="2779200"/>
                  <a:ext cx="7513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6" name=""/>
                <p:cNvSpPr/>
                <p:nvPr/>
              </p:nvSpPr>
              <p:spPr>
                <a:xfrm>
                  <a:off x="3786840" y="290232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37" name="Group 4"/>
          <p:cNvGrpSpPr/>
          <p:nvPr/>
        </p:nvGrpSpPr>
        <p:grpSpPr>
          <a:xfrm>
            <a:off x="4422600" y="1740960"/>
            <a:ext cx="1249560" cy="1336320"/>
            <a:chOff x="4422600" y="1740960"/>
            <a:chExt cx="1249560" cy="1336320"/>
          </a:xfrm>
        </p:grpSpPr>
        <p:grpSp>
          <p:nvGrpSpPr>
            <p:cNvPr id="538" name="Oval 91"/>
            <p:cNvGrpSpPr/>
            <p:nvPr/>
          </p:nvGrpSpPr>
          <p:grpSpPr>
            <a:xfrm>
              <a:off x="4422600" y="2318400"/>
              <a:ext cx="766440" cy="758880"/>
              <a:chOff x="4422600" y="2318400"/>
              <a:chExt cx="766440" cy="758880"/>
            </a:xfrm>
          </p:grpSpPr>
          <p:pic>
            <p:nvPicPr>
              <p:cNvPr id="539" name="Oval 91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4422600" y="2318040"/>
                <a:ext cx="766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 rot="1600200">
                <a:off x="4609440" y="2503080"/>
                <a:ext cx="3898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1" name="Oval 92"/>
            <p:cNvGrpSpPr/>
            <p:nvPr/>
          </p:nvGrpSpPr>
          <p:grpSpPr>
            <a:xfrm>
              <a:off x="4425480" y="1740960"/>
              <a:ext cx="766440" cy="758880"/>
              <a:chOff x="4425480" y="1740960"/>
              <a:chExt cx="766440" cy="758880"/>
            </a:xfrm>
          </p:grpSpPr>
          <p:pic>
            <p:nvPicPr>
              <p:cNvPr id="542" name="Oval 92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4425480" y="1740600"/>
                <a:ext cx="766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 rot="1600200">
                <a:off x="4610880" y="1928880"/>
                <a:ext cx="3898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4" name="Oval 93"/>
            <p:cNvGrpSpPr/>
            <p:nvPr/>
          </p:nvGrpSpPr>
          <p:grpSpPr>
            <a:xfrm>
              <a:off x="4905720" y="2010960"/>
              <a:ext cx="766440" cy="753840"/>
              <a:chOff x="4905720" y="2010960"/>
              <a:chExt cx="766440" cy="753840"/>
            </a:xfrm>
          </p:grpSpPr>
          <p:pic>
            <p:nvPicPr>
              <p:cNvPr id="545" name="Oval 93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4905720" y="2010600"/>
                <a:ext cx="766440" cy="75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 rot="1600200">
                <a:off x="5094360" y="2195280"/>
                <a:ext cx="3898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7" name="Group 1"/>
          <p:cNvGrpSpPr/>
          <p:nvPr/>
        </p:nvGrpSpPr>
        <p:grpSpPr>
          <a:xfrm>
            <a:off x="928800" y="1719360"/>
            <a:ext cx="1689120" cy="1266840"/>
            <a:chOff x="928800" y="1719360"/>
            <a:chExt cx="1689120" cy="1266840"/>
          </a:xfrm>
        </p:grpSpPr>
        <p:grpSp>
          <p:nvGrpSpPr>
            <p:cNvPr id="548" name="Oval 18"/>
            <p:cNvGrpSpPr/>
            <p:nvPr/>
          </p:nvGrpSpPr>
          <p:grpSpPr>
            <a:xfrm>
              <a:off x="1272240" y="1719360"/>
              <a:ext cx="727200" cy="706320"/>
              <a:chOff x="1272240" y="1719360"/>
              <a:chExt cx="727200" cy="706320"/>
            </a:xfrm>
          </p:grpSpPr>
          <p:pic>
            <p:nvPicPr>
              <p:cNvPr id="549" name="Oval 18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72240" y="1719360"/>
                <a:ext cx="727200" cy="7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1417320" y="1836360"/>
                <a:ext cx="4392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1" name="Oval 87"/>
            <p:cNvGrpSpPr/>
            <p:nvPr/>
          </p:nvGrpSpPr>
          <p:grpSpPr>
            <a:xfrm>
              <a:off x="1896480" y="1741680"/>
              <a:ext cx="721440" cy="712080"/>
              <a:chOff x="1896480" y="1741680"/>
              <a:chExt cx="721440" cy="712080"/>
            </a:xfrm>
          </p:grpSpPr>
          <p:pic>
            <p:nvPicPr>
              <p:cNvPr id="552" name="Oval 87" descr=""/>
              <p:cNvPicPr/>
              <p:nvPr/>
            </p:nvPicPr>
            <p:blipFill>
              <a:blip r:embed="rId23"/>
              <a:stretch/>
            </p:blipFill>
            <p:spPr>
              <a:xfrm>
                <a:off x="1896480" y="1741680"/>
                <a:ext cx="721440" cy="7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2038320" y="1859760"/>
                <a:ext cx="4392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4" name="Oval 89"/>
            <p:cNvGrpSpPr/>
            <p:nvPr/>
          </p:nvGrpSpPr>
          <p:grpSpPr>
            <a:xfrm>
              <a:off x="1558440" y="2279880"/>
              <a:ext cx="721440" cy="706320"/>
              <a:chOff x="1558440" y="2279880"/>
              <a:chExt cx="721440" cy="706320"/>
            </a:xfrm>
          </p:grpSpPr>
          <p:pic>
            <p:nvPicPr>
              <p:cNvPr id="555" name="Oval 89" descr=""/>
              <p:cNvPicPr/>
              <p:nvPr/>
            </p:nvPicPr>
            <p:blipFill>
              <a:blip r:embed="rId24"/>
              <a:stretch/>
            </p:blipFill>
            <p:spPr>
              <a:xfrm>
                <a:off x="1558440" y="2279880"/>
                <a:ext cx="721440" cy="7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698840" y="2394000"/>
                <a:ext cx="4392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7" name="Oval 94"/>
            <p:cNvGrpSpPr/>
            <p:nvPr/>
          </p:nvGrpSpPr>
          <p:grpSpPr>
            <a:xfrm>
              <a:off x="928800" y="2251800"/>
              <a:ext cx="727200" cy="706320"/>
              <a:chOff x="928800" y="2251800"/>
              <a:chExt cx="727200" cy="706320"/>
            </a:xfrm>
          </p:grpSpPr>
          <p:pic>
            <p:nvPicPr>
              <p:cNvPr id="558" name="Oval 94" descr=""/>
              <p:cNvPicPr/>
              <p:nvPr/>
            </p:nvPicPr>
            <p:blipFill>
              <a:blip r:embed="rId25"/>
              <a:stretch/>
            </p:blipFill>
            <p:spPr>
              <a:xfrm>
                <a:off x="928800" y="2251800"/>
                <a:ext cx="727200" cy="7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1073160" y="2367000"/>
                <a:ext cx="4392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0" name="Group 3"/>
          <p:cNvGrpSpPr/>
          <p:nvPr/>
        </p:nvGrpSpPr>
        <p:grpSpPr>
          <a:xfrm>
            <a:off x="6657840" y="2617920"/>
            <a:ext cx="1332000" cy="1269720"/>
            <a:chOff x="6657840" y="2617920"/>
            <a:chExt cx="1332000" cy="1269720"/>
          </a:xfrm>
        </p:grpSpPr>
        <p:grpSp>
          <p:nvGrpSpPr>
            <p:cNvPr id="561" name="Oval 88"/>
            <p:cNvGrpSpPr/>
            <p:nvPr/>
          </p:nvGrpSpPr>
          <p:grpSpPr>
            <a:xfrm>
              <a:off x="6989400" y="2617920"/>
              <a:ext cx="708120" cy="710280"/>
              <a:chOff x="6989400" y="2617920"/>
              <a:chExt cx="708120" cy="710280"/>
            </a:xfrm>
          </p:grpSpPr>
          <p:pic>
            <p:nvPicPr>
              <p:cNvPr id="562" name="Oval 88" descr=""/>
              <p:cNvPicPr/>
              <p:nvPr/>
            </p:nvPicPr>
            <p:blipFill>
              <a:blip r:embed="rId26"/>
              <a:stretch/>
            </p:blipFill>
            <p:spPr>
              <a:xfrm>
                <a:off x="6989400" y="2617920"/>
                <a:ext cx="70812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7129080" y="2736720"/>
                <a:ext cx="430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Oval 90"/>
            <p:cNvGrpSpPr/>
            <p:nvPr/>
          </p:nvGrpSpPr>
          <p:grpSpPr>
            <a:xfrm>
              <a:off x="6657840" y="3149280"/>
              <a:ext cx="713880" cy="704880"/>
              <a:chOff x="6657840" y="3149280"/>
              <a:chExt cx="713880" cy="704880"/>
            </a:xfrm>
          </p:grpSpPr>
          <p:pic>
            <p:nvPicPr>
              <p:cNvPr id="565" name="Oval 90" descr=""/>
              <p:cNvPicPr/>
              <p:nvPr/>
            </p:nvPicPr>
            <p:blipFill>
              <a:blip r:embed="rId27"/>
              <a:stretch/>
            </p:blipFill>
            <p:spPr>
              <a:xfrm>
                <a:off x="6657840" y="3149280"/>
                <a:ext cx="713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6798600" y="3264840"/>
                <a:ext cx="430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7" name="Oval 95"/>
            <p:cNvGrpSpPr/>
            <p:nvPr/>
          </p:nvGrpSpPr>
          <p:grpSpPr>
            <a:xfrm>
              <a:off x="7275960" y="3177360"/>
              <a:ext cx="713880" cy="710280"/>
              <a:chOff x="7275960" y="3177360"/>
              <a:chExt cx="713880" cy="710280"/>
            </a:xfrm>
          </p:grpSpPr>
          <p:pic>
            <p:nvPicPr>
              <p:cNvPr id="568" name="Oval 95" descr=""/>
              <p:cNvPicPr/>
              <p:nvPr/>
            </p:nvPicPr>
            <p:blipFill>
              <a:blip r:embed="rId28"/>
              <a:stretch/>
            </p:blipFill>
            <p:spPr>
              <a:xfrm>
                <a:off x="7275960" y="3177360"/>
                <a:ext cx="71388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7417080" y="3296520"/>
                <a:ext cx="4309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0" name="Group 44"/>
          <p:cNvGrpSpPr/>
          <p:nvPr/>
        </p:nvGrpSpPr>
        <p:grpSpPr>
          <a:xfrm>
            <a:off x="5091840" y="1029240"/>
            <a:ext cx="3270960" cy="1865160"/>
            <a:chOff x="5091840" y="1029240"/>
            <a:chExt cx="3270960" cy="1865160"/>
          </a:xfrm>
        </p:grpSpPr>
        <p:grpSp>
          <p:nvGrpSpPr>
            <p:cNvPr id="571" name="Group 45"/>
            <p:cNvGrpSpPr/>
            <p:nvPr/>
          </p:nvGrpSpPr>
          <p:grpSpPr>
            <a:xfrm>
              <a:off x="7268760" y="1881360"/>
              <a:ext cx="1094040" cy="1013040"/>
              <a:chOff x="7268760" y="1881360"/>
              <a:chExt cx="1094040" cy="1013040"/>
            </a:xfrm>
          </p:grpSpPr>
          <p:grpSp>
            <p:nvGrpSpPr>
              <p:cNvPr id="572" name="Oval 55"/>
              <p:cNvGrpSpPr/>
              <p:nvPr/>
            </p:nvGrpSpPr>
            <p:grpSpPr>
              <a:xfrm>
                <a:off x="7268760" y="1881360"/>
                <a:ext cx="791280" cy="758520"/>
                <a:chOff x="7268760" y="1881360"/>
                <a:chExt cx="791280" cy="758520"/>
              </a:xfrm>
            </p:grpSpPr>
            <p:pic>
              <p:nvPicPr>
                <p:cNvPr id="573" name="Oval 55" descr=""/>
                <p:cNvPicPr/>
                <p:nvPr/>
              </p:nvPicPr>
              <p:blipFill>
                <a:blip r:embed="rId29"/>
                <a:stretch/>
              </p:blipFill>
              <p:spPr>
                <a:xfrm rot="21599400">
                  <a:off x="7268760" y="1881000"/>
                  <a:ext cx="791280" cy="75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341600">
                  <a:off x="7459200" y="2061000"/>
                  <a:ext cx="412920" cy="3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5" name="Oval 56"/>
              <p:cNvGrpSpPr/>
              <p:nvPr/>
            </p:nvGrpSpPr>
            <p:grpSpPr>
              <a:xfrm>
                <a:off x="7571520" y="2140560"/>
                <a:ext cx="791280" cy="753840"/>
                <a:chOff x="7571520" y="2140560"/>
                <a:chExt cx="791280" cy="753840"/>
              </a:xfrm>
            </p:grpSpPr>
            <p:pic>
              <p:nvPicPr>
                <p:cNvPr id="576" name="Oval 56" descr=""/>
                <p:cNvPicPr/>
                <p:nvPr/>
              </p:nvPicPr>
              <p:blipFill>
                <a:blip r:embed="rId30"/>
                <a:stretch/>
              </p:blipFill>
              <p:spPr>
                <a:xfrm rot="21599400">
                  <a:off x="7571520" y="2140200"/>
                  <a:ext cx="791280" cy="75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 rot="1341600">
                  <a:off x="7760160" y="2317680"/>
                  <a:ext cx="41292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8" name="Group 46"/>
            <p:cNvGrpSpPr/>
            <p:nvPr/>
          </p:nvGrpSpPr>
          <p:grpSpPr>
            <a:xfrm>
              <a:off x="5990040" y="1920960"/>
              <a:ext cx="1222200" cy="817200"/>
              <a:chOff x="5990040" y="1920960"/>
              <a:chExt cx="1222200" cy="817200"/>
            </a:xfrm>
          </p:grpSpPr>
          <p:grpSp>
            <p:nvGrpSpPr>
              <p:cNvPr id="579" name="Oval 50"/>
              <p:cNvGrpSpPr/>
              <p:nvPr/>
            </p:nvGrpSpPr>
            <p:grpSpPr>
              <a:xfrm>
                <a:off x="5990040" y="1920960"/>
                <a:ext cx="799560" cy="749880"/>
                <a:chOff x="5990040" y="1920960"/>
                <a:chExt cx="799560" cy="749880"/>
              </a:xfrm>
            </p:grpSpPr>
            <p:pic>
              <p:nvPicPr>
                <p:cNvPr id="580" name="Oval 50" descr=""/>
                <p:cNvPicPr/>
                <p:nvPr/>
              </p:nvPicPr>
              <p:blipFill>
                <a:blip r:embed="rId31"/>
                <a:stretch/>
              </p:blipFill>
              <p:spPr>
                <a:xfrm rot="21599400">
                  <a:off x="5990040" y="1920600"/>
                  <a:ext cx="799560" cy="74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1" name=""/>
                <p:cNvSpPr/>
                <p:nvPr/>
              </p:nvSpPr>
              <p:spPr>
                <a:xfrm rot="1341600">
                  <a:off x="6179760" y="2097000"/>
                  <a:ext cx="417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2" name="Oval 53"/>
              <p:cNvGrpSpPr/>
              <p:nvPr/>
            </p:nvGrpSpPr>
            <p:grpSpPr>
              <a:xfrm>
                <a:off x="6412680" y="1983240"/>
                <a:ext cx="799560" cy="754920"/>
                <a:chOff x="6412680" y="1983240"/>
                <a:chExt cx="799560" cy="754920"/>
              </a:xfrm>
            </p:grpSpPr>
            <p:pic>
              <p:nvPicPr>
                <p:cNvPr id="583" name="Oval 53" descr=""/>
                <p:cNvPicPr/>
                <p:nvPr/>
              </p:nvPicPr>
              <p:blipFill>
                <a:blip r:embed="rId32"/>
                <a:stretch/>
              </p:blipFill>
              <p:spPr>
                <a:xfrm rot="21599400">
                  <a:off x="6412680" y="1982880"/>
                  <a:ext cx="799560" cy="75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4" name=""/>
                <p:cNvSpPr/>
                <p:nvPr/>
              </p:nvSpPr>
              <p:spPr>
                <a:xfrm rot="1341600">
                  <a:off x="6605640" y="2161440"/>
                  <a:ext cx="417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5" name="Group 47"/>
            <p:cNvGrpSpPr/>
            <p:nvPr/>
          </p:nvGrpSpPr>
          <p:grpSpPr>
            <a:xfrm>
              <a:off x="5091840" y="1029240"/>
              <a:ext cx="1093320" cy="1013400"/>
              <a:chOff x="5091840" y="1029240"/>
              <a:chExt cx="1093320" cy="1013400"/>
            </a:xfrm>
          </p:grpSpPr>
          <p:grpSp>
            <p:nvGrpSpPr>
              <p:cNvPr id="586" name="Oval 48"/>
              <p:cNvGrpSpPr/>
              <p:nvPr/>
            </p:nvGrpSpPr>
            <p:grpSpPr>
              <a:xfrm>
                <a:off x="5091840" y="1029240"/>
                <a:ext cx="790560" cy="754560"/>
                <a:chOff x="5091840" y="1029240"/>
                <a:chExt cx="790560" cy="754560"/>
              </a:xfrm>
            </p:grpSpPr>
            <p:pic>
              <p:nvPicPr>
                <p:cNvPr id="587" name="Oval 48" descr=""/>
                <p:cNvPicPr/>
                <p:nvPr/>
              </p:nvPicPr>
              <p:blipFill>
                <a:blip r:embed="rId33"/>
                <a:stretch/>
              </p:blipFill>
              <p:spPr>
                <a:xfrm rot="21599400">
                  <a:off x="5091840" y="1028880"/>
                  <a:ext cx="79056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 rot="1341600">
                  <a:off x="5281200" y="120888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9" name="Oval 49"/>
              <p:cNvGrpSpPr/>
              <p:nvPr/>
            </p:nvGrpSpPr>
            <p:grpSpPr>
              <a:xfrm>
                <a:off x="5394600" y="1288080"/>
                <a:ext cx="790560" cy="754560"/>
                <a:chOff x="5394600" y="1288080"/>
                <a:chExt cx="790560" cy="754560"/>
              </a:xfrm>
            </p:grpSpPr>
            <p:pic>
              <p:nvPicPr>
                <p:cNvPr id="590" name="Oval 49" descr=""/>
                <p:cNvPicPr/>
                <p:nvPr/>
              </p:nvPicPr>
              <p:blipFill>
                <a:blip r:embed="rId34"/>
                <a:stretch/>
              </p:blipFill>
              <p:spPr>
                <a:xfrm rot="21599400">
                  <a:off x="5394600" y="1287720"/>
                  <a:ext cx="79056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1" name=""/>
                <p:cNvSpPr/>
                <p:nvPr/>
              </p:nvSpPr>
              <p:spPr>
                <a:xfrm rot="1341600">
                  <a:off x="5582160" y="146484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92" name="Group 57"/>
          <p:cNvGrpSpPr/>
          <p:nvPr/>
        </p:nvGrpSpPr>
        <p:grpSpPr>
          <a:xfrm>
            <a:off x="3219480" y="3416400"/>
            <a:ext cx="3506760" cy="1270080"/>
            <a:chOff x="3219480" y="3416400"/>
            <a:chExt cx="3506760" cy="1270080"/>
          </a:xfrm>
        </p:grpSpPr>
        <p:grpSp>
          <p:nvGrpSpPr>
            <p:cNvPr id="593" name="Group 64"/>
            <p:cNvGrpSpPr/>
            <p:nvPr/>
          </p:nvGrpSpPr>
          <p:grpSpPr>
            <a:xfrm>
              <a:off x="5557320" y="3416400"/>
              <a:ext cx="1168920" cy="877320"/>
              <a:chOff x="5557320" y="3416400"/>
              <a:chExt cx="1168920" cy="877320"/>
            </a:xfrm>
          </p:grpSpPr>
          <p:grpSp>
            <p:nvGrpSpPr>
              <p:cNvPr id="594" name="Oval 100"/>
              <p:cNvGrpSpPr/>
              <p:nvPr/>
            </p:nvGrpSpPr>
            <p:grpSpPr>
              <a:xfrm>
                <a:off x="5557320" y="3416400"/>
                <a:ext cx="749520" cy="741960"/>
                <a:chOff x="5557320" y="3416400"/>
                <a:chExt cx="749520" cy="741960"/>
              </a:xfrm>
            </p:grpSpPr>
            <p:pic>
              <p:nvPicPr>
                <p:cNvPr id="595" name="Oval 100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5557320" y="3416400"/>
                  <a:ext cx="749520" cy="74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"/>
                <p:cNvSpPr/>
                <p:nvPr/>
              </p:nvSpPr>
              <p:spPr>
                <a:xfrm>
                  <a:off x="5700960" y="353952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7" name="Oval 101"/>
              <p:cNvGrpSpPr/>
              <p:nvPr/>
            </p:nvGrpSpPr>
            <p:grpSpPr>
              <a:xfrm>
                <a:off x="5976720" y="3557160"/>
                <a:ext cx="749520" cy="736560"/>
                <a:chOff x="5976720" y="3557160"/>
                <a:chExt cx="749520" cy="736560"/>
              </a:xfrm>
            </p:grpSpPr>
            <p:pic>
              <p:nvPicPr>
                <p:cNvPr id="598" name="Oval 101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5976720" y="3557160"/>
                  <a:ext cx="7495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9" name=""/>
                <p:cNvSpPr/>
                <p:nvPr/>
              </p:nvSpPr>
              <p:spPr>
                <a:xfrm>
                  <a:off x="6121440" y="3678480"/>
                  <a:ext cx="461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00" name="Group 65"/>
            <p:cNvGrpSpPr/>
            <p:nvPr/>
          </p:nvGrpSpPr>
          <p:grpSpPr>
            <a:xfrm>
              <a:off x="4388400" y="3834000"/>
              <a:ext cx="1214640" cy="852480"/>
              <a:chOff x="4388400" y="3834000"/>
              <a:chExt cx="1214640" cy="852480"/>
            </a:xfrm>
          </p:grpSpPr>
          <p:grpSp>
            <p:nvGrpSpPr>
              <p:cNvPr id="601" name="Oval 98"/>
              <p:cNvGrpSpPr/>
              <p:nvPr/>
            </p:nvGrpSpPr>
            <p:grpSpPr>
              <a:xfrm>
                <a:off x="4388400" y="3952440"/>
                <a:ext cx="750240" cy="734040"/>
                <a:chOff x="4388400" y="3952440"/>
                <a:chExt cx="750240" cy="734040"/>
              </a:xfrm>
            </p:grpSpPr>
            <p:pic>
              <p:nvPicPr>
                <p:cNvPr id="602" name="Oval 98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4388400" y="3952440"/>
                  <a:ext cx="7502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>
                  <a:off x="4533480" y="4070160"/>
                  <a:ext cx="4615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4" name="Oval 99"/>
              <p:cNvGrpSpPr/>
              <p:nvPr/>
            </p:nvGrpSpPr>
            <p:grpSpPr>
              <a:xfrm>
                <a:off x="4852800" y="3834000"/>
                <a:ext cx="750240" cy="734040"/>
                <a:chOff x="4852800" y="3834000"/>
                <a:chExt cx="750240" cy="734040"/>
              </a:xfrm>
            </p:grpSpPr>
            <p:pic>
              <p:nvPicPr>
                <p:cNvPr id="605" name="Oval 99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4852800" y="3834000"/>
                  <a:ext cx="750240" cy="73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6" name=""/>
                <p:cNvSpPr/>
                <p:nvPr/>
              </p:nvSpPr>
              <p:spPr>
                <a:xfrm>
                  <a:off x="4996440" y="3953880"/>
                  <a:ext cx="4615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07" name="Group 66"/>
            <p:cNvGrpSpPr/>
            <p:nvPr/>
          </p:nvGrpSpPr>
          <p:grpSpPr>
            <a:xfrm>
              <a:off x="3219480" y="3456720"/>
              <a:ext cx="1168920" cy="877320"/>
              <a:chOff x="3219480" y="3456720"/>
              <a:chExt cx="1168920" cy="877320"/>
            </a:xfrm>
          </p:grpSpPr>
          <p:grpSp>
            <p:nvGrpSpPr>
              <p:cNvPr id="608" name="Oval 96"/>
              <p:cNvGrpSpPr/>
              <p:nvPr/>
            </p:nvGrpSpPr>
            <p:grpSpPr>
              <a:xfrm>
                <a:off x="3219480" y="3456720"/>
                <a:ext cx="751320" cy="736560"/>
                <a:chOff x="3219480" y="3456720"/>
                <a:chExt cx="751320" cy="736560"/>
              </a:xfrm>
            </p:grpSpPr>
            <p:pic>
              <p:nvPicPr>
                <p:cNvPr id="609" name="Oval 96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3219480" y="345672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0" name=""/>
                <p:cNvSpPr/>
                <p:nvPr/>
              </p:nvSpPr>
              <p:spPr>
                <a:xfrm>
                  <a:off x="3365280" y="357804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1" name="Oval 97"/>
              <p:cNvGrpSpPr/>
              <p:nvPr/>
            </p:nvGrpSpPr>
            <p:grpSpPr>
              <a:xfrm>
                <a:off x="3637080" y="3597480"/>
                <a:ext cx="751320" cy="736560"/>
                <a:chOff x="3637080" y="3597480"/>
                <a:chExt cx="751320" cy="736560"/>
              </a:xfrm>
            </p:grpSpPr>
            <p:pic>
              <p:nvPicPr>
                <p:cNvPr id="612" name="Oval 97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3637080" y="3597480"/>
                  <a:ext cx="751320" cy="73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>
                  <a:off x="3783960" y="3717000"/>
                  <a:ext cx="4586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8760" rIns="6876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Museo 300"/>
                    </a:rPr>
                    <a:t>I</a:t>
                  </a:r>
                  <a:endParaRPr b="0" lang="en-US" sz="1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14" name="Rounded Rectangle 102"/>
          <p:cNvSpPr/>
          <p:nvPr/>
        </p:nvSpPr>
        <p:spPr>
          <a:xfrm>
            <a:off x="6334200" y="339840"/>
            <a:ext cx="2485800" cy="1341360"/>
          </a:xfrm>
          <a:prstGeom prst="roundRect">
            <a:avLst>
              <a:gd name="adj" fmla="val 16667"/>
            </a:avLst>
          </a:prstGeom>
          <a:solidFill>
            <a:srgbClr val="00b0f0">
              <a:alpha val="35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Mixture of</a:t>
            </a:r>
            <a:r>
              <a:rPr b="0" lang="en-US" sz="24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iodine </a:t>
            </a:r>
            <a:r>
              <a:rPr b="0" lang="en-US" sz="2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and</a:t>
            </a:r>
            <a:r>
              <a:rPr b="0" lang="en-US" sz="24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6"/>
          <p:cNvGrpSpPr/>
          <p:nvPr/>
        </p:nvGrpSpPr>
        <p:grpSpPr>
          <a:xfrm>
            <a:off x="2195640" y="411120"/>
            <a:ext cx="2322360" cy="1585800"/>
            <a:chOff x="2195640" y="411120"/>
            <a:chExt cx="2322360" cy="1585800"/>
          </a:xfrm>
        </p:grpSpPr>
        <p:grpSp>
          <p:nvGrpSpPr>
            <p:cNvPr id="616" name="Oval 85"/>
            <p:cNvGrpSpPr/>
            <p:nvPr/>
          </p:nvGrpSpPr>
          <p:grpSpPr>
            <a:xfrm>
              <a:off x="2195640" y="615600"/>
              <a:ext cx="785880" cy="772920"/>
              <a:chOff x="2195640" y="615600"/>
              <a:chExt cx="785880" cy="772920"/>
            </a:xfrm>
          </p:grpSpPr>
          <p:pic>
            <p:nvPicPr>
              <p:cNvPr id="617" name="Oval 8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95640" y="615600"/>
                <a:ext cx="78588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2348280" y="74196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9" name="Oval 87"/>
            <p:cNvGrpSpPr/>
            <p:nvPr/>
          </p:nvGrpSpPr>
          <p:grpSpPr>
            <a:xfrm>
              <a:off x="2690280" y="843120"/>
              <a:ext cx="733320" cy="716040"/>
              <a:chOff x="2690280" y="843120"/>
              <a:chExt cx="733320" cy="716040"/>
            </a:xfrm>
          </p:grpSpPr>
          <p:pic>
            <p:nvPicPr>
              <p:cNvPr id="620" name="Oval 87" descr="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843120"/>
                <a:ext cx="73332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2832480" y="962640"/>
                <a:ext cx="44640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Oval 44"/>
            <p:cNvGrpSpPr/>
            <p:nvPr/>
          </p:nvGrpSpPr>
          <p:grpSpPr>
            <a:xfrm>
              <a:off x="2969640" y="1218240"/>
              <a:ext cx="785880" cy="778680"/>
              <a:chOff x="2969640" y="1218240"/>
              <a:chExt cx="785880" cy="778680"/>
            </a:xfrm>
          </p:grpSpPr>
          <p:pic>
            <p:nvPicPr>
              <p:cNvPr id="623" name="Oval 44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9640" y="1218240"/>
                <a:ext cx="785880" cy="77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3121200" y="134676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Oval 45"/>
            <p:cNvGrpSpPr/>
            <p:nvPr/>
          </p:nvGrpSpPr>
          <p:grpSpPr>
            <a:xfrm>
              <a:off x="3738240" y="615600"/>
              <a:ext cx="779760" cy="772920"/>
              <a:chOff x="3738240" y="615600"/>
              <a:chExt cx="779760" cy="772920"/>
            </a:xfrm>
          </p:grpSpPr>
          <p:pic>
            <p:nvPicPr>
              <p:cNvPr id="626" name="Oval 45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8240" y="615600"/>
                <a:ext cx="7797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3887280" y="74196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8" name="Oval 47"/>
            <p:cNvGrpSpPr/>
            <p:nvPr/>
          </p:nvGrpSpPr>
          <p:grpSpPr>
            <a:xfrm>
              <a:off x="3330720" y="808920"/>
              <a:ext cx="733320" cy="716040"/>
              <a:chOff x="3330720" y="808920"/>
              <a:chExt cx="733320" cy="716040"/>
            </a:xfrm>
          </p:grpSpPr>
          <p:pic>
            <p:nvPicPr>
              <p:cNvPr id="629" name="Oval 47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0720" y="808920"/>
                <a:ext cx="73332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3474360" y="925200"/>
                <a:ext cx="44640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Oval 84"/>
            <p:cNvGrpSpPr/>
            <p:nvPr/>
          </p:nvGrpSpPr>
          <p:grpSpPr>
            <a:xfrm>
              <a:off x="2195640" y="1087560"/>
              <a:ext cx="785880" cy="772920"/>
              <a:chOff x="2195640" y="1087560"/>
              <a:chExt cx="785880" cy="772920"/>
            </a:xfrm>
          </p:grpSpPr>
          <p:pic>
            <p:nvPicPr>
              <p:cNvPr id="632" name="Oval 8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95640" y="1087560"/>
                <a:ext cx="78588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2349720" y="121140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Oval 86"/>
            <p:cNvGrpSpPr/>
            <p:nvPr/>
          </p:nvGrpSpPr>
          <p:grpSpPr>
            <a:xfrm>
              <a:off x="2981520" y="411120"/>
              <a:ext cx="779760" cy="778680"/>
              <a:chOff x="2981520" y="411120"/>
              <a:chExt cx="779760" cy="778680"/>
            </a:xfrm>
          </p:grpSpPr>
          <p:pic>
            <p:nvPicPr>
              <p:cNvPr id="635" name="Oval 86" descr=""/>
              <p:cNvPicPr/>
              <p:nvPr/>
            </p:nvPicPr>
            <p:blipFill>
              <a:blip r:embed="rId7"/>
              <a:stretch/>
            </p:blipFill>
            <p:spPr>
              <a:xfrm>
                <a:off x="2981520" y="411120"/>
                <a:ext cx="779760" cy="77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3130920" y="54036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Oval 46"/>
            <p:cNvGrpSpPr/>
            <p:nvPr/>
          </p:nvGrpSpPr>
          <p:grpSpPr>
            <a:xfrm>
              <a:off x="3738240" y="1087560"/>
              <a:ext cx="779760" cy="772920"/>
              <a:chOff x="3738240" y="1087560"/>
              <a:chExt cx="779760" cy="772920"/>
            </a:xfrm>
          </p:grpSpPr>
          <p:pic>
            <p:nvPicPr>
              <p:cNvPr id="638" name="Oval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8240" y="1087560"/>
                <a:ext cx="7797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3887280" y="1211400"/>
                <a:ext cx="4798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50"/>
          <p:cNvGrpSpPr/>
          <p:nvPr/>
        </p:nvGrpSpPr>
        <p:grpSpPr>
          <a:xfrm>
            <a:off x="3597120" y="1668600"/>
            <a:ext cx="2322720" cy="1585800"/>
            <a:chOff x="3597120" y="1668600"/>
            <a:chExt cx="2322720" cy="1585800"/>
          </a:xfrm>
        </p:grpSpPr>
        <p:grpSp>
          <p:nvGrpSpPr>
            <p:cNvPr id="641" name="Oval 53"/>
            <p:cNvGrpSpPr/>
            <p:nvPr/>
          </p:nvGrpSpPr>
          <p:grpSpPr>
            <a:xfrm>
              <a:off x="3597120" y="1868040"/>
              <a:ext cx="785880" cy="775800"/>
              <a:chOff x="3597120" y="1868040"/>
              <a:chExt cx="785880" cy="775800"/>
            </a:xfrm>
          </p:grpSpPr>
          <p:pic>
            <p:nvPicPr>
              <p:cNvPr id="642" name="Oval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3597120" y="1868040"/>
                <a:ext cx="78588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"/>
              <p:cNvSpPr/>
              <p:nvPr/>
            </p:nvSpPr>
            <p:spPr>
              <a:xfrm>
                <a:off x="3749400" y="199620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Oval 55"/>
            <p:cNvGrpSpPr/>
            <p:nvPr/>
          </p:nvGrpSpPr>
          <p:grpSpPr>
            <a:xfrm>
              <a:off x="4091760" y="2096280"/>
              <a:ext cx="733320" cy="724320"/>
              <a:chOff x="4091760" y="2096280"/>
              <a:chExt cx="733320" cy="724320"/>
            </a:xfrm>
          </p:grpSpPr>
          <p:pic>
            <p:nvPicPr>
              <p:cNvPr id="645" name="Oval 5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91760" y="2096280"/>
                <a:ext cx="73332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"/>
              <p:cNvSpPr/>
              <p:nvPr/>
            </p:nvSpPr>
            <p:spPr>
              <a:xfrm>
                <a:off x="4233600" y="2217600"/>
                <a:ext cx="44640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7" name="Oval 56"/>
            <p:cNvGrpSpPr/>
            <p:nvPr/>
          </p:nvGrpSpPr>
          <p:grpSpPr>
            <a:xfrm>
              <a:off x="4371480" y="2478600"/>
              <a:ext cx="785880" cy="775800"/>
              <a:chOff x="4371480" y="2478600"/>
              <a:chExt cx="785880" cy="775800"/>
            </a:xfrm>
          </p:grpSpPr>
          <p:pic>
            <p:nvPicPr>
              <p:cNvPr id="648" name="Oval 56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1480" y="2478600"/>
                <a:ext cx="78588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4523040" y="260316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Oval 57"/>
            <p:cNvGrpSpPr/>
            <p:nvPr/>
          </p:nvGrpSpPr>
          <p:grpSpPr>
            <a:xfrm>
              <a:off x="5139720" y="1868040"/>
              <a:ext cx="780120" cy="775800"/>
              <a:chOff x="5139720" y="1868040"/>
              <a:chExt cx="780120" cy="775800"/>
            </a:xfrm>
          </p:grpSpPr>
          <p:pic>
            <p:nvPicPr>
              <p:cNvPr id="651" name="Oval 57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39720" y="1868040"/>
                <a:ext cx="78012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5288760" y="199620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3" name="Oval 64"/>
            <p:cNvGrpSpPr/>
            <p:nvPr/>
          </p:nvGrpSpPr>
          <p:grpSpPr>
            <a:xfrm>
              <a:off x="4732200" y="2062080"/>
              <a:ext cx="733320" cy="718560"/>
              <a:chOff x="4732200" y="2062080"/>
              <a:chExt cx="733320" cy="718560"/>
            </a:xfrm>
          </p:grpSpPr>
          <p:pic>
            <p:nvPicPr>
              <p:cNvPr id="654" name="Oval 6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732200" y="2062080"/>
                <a:ext cx="73332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4875480" y="2180160"/>
                <a:ext cx="44640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6" name="Oval 65"/>
            <p:cNvGrpSpPr/>
            <p:nvPr/>
          </p:nvGrpSpPr>
          <p:grpSpPr>
            <a:xfrm>
              <a:off x="3597120" y="2341800"/>
              <a:ext cx="785880" cy="775800"/>
              <a:chOff x="3597120" y="2341800"/>
              <a:chExt cx="785880" cy="775800"/>
            </a:xfrm>
          </p:grpSpPr>
          <p:pic>
            <p:nvPicPr>
              <p:cNvPr id="657" name="Oval 65" descr=""/>
              <p:cNvPicPr/>
              <p:nvPr/>
            </p:nvPicPr>
            <p:blipFill>
              <a:blip r:embed="rId14"/>
              <a:stretch/>
            </p:blipFill>
            <p:spPr>
              <a:xfrm>
                <a:off x="3597120" y="2341800"/>
                <a:ext cx="78588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3750840" y="246780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9" name="Oval 66"/>
            <p:cNvGrpSpPr/>
            <p:nvPr/>
          </p:nvGrpSpPr>
          <p:grpSpPr>
            <a:xfrm>
              <a:off x="4383000" y="1668600"/>
              <a:ext cx="780120" cy="775800"/>
              <a:chOff x="4383000" y="1668600"/>
              <a:chExt cx="780120" cy="775800"/>
            </a:xfrm>
          </p:grpSpPr>
          <p:pic>
            <p:nvPicPr>
              <p:cNvPr id="660" name="Oval 66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83000" y="1668600"/>
                <a:ext cx="78012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4532040" y="179424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Oval 96"/>
            <p:cNvGrpSpPr/>
            <p:nvPr/>
          </p:nvGrpSpPr>
          <p:grpSpPr>
            <a:xfrm>
              <a:off x="5139720" y="2341800"/>
              <a:ext cx="780120" cy="775800"/>
              <a:chOff x="5139720" y="2341800"/>
              <a:chExt cx="780120" cy="775800"/>
            </a:xfrm>
          </p:grpSpPr>
          <p:pic>
            <p:nvPicPr>
              <p:cNvPr id="663" name="Oval 9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139720" y="2341800"/>
                <a:ext cx="78012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5288760" y="2467800"/>
                <a:ext cx="479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5" name="Group 97"/>
          <p:cNvGrpSpPr/>
          <p:nvPr/>
        </p:nvGrpSpPr>
        <p:grpSpPr>
          <a:xfrm>
            <a:off x="4992840" y="411120"/>
            <a:ext cx="2320920" cy="1585800"/>
            <a:chOff x="4992840" y="411120"/>
            <a:chExt cx="2320920" cy="1585800"/>
          </a:xfrm>
        </p:grpSpPr>
        <p:grpSp>
          <p:nvGrpSpPr>
            <p:cNvPr id="666" name="Oval 98"/>
            <p:cNvGrpSpPr/>
            <p:nvPr/>
          </p:nvGrpSpPr>
          <p:grpSpPr>
            <a:xfrm>
              <a:off x="4992840" y="615600"/>
              <a:ext cx="785160" cy="772920"/>
              <a:chOff x="4992840" y="615600"/>
              <a:chExt cx="785160" cy="772920"/>
            </a:xfrm>
          </p:grpSpPr>
          <p:pic>
            <p:nvPicPr>
              <p:cNvPr id="667" name="Oval 9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992840" y="615600"/>
                <a:ext cx="7851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"/>
              <p:cNvSpPr/>
              <p:nvPr/>
            </p:nvSpPr>
            <p:spPr>
              <a:xfrm>
                <a:off x="5144400" y="74196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9" name="Oval 99"/>
            <p:cNvGrpSpPr/>
            <p:nvPr/>
          </p:nvGrpSpPr>
          <p:grpSpPr>
            <a:xfrm>
              <a:off x="5481360" y="843120"/>
              <a:ext cx="738720" cy="716040"/>
              <a:chOff x="5481360" y="843120"/>
              <a:chExt cx="738720" cy="716040"/>
            </a:xfrm>
          </p:grpSpPr>
          <p:pic>
            <p:nvPicPr>
              <p:cNvPr id="670" name="Oval 99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81360" y="843120"/>
                <a:ext cx="73872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"/>
              <p:cNvSpPr/>
              <p:nvPr/>
            </p:nvSpPr>
            <p:spPr>
              <a:xfrm>
                <a:off x="5627880" y="962640"/>
                <a:ext cx="44568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Oval 100"/>
            <p:cNvGrpSpPr/>
            <p:nvPr/>
          </p:nvGrpSpPr>
          <p:grpSpPr>
            <a:xfrm>
              <a:off x="5766480" y="1218240"/>
              <a:ext cx="779400" cy="778680"/>
              <a:chOff x="5766480" y="1218240"/>
              <a:chExt cx="779400" cy="778680"/>
            </a:xfrm>
          </p:grpSpPr>
          <p:pic>
            <p:nvPicPr>
              <p:cNvPr id="673" name="Oval 100" descr=""/>
              <p:cNvPicPr/>
              <p:nvPr/>
            </p:nvPicPr>
            <p:blipFill>
              <a:blip r:embed="rId19"/>
              <a:stretch/>
            </p:blipFill>
            <p:spPr>
              <a:xfrm>
                <a:off x="5766480" y="1218240"/>
                <a:ext cx="779400" cy="77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5916600" y="134676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Oval 101"/>
            <p:cNvGrpSpPr/>
            <p:nvPr/>
          </p:nvGrpSpPr>
          <p:grpSpPr>
            <a:xfrm>
              <a:off x="6528600" y="615600"/>
              <a:ext cx="785160" cy="772920"/>
              <a:chOff x="6528600" y="615600"/>
              <a:chExt cx="785160" cy="772920"/>
            </a:xfrm>
          </p:grpSpPr>
          <p:pic>
            <p:nvPicPr>
              <p:cNvPr id="676" name="Oval 101" descr=""/>
              <p:cNvPicPr/>
              <p:nvPr/>
            </p:nvPicPr>
            <p:blipFill>
              <a:blip r:embed="rId20"/>
              <a:stretch/>
            </p:blipFill>
            <p:spPr>
              <a:xfrm>
                <a:off x="6528600" y="615600"/>
                <a:ext cx="7851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6681600" y="74196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8" name="Oval 102"/>
            <p:cNvGrpSpPr/>
            <p:nvPr/>
          </p:nvGrpSpPr>
          <p:grpSpPr>
            <a:xfrm>
              <a:off x="6127200" y="808920"/>
              <a:ext cx="732960" cy="716040"/>
              <a:chOff x="6127200" y="808920"/>
              <a:chExt cx="732960" cy="716040"/>
            </a:xfrm>
          </p:grpSpPr>
          <p:pic>
            <p:nvPicPr>
              <p:cNvPr id="679" name="Oval 102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27200" y="808920"/>
                <a:ext cx="73296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6269040" y="925200"/>
                <a:ext cx="44568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1" name="Oval 103"/>
            <p:cNvGrpSpPr/>
            <p:nvPr/>
          </p:nvGrpSpPr>
          <p:grpSpPr>
            <a:xfrm>
              <a:off x="4992840" y="1087560"/>
              <a:ext cx="785160" cy="772920"/>
              <a:chOff x="4992840" y="1087560"/>
              <a:chExt cx="785160" cy="772920"/>
            </a:xfrm>
          </p:grpSpPr>
          <p:pic>
            <p:nvPicPr>
              <p:cNvPr id="682" name="Oval 103" descr=""/>
              <p:cNvPicPr/>
              <p:nvPr/>
            </p:nvPicPr>
            <p:blipFill>
              <a:blip r:embed="rId22"/>
              <a:stretch/>
            </p:blipFill>
            <p:spPr>
              <a:xfrm>
                <a:off x="4992840" y="1087560"/>
                <a:ext cx="7851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5145840" y="121140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Oval 104"/>
            <p:cNvGrpSpPr/>
            <p:nvPr/>
          </p:nvGrpSpPr>
          <p:grpSpPr>
            <a:xfrm>
              <a:off x="5772240" y="411120"/>
              <a:ext cx="785160" cy="778680"/>
              <a:chOff x="5772240" y="411120"/>
              <a:chExt cx="785160" cy="778680"/>
            </a:xfrm>
          </p:grpSpPr>
          <p:pic>
            <p:nvPicPr>
              <p:cNvPr id="685" name="Oval 104" descr=""/>
              <p:cNvPicPr/>
              <p:nvPr/>
            </p:nvPicPr>
            <p:blipFill>
              <a:blip r:embed="rId23"/>
              <a:stretch/>
            </p:blipFill>
            <p:spPr>
              <a:xfrm>
                <a:off x="5772240" y="411120"/>
                <a:ext cx="785160" cy="77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5925960" y="54036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Oval 105"/>
            <p:cNvGrpSpPr/>
            <p:nvPr/>
          </p:nvGrpSpPr>
          <p:grpSpPr>
            <a:xfrm>
              <a:off x="6528600" y="1087560"/>
              <a:ext cx="785160" cy="772920"/>
              <a:chOff x="6528600" y="1087560"/>
              <a:chExt cx="785160" cy="772920"/>
            </a:xfrm>
          </p:grpSpPr>
          <p:pic>
            <p:nvPicPr>
              <p:cNvPr id="688" name="Oval 105" descr=""/>
              <p:cNvPicPr/>
              <p:nvPr/>
            </p:nvPicPr>
            <p:blipFill>
              <a:blip r:embed="rId24"/>
              <a:stretch/>
            </p:blipFill>
            <p:spPr>
              <a:xfrm>
                <a:off x="6528600" y="1087560"/>
                <a:ext cx="7851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>
                <a:off x="6681600" y="1211400"/>
                <a:ext cx="479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0" name="Group 106"/>
          <p:cNvGrpSpPr/>
          <p:nvPr/>
        </p:nvGrpSpPr>
        <p:grpSpPr>
          <a:xfrm>
            <a:off x="2209680" y="2913120"/>
            <a:ext cx="2322720" cy="1585800"/>
            <a:chOff x="2209680" y="2913120"/>
            <a:chExt cx="2322720" cy="1585800"/>
          </a:xfrm>
        </p:grpSpPr>
        <p:grpSp>
          <p:nvGrpSpPr>
            <p:cNvPr id="691" name="Oval 107"/>
            <p:cNvGrpSpPr/>
            <p:nvPr/>
          </p:nvGrpSpPr>
          <p:grpSpPr>
            <a:xfrm>
              <a:off x="2209680" y="3112560"/>
              <a:ext cx="781920" cy="781560"/>
              <a:chOff x="2209680" y="3112560"/>
              <a:chExt cx="781920" cy="781560"/>
            </a:xfrm>
          </p:grpSpPr>
          <p:pic>
            <p:nvPicPr>
              <p:cNvPr id="692" name="Oval 107" descr=""/>
              <p:cNvPicPr/>
              <p:nvPr/>
            </p:nvPicPr>
            <p:blipFill>
              <a:blip r:embed="rId25"/>
              <a:stretch/>
            </p:blipFill>
            <p:spPr>
              <a:xfrm>
                <a:off x="2209680" y="3112560"/>
                <a:ext cx="781920" cy="78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2358720" y="324180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Oval 108"/>
            <p:cNvGrpSpPr/>
            <p:nvPr/>
          </p:nvGrpSpPr>
          <p:grpSpPr>
            <a:xfrm>
              <a:off x="2699640" y="3346560"/>
              <a:ext cx="735120" cy="718560"/>
              <a:chOff x="2699640" y="3346560"/>
              <a:chExt cx="735120" cy="718560"/>
            </a:xfrm>
          </p:grpSpPr>
          <p:pic>
            <p:nvPicPr>
              <p:cNvPr id="695" name="Oval 108" descr=""/>
              <p:cNvPicPr/>
              <p:nvPr/>
            </p:nvPicPr>
            <p:blipFill>
              <a:blip r:embed="rId26"/>
              <a:stretch/>
            </p:blipFill>
            <p:spPr>
              <a:xfrm>
                <a:off x="2699640" y="3346560"/>
                <a:ext cx="73512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2844000" y="3463200"/>
                <a:ext cx="44748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Oval 109"/>
            <p:cNvGrpSpPr/>
            <p:nvPr/>
          </p:nvGrpSpPr>
          <p:grpSpPr>
            <a:xfrm>
              <a:off x="2980080" y="3723120"/>
              <a:ext cx="787680" cy="775800"/>
              <a:chOff x="2980080" y="3723120"/>
              <a:chExt cx="787680" cy="775800"/>
            </a:xfrm>
          </p:grpSpPr>
          <p:pic>
            <p:nvPicPr>
              <p:cNvPr id="698" name="Oval 109" descr=""/>
              <p:cNvPicPr/>
              <p:nvPr/>
            </p:nvPicPr>
            <p:blipFill>
              <a:blip r:embed="rId27"/>
              <a:stretch/>
            </p:blipFill>
            <p:spPr>
              <a:xfrm>
                <a:off x="2980080" y="3723120"/>
                <a:ext cx="78768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3134160" y="384876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Oval 110"/>
            <p:cNvGrpSpPr/>
            <p:nvPr/>
          </p:nvGrpSpPr>
          <p:grpSpPr>
            <a:xfrm>
              <a:off x="3750480" y="3112560"/>
              <a:ext cx="781920" cy="781560"/>
              <a:chOff x="3750480" y="3112560"/>
              <a:chExt cx="781920" cy="781560"/>
            </a:xfrm>
          </p:grpSpPr>
          <p:pic>
            <p:nvPicPr>
              <p:cNvPr id="701" name="Oval 110" descr=""/>
              <p:cNvPicPr/>
              <p:nvPr/>
            </p:nvPicPr>
            <p:blipFill>
              <a:blip r:embed="rId28"/>
              <a:stretch/>
            </p:blipFill>
            <p:spPr>
              <a:xfrm>
                <a:off x="3750480" y="3112560"/>
                <a:ext cx="781920" cy="78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3902040" y="324180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Oval 111"/>
            <p:cNvGrpSpPr/>
            <p:nvPr/>
          </p:nvGrpSpPr>
          <p:grpSpPr>
            <a:xfrm>
              <a:off x="3341880" y="3306600"/>
              <a:ext cx="741240" cy="718560"/>
              <a:chOff x="3341880" y="3306600"/>
              <a:chExt cx="741240" cy="718560"/>
            </a:xfrm>
          </p:grpSpPr>
          <p:pic>
            <p:nvPicPr>
              <p:cNvPr id="704" name="Oval 111" descr=""/>
              <p:cNvPicPr/>
              <p:nvPr/>
            </p:nvPicPr>
            <p:blipFill>
              <a:blip r:embed="rId29"/>
              <a:stretch/>
            </p:blipFill>
            <p:spPr>
              <a:xfrm>
                <a:off x="3341880" y="3306600"/>
                <a:ext cx="74124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3488040" y="3425760"/>
                <a:ext cx="44748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Oval 112"/>
            <p:cNvGrpSpPr/>
            <p:nvPr/>
          </p:nvGrpSpPr>
          <p:grpSpPr>
            <a:xfrm>
              <a:off x="2209680" y="3586320"/>
              <a:ext cx="781920" cy="775800"/>
              <a:chOff x="2209680" y="3586320"/>
              <a:chExt cx="781920" cy="775800"/>
            </a:xfrm>
          </p:grpSpPr>
          <p:pic>
            <p:nvPicPr>
              <p:cNvPr id="707" name="Oval 112" descr=""/>
              <p:cNvPicPr/>
              <p:nvPr/>
            </p:nvPicPr>
            <p:blipFill>
              <a:blip r:embed="rId30"/>
              <a:stretch/>
            </p:blipFill>
            <p:spPr>
              <a:xfrm>
                <a:off x="2209680" y="3586320"/>
                <a:ext cx="78192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2360160" y="371304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9" name="Oval 113"/>
            <p:cNvGrpSpPr/>
            <p:nvPr/>
          </p:nvGrpSpPr>
          <p:grpSpPr>
            <a:xfrm>
              <a:off x="2991600" y="2913120"/>
              <a:ext cx="787680" cy="775800"/>
              <a:chOff x="2991600" y="2913120"/>
              <a:chExt cx="787680" cy="775800"/>
            </a:xfrm>
          </p:grpSpPr>
          <p:pic>
            <p:nvPicPr>
              <p:cNvPr id="710" name="Oval 113" descr=""/>
              <p:cNvPicPr/>
              <p:nvPr/>
            </p:nvPicPr>
            <p:blipFill>
              <a:blip r:embed="rId31"/>
              <a:stretch/>
            </p:blipFill>
            <p:spPr>
              <a:xfrm>
                <a:off x="2991600" y="2913120"/>
                <a:ext cx="78768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3143160" y="303948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Oval 114"/>
            <p:cNvGrpSpPr/>
            <p:nvPr/>
          </p:nvGrpSpPr>
          <p:grpSpPr>
            <a:xfrm>
              <a:off x="3750480" y="3586320"/>
              <a:ext cx="781920" cy="775800"/>
              <a:chOff x="3750480" y="3586320"/>
              <a:chExt cx="781920" cy="775800"/>
            </a:xfrm>
          </p:grpSpPr>
          <p:pic>
            <p:nvPicPr>
              <p:cNvPr id="713" name="Oval 114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50480" y="3586320"/>
                <a:ext cx="78192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3902040" y="3713040"/>
                <a:ext cx="4809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5" name="Group 115"/>
          <p:cNvGrpSpPr/>
          <p:nvPr/>
        </p:nvGrpSpPr>
        <p:grpSpPr>
          <a:xfrm>
            <a:off x="5006880" y="2913120"/>
            <a:ext cx="2320920" cy="1585800"/>
            <a:chOff x="5006880" y="2913120"/>
            <a:chExt cx="2320920" cy="1585800"/>
          </a:xfrm>
        </p:grpSpPr>
        <p:grpSp>
          <p:nvGrpSpPr>
            <p:cNvPr id="716" name="Oval 116"/>
            <p:cNvGrpSpPr/>
            <p:nvPr/>
          </p:nvGrpSpPr>
          <p:grpSpPr>
            <a:xfrm>
              <a:off x="5006880" y="3112560"/>
              <a:ext cx="785160" cy="781560"/>
              <a:chOff x="5006880" y="3112560"/>
              <a:chExt cx="785160" cy="781560"/>
            </a:xfrm>
          </p:grpSpPr>
          <p:pic>
            <p:nvPicPr>
              <p:cNvPr id="717" name="Oval 116" descr=""/>
              <p:cNvPicPr/>
              <p:nvPr/>
            </p:nvPicPr>
            <p:blipFill>
              <a:blip r:embed="rId33"/>
              <a:stretch/>
            </p:blipFill>
            <p:spPr>
              <a:xfrm>
                <a:off x="5006880" y="3112560"/>
                <a:ext cx="785160" cy="78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"/>
              <p:cNvSpPr/>
              <p:nvPr/>
            </p:nvSpPr>
            <p:spPr>
              <a:xfrm>
                <a:off x="5160240" y="324180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9" name="Oval 117"/>
            <p:cNvGrpSpPr/>
            <p:nvPr/>
          </p:nvGrpSpPr>
          <p:grpSpPr>
            <a:xfrm>
              <a:off x="5501160" y="3346560"/>
              <a:ext cx="732960" cy="718560"/>
              <a:chOff x="5501160" y="3346560"/>
              <a:chExt cx="732960" cy="718560"/>
            </a:xfrm>
          </p:grpSpPr>
          <p:pic>
            <p:nvPicPr>
              <p:cNvPr id="720" name="Oval 117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01160" y="3346560"/>
                <a:ext cx="73296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5644080" y="3463200"/>
                <a:ext cx="44568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2" name="Oval 118"/>
            <p:cNvGrpSpPr/>
            <p:nvPr/>
          </p:nvGrpSpPr>
          <p:grpSpPr>
            <a:xfrm>
              <a:off x="5780520" y="3723120"/>
              <a:ext cx="785160" cy="775800"/>
              <a:chOff x="5780520" y="3723120"/>
              <a:chExt cx="785160" cy="775800"/>
            </a:xfrm>
          </p:grpSpPr>
          <p:pic>
            <p:nvPicPr>
              <p:cNvPr id="723" name="Oval 118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80520" y="3723120"/>
                <a:ext cx="7851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>
                <a:off x="5932800" y="384876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5" name="Oval 119"/>
            <p:cNvGrpSpPr/>
            <p:nvPr/>
          </p:nvGrpSpPr>
          <p:grpSpPr>
            <a:xfrm>
              <a:off x="6548400" y="3112560"/>
              <a:ext cx="779400" cy="781560"/>
              <a:chOff x="6548400" y="3112560"/>
              <a:chExt cx="779400" cy="781560"/>
            </a:xfrm>
          </p:grpSpPr>
          <p:pic>
            <p:nvPicPr>
              <p:cNvPr id="726" name="Oval 119" descr=""/>
              <p:cNvPicPr/>
              <p:nvPr/>
            </p:nvPicPr>
            <p:blipFill>
              <a:blip r:embed="rId36"/>
              <a:stretch/>
            </p:blipFill>
            <p:spPr>
              <a:xfrm>
                <a:off x="6548400" y="3112560"/>
                <a:ext cx="779400" cy="78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7" name=""/>
              <p:cNvSpPr/>
              <p:nvPr/>
            </p:nvSpPr>
            <p:spPr>
              <a:xfrm>
                <a:off x="6697440" y="324180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8" name="Oval 120"/>
            <p:cNvGrpSpPr/>
            <p:nvPr/>
          </p:nvGrpSpPr>
          <p:grpSpPr>
            <a:xfrm>
              <a:off x="6141240" y="3306600"/>
              <a:ext cx="732960" cy="718560"/>
              <a:chOff x="6141240" y="3306600"/>
              <a:chExt cx="732960" cy="718560"/>
            </a:xfrm>
          </p:grpSpPr>
          <p:pic>
            <p:nvPicPr>
              <p:cNvPr id="729" name="Oval 120" descr=""/>
              <p:cNvPicPr/>
              <p:nvPr/>
            </p:nvPicPr>
            <p:blipFill>
              <a:blip r:embed="rId37"/>
              <a:stretch/>
            </p:blipFill>
            <p:spPr>
              <a:xfrm>
                <a:off x="6141240" y="3306600"/>
                <a:ext cx="732960" cy="71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6285240" y="3425760"/>
                <a:ext cx="44568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A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1" name="Oval 121"/>
            <p:cNvGrpSpPr/>
            <p:nvPr/>
          </p:nvGrpSpPr>
          <p:grpSpPr>
            <a:xfrm>
              <a:off x="5012640" y="3586320"/>
              <a:ext cx="779400" cy="775800"/>
              <a:chOff x="5012640" y="3586320"/>
              <a:chExt cx="779400" cy="775800"/>
            </a:xfrm>
          </p:grpSpPr>
          <p:pic>
            <p:nvPicPr>
              <p:cNvPr id="732" name="Oval 121" descr=""/>
              <p:cNvPicPr/>
              <p:nvPr/>
            </p:nvPicPr>
            <p:blipFill>
              <a:blip r:embed="rId38"/>
              <a:stretch/>
            </p:blipFill>
            <p:spPr>
              <a:xfrm>
                <a:off x="5012640" y="3586320"/>
                <a:ext cx="77940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>
                <a:off x="5161680" y="371304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4" name="Oval 122"/>
            <p:cNvGrpSpPr/>
            <p:nvPr/>
          </p:nvGrpSpPr>
          <p:grpSpPr>
            <a:xfrm>
              <a:off x="5792040" y="2913120"/>
              <a:ext cx="779400" cy="775800"/>
              <a:chOff x="5792040" y="2913120"/>
              <a:chExt cx="779400" cy="775800"/>
            </a:xfrm>
          </p:grpSpPr>
          <p:pic>
            <p:nvPicPr>
              <p:cNvPr id="735" name="Oval 12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92040" y="2913120"/>
                <a:ext cx="77940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>
                <a:off x="5941800" y="303948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Oval 123"/>
            <p:cNvGrpSpPr/>
            <p:nvPr/>
          </p:nvGrpSpPr>
          <p:grpSpPr>
            <a:xfrm>
              <a:off x="6548400" y="3586320"/>
              <a:ext cx="779400" cy="775800"/>
              <a:chOff x="6548400" y="3586320"/>
              <a:chExt cx="779400" cy="775800"/>
            </a:xfrm>
          </p:grpSpPr>
          <p:pic>
            <p:nvPicPr>
              <p:cNvPr id="738" name="Oval 123" descr=""/>
              <p:cNvPicPr/>
              <p:nvPr/>
            </p:nvPicPr>
            <p:blipFill>
              <a:blip r:embed="rId40"/>
              <a:stretch/>
            </p:blipFill>
            <p:spPr>
              <a:xfrm>
                <a:off x="6548400" y="3586320"/>
                <a:ext cx="77940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6697440" y="3713040"/>
                <a:ext cx="479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Museo 300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0" name="Rounded Rectangle 124"/>
          <p:cNvSpPr/>
          <p:nvPr/>
        </p:nvSpPr>
        <p:spPr>
          <a:xfrm>
            <a:off x="258840" y="1808280"/>
            <a:ext cx="2485800" cy="1341360"/>
          </a:xfrm>
          <a:prstGeom prst="roundRect">
            <a:avLst>
              <a:gd name="adj" fmla="val 16667"/>
            </a:avLst>
          </a:prstGeom>
          <a:solidFill>
            <a:srgbClr val="ffff00">
              <a:alpha val="35000"/>
            </a:srgbClr>
          </a:solid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646"/>
                </a:solidFill>
                <a:latin typeface="Museo Sans 500"/>
                <a:ea typeface="Museo Sans 500"/>
              </a:rPr>
              <a:t>aluminium iod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4T11:59:22Z</dcterms:created>
  <dc:creator>Microsoft Office User</dc:creator>
  <dc:description/>
  <dc:language>en-US</dc:language>
  <cp:lastModifiedBy>David Sait</cp:lastModifiedBy>
  <dcterms:modified xsi:type="dcterms:W3CDTF">2017-10-12T13:32:14Z</dcterms:modified>
  <cp:revision>9</cp:revision>
  <dc:subject/>
  <dc:title>Clarifying compounds and mixt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