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167-9E06-4A72-9AB5-38DAC3F9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16E-A1A0-4706-9DB8-B612303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567-F5EF-4D77-BC4D-7C392734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B2D-0C2E-4EEE-8192-E99D7D25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0BF-67AF-4BDD-BAD3-1043ADAB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DED-FC21-4A0A-B49C-5B64CF2F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9D8-C6BD-46A7-9ACC-5581385A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CE2-C5D6-4AC8-8D37-64BD23AD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86D-30E3-4EA9-BE01-02A63108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06F-BAA6-4E82-9C09-F2AED554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324-898D-445E-9CE3-1526C50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AAB-EFAD-462C-9391-3D697C1C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4EA0-FDCC-4578-861B-05C7806FEF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380360" y="0"/>
            <a:ext cx="1763640" cy="404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os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" Target="slide5.xml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4.wmf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slide" Target="slide4.xml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4.wmf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11280" y="865080"/>
            <a:ext cx="7705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Organic reaction maps </a:t>
            </a:r>
            <a:br>
              <a:rPr sz="5400"/>
            </a:b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drag and dr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>
            <a:hlinkClick r:id="rId1" action="ppaction://hlinksldjump"/>
          </p:cNvPr>
          <p:cNvSpPr/>
          <p:nvPr/>
        </p:nvSpPr>
        <p:spPr>
          <a:xfrm>
            <a:off x="1763640" y="364500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2 matching structures to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>
            <a:hlinkClick r:id="rId2" action="ppaction://hlinksldjump"/>
          </p:cNvPr>
          <p:cNvSpPr/>
          <p:nvPr/>
        </p:nvSpPr>
        <p:spPr>
          <a:xfrm>
            <a:off x="1763640" y="522936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3 reagents an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0"/>
            <a:ext cx="900000" cy="90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3" action="ppaction://hlinksldjump"/>
          </p:cNvPr>
          <p:cNvSpPr/>
          <p:nvPr/>
        </p:nvSpPr>
        <p:spPr>
          <a:xfrm>
            <a:off x="1763640" y="206064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1 react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4" action="ppaction://hlinksldjump"/>
          </p:cNvPr>
          <p:cNvSpPr/>
          <p:nvPr/>
        </p:nvSpPr>
        <p:spPr>
          <a:xfrm>
            <a:off x="1763640" y="285264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1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5" action="ppaction://hlinksldjump"/>
          </p:cNvPr>
          <p:cNvSpPr/>
          <p:nvPr/>
        </p:nvSpPr>
        <p:spPr>
          <a:xfrm>
            <a:off x="1763640" y="443700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2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>
            <a:hlinkClick r:id="rId6" action="ppaction://hlinksldjump"/>
          </p:cNvPr>
          <p:cNvSpPr/>
          <p:nvPr/>
        </p:nvSpPr>
        <p:spPr>
          <a:xfrm>
            <a:off x="1763640" y="602136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3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684360" y="3524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1. Drag a colour block to label arrows as oxidations, reductions substitutions and additions or eliminations (some arrows may be more than one type of re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3"/>
          <p:cNvGrpSpPr/>
          <p:nvPr/>
        </p:nvGrpSpPr>
        <p:grpSpPr>
          <a:xfrm>
            <a:off x="250920" y="1201680"/>
            <a:ext cx="8724960" cy="5457960"/>
            <a:chOff x="250920" y="1201680"/>
            <a:chExt cx="8724960" cy="5457960"/>
          </a:xfrm>
        </p:grpSpPr>
        <p:sp>
          <p:nvSpPr>
            <p:cNvPr id="53" name="Line 30"/>
            <p:cNvSpPr/>
            <p:nvPr/>
          </p:nvSpPr>
          <p:spPr>
            <a:xfrm flipV="1">
              <a:off x="2627280" y="4555800"/>
              <a:ext cx="144360" cy="10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9"/>
            <p:cNvSpPr/>
            <p:nvPr/>
          </p:nvSpPr>
          <p:spPr>
            <a:xfrm flipH="1">
              <a:off x="3247560" y="1258920"/>
              <a:ext cx="302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2314440" y="4379760"/>
              <a:ext cx="100836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loropro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2314440" y="3157200"/>
              <a:ext cx="11527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-2-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6275520" y="4441680"/>
              <a:ext cx="122400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ylpropano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8"/>
            <p:cNvSpPr/>
            <p:nvPr/>
          </p:nvSpPr>
          <p:spPr>
            <a:xfrm>
              <a:off x="6275520" y="3217680"/>
              <a:ext cx="107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ic ac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6275520" y="2280960"/>
              <a:ext cx="107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am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6275520" y="1201680"/>
              <a:ext cx="100800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enitr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1"/>
            <p:cNvSpPr/>
            <p:nvPr/>
          </p:nvSpPr>
          <p:spPr>
            <a:xfrm>
              <a:off x="4330800" y="4730400"/>
              <a:ext cx="8636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2"/>
            <p:cNvSpPr/>
            <p:nvPr/>
          </p:nvSpPr>
          <p:spPr>
            <a:xfrm>
              <a:off x="4330800" y="2570040"/>
              <a:ext cx="7189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"/>
            <p:cNvSpPr/>
            <p:nvPr/>
          </p:nvSpPr>
          <p:spPr>
            <a:xfrm>
              <a:off x="2314440" y="2138040"/>
              <a:ext cx="8636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-1-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4"/>
            <p:cNvSpPr/>
            <p:nvPr/>
          </p:nvSpPr>
          <p:spPr>
            <a:xfrm>
              <a:off x="2314440" y="1272960"/>
              <a:ext cx="9367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ylam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5"/>
            <p:cNvSpPr/>
            <p:nvPr/>
          </p:nvSpPr>
          <p:spPr>
            <a:xfrm>
              <a:off x="2314440" y="5594040"/>
              <a:ext cx="71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6"/>
            <p:cNvSpPr/>
            <p:nvPr/>
          </p:nvSpPr>
          <p:spPr>
            <a:xfrm>
              <a:off x="6275520" y="6294240"/>
              <a:ext cx="1295280" cy="36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ic acid anhydr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7"/>
            <p:cNvSpPr/>
            <p:nvPr/>
          </p:nvSpPr>
          <p:spPr>
            <a:xfrm>
              <a:off x="6275520" y="5449680"/>
              <a:ext cx="1295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yl chlor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8"/>
            <p:cNvSpPr/>
            <p:nvPr/>
          </p:nvSpPr>
          <p:spPr>
            <a:xfrm>
              <a:off x="3467160" y="3357720"/>
              <a:ext cx="86364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9"/>
            <p:cNvSpPr/>
            <p:nvPr/>
          </p:nvSpPr>
          <p:spPr>
            <a:xfrm>
              <a:off x="3322800" y="5229360"/>
              <a:ext cx="1152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7283520" y="1268280"/>
              <a:ext cx="1092240" cy="2016360"/>
            </a:xfrm>
            <a:custGeom>
              <a:avLst/>
              <a:gdLst/>
              <a:ahLst/>
              <a:rect l="l" t="t" r="r" b="b"/>
              <a:pathLst>
                <a:path w="688" h="1270">
                  <a:moveTo>
                    <a:pt x="0" y="0"/>
                  </a:moveTo>
                  <a:cubicBezTo>
                    <a:pt x="336" y="280"/>
                    <a:pt x="672" y="560"/>
                    <a:pt x="680" y="772"/>
                  </a:cubicBezTo>
                  <a:cubicBezTo>
                    <a:pt x="688" y="984"/>
                    <a:pt x="151" y="1187"/>
                    <a:pt x="45" y="1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>
              <a:off x="677880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7210440" y="3409920"/>
              <a:ext cx="1068480" cy="208908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227" y="1316"/>
                  </a:moveTo>
                  <a:cubicBezTo>
                    <a:pt x="450" y="1108"/>
                    <a:pt x="673" y="900"/>
                    <a:pt x="635" y="681"/>
                  </a:cubicBezTo>
                  <a:cubicBezTo>
                    <a:pt x="597" y="462"/>
                    <a:pt x="106" y="1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3"/>
            <p:cNvSpPr/>
            <p:nvPr/>
          </p:nvSpPr>
          <p:spPr>
            <a:xfrm flipV="1">
              <a:off x="6994440" y="4653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7354800" y="3357720"/>
              <a:ext cx="1621080" cy="3240000"/>
            </a:xfrm>
            <a:custGeom>
              <a:avLst/>
              <a:gdLst/>
              <a:ahLst/>
              <a:rect l="l" t="t" r="r" b="b"/>
              <a:pathLst>
                <a:path w="1021" h="2041">
                  <a:moveTo>
                    <a:pt x="136" y="2041"/>
                  </a:moveTo>
                  <a:cubicBezTo>
                    <a:pt x="578" y="1553"/>
                    <a:pt x="1021" y="1066"/>
                    <a:pt x="998" y="726"/>
                  </a:cubicBezTo>
                  <a:cubicBezTo>
                    <a:pt x="975" y="386"/>
                    <a:pt x="487" y="19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5554800" y="2475000"/>
              <a:ext cx="720720" cy="3024000"/>
            </a:xfrm>
            <a:custGeom>
              <a:avLst/>
              <a:gdLst/>
              <a:ahLst/>
              <a:rect l="l" t="t" r="r" b="b"/>
              <a:pathLst>
                <a:path w="454" h="1905">
                  <a:moveTo>
                    <a:pt x="454" y="1905"/>
                  </a:moveTo>
                  <a:cubicBezTo>
                    <a:pt x="227" y="1496"/>
                    <a:pt x="0" y="1088"/>
                    <a:pt x="0" y="771"/>
                  </a:cubicBezTo>
                  <a:cubicBezTo>
                    <a:pt x="0" y="454"/>
                    <a:pt x="227" y="227"/>
                    <a:pt x="45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6"/>
            <p:cNvSpPr/>
            <p:nvPr/>
          </p:nvSpPr>
          <p:spPr>
            <a:xfrm>
              <a:off x="6778800" y="3429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7"/>
            <p:cNvSpPr/>
            <p:nvPr/>
          </p:nvSpPr>
          <p:spPr>
            <a:xfrm>
              <a:off x="5051520" y="2709720"/>
              <a:ext cx="1224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8"/>
            <p:cNvSpPr/>
            <p:nvPr/>
          </p:nvSpPr>
          <p:spPr>
            <a:xfrm>
              <a:off x="3178080" y="2205000"/>
              <a:ext cx="1152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>
              <a:off x="1233360" y="3463920"/>
              <a:ext cx="108108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1"/>
            <p:cNvSpPr/>
            <p:nvPr/>
          </p:nvSpPr>
          <p:spPr>
            <a:xfrm>
              <a:off x="1994040" y="3213000"/>
              <a:ext cx="392040" cy="2376720"/>
            </a:xfrm>
            <a:custGeom>
              <a:avLst/>
              <a:gdLst/>
              <a:ahLst/>
              <a:rect l="l" t="t" r="r" b="b"/>
              <a:pathLst>
                <a:path w="247" h="1497">
                  <a:moveTo>
                    <a:pt x="247" y="1497"/>
                  </a:moveTo>
                  <a:cubicBezTo>
                    <a:pt x="207" y="1364"/>
                    <a:pt x="14" y="950"/>
                    <a:pt x="7" y="701"/>
                  </a:cubicBezTo>
                  <a:cubicBezTo>
                    <a:pt x="0" y="452"/>
                    <a:pt x="162" y="146"/>
                    <a:pt x="20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>
              <a:off x="3178080" y="3338640"/>
              <a:ext cx="1297080" cy="2855880"/>
            </a:xfrm>
            <a:custGeom>
              <a:avLst/>
              <a:gdLst/>
              <a:ahLst/>
              <a:rect l="l" t="t" r="r" b="b"/>
              <a:pathLst>
                <a:path w="817" h="1799">
                  <a:moveTo>
                    <a:pt x="817" y="998"/>
                  </a:moveTo>
                  <a:cubicBezTo>
                    <a:pt x="703" y="1398"/>
                    <a:pt x="590" y="1799"/>
                    <a:pt x="454" y="1633"/>
                  </a:cubicBezTo>
                  <a:cubicBezTo>
                    <a:pt x="318" y="1467"/>
                    <a:pt x="159" y="73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>
              <a:off x="7499520" y="4581360"/>
              <a:ext cx="514080" cy="1872000"/>
            </a:xfrm>
            <a:custGeom>
              <a:avLst/>
              <a:gdLst/>
              <a:ahLst/>
              <a:rect l="l" t="t" r="r" b="b"/>
              <a:pathLst>
                <a:path w="324" h="1179">
                  <a:moveTo>
                    <a:pt x="45" y="1179"/>
                  </a:moveTo>
                  <a:cubicBezTo>
                    <a:pt x="184" y="869"/>
                    <a:pt x="324" y="559"/>
                    <a:pt x="317" y="363"/>
                  </a:cubicBezTo>
                  <a:cubicBezTo>
                    <a:pt x="310" y="167"/>
                    <a:pt x="155" y="8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4"/>
            <p:cNvSpPr/>
            <p:nvPr/>
          </p:nvSpPr>
          <p:spPr>
            <a:xfrm>
              <a:off x="1730520" y="2779560"/>
              <a:ext cx="583920" cy="1657440"/>
            </a:xfrm>
            <a:custGeom>
              <a:avLst/>
              <a:gdLst/>
              <a:ahLst/>
              <a:rect l="l" t="t" r="r" b="b"/>
              <a:pathLst>
                <a:path w="368" h="1044">
                  <a:moveTo>
                    <a:pt x="368" y="1044"/>
                  </a:moveTo>
                  <a:cubicBezTo>
                    <a:pt x="307" y="891"/>
                    <a:pt x="0" y="256"/>
                    <a:pt x="0" y="128"/>
                  </a:cubicBezTo>
                  <a:cubicBezTo>
                    <a:pt x="0" y="0"/>
                    <a:pt x="291" y="243"/>
                    <a:pt x="368" y="2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5"/>
            <p:cNvSpPr/>
            <p:nvPr/>
          </p:nvSpPr>
          <p:spPr>
            <a:xfrm>
              <a:off x="1438200" y="2276640"/>
              <a:ext cx="876240" cy="2160360"/>
            </a:xfrm>
            <a:custGeom>
              <a:avLst/>
              <a:gdLst/>
              <a:ahLst/>
              <a:rect l="l" t="t" r="r" b="b"/>
              <a:pathLst>
                <a:path w="552" h="1361">
                  <a:moveTo>
                    <a:pt x="552" y="1361"/>
                  </a:moveTo>
                  <a:cubicBezTo>
                    <a:pt x="434" y="1153"/>
                    <a:pt x="317" y="946"/>
                    <a:pt x="234" y="772"/>
                  </a:cubicBezTo>
                  <a:cubicBezTo>
                    <a:pt x="151" y="598"/>
                    <a:pt x="0" y="447"/>
                    <a:pt x="53" y="318"/>
                  </a:cubicBezTo>
                  <a:cubicBezTo>
                    <a:pt x="106" y="189"/>
                    <a:pt x="329" y="94"/>
                    <a:pt x="5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6"/>
            <p:cNvSpPr/>
            <p:nvPr/>
          </p:nvSpPr>
          <p:spPr>
            <a:xfrm>
              <a:off x="395280" y="1341360"/>
              <a:ext cx="1919160" cy="3151440"/>
            </a:xfrm>
            <a:custGeom>
              <a:avLst/>
              <a:gdLst/>
              <a:ahLst/>
              <a:rect l="l" t="t" r="r" b="b"/>
              <a:pathLst>
                <a:path w="1209" h="1985">
                  <a:moveTo>
                    <a:pt x="1209" y="1985"/>
                  </a:moveTo>
                  <a:cubicBezTo>
                    <a:pt x="1043" y="1909"/>
                    <a:pt x="388" y="1769"/>
                    <a:pt x="214" y="1529"/>
                  </a:cubicBezTo>
                  <a:cubicBezTo>
                    <a:pt x="40" y="1289"/>
                    <a:pt x="0" y="799"/>
                    <a:pt x="166" y="544"/>
                  </a:cubicBezTo>
                  <a:cubicBezTo>
                    <a:pt x="332" y="289"/>
                    <a:pt x="774" y="140"/>
                    <a:pt x="120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7"/>
            <p:cNvSpPr/>
            <p:nvPr/>
          </p:nvSpPr>
          <p:spPr>
            <a:xfrm>
              <a:off x="4691160" y="2762280"/>
              <a:ext cx="1655640" cy="1187280"/>
            </a:xfrm>
            <a:custGeom>
              <a:avLst/>
              <a:gdLst/>
              <a:ahLst/>
              <a:rect l="l" t="t" r="r" b="b"/>
              <a:pathLst>
                <a:path w="1043" h="748">
                  <a:moveTo>
                    <a:pt x="1043" y="408"/>
                  </a:moveTo>
                  <a:cubicBezTo>
                    <a:pt x="722" y="578"/>
                    <a:pt x="401" y="748"/>
                    <a:pt x="227" y="680"/>
                  </a:cubicBezTo>
                  <a:cubicBezTo>
                    <a:pt x="53" y="612"/>
                    <a:pt x="38" y="1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339840" y="3460680"/>
              <a:ext cx="1981080" cy="2273400"/>
            </a:xfrm>
            <a:custGeom>
              <a:avLst/>
              <a:gdLst/>
              <a:ahLst/>
              <a:rect l="l" t="t" r="r" b="b"/>
              <a:pathLst>
                <a:path w="1218" h="1409">
                  <a:moveTo>
                    <a:pt x="1218" y="1409"/>
                  </a:moveTo>
                  <a:cubicBezTo>
                    <a:pt x="1090" y="1383"/>
                    <a:pt x="657" y="1393"/>
                    <a:pt x="456" y="1250"/>
                  </a:cubicBezTo>
                  <a:cubicBezTo>
                    <a:pt x="255" y="1107"/>
                    <a:pt x="26" y="758"/>
                    <a:pt x="13" y="550"/>
                  </a:cubicBezTo>
                  <a:cubicBezTo>
                    <a:pt x="0" y="342"/>
                    <a:pt x="301" y="115"/>
                    <a:pt x="37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1"/>
            <p:cNvSpPr/>
            <p:nvPr/>
          </p:nvSpPr>
          <p:spPr>
            <a:xfrm flipH="1">
              <a:off x="2949840" y="4573080"/>
              <a:ext cx="220320" cy="10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2"/>
            <p:cNvSpPr/>
            <p:nvPr/>
          </p:nvSpPr>
          <p:spPr>
            <a:xfrm>
              <a:off x="861840" y="3269880"/>
              <a:ext cx="71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3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4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5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6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7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8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9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0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1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2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3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4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5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56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7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58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9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0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1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2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3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4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5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6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7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8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9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0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1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2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3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1">
            <a:hlinkClick r:id="rId1" action="ppaction://hlinksldjump"/>
          </p:cNvPr>
          <p:cNvSpPr/>
          <p:nvPr/>
        </p:nvSpPr>
        <p:spPr>
          <a:xfrm>
            <a:off x="7956720" y="64659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5"/>
          <p:cNvSpPr/>
          <p:nvPr/>
        </p:nvSpPr>
        <p:spPr>
          <a:xfrm flipH="1">
            <a:off x="2921040" y="450864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79480" y="321300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319480" y="429876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319480" y="3085920"/>
            <a:ext cx="115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280200" y="437004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280200" y="3146040"/>
            <a:ext cx="107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280200" y="2209680"/>
            <a:ext cx="107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280200" y="113004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4335480" y="465912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335480" y="249840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319480" y="2066760"/>
            <a:ext cx="863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319480" y="1201680"/>
            <a:ext cx="936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319480" y="5522760"/>
            <a:ext cx="7189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6280200" y="6222960"/>
            <a:ext cx="12952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6280200" y="5378040"/>
            <a:ext cx="1295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3471840" y="328608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327480" y="515772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3"/>
          <p:cNvSpPr/>
          <p:nvPr/>
        </p:nvSpPr>
        <p:spPr>
          <a:xfrm>
            <a:off x="7288200" y="1197000"/>
            <a:ext cx="1092240" cy="2016000"/>
          </a:xfrm>
          <a:custGeom>
            <a:avLst/>
            <a:gdLst/>
            <a:ahLst/>
            <a:rect l="l" t="t" r="r" b="b"/>
            <a:pathLst>
              <a:path w="688" h="1270">
                <a:moveTo>
                  <a:pt x="0" y="0"/>
                </a:moveTo>
                <a:cubicBezTo>
                  <a:pt x="336" y="280"/>
                  <a:pt x="672" y="560"/>
                  <a:pt x="680" y="772"/>
                </a:cubicBezTo>
                <a:cubicBezTo>
                  <a:pt x="688" y="984"/>
                  <a:pt x="151" y="1187"/>
                  <a:pt x="45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6783480" y="1341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7215120" y="3338640"/>
            <a:ext cx="106848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 flipV="1">
            <a:off x="6999120" y="45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7"/>
          <p:cNvSpPr/>
          <p:nvPr/>
        </p:nvSpPr>
        <p:spPr>
          <a:xfrm>
            <a:off x="7359480" y="3286080"/>
            <a:ext cx="162108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"/>
          <p:cNvSpPr/>
          <p:nvPr/>
        </p:nvSpPr>
        <p:spPr>
          <a:xfrm>
            <a:off x="5559480" y="239400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>
            <a:off x="6783480" y="3357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>
            <a:off x="5056200" y="26384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3182760" y="213372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1238400" y="3430440"/>
            <a:ext cx="10810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 flipV="1">
            <a:off x="2679840" y="4508640"/>
            <a:ext cx="9180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4"/>
          <p:cNvSpPr/>
          <p:nvPr/>
        </p:nvSpPr>
        <p:spPr>
          <a:xfrm>
            <a:off x="1998720" y="3141720"/>
            <a:ext cx="392040" cy="23763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5"/>
          <p:cNvSpPr/>
          <p:nvPr/>
        </p:nvSpPr>
        <p:spPr>
          <a:xfrm>
            <a:off x="3182760" y="326700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6"/>
          <p:cNvSpPr/>
          <p:nvPr/>
        </p:nvSpPr>
        <p:spPr>
          <a:xfrm>
            <a:off x="7504200" y="4510080"/>
            <a:ext cx="514440" cy="187164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7"/>
          <p:cNvSpPr/>
          <p:nvPr/>
        </p:nvSpPr>
        <p:spPr>
          <a:xfrm>
            <a:off x="1814400" y="3083040"/>
            <a:ext cx="50508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8"/>
          <p:cNvSpPr/>
          <p:nvPr/>
        </p:nvSpPr>
        <p:spPr>
          <a:xfrm>
            <a:off x="1442880" y="2205000"/>
            <a:ext cx="876600" cy="216072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9"/>
          <p:cNvSpPr/>
          <p:nvPr/>
        </p:nvSpPr>
        <p:spPr>
          <a:xfrm>
            <a:off x="399960" y="1270080"/>
            <a:ext cx="1919520" cy="315108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0"/>
          <p:cNvSpPr/>
          <p:nvPr/>
        </p:nvSpPr>
        <p:spPr>
          <a:xfrm>
            <a:off x="4695840" y="2709720"/>
            <a:ext cx="1655640" cy="118764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689040" y="189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1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 flipH="1">
            <a:off x="3236760" y="1197000"/>
            <a:ext cx="30448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976320" y="458136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4"/>
          <p:cNvSpPr/>
          <p:nvPr/>
        </p:nvSpPr>
        <p:spPr>
          <a:xfrm>
            <a:off x="3568680" y="407664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5"/>
          <p:cNvSpPr/>
          <p:nvPr/>
        </p:nvSpPr>
        <p:spPr>
          <a:xfrm>
            <a:off x="4792680" y="270828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3281400" y="206064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7"/>
          <p:cNvSpPr/>
          <p:nvPr/>
        </p:nvSpPr>
        <p:spPr>
          <a:xfrm>
            <a:off x="184320" y="407664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8"/>
          <p:cNvSpPr/>
          <p:nvPr/>
        </p:nvSpPr>
        <p:spPr>
          <a:xfrm>
            <a:off x="3424320" y="551664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9"/>
          <p:cNvSpPr/>
          <p:nvPr/>
        </p:nvSpPr>
        <p:spPr>
          <a:xfrm>
            <a:off x="4289400" y="342900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0"/>
          <p:cNvSpPr/>
          <p:nvPr/>
        </p:nvSpPr>
        <p:spPr>
          <a:xfrm>
            <a:off x="3784680" y="105264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976320" y="515772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984320" y="342900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7672320" y="191628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089760" y="170028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2200320" y="465300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4863960" y="105264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7"/>
          <p:cNvSpPr/>
          <p:nvPr/>
        </p:nvSpPr>
        <p:spPr>
          <a:xfrm>
            <a:off x="7529400" y="407664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8"/>
          <p:cNvSpPr/>
          <p:nvPr/>
        </p:nvSpPr>
        <p:spPr>
          <a:xfrm>
            <a:off x="7745400" y="2349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9"/>
          <p:cNvSpPr/>
          <p:nvPr/>
        </p:nvSpPr>
        <p:spPr>
          <a:xfrm>
            <a:off x="7313760" y="5661000"/>
            <a:ext cx="122364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0"/>
          <p:cNvSpPr/>
          <p:nvPr/>
        </p:nvSpPr>
        <p:spPr>
          <a:xfrm>
            <a:off x="905040" y="2852640"/>
            <a:ext cx="122364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1"/>
          <p:cNvSpPr/>
          <p:nvPr/>
        </p:nvSpPr>
        <p:spPr>
          <a:xfrm>
            <a:off x="399960" y="1773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4937040" y="414972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"/>
          <p:cNvSpPr/>
          <p:nvPr/>
        </p:nvSpPr>
        <p:spPr>
          <a:xfrm>
            <a:off x="6377040" y="4797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4"/>
          <p:cNvSpPr/>
          <p:nvPr/>
        </p:nvSpPr>
        <p:spPr>
          <a:xfrm>
            <a:off x="6161040" y="3789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-19080" y="3395520"/>
            <a:ext cx="2340000" cy="2448000"/>
          </a:xfrm>
          <a:custGeom>
            <a:avLst/>
            <a:gdLst/>
            <a:ahLst/>
            <a:rect l="l" t="t" r="r" b="b"/>
            <a:pathLst>
              <a:path w="1474" h="1542">
                <a:moveTo>
                  <a:pt x="1474" y="1451"/>
                </a:moveTo>
                <a:cubicBezTo>
                  <a:pt x="941" y="1496"/>
                  <a:pt x="408" y="1542"/>
                  <a:pt x="204" y="1406"/>
                </a:cubicBezTo>
                <a:cubicBezTo>
                  <a:pt x="0" y="1270"/>
                  <a:pt x="181" y="869"/>
                  <a:pt x="249" y="635"/>
                </a:cubicBezTo>
                <a:cubicBezTo>
                  <a:pt x="317" y="401"/>
                  <a:pt x="552" y="98"/>
                  <a:pt x="6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6"/>
          <p:cNvSpPr/>
          <p:nvPr/>
        </p:nvSpPr>
        <p:spPr>
          <a:xfrm>
            <a:off x="399960" y="566100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2273400" y="5013360"/>
            <a:ext cx="129528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8">
            <a:hlinkClick r:id="rId1" action="ppaction://hlinksldjump"/>
          </p:cNvPr>
          <p:cNvSpPr/>
          <p:nvPr/>
        </p:nvSpPr>
        <p:spPr>
          <a:xfrm>
            <a:off x="796140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227640" y="350496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300720" y="257004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300720" y="1633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6156360" y="5594040"/>
            <a:ext cx="12952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6156360" y="4512960"/>
            <a:ext cx="1295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2. Drag the structures alongside the correc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0"/>
          <p:cNvGraphicFramePr/>
          <p:nvPr/>
        </p:nvGraphicFramePr>
        <p:xfrm>
          <a:off x="7970760" y="2349360"/>
          <a:ext cx="99396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760" y="2349360"/>
                    <a:ext cx="993960" cy="81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Object 21"/>
          <p:cNvGraphicFramePr/>
          <p:nvPr/>
        </p:nvGraphicFramePr>
        <p:xfrm>
          <a:off x="2916360" y="627228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6272280"/>
                    <a:ext cx="1069920" cy="27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Object 23"/>
          <p:cNvGraphicFramePr/>
          <p:nvPr/>
        </p:nvGraphicFramePr>
        <p:xfrm>
          <a:off x="4211640" y="981000"/>
          <a:ext cx="1069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981000"/>
                    <a:ext cx="1069920" cy="50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24"/>
          <p:cNvGraphicFramePr/>
          <p:nvPr/>
        </p:nvGraphicFramePr>
        <p:xfrm>
          <a:off x="7818480" y="5373720"/>
          <a:ext cx="1146240" cy="25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18480" y="5373720"/>
                    <a:ext cx="1146240" cy="253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25"/>
          <p:cNvGraphicFramePr/>
          <p:nvPr/>
        </p:nvGraphicFramePr>
        <p:xfrm>
          <a:off x="179280" y="4365720"/>
          <a:ext cx="1656000" cy="32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4365720"/>
                    <a:ext cx="1656000" cy="32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7" name="Object 26"/>
          <p:cNvGraphicFramePr/>
          <p:nvPr/>
        </p:nvGraphicFramePr>
        <p:xfrm>
          <a:off x="7893000" y="4365720"/>
          <a:ext cx="1071720" cy="56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93000" y="4365720"/>
                    <a:ext cx="1071720" cy="560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9" name="Object 27"/>
          <p:cNvGraphicFramePr/>
          <p:nvPr/>
        </p:nvGraphicFramePr>
        <p:xfrm>
          <a:off x="179280" y="907920"/>
          <a:ext cx="919440" cy="636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0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9280" y="907920"/>
                    <a:ext cx="919440" cy="636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1" name="Object 28"/>
          <p:cNvGraphicFramePr/>
          <p:nvPr/>
        </p:nvGraphicFramePr>
        <p:xfrm>
          <a:off x="2916360" y="5877000"/>
          <a:ext cx="1092240" cy="18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2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16360" y="5877000"/>
                    <a:ext cx="1092240" cy="18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3" name="Object 29"/>
          <p:cNvGraphicFramePr/>
          <p:nvPr/>
        </p:nvGraphicFramePr>
        <p:xfrm>
          <a:off x="168120" y="184464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4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8120" y="1844640"/>
                    <a:ext cx="1528920" cy="54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5" name="Object 30"/>
          <p:cNvGraphicFramePr/>
          <p:nvPr/>
        </p:nvGraphicFramePr>
        <p:xfrm>
          <a:off x="179280" y="515772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6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9280" y="5157720"/>
                    <a:ext cx="1146240" cy="56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7" name="Object 32"/>
          <p:cNvGraphicFramePr/>
          <p:nvPr/>
        </p:nvGraphicFramePr>
        <p:xfrm>
          <a:off x="4284720" y="5946840"/>
          <a:ext cx="1165320" cy="601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8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4720" y="5946840"/>
                    <a:ext cx="1165320" cy="601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9" name="Object 33"/>
          <p:cNvGraphicFramePr/>
          <p:nvPr/>
        </p:nvGraphicFramePr>
        <p:xfrm>
          <a:off x="179280" y="6093000"/>
          <a:ext cx="2225880" cy="455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0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9280" y="6093000"/>
                    <a:ext cx="2225880" cy="455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1" name="Rectangle 34">
            <a:hlinkClick r:id="rId25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31"/>
          <p:cNvGraphicFramePr/>
          <p:nvPr/>
        </p:nvGraphicFramePr>
        <p:xfrm>
          <a:off x="168120" y="3340080"/>
          <a:ext cx="1683000" cy="5875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33" name="Object 31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68120" y="3340080"/>
                    <a:ext cx="1683000" cy="587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4" name="Object 2"/>
          <p:cNvGraphicFramePr/>
          <p:nvPr/>
        </p:nvGraphicFramePr>
        <p:xfrm>
          <a:off x="7812000" y="1197000"/>
          <a:ext cx="1157400" cy="2523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812000" y="1197000"/>
                    <a:ext cx="1157400" cy="25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6156360" y="5594040"/>
            <a:ext cx="12952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6227640" y="350496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300720" y="257004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300720" y="1633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6156360" y="4512960"/>
            <a:ext cx="1295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2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19"/>
          <p:cNvGraphicFramePr/>
          <p:nvPr/>
        </p:nvGraphicFramePr>
        <p:xfrm>
          <a:off x="2349360" y="4211640"/>
          <a:ext cx="99396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4211640"/>
                    <a:ext cx="993960" cy="81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Object 20"/>
          <p:cNvGraphicFramePr/>
          <p:nvPr/>
        </p:nvGraphicFramePr>
        <p:xfrm>
          <a:off x="727200" y="314172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3141720"/>
                    <a:ext cx="1069920" cy="27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21"/>
          <p:cNvGraphicFramePr/>
          <p:nvPr/>
        </p:nvGraphicFramePr>
        <p:xfrm>
          <a:off x="2214720" y="5440320"/>
          <a:ext cx="1008000" cy="2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4720" y="5440320"/>
                    <a:ext cx="1008000" cy="23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Object 22"/>
          <p:cNvGraphicFramePr/>
          <p:nvPr/>
        </p:nvGraphicFramePr>
        <p:xfrm>
          <a:off x="2363760" y="2997360"/>
          <a:ext cx="106992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3760" y="2997360"/>
                    <a:ext cx="1069920" cy="502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9" name="Object 23"/>
          <p:cNvGraphicFramePr/>
          <p:nvPr/>
        </p:nvGraphicFramePr>
        <p:xfrm>
          <a:off x="2224080" y="1984320"/>
          <a:ext cx="1146240" cy="2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24080" y="1984320"/>
                    <a:ext cx="1146240" cy="2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Object 24"/>
          <p:cNvGraphicFramePr/>
          <p:nvPr/>
        </p:nvGraphicFramePr>
        <p:xfrm>
          <a:off x="2050920" y="11160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1116000"/>
                    <a:ext cx="1656000" cy="32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3" name="Object 25"/>
          <p:cNvGraphicFramePr/>
          <p:nvPr/>
        </p:nvGraphicFramePr>
        <p:xfrm>
          <a:off x="4202280" y="2411280"/>
          <a:ext cx="1071360" cy="56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02280" y="2411280"/>
                    <a:ext cx="1071360" cy="560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5" name="Object 26"/>
          <p:cNvGraphicFramePr/>
          <p:nvPr/>
        </p:nvGraphicFramePr>
        <p:xfrm>
          <a:off x="4325760" y="4572000"/>
          <a:ext cx="91944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25760" y="4572000"/>
                    <a:ext cx="919440" cy="636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7" name="Object 28"/>
          <p:cNvGraphicFramePr/>
          <p:nvPr/>
        </p:nvGraphicFramePr>
        <p:xfrm>
          <a:off x="6099120" y="183528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9120" y="1835280"/>
                    <a:ext cx="1528920" cy="54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9" name="Object 29"/>
          <p:cNvGraphicFramePr/>
          <p:nvPr/>
        </p:nvGraphicFramePr>
        <p:xfrm>
          <a:off x="6265800" y="277164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65800" y="2771640"/>
                    <a:ext cx="1146240" cy="56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1" name="Object 30"/>
          <p:cNvGraphicFramePr/>
          <p:nvPr/>
        </p:nvGraphicFramePr>
        <p:xfrm>
          <a:off x="6008760" y="3706920"/>
          <a:ext cx="1682640" cy="587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Object 3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08760" y="3706920"/>
                    <a:ext cx="1682640" cy="587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31"/>
          <p:cNvGraphicFramePr/>
          <p:nvPr/>
        </p:nvGraphicFramePr>
        <p:xfrm>
          <a:off x="6218280" y="4714920"/>
          <a:ext cx="116532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18280" y="4714920"/>
                    <a:ext cx="1165320" cy="601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5" name="Object 32"/>
          <p:cNvGraphicFramePr/>
          <p:nvPr/>
        </p:nvGraphicFramePr>
        <p:xfrm>
          <a:off x="5695920" y="5978520"/>
          <a:ext cx="2225880" cy="455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Object 3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95920" y="5978520"/>
                    <a:ext cx="2225880" cy="45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7" name="Rectangle 33">
            <a:hlinkClick r:id="rId27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1"/>
          <p:cNvGraphicFramePr/>
          <p:nvPr/>
        </p:nvGraphicFramePr>
        <p:xfrm>
          <a:off x="6078600" y="1052640"/>
          <a:ext cx="1446120" cy="315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79" name="Object 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078600" y="1052640"/>
                    <a:ext cx="1446120" cy="315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84360" y="7714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3. Drag and drop the correct reagents and conditions onto the correct arrows in the next sl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>
            <a:hlinkClick r:id="" action="ppaction://hlinkshowjump?jump=nextslide"/>
          </p:cNvPr>
          <p:cNvSpPr/>
          <p:nvPr/>
        </p:nvSpPr>
        <p:spPr>
          <a:xfrm>
            <a:off x="2700360" y="2492280"/>
            <a:ext cx="3166920" cy="2449440"/>
          </a:xfrm>
          <a:custGeom>
            <a:avLst/>
            <a:gdLst>
              <a:gd name="textAreaLeft" fmla="*/ 158760 w 3166920"/>
              <a:gd name="textAreaRight" fmla="*/ 3008160 w 3166920"/>
              <a:gd name="textAreaTop" fmla="*/ 158760 h 2449440"/>
              <a:gd name="textAreaBottom" fmla="*/ 2290680 h 2449440"/>
            </a:gdLst>
            <a:ahLst/>
            <a:rect l="textAreaLeft" t="textAreaTop" r="textAreaRight" b="textAreaBottom"/>
            <a:pathLst>
              <a:path w="27926" h="21600">
                <a:moveTo>
                  <a:pt x="0" y="0"/>
                </a:moveTo>
                <a:lnTo>
                  <a:pt x="27926" y="0"/>
                </a:lnTo>
                <a:lnTo>
                  <a:pt x="27926" y="21600"/>
                </a:lnTo>
                <a:lnTo>
                  <a:pt x="0" y="21600"/>
                </a:lnTo>
                <a:close/>
              </a:path>
              <a:path fill="lightenLess" w="27926" h="21600">
                <a:moveTo>
                  <a:pt x="0" y="0"/>
                </a:moveTo>
                <a:lnTo>
                  <a:pt x="27926" y="0"/>
                </a:lnTo>
                <a:lnTo>
                  <a:pt x="26526" y="1400"/>
                </a:lnTo>
                <a:lnTo>
                  <a:pt x="1400" y="1400"/>
                </a:lnTo>
                <a:close/>
              </a:path>
              <a:path fill="darken" w="27926" h="21600">
                <a:moveTo>
                  <a:pt x="27926" y="0"/>
                </a:moveTo>
                <a:lnTo>
                  <a:pt x="27926" y="21600"/>
                </a:lnTo>
                <a:lnTo>
                  <a:pt x="26526" y="20200"/>
                </a:lnTo>
                <a:lnTo>
                  <a:pt x="26526" y="1400"/>
                </a:lnTo>
                <a:close/>
              </a:path>
              <a:path fill="darkenLess" w="27926" h="21600">
                <a:moveTo>
                  <a:pt x="27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6" y="20200"/>
                </a:lnTo>
                <a:close/>
              </a:path>
              <a:path fill="lighten" w="27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6" h="21600">
                <a:moveTo>
                  <a:pt x="6957" y="3794"/>
                </a:moveTo>
                <a:lnTo>
                  <a:pt x="20970" y="10800"/>
                </a:lnTo>
                <a:lnTo>
                  <a:pt x="6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362320" y="2814480"/>
            <a:ext cx="12016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572000" y="5300640"/>
            <a:ext cx="100800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4"/>
          <p:cNvSpPr/>
          <p:nvPr/>
        </p:nvSpPr>
        <p:spPr>
          <a:xfrm flipV="1">
            <a:off x="7020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8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9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0"/>
          <p:cNvSpPr/>
          <p:nvPr/>
        </p:nvSpPr>
        <p:spPr>
          <a:xfrm>
            <a:off x="1219320" y="3124080"/>
            <a:ext cx="1218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1"/>
          <p:cNvSpPr/>
          <p:nvPr/>
        </p:nvSpPr>
        <p:spPr>
          <a:xfrm flipV="1">
            <a:off x="2743200" y="4221000"/>
            <a:ext cx="28440" cy="11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2"/>
          <p:cNvSpPr/>
          <p:nvPr/>
        </p:nvSpPr>
        <p:spPr>
          <a:xfrm>
            <a:off x="2019240" y="2895480"/>
            <a:ext cx="419040" cy="243864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3"/>
          <p:cNvSpPr/>
          <p:nvPr/>
        </p:nvSpPr>
        <p:spPr>
          <a:xfrm>
            <a:off x="3276720" y="2997360"/>
            <a:ext cx="1295280" cy="28270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4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5"/>
          <p:cNvSpPr/>
          <p:nvPr/>
        </p:nvSpPr>
        <p:spPr>
          <a:xfrm>
            <a:off x="1752480" y="2819520"/>
            <a:ext cx="609840" cy="12952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1371600" y="1916280"/>
            <a:ext cx="96840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7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8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9"/>
          <p:cNvSpPr/>
          <p:nvPr/>
        </p:nvSpPr>
        <p:spPr>
          <a:xfrm>
            <a:off x="3213000" y="1954080"/>
            <a:ext cx="3078360" cy="122256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5796000" y="189000"/>
            <a:ext cx="100800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4500720" y="119700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8101080" y="1042200"/>
            <a:ext cx="792000" cy="32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1979640" y="6082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8172360" y="291384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5"/>
          <p:cNvSpPr/>
          <p:nvPr/>
        </p:nvSpPr>
        <p:spPr>
          <a:xfrm flipH="1">
            <a:off x="3276720" y="9079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6"/>
          <p:cNvSpPr/>
          <p:nvPr/>
        </p:nvSpPr>
        <p:spPr>
          <a:xfrm>
            <a:off x="1763640" y="115920"/>
            <a:ext cx="1008000" cy="41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4356000" y="26028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4427640" y="5877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9"/>
          <p:cNvSpPr/>
          <p:nvPr/>
        </p:nvSpPr>
        <p:spPr>
          <a:xfrm>
            <a:off x="814320" y="3121200"/>
            <a:ext cx="158436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8317080" y="248220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2"/>
          <p:cNvSpPr/>
          <p:nvPr/>
        </p:nvSpPr>
        <p:spPr>
          <a:xfrm>
            <a:off x="395280" y="608292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3"/>
          <p:cNvSpPr/>
          <p:nvPr/>
        </p:nvSpPr>
        <p:spPr>
          <a:xfrm>
            <a:off x="395280" y="75492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4"/>
          <p:cNvSpPr/>
          <p:nvPr/>
        </p:nvSpPr>
        <p:spPr>
          <a:xfrm>
            <a:off x="7524720" y="521280"/>
            <a:ext cx="792360" cy="3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5"/>
          <p:cNvSpPr/>
          <p:nvPr/>
        </p:nvSpPr>
        <p:spPr>
          <a:xfrm>
            <a:off x="611280" y="323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6"/>
          <p:cNvSpPr/>
          <p:nvPr/>
        </p:nvSpPr>
        <p:spPr>
          <a:xfrm>
            <a:off x="8028000" y="6021360"/>
            <a:ext cx="1008000" cy="26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7"/>
          <p:cNvSpPr/>
          <p:nvPr/>
        </p:nvSpPr>
        <p:spPr>
          <a:xfrm>
            <a:off x="179280" y="109152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8"/>
          <p:cNvSpPr/>
          <p:nvPr/>
        </p:nvSpPr>
        <p:spPr>
          <a:xfrm>
            <a:off x="3276720" y="5713560"/>
            <a:ext cx="576000" cy="53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9"/>
          <p:cNvSpPr/>
          <p:nvPr/>
        </p:nvSpPr>
        <p:spPr>
          <a:xfrm>
            <a:off x="3132000" y="3945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0"/>
          <p:cNvSpPr/>
          <p:nvPr/>
        </p:nvSpPr>
        <p:spPr>
          <a:xfrm>
            <a:off x="250920" y="5516640"/>
            <a:ext cx="1008000" cy="419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1"/>
          <p:cNvSpPr/>
          <p:nvPr/>
        </p:nvSpPr>
        <p:spPr>
          <a:xfrm>
            <a:off x="2916360" y="6394320"/>
            <a:ext cx="36036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2"/>
          <p:cNvSpPr/>
          <p:nvPr/>
        </p:nvSpPr>
        <p:spPr>
          <a:xfrm>
            <a:off x="5651640" y="6308640"/>
            <a:ext cx="50292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3"/>
          <p:cNvSpPr/>
          <p:nvPr/>
        </p:nvSpPr>
        <p:spPr>
          <a:xfrm flipH="1">
            <a:off x="2895120" y="4221000"/>
            <a:ext cx="381240" cy="11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130320" y="1389240"/>
            <a:ext cx="79200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4">
            <a:hlinkClick r:id="rId5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5"/>
          <p:cNvSpPr/>
          <p:nvPr/>
        </p:nvSpPr>
        <p:spPr>
          <a:xfrm>
            <a:off x="2413080" y="5329080"/>
            <a:ext cx="7189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6"/>
          <p:cNvSpPr/>
          <p:nvPr/>
        </p:nvSpPr>
        <p:spPr>
          <a:xfrm>
            <a:off x="2340000" y="84132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68"/>
          <p:cNvSpPr/>
          <p:nvPr/>
        </p:nvSpPr>
        <p:spPr>
          <a:xfrm flipH="1" flipV="1">
            <a:off x="7164360" y="1028880"/>
            <a:ext cx="912960" cy="18237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70"/>
          <p:cNvSpPr/>
          <p:nvPr/>
        </p:nvSpPr>
        <p:spPr>
          <a:xfrm flipH="1" flipV="1">
            <a:off x="7390800" y="913680"/>
            <a:ext cx="990360" cy="198108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68"/>
          <p:cNvSpPr/>
          <p:nvPr/>
        </p:nvSpPr>
        <p:spPr>
          <a:xfrm>
            <a:off x="814320" y="3121200"/>
            <a:ext cx="1548000" cy="22888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 flipH="1">
            <a:off x="3047760" y="4221000"/>
            <a:ext cx="228600" cy="10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6300720" y="841320"/>
            <a:ext cx="10908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340000" y="84132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2362320" y="5270400"/>
            <a:ext cx="7696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3492360" y="297828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635280" y="3573360"/>
            <a:ext cx="100800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3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4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5"/>
          <p:cNvSpPr/>
          <p:nvPr/>
        </p:nvSpPr>
        <p:spPr>
          <a:xfrm flipV="1">
            <a:off x="7020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6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7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1287360" y="3112920"/>
            <a:ext cx="10810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2"/>
          <p:cNvSpPr/>
          <p:nvPr/>
        </p:nvSpPr>
        <p:spPr>
          <a:xfrm flipV="1">
            <a:off x="2666880" y="4221000"/>
            <a:ext cx="104760" cy="10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"/>
          <p:cNvSpPr/>
          <p:nvPr/>
        </p:nvSpPr>
        <p:spPr>
          <a:xfrm>
            <a:off x="2019240" y="2852640"/>
            <a:ext cx="392040" cy="24051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4"/>
          <p:cNvSpPr/>
          <p:nvPr/>
        </p:nvSpPr>
        <p:spPr>
          <a:xfrm>
            <a:off x="3203640" y="297828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5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36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146376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8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9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40"/>
          <p:cNvSpPr/>
          <p:nvPr/>
        </p:nvSpPr>
        <p:spPr>
          <a:xfrm>
            <a:off x="3132000" y="1989000"/>
            <a:ext cx="3168720" cy="118584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348000" y="1484280"/>
            <a:ext cx="100800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2"/>
          <p:cNvSpPr/>
          <p:nvPr/>
        </p:nvSpPr>
        <p:spPr>
          <a:xfrm>
            <a:off x="5148360" y="191628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3"/>
          <p:cNvSpPr/>
          <p:nvPr/>
        </p:nvSpPr>
        <p:spPr>
          <a:xfrm>
            <a:off x="7885080" y="1546920"/>
            <a:ext cx="792360" cy="32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4"/>
          <p:cNvSpPr/>
          <p:nvPr/>
        </p:nvSpPr>
        <p:spPr>
          <a:xfrm>
            <a:off x="8244000" y="514764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5"/>
          <p:cNvSpPr/>
          <p:nvPr/>
        </p:nvSpPr>
        <p:spPr>
          <a:xfrm>
            <a:off x="7885080" y="413964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6"/>
          <p:cNvSpPr/>
          <p:nvPr/>
        </p:nvSpPr>
        <p:spPr>
          <a:xfrm flipH="1">
            <a:off x="3276720" y="9079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7"/>
          <p:cNvSpPr/>
          <p:nvPr/>
        </p:nvSpPr>
        <p:spPr>
          <a:xfrm>
            <a:off x="4859280" y="692280"/>
            <a:ext cx="1008000" cy="41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8"/>
          <p:cNvSpPr/>
          <p:nvPr/>
        </p:nvSpPr>
        <p:spPr>
          <a:xfrm>
            <a:off x="4140360" y="278136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9"/>
          <p:cNvSpPr/>
          <p:nvPr/>
        </p:nvSpPr>
        <p:spPr>
          <a:xfrm>
            <a:off x="3276720" y="5445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093080" y="543492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6588000" y="4797360"/>
            <a:ext cx="79236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3"/>
          <p:cNvSpPr/>
          <p:nvPr/>
        </p:nvSpPr>
        <p:spPr>
          <a:xfrm>
            <a:off x="6372360" y="341892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826920" y="14025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5"/>
          <p:cNvSpPr/>
          <p:nvPr/>
        </p:nvSpPr>
        <p:spPr>
          <a:xfrm>
            <a:off x="6588000" y="1330920"/>
            <a:ext cx="792360" cy="3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5651640" y="4571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7"/>
          <p:cNvSpPr/>
          <p:nvPr/>
        </p:nvSpPr>
        <p:spPr>
          <a:xfrm>
            <a:off x="1042920" y="4508640"/>
            <a:ext cx="1008000" cy="26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34920" y="4066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9"/>
          <p:cNvSpPr/>
          <p:nvPr/>
        </p:nvSpPr>
        <p:spPr>
          <a:xfrm>
            <a:off x="2124000" y="4345200"/>
            <a:ext cx="576360" cy="53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0"/>
          <p:cNvSpPr/>
          <p:nvPr/>
        </p:nvSpPr>
        <p:spPr>
          <a:xfrm>
            <a:off x="1332000" y="269820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1"/>
          <p:cNvSpPr/>
          <p:nvPr/>
        </p:nvSpPr>
        <p:spPr>
          <a:xfrm>
            <a:off x="684360" y="5013360"/>
            <a:ext cx="1008000" cy="419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2"/>
          <p:cNvSpPr/>
          <p:nvPr/>
        </p:nvSpPr>
        <p:spPr>
          <a:xfrm>
            <a:off x="2484360" y="4941720"/>
            <a:ext cx="43200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3"/>
          <p:cNvSpPr/>
          <p:nvPr/>
        </p:nvSpPr>
        <p:spPr>
          <a:xfrm>
            <a:off x="1979640" y="26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4"/>
          <p:cNvSpPr/>
          <p:nvPr/>
        </p:nvSpPr>
        <p:spPr>
          <a:xfrm>
            <a:off x="2987640" y="4437000"/>
            <a:ext cx="50328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6">
            <a:hlinkClick r:id="rId5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7"/>
          <p:cNvSpPr/>
          <p:nvPr/>
        </p:nvSpPr>
        <p:spPr>
          <a:xfrm>
            <a:off x="2343240" y="2785680"/>
            <a:ext cx="12016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09:23:24Z</dcterms:created>
  <dc:creator>Adam Gilchrist</dc:creator>
  <dc:description/>
  <dc:language>en-US</dc:language>
  <cp:lastModifiedBy>Robert Smith</cp:lastModifiedBy>
  <dcterms:modified xsi:type="dcterms:W3CDTF">2016-04-18T09:01:52Z</dcterms:modified>
  <cp:revision>40</cp:revision>
  <dc:subject/>
  <dc:title>Slide 1</dc:title>
</cp:coreProperties>
</file>