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883-2835-4972-9393-CD041ECA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424F-49D9-4D96-9161-1E459B6B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112-FC6C-4021-B59E-DC67A79F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913-68AF-4E20-AB72-CD7C661B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236-A00B-486D-8A56-768CC689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BBF4-6D2A-4BC5-BE6C-59C736BE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561-E1AA-4945-9EDB-11AF1F59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66F-DB27-4E69-810A-3D125954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AE7-3BA2-4574-B37C-60B6E020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21A-D7B0-4458-9B5A-3C59B4F6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9A3-7423-4BDF-9A28-D21E148C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8FCE-6E2B-4EAB-BEB5-B91D369A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EB81-5631-4CF4-8616-A1C37AA5A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rganic reaction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16"/>
          <p:cNvSpPr/>
          <p:nvPr/>
        </p:nvSpPr>
        <p:spPr>
          <a:xfrm>
            <a:off x="3357720" y="2949480"/>
            <a:ext cx="993600" cy="11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0"/>
          <p:cNvSpPr/>
          <p:nvPr/>
        </p:nvSpPr>
        <p:spPr>
          <a:xfrm>
            <a:off x="6804000" y="119844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1"/>
          <p:cNvSpPr/>
          <p:nvPr/>
        </p:nvSpPr>
        <p:spPr>
          <a:xfrm>
            <a:off x="7236000" y="3271680"/>
            <a:ext cx="1035000" cy="2227320"/>
          </a:xfrm>
          <a:custGeom>
            <a:avLst/>
            <a:gdLst/>
            <a:ahLst/>
            <a:rect l="l" t="t" r="r" b="b"/>
            <a:pathLst>
              <a:path w="652" h="1403">
                <a:moveTo>
                  <a:pt x="104" y="1403"/>
                </a:moveTo>
                <a:cubicBezTo>
                  <a:pt x="191" y="1283"/>
                  <a:pt x="652" y="915"/>
                  <a:pt x="635" y="681"/>
                </a:cubicBezTo>
                <a:cubicBezTo>
                  <a:pt x="618" y="447"/>
                  <a:pt x="106" y="11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2"/>
          <p:cNvSpPr/>
          <p:nvPr/>
        </p:nvSpPr>
        <p:spPr>
          <a:xfrm flipV="1">
            <a:off x="7020000" y="4582800"/>
            <a:ext cx="0" cy="431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3"/>
          <p:cNvSpPr/>
          <p:nvPr/>
        </p:nvSpPr>
        <p:spPr>
          <a:xfrm>
            <a:off x="7399440" y="31431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4"/>
          <p:cNvSpPr/>
          <p:nvPr/>
        </p:nvSpPr>
        <p:spPr>
          <a:xfrm>
            <a:off x="5560920" y="2403360"/>
            <a:ext cx="720720" cy="302436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5"/>
          <p:cNvSpPr/>
          <p:nvPr/>
        </p:nvSpPr>
        <p:spPr>
          <a:xfrm>
            <a:off x="6804000" y="3265560"/>
            <a:ext cx="0" cy="722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6"/>
          <p:cNvSpPr/>
          <p:nvPr/>
        </p:nvSpPr>
        <p:spPr>
          <a:xfrm>
            <a:off x="5076720" y="2495520"/>
            <a:ext cx="122400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7"/>
          <p:cNvSpPr/>
          <p:nvPr/>
        </p:nvSpPr>
        <p:spPr>
          <a:xfrm>
            <a:off x="3276720" y="1990800"/>
            <a:ext cx="79056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8"/>
          <p:cNvSpPr/>
          <p:nvPr/>
        </p:nvSpPr>
        <p:spPr>
          <a:xfrm>
            <a:off x="1249200" y="3278160"/>
            <a:ext cx="1081080" cy="2085840"/>
          </a:xfrm>
          <a:custGeom>
            <a:avLst/>
            <a:gdLst/>
            <a:ahLst/>
            <a:rect l="l" t="t" r="r" b="b"/>
            <a:pathLst>
              <a:path w="647" h="1293">
                <a:moveTo>
                  <a:pt x="0" y="0"/>
                </a:moveTo>
                <a:lnTo>
                  <a:pt x="647" y="1293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9"/>
          <p:cNvSpPr/>
          <p:nvPr/>
        </p:nvSpPr>
        <p:spPr>
          <a:xfrm flipV="1">
            <a:off x="2700360" y="4438440"/>
            <a:ext cx="71280" cy="936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30"/>
          <p:cNvSpPr/>
          <p:nvPr/>
        </p:nvSpPr>
        <p:spPr>
          <a:xfrm>
            <a:off x="2163600" y="3132000"/>
            <a:ext cx="392400" cy="223200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31"/>
          <p:cNvSpPr/>
          <p:nvPr/>
        </p:nvSpPr>
        <p:spPr>
          <a:xfrm>
            <a:off x="3203640" y="314316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2844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2"/>
          <p:cNvSpPr/>
          <p:nvPr/>
        </p:nvSpPr>
        <p:spPr>
          <a:xfrm>
            <a:off x="7543800" y="4367160"/>
            <a:ext cx="514440" cy="187164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3"/>
          <p:cNvSpPr/>
          <p:nvPr/>
        </p:nvSpPr>
        <p:spPr>
          <a:xfrm>
            <a:off x="1825560" y="294012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4"/>
          <p:cNvSpPr/>
          <p:nvPr/>
        </p:nvSpPr>
        <p:spPr>
          <a:xfrm rot="21438600">
            <a:off x="1437840" y="2127240"/>
            <a:ext cx="792360" cy="208764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5"/>
          <p:cNvSpPr/>
          <p:nvPr/>
        </p:nvSpPr>
        <p:spPr>
          <a:xfrm rot="21282000">
            <a:off x="533520" y="1212480"/>
            <a:ext cx="1630080" cy="307980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6"/>
          <p:cNvSpPr/>
          <p:nvPr/>
        </p:nvSpPr>
        <p:spPr>
          <a:xfrm rot="21351000">
            <a:off x="175680" y="2062080"/>
            <a:ext cx="2076480" cy="246060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7"/>
          <p:cNvSpPr/>
          <p:nvPr/>
        </p:nvSpPr>
        <p:spPr>
          <a:xfrm>
            <a:off x="3203640" y="2135160"/>
            <a:ext cx="3078000" cy="114948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2844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43"/>
          <p:cNvSpPr/>
          <p:nvPr/>
        </p:nvSpPr>
        <p:spPr>
          <a:xfrm flipH="1" flipV="1">
            <a:off x="3635280" y="1054080"/>
            <a:ext cx="2765520" cy="6480"/>
          </a:xfrm>
          <a:prstGeom prst="line">
            <a:avLst/>
          </a:prstGeom>
          <a:ln w="284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47"/>
          <p:cNvSpPr/>
          <p:nvPr/>
        </p:nvSpPr>
        <p:spPr>
          <a:xfrm>
            <a:off x="900000" y="3287880"/>
            <a:ext cx="1440000" cy="230328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59"/>
          <p:cNvGraphicFramePr/>
          <p:nvPr/>
        </p:nvGraphicFramePr>
        <p:xfrm>
          <a:off x="2340000" y="3646440"/>
          <a:ext cx="934920" cy="7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646440"/>
                    <a:ext cx="934920" cy="7635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91" name="Object 61"/>
          <p:cNvGraphicFramePr/>
          <p:nvPr/>
        </p:nvGraphicFramePr>
        <p:xfrm>
          <a:off x="611280" y="2998800"/>
          <a:ext cx="1008000" cy="26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Object 6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998800"/>
                    <a:ext cx="1008000" cy="2602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93" name="Object 62"/>
          <p:cNvGraphicFramePr/>
          <p:nvPr/>
        </p:nvGraphicFramePr>
        <p:xfrm>
          <a:off x="2340000" y="5375160"/>
          <a:ext cx="949320" cy="22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4" name="Object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5375160"/>
                    <a:ext cx="949320" cy="2224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95" name="Object 63"/>
          <p:cNvGraphicFramePr/>
          <p:nvPr/>
        </p:nvGraphicFramePr>
        <p:xfrm>
          <a:off x="2340000" y="2638440"/>
          <a:ext cx="1008000" cy="47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6" name="Object 6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2638440"/>
                    <a:ext cx="1008000" cy="4744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97" name="Object 64"/>
          <p:cNvGraphicFramePr/>
          <p:nvPr/>
        </p:nvGraphicFramePr>
        <p:xfrm>
          <a:off x="2195640" y="1919160"/>
          <a:ext cx="1079280" cy="23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8" name="Object 6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5640" y="1919160"/>
                    <a:ext cx="1079280" cy="2397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99" name="Object 65"/>
          <p:cNvGraphicFramePr/>
          <p:nvPr/>
        </p:nvGraphicFramePr>
        <p:xfrm>
          <a:off x="2050920" y="911160"/>
          <a:ext cx="1559160" cy="30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0" name="Object 6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911160"/>
                    <a:ext cx="1559160" cy="304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1" name="Object 66"/>
          <p:cNvGraphicFramePr/>
          <p:nvPr/>
        </p:nvGraphicFramePr>
        <p:xfrm>
          <a:off x="4067280" y="2279520"/>
          <a:ext cx="1009440" cy="528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2" name="Object 6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279520"/>
                    <a:ext cx="1009440" cy="52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3" name="Object 67"/>
          <p:cNvGraphicFramePr/>
          <p:nvPr/>
        </p:nvGraphicFramePr>
        <p:xfrm>
          <a:off x="4211640" y="4127400"/>
          <a:ext cx="865080" cy="598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4" name="Object 6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4127400"/>
                    <a:ext cx="865080" cy="5986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5" name="Object 69"/>
          <p:cNvGraphicFramePr/>
          <p:nvPr/>
        </p:nvGraphicFramePr>
        <p:xfrm>
          <a:off x="6300720" y="2062080"/>
          <a:ext cx="1440000" cy="511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6" name="Object 6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2062080"/>
                    <a:ext cx="1440000" cy="5112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7" name="Object 70"/>
          <p:cNvGraphicFramePr/>
          <p:nvPr/>
        </p:nvGraphicFramePr>
        <p:xfrm>
          <a:off x="6300720" y="2711520"/>
          <a:ext cx="1079640" cy="531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08" name="Object 7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2711520"/>
                    <a:ext cx="1079640" cy="5317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9" name="Object 71"/>
          <p:cNvGraphicFramePr/>
          <p:nvPr/>
        </p:nvGraphicFramePr>
        <p:xfrm>
          <a:off x="5940360" y="4006800"/>
          <a:ext cx="1584360" cy="552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0" name="Object 7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0360" y="4006800"/>
                    <a:ext cx="1584360" cy="5526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11" name="Object 72"/>
          <p:cNvGraphicFramePr/>
          <p:nvPr/>
        </p:nvGraphicFramePr>
        <p:xfrm>
          <a:off x="6300720" y="5014800"/>
          <a:ext cx="1096920" cy="567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2" name="Object 7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0720" y="5014800"/>
                    <a:ext cx="1096920" cy="5670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13" name="Object 73"/>
          <p:cNvGraphicFramePr/>
          <p:nvPr/>
        </p:nvGraphicFramePr>
        <p:xfrm>
          <a:off x="5508720" y="6095880"/>
          <a:ext cx="2095560" cy="428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14" name="Object 7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08720" y="6095880"/>
                    <a:ext cx="2095560" cy="4287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5" name="Text Box 74"/>
          <p:cNvSpPr/>
          <p:nvPr/>
        </p:nvSpPr>
        <p:spPr>
          <a:xfrm>
            <a:off x="684360" y="189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1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75"/>
          <p:cNvSpPr/>
          <p:nvPr/>
        </p:nvSpPr>
        <p:spPr>
          <a:xfrm>
            <a:off x="855720" y="3298680"/>
            <a:ext cx="1458720" cy="2352960"/>
          </a:xfrm>
          <a:custGeom>
            <a:avLst/>
            <a:gdLst/>
            <a:ahLst/>
            <a:rect l="l" t="t" r="r" b="b"/>
            <a:pathLst>
              <a:path w="975" h="1577">
                <a:moveTo>
                  <a:pt x="975" y="1448"/>
                </a:moveTo>
                <a:cubicBezTo>
                  <a:pt x="838" y="1429"/>
                  <a:pt x="318" y="1577"/>
                  <a:pt x="159" y="1336"/>
                </a:cubicBezTo>
                <a:cubicBezTo>
                  <a:pt x="0" y="1095"/>
                  <a:pt x="51" y="278"/>
                  <a:pt x="23" y="0"/>
                </a:cubicBezTo>
              </a:path>
            </a:pathLst>
          </a:custGeom>
          <a:noFill/>
          <a:ln w="2844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76"/>
          <p:cNvSpPr/>
          <p:nvPr/>
        </p:nvSpPr>
        <p:spPr>
          <a:xfrm flipH="1">
            <a:off x="3635280" y="1136520"/>
            <a:ext cx="2765520" cy="61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77"/>
          <p:cNvSpPr/>
          <p:nvPr/>
        </p:nvSpPr>
        <p:spPr>
          <a:xfrm>
            <a:off x="1403280" y="3287880"/>
            <a:ext cx="1027080" cy="2052360"/>
          </a:xfrm>
          <a:custGeom>
            <a:avLst/>
            <a:gdLst/>
            <a:ahLst/>
            <a:rect l="l" t="t" r="r" b="b"/>
            <a:pathLst>
              <a:path w="647" h="1293">
                <a:moveTo>
                  <a:pt x="0" y="0"/>
                </a:moveTo>
                <a:lnTo>
                  <a:pt x="647" y="1293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9"/>
          <p:cNvSpPr/>
          <p:nvPr/>
        </p:nvSpPr>
        <p:spPr>
          <a:xfrm flipH="1">
            <a:off x="3047760" y="4438800"/>
            <a:ext cx="11160" cy="8888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80"/>
          <p:cNvSpPr/>
          <p:nvPr/>
        </p:nvSpPr>
        <p:spPr>
          <a:xfrm flipV="1">
            <a:off x="7451640" y="1227960"/>
            <a:ext cx="819360" cy="1768680"/>
          </a:xfrm>
          <a:custGeom>
            <a:avLst/>
            <a:gdLst/>
            <a:ahLst/>
            <a:rect l="l" t="t" r="r" b="b"/>
            <a:pathLst>
              <a:path w="652" h="1403">
                <a:moveTo>
                  <a:pt x="104" y="1403"/>
                </a:moveTo>
                <a:cubicBezTo>
                  <a:pt x="191" y="1283"/>
                  <a:pt x="652" y="915"/>
                  <a:pt x="635" y="681"/>
                </a:cubicBezTo>
                <a:cubicBezTo>
                  <a:pt x="618" y="447"/>
                  <a:pt x="106" y="11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81"/>
          <p:cNvSpPr/>
          <p:nvPr/>
        </p:nvSpPr>
        <p:spPr>
          <a:xfrm flipH="1" flipV="1" rot="663000">
            <a:off x="7507800" y="1309680"/>
            <a:ext cx="1027080" cy="186228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2"/>
          <p:cNvGraphicFramePr/>
          <p:nvPr/>
        </p:nvGraphicFramePr>
        <p:xfrm>
          <a:off x="6400800" y="868320"/>
          <a:ext cx="1509840" cy="330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400800" y="868320"/>
                    <a:ext cx="1509840" cy="3301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Object 25"/>
          <p:cNvGraphicFramePr/>
          <p:nvPr/>
        </p:nvGraphicFramePr>
        <p:xfrm>
          <a:off x="2340000" y="3500280"/>
          <a:ext cx="993600" cy="8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500280"/>
                    <a:ext cx="993600" cy="811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6" name="Object 27"/>
          <p:cNvGraphicFramePr/>
          <p:nvPr/>
        </p:nvGraphicFramePr>
        <p:xfrm>
          <a:off x="611280" y="2852640"/>
          <a:ext cx="1069920" cy="27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852640"/>
                    <a:ext cx="1069920" cy="276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8" name="Object 28"/>
          <p:cNvGraphicFramePr/>
          <p:nvPr/>
        </p:nvGraphicFramePr>
        <p:xfrm>
          <a:off x="2340000" y="5229360"/>
          <a:ext cx="1008000" cy="23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9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5229360"/>
                    <a:ext cx="1008000" cy="2365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0" name="Object 29"/>
          <p:cNvGraphicFramePr/>
          <p:nvPr/>
        </p:nvGraphicFramePr>
        <p:xfrm>
          <a:off x="2340000" y="2492280"/>
          <a:ext cx="106992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1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2492280"/>
                    <a:ext cx="1069920" cy="503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2" name="Object 30"/>
          <p:cNvGraphicFramePr/>
          <p:nvPr/>
        </p:nvGraphicFramePr>
        <p:xfrm>
          <a:off x="2195640" y="1773360"/>
          <a:ext cx="1145880" cy="25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3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5640" y="1773360"/>
                    <a:ext cx="1145880" cy="2538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4" name="Object 31"/>
          <p:cNvGraphicFramePr/>
          <p:nvPr/>
        </p:nvGraphicFramePr>
        <p:xfrm>
          <a:off x="2050920" y="765000"/>
          <a:ext cx="1656000" cy="32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5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765000"/>
                    <a:ext cx="1656000" cy="3240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6" name="Object 32"/>
          <p:cNvGraphicFramePr/>
          <p:nvPr/>
        </p:nvGraphicFramePr>
        <p:xfrm>
          <a:off x="4067280" y="2133720"/>
          <a:ext cx="1071360" cy="56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7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133720"/>
                    <a:ext cx="1071360" cy="560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8" name="Object 33"/>
          <p:cNvGraphicFramePr/>
          <p:nvPr/>
        </p:nvGraphicFramePr>
        <p:xfrm>
          <a:off x="4211640" y="3981600"/>
          <a:ext cx="919080" cy="636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9" name="Object 3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3981600"/>
                    <a:ext cx="919080" cy="636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0" name="Object 35"/>
          <p:cNvGraphicFramePr/>
          <p:nvPr/>
        </p:nvGraphicFramePr>
        <p:xfrm>
          <a:off x="6300720" y="1668600"/>
          <a:ext cx="152892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1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1668600"/>
                    <a:ext cx="1528920" cy="5428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2" name="Object 36"/>
          <p:cNvGraphicFramePr/>
          <p:nvPr/>
        </p:nvGraphicFramePr>
        <p:xfrm>
          <a:off x="6300720" y="2565360"/>
          <a:ext cx="1146240" cy="565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3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2565360"/>
                    <a:ext cx="1146240" cy="565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4" name="Object 37"/>
          <p:cNvGraphicFramePr/>
          <p:nvPr/>
        </p:nvGraphicFramePr>
        <p:xfrm>
          <a:off x="5940360" y="3860640"/>
          <a:ext cx="1682640" cy="587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45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0360" y="3860640"/>
                    <a:ext cx="1682640" cy="5875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6" name="Object 38"/>
          <p:cNvGraphicFramePr/>
          <p:nvPr/>
        </p:nvGraphicFramePr>
        <p:xfrm>
          <a:off x="6300720" y="4869000"/>
          <a:ext cx="1165320" cy="601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47" name="Object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0720" y="4869000"/>
                    <a:ext cx="1165320" cy="6015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8" name="Object 39"/>
          <p:cNvGraphicFramePr/>
          <p:nvPr/>
        </p:nvGraphicFramePr>
        <p:xfrm>
          <a:off x="5508720" y="5950080"/>
          <a:ext cx="2225520" cy="455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49" name="Object 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08720" y="5950080"/>
                    <a:ext cx="2225520" cy="4554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0" name="Text Box 40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2. Write the correct na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ongside th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Object 1"/>
          <p:cNvGraphicFramePr/>
          <p:nvPr/>
        </p:nvGraphicFramePr>
        <p:xfrm>
          <a:off x="6156360" y="981000"/>
          <a:ext cx="1509840" cy="330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52" name="Object 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156360" y="981000"/>
                    <a:ext cx="1509840" cy="330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6300720" y="4081320"/>
            <a:ext cx="13194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6300720" y="2857320"/>
            <a:ext cx="11667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6248520" y="6024240"/>
            <a:ext cx="18288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6300720" y="5089320"/>
            <a:ext cx="14716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6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2. 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18"/>
          <p:cNvGraphicFramePr/>
          <p:nvPr/>
        </p:nvGraphicFramePr>
        <p:xfrm>
          <a:off x="2411280" y="4292640"/>
          <a:ext cx="99396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4292640"/>
                    <a:ext cx="9939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19"/>
          <p:cNvGraphicFramePr/>
          <p:nvPr/>
        </p:nvGraphicFramePr>
        <p:xfrm>
          <a:off x="611280" y="3502080"/>
          <a:ext cx="106992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502080"/>
                    <a:ext cx="1069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Object 20"/>
          <p:cNvGraphicFramePr/>
          <p:nvPr/>
        </p:nvGraphicFramePr>
        <p:xfrm>
          <a:off x="2340000" y="5878440"/>
          <a:ext cx="1008000" cy="23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5878440"/>
                    <a:ext cx="10080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21"/>
          <p:cNvGraphicFramePr/>
          <p:nvPr/>
        </p:nvGraphicFramePr>
        <p:xfrm>
          <a:off x="2411280" y="2997360"/>
          <a:ext cx="1070280" cy="50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1280" y="2997360"/>
                    <a:ext cx="107028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22"/>
          <p:cNvGraphicFramePr/>
          <p:nvPr/>
        </p:nvGraphicFramePr>
        <p:xfrm>
          <a:off x="2124000" y="2060640"/>
          <a:ext cx="1146240" cy="25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8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24000" y="2060640"/>
                    <a:ext cx="114624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Object 23"/>
          <p:cNvGraphicFramePr/>
          <p:nvPr/>
        </p:nvGraphicFramePr>
        <p:xfrm>
          <a:off x="1908000" y="1197000"/>
          <a:ext cx="1656000" cy="32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0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8000" y="1197000"/>
                    <a:ext cx="1656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Object 24"/>
          <p:cNvGraphicFramePr/>
          <p:nvPr/>
        </p:nvGraphicFramePr>
        <p:xfrm>
          <a:off x="4284720" y="2492280"/>
          <a:ext cx="1071360" cy="560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2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84720" y="2492280"/>
                    <a:ext cx="1071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25"/>
          <p:cNvGraphicFramePr/>
          <p:nvPr/>
        </p:nvGraphicFramePr>
        <p:xfrm>
          <a:off x="4427640" y="4653000"/>
          <a:ext cx="919080" cy="636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4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27640" y="4653000"/>
                    <a:ext cx="9190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27"/>
          <p:cNvGraphicFramePr/>
          <p:nvPr/>
        </p:nvGraphicFramePr>
        <p:xfrm>
          <a:off x="6156360" y="2205000"/>
          <a:ext cx="152856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86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56360" y="2205000"/>
                    <a:ext cx="15285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28"/>
          <p:cNvGraphicFramePr/>
          <p:nvPr/>
        </p:nvGraphicFramePr>
        <p:xfrm>
          <a:off x="6300720" y="3214800"/>
          <a:ext cx="1146240" cy="565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8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3214800"/>
                    <a:ext cx="11462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29"/>
          <p:cNvGraphicFramePr/>
          <p:nvPr/>
        </p:nvGraphicFramePr>
        <p:xfrm>
          <a:off x="6084720" y="4437000"/>
          <a:ext cx="1683000" cy="587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90" name="Object 2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84720" y="4437000"/>
                    <a:ext cx="168300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30"/>
          <p:cNvGraphicFramePr/>
          <p:nvPr/>
        </p:nvGraphicFramePr>
        <p:xfrm>
          <a:off x="6443640" y="5300640"/>
          <a:ext cx="1165320" cy="601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92" name="Object 3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43640" y="5300640"/>
                    <a:ext cx="11653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Object 31"/>
          <p:cNvGraphicFramePr/>
          <p:nvPr/>
        </p:nvGraphicFramePr>
        <p:xfrm>
          <a:off x="5943600" y="6324480"/>
          <a:ext cx="2225520" cy="455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94" name="Object 3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943600" y="6324480"/>
                    <a:ext cx="22255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Object 1"/>
          <p:cNvGraphicFramePr/>
          <p:nvPr/>
        </p:nvGraphicFramePr>
        <p:xfrm>
          <a:off x="6110280" y="1096920"/>
          <a:ext cx="1509840" cy="330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96" name="Object 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110280" y="1096920"/>
                    <a:ext cx="15098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Line 2"/>
          <p:cNvSpPr/>
          <p:nvPr/>
        </p:nvSpPr>
        <p:spPr>
          <a:xfrm>
            <a:off x="3348000" y="2924280"/>
            <a:ext cx="863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5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6"/>
          <p:cNvSpPr/>
          <p:nvPr/>
        </p:nvSpPr>
        <p:spPr>
          <a:xfrm>
            <a:off x="7236000" y="3068640"/>
            <a:ext cx="1035000" cy="2227320"/>
          </a:xfrm>
          <a:custGeom>
            <a:avLst/>
            <a:gdLst/>
            <a:ahLst/>
            <a:rect l="l" t="t" r="r" b="b"/>
            <a:pathLst>
              <a:path w="652" h="1403">
                <a:moveTo>
                  <a:pt x="104" y="1403"/>
                </a:moveTo>
                <a:cubicBezTo>
                  <a:pt x="191" y="1283"/>
                  <a:pt x="652" y="915"/>
                  <a:pt x="635" y="681"/>
                </a:cubicBezTo>
                <a:cubicBezTo>
                  <a:pt x="618" y="447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"/>
          <p:cNvSpPr/>
          <p:nvPr/>
        </p:nvSpPr>
        <p:spPr>
          <a:xfrm flipV="1">
            <a:off x="702000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8"/>
          <p:cNvSpPr/>
          <p:nvPr/>
        </p:nvSpPr>
        <p:spPr>
          <a:xfrm>
            <a:off x="739944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9"/>
          <p:cNvSpPr/>
          <p:nvPr/>
        </p:nvSpPr>
        <p:spPr>
          <a:xfrm>
            <a:off x="5580000" y="213372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0"/>
          <p:cNvSpPr/>
          <p:nvPr/>
        </p:nvSpPr>
        <p:spPr>
          <a:xfrm>
            <a:off x="680400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1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2"/>
          <p:cNvSpPr/>
          <p:nvPr/>
        </p:nvSpPr>
        <p:spPr>
          <a:xfrm>
            <a:off x="3276720" y="1905120"/>
            <a:ext cx="79056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3"/>
          <p:cNvSpPr/>
          <p:nvPr/>
        </p:nvSpPr>
        <p:spPr>
          <a:xfrm>
            <a:off x="1258920" y="3160800"/>
            <a:ext cx="108108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4"/>
          <p:cNvSpPr/>
          <p:nvPr/>
        </p:nvSpPr>
        <p:spPr>
          <a:xfrm flipV="1">
            <a:off x="2700360" y="4282920"/>
            <a:ext cx="71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5"/>
          <p:cNvSpPr/>
          <p:nvPr/>
        </p:nvSpPr>
        <p:spPr>
          <a:xfrm flipH="1" flipV="1" rot="698400">
            <a:off x="7489440" y="1111320"/>
            <a:ext cx="777960" cy="187812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6"/>
          <p:cNvSpPr/>
          <p:nvPr/>
        </p:nvSpPr>
        <p:spPr>
          <a:xfrm>
            <a:off x="3203640" y="299736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7"/>
          <p:cNvSpPr/>
          <p:nvPr/>
        </p:nvSpPr>
        <p:spPr>
          <a:xfrm>
            <a:off x="7534440" y="4221000"/>
            <a:ext cx="514080" cy="180036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8"/>
          <p:cNvSpPr/>
          <p:nvPr/>
        </p:nvSpPr>
        <p:spPr>
          <a:xfrm>
            <a:off x="1835280" y="257508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19"/>
          <p:cNvSpPr/>
          <p:nvPr/>
        </p:nvSpPr>
        <p:spPr>
          <a:xfrm rot="21393600">
            <a:off x="1609200" y="1980720"/>
            <a:ext cx="662040" cy="20955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20"/>
          <p:cNvSpPr/>
          <p:nvPr/>
        </p:nvSpPr>
        <p:spPr>
          <a:xfrm rot="63600">
            <a:off x="485280" y="1063800"/>
            <a:ext cx="1871640" cy="306216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21"/>
          <p:cNvSpPr/>
          <p:nvPr/>
        </p:nvSpPr>
        <p:spPr>
          <a:xfrm rot="21361200">
            <a:off x="133200" y="1971720"/>
            <a:ext cx="2133720" cy="246060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22"/>
          <p:cNvSpPr/>
          <p:nvPr/>
        </p:nvSpPr>
        <p:spPr>
          <a:xfrm>
            <a:off x="3232080" y="2076480"/>
            <a:ext cx="3078360" cy="108108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3"/>
          <p:cNvSpPr/>
          <p:nvPr/>
        </p:nvSpPr>
        <p:spPr>
          <a:xfrm flipH="1" flipV="1">
            <a:off x="3634920" y="907920"/>
            <a:ext cx="2536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24"/>
          <p:cNvSpPr/>
          <p:nvPr/>
        </p:nvSpPr>
        <p:spPr>
          <a:xfrm>
            <a:off x="755640" y="3141720"/>
            <a:ext cx="1584360" cy="230328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Object 25"/>
          <p:cNvGraphicFramePr/>
          <p:nvPr/>
        </p:nvGraphicFramePr>
        <p:xfrm>
          <a:off x="2340000" y="3500280"/>
          <a:ext cx="934920" cy="7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500280"/>
                    <a:ext cx="934920" cy="763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1" name="Object 26"/>
          <p:cNvGraphicFramePr/>
          <p:nvPr/>
        </p:nvGraphicFramePr>
        <p:xfrm>
          <a:off x="4546440" y="3403440"/>
          <a:ext cx="51120" cy="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3403440"/>
                    <a:ext cx="51120" cy="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27"/>
          <p:cNvGraphicFramePr/>
          <p:nvPr/>
        </p:nvGraphicFramePr>
        <p:xfrm>
          <a:off x="685800" y="2886120"/>
          <a:ext cx="1008000" cy="26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4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2886120"/>
                    <a:ext cx="1008000" cy="260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5" name="Object 29"/>
          <p:cNvGraphicFramePr/>
          <p:nvPr/>
        </p:nvGraphicFramePr>
        <p:xfrm>
          <a:off x="2340000" y="2492280"/>
          <a:ext cx="1008000" cy="47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6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2492280"/>
                    <a:ext cx="1008000" cy="474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7" name="Object 30"/>
          <p:cNvGraphicFramePr/>
          <p:nvPr/>
        </p:nvGraphicFramePr>
        <p:xfrm>
          <a:off x="2209680" y="1828800"/>
          <a:ext cx="1079640" cy="23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8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1828800"/>
                    <a:ext cx="1079640" cy="239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9" name="Object 31"/>
          <p:cNvGraphicFramePr/>
          <p:nvPr/>
        </p:nvGraphicFramePr>
        <p:xfrm>
          <a:off x="2050920" y="765000"/>
          <a:ext cx="1559160" cy="30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0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765000"/>
                    <a:ext cx="1559160" cy="304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1" name="Object 32"/>
          <p:cNvGraphicFramePr/>
          <p:nvPr/>
        </p:nvGraphicFramePr>
        <p:xfrm>
          <a:off x="4067280" y="2133720"/>
          <a:ext cx="1009440" cy="528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2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133720"/>
                    <a:ext cx="1009440" cy="528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3" name="Object 33"/>
          <p:cNvGraphicFramePr/>
          <p:nvPr/>
        </p:nvGraphicFramePr>
        <p:xfrm>
          <a:off x="4211640" y="3981600"/>
          <a:ext cx="865080" cy="598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4" name="Object 3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3981600"/>
                    <a:ext cx="865080" cy="5983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5" name="Object 35"/>
          <p:cNvGraphicFramePr/>
          <p:nvPr/>
        </p:nvGraphicFramePr>
        <p:xfrm>
          <a:off x="6300720" y="1916280"/>
          <a:ext cx="1440000" cy="510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36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1916280"/>
                    <a:ext cx="1440000" cy="510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7" name="Object 36"/>
          <p:cNvGraphicFramePr/>
          <p:nvPr/>
        </p:nvGraphicFramePr>
        <p:xfrm>
          <a:off x="6324480" y="2514600"/>
          <a:ext cx="1079640" cy="531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38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24480" y="2514600"/>
                    <a:ext cx="1079640" cy="5317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9" name="Object 37"/>
          <p:cNvGraphicFramePr/>
          <p:nvPr/>
        </p:nvGraphicFramePr>
        <p:xfrm>
          <a:off x="5940360" y="3860640"/>
          <a:ext cx="1584360" cy="552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40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0360" y="3860640"/>
                    <a:ext cx="1584360" cy="552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1" name="Object 38"/>
          <p:cNvGraphicFramePr/>
          <p:nvPr/>
        </p:nvGraphicFramePr>
        <p:xfrm>
          <a:off x="6300720" y="4869000"/>
          <a:ext cx="1096920" cy="566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42" name="Object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0720" y="4869000"/>
                    <a:ext cx="1096920" cy="566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3" name="Object 39"/>
          <p:cNvGraphicFramePr/>
          <p:nvPr/>
        </p:nvGraphicFramePr>
        <p:xfrm>
          <a:off x="5508720" y="5950080"/>
          <a:ext cx="2095560" cy="428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44" name="Object 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08720" y="5950080"/>
                    <a:ext cx="2095560" cy="4284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5" name="Text Box 40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3. Label all arrows with reagents and cond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41"/>
          <p:cNvSpPr/>
          <p:nvPr/>
        </p:nvSpPr>
        <p:spPr>
          <a:xfrm>
            <a:off x="3203640" y="4292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Object 28"/>
          <p:cNvGraphicFramePr/>
          <p:nvPr/>
        </p:nvGraphicFramePr>
        <p:xfrm>
          <a:off x="2340000" y="5229360"/>
          <a:ext cx="949320" cy="222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48" name="Object 2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40000" y="5229360"/>
                    <a:ext cx="949320" cy="222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9" name="Freeform 42"/>
          <p:cNvSpPr/>
          <p:nvPr/>
        </p:nvSpPr>
        <p:spPr>
          <a:xfrm>
            <a:off x="1981080" y="2971800"/>
            <a:ext cx="609840" cy="225756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Object 1"/>
          <p:cNvGraphicFramePr/>
          <p:nvPr/>
        </p:nvGraphicFramePr>
        <p:xfrm>
          <a:off x="6183360" y="716040"/>
          <a:ext cx="1509840" cy="3301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51" name="Object 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183360" y="716040"/>
                    <a:ext cx="1509840" cy="330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Object 2"/>
          <p:cNvGraphicFramePr/>
          <p:nvPr/>
        </p:nvGraphicFramePr>
        <p:xfrm>
          <a:off x="2340000" y="3836880"/>
          <a:ext cx="993600" cy="8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836880"/>
                    <a:ext cx="9936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3"/>
          <p:cNvGraphicFramePr/>
          <p:nvPr/>
        </p:nvGraphicFramePr>
        <p:xfrm>
          <a:off x="611280" y="3189240"/>
          <a:ext cx="106992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189240"/>
                    <a:ext cx="1069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Object 4"/>
          <p:cNvGraphicFramePr/>
          <p:nvPr/>
        </p:nvGraphicFramePr>
        <p:xfrm>
          <a:off x="2340000" y="5565600"/>
          <a:ext cx="1008000" cy="23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5565600"/>
                    <a:ext cx="1008000" cy="2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Object 5"/>
          <p:cNvGraphicFramePr/>
          <p:nvPr/>
        </p:nvGraphicFramePr>
        <p:xfrm>
          <a:off x="2340000" y="2828880"/>
          <a:ext cx="106992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2828880"/>
                    <a:ext cx="1069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Object 6"/>
          <p:cNvGraphicFramePr/>
          <p:nvPr/>
        </p:nvGraphicFramePr>
        <p:xfrm>
          <a:off x="2195640" y="2109960"/>
          <a:ext cx="1145880" cy="25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5640" y="2109960"/>
                    <a:ext cx="114588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Object 7"/>
          <p:cNvGraphicFramePr/>
          <p:nvPr/>
        </p:nvGraphicFramePr>
        <p:xfrm>
          <a:off x="2050920" y="1101600"/>
          <a:ext cx="1656000" cy="32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1101600"/>
                    <a:ext cx="1656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Object 8"/>
          <p:cNvGraphicFramePr/>
          <p:nvPr/>
        </p:nvGraphicFramePr>
        <p:xfrm>
          <a:off x="4067280" y="2470320"/>
          <a:ext cx="1071360" cy="56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470320"/>
                    <a:ext cx="107136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9"/>
          <p:cNvGraphicFramePr/>
          <p:nvPr/>
        </p:nvGraphicFramePr>
        <p:xfrm>
          <a:off x="4211640" y="4317840"/>
          <a:ext cx="919080" cy="636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4317840"/>
                    <a:ext cx="919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Object 11"/>
          <p:cNvGraphicFramePr/>
          <p:nvPr/>
        </p:nvGraphicFramePr>
        <p:xfrm>
          <a:off x="6300720" y="2043000"/>
          <a:ext cx="152892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69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2043000"/>
                    <a:ext cx="1528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12"/>
          <p:cNvGraphicFramePr/>
          <p:nvPr/>
        </p:nvGraphicFramePr>
        <p:xfrm>
          <a:off x="6300720" y="3139920"/>
          <a:ext cx="1146240" cy="565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71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3139920"/>
                    <a:ext cx="11462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Object 13"/>
          <p:cNvGraphicFramePr/>
          <p:nvPr/>
        </p:nvGraphicFramePr>
        <p:xfrm>
          <a:off x="5940360" y="4197240"/>
          <a:ext cx="1682640" cy="587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73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0360" y="4197240"/>
                    <a:ext cx="168264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Object 14"/>
          <p:cNvGraphicFramePr/>
          <p:nvPr/>
        </p:nvGraphicFramePr>
        <p:xfrm>
          <a:off x="6300720" y="5205240"/>
          <a:ext cx="1165320" cy="601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75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0720" y="5205240"/>
                    <a:ext cx="116532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Object 15"/>
          <p:cNvGraphicFramePr/>
          <p:nvPr/>
        </p:nvGraphicFramePr>
        <p:xfrm>
          <a:off x="5508720" y="6286680"/>
          <a:ext cx="2225520" cy="455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77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08720" y="6286680"/>
                    <a:ext cx="22255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Text Box 17"/>
          <p:cNvSpPr/>
          <p:nvPr/>
        </p:nvSpPr>
        <p:spPr>
          <a:xfrm>
            <a:off x="179280" y="260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4. Draw in arrows for all the reactions you have met and label with reagents and conditions. Use a red colour to show oxidations and a blue colour for red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"/>
          <p:cNvGraphicFramePr/>
          <p:nvPr/>
        </p:nvGraphicFramePr>
        <p:xfrm>
          <a:off x="6227640" y="1125360"/>
          <a:ext cx="1509840" cy="330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80" name="Object 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227640" y="1125360"/>
                    <a:ext cx="15098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reeform 78"/>
          <p:cNvSpPr/>
          <p:nvPr/>
        </p:nvSpPr>
        <p:spPr>
          <a:xfrm flipH="1" flipV="1">
            <a:off x="7451640" y="944640"/>
            <a:ext cx="930240" cy="182232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"/>
          <p:cNvSpPr/>
          <p:nvPr/>
        </p:nvSpPr>
        <p:spPr>
          <a:xfrm>
            <a:off x="3348000" y="2924280"/>
            <a:ext cx="863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3492360" y="3357720"/>
            <a:ext cx="1008360" cy="44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6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7"/>
          <p:cNvSpPr/>
          <p:nvPr/>
        </p:nvSpPr>
        <p:spPr>
          <a:xfrm>
            <a:off x="7236000" y="3094200"/>
            <a:ext cx="1035000" cy="2226960"/>
          </a:xfrm>
          <a:custGeom>
            <a:avLst/>
            <a:gdLst/>
            <a:ahLst/>
            <a:rect l="l" t="t" r="r" b="b"/>
            <a:pathLst>
              <a:path w="652" h="1403">
                <a:moveTo>
                  <a:pt x="104" y="1403"/>
                </a:moveTo>
                <a:cubicBezTo>
                  <a:pt x="191" y="1283"/>
                  <a:pt x="652" y="915"/>
                  <a:pt x="635" y="681"/>
                </a:cubicBezTo>
                <a:cubicBezTo>
                  <a:pt x="618" y="447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8"/>
          <p:cNvSpPr/>
          <p:nvPr/>
        </p:nvSpPr>
        <p:spPr>
          <a:xfrm flipV="1">
            <a:off x="702000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9"/>
          <p:cNvSpPr/>
          <p:nvPr/>
        </p:nvSpPr>
        <p:spPr>
          <a:xfrm>
            <a:off x="7389720" y="2997360"/>
            <a:ext cx="162108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0"/>
          <p:cNvSpPr/>
          <p:nvPr/>
        </p:nvSpPr>
        <p:spPr>
          <a:xfrm>
            <a:off x="5580000" y="213372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1"/>
          <p:cNvSpPr/>
          <p:nvPr/>
        </p:nvSpPr>
        <p:spPr>
          <a:xfrm>
            <a:off x="6804000" y="306864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3"/>
          <p:cNvSpPr/>
          <p:nvPr/>
        </p:nvSpPr>
        <p:spPr>
          <a:xfrm>
            <a:off x="3276720" y="1844640"/>
            <a:ext cx="790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"/>
          <p:cNvSpPr/>
          <p:nvPr/>
        </p:nvSpPr>
        <p:spPr>
          <a:xfrm>
            <a:off x="1258920" y="3141720"/>
            <a:ext cx="108108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5"/>
          <p:cNvSpPr/>
          <p:nvPr/>
        </p:nvSpPr>
        <p:spPr>
          <a:xfrm flipV="1">
            <a:off x="2700360" y="4273560"/>
            <a:ext cx="71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16"/>
          <p:cNvSpPr/>
          <p:nvPr/>
        </p:nvSpPr>
        <p:spPr>
          <a:xfrm>
            <a:off x="2009880" y="2987640"/>
            <a:ext cx="392040" cy="223200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17"/>
          <p:cNvSpPr/>
          <p:nvPr/>
        </p:nvSpPr>
        <p:spPr>
          <a:xfrm>
            <a:off x="3203640" y="299736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8"/>
          <p:cNvSpPr/>
          <p:nvPr/>
        </p:nvSpPr>
        <p:spPr>
          <a:xfrm>
            <a:off x="754380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9"/>
          <p:cNvSpPr/>
          <p:nvPr/>
        </p:nvSpPr>
        <p:spPr>
          <a:xfrm>
            <a:off x="1835280" y="279396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20"/>
          <p:cNvSpPr/>
          <p:nvPr/>
        </p:nvSpPr>
        <p:spPr>
          <a:xfrm>
            <a:off x="1538280" y="2017800"/>
            <a:ext cx="792000" cy="191592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21"/>
          <p:cNvSpPr/>
          <p:nvPr/>
        </p:nvSpPr>
        <p:spPr>
          <a:xfrm rot="21283800">
            <a:off x="563400" y="1118880"/>
            <a:ext cx="1630440" cy="307980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22"/>
          <p:cNvSpPr/>
          <p:nvPr/>
        </p:nvSpPr>
        <p:spPr>
          <a:xfrm rot="21364800">
            <a:off x="185400" y="1944360"/>
            <a:ext cx="2076480" cy="246060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23"/>
          <p:cNvSpPr/>
          <p:nvPr/>
        </p:nvSpPr>
        <p:spPr>
          <a:xfrm>
            <a:off x="3203640" y="2013120"/>
            <a:ext cx="3078000" cy="107784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3492360" y="1484280"/>
            <a:ext cx="100836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distil off 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5148360" y="1916280"/>
            <a:ext cx="72072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7956720" y="1689840"/>
            <a:ext cx="792000" cy="325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8244000" y="520632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812000" y="383796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9"/>
          <p:cNvSpPr/>
          <p:nvPr/>
        </p:nvSpPr>
        <p:spPr>
          <a:xfrm flipH="1" flipV="1">
            <a:off x="3635280" y="907560"/>
            <a:ext cx="244944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4140360" y="692280"/>
            <a:ext cx="1008000" cy="419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4140360" y="285264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3492360" y="486900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33"/>
          <p:cNvSpPr/>
          <p:nvPr/>
        </p:nvSpPr>
        <p:spPr>
          <a:xfrm>
            <a:off x="755640" y="3141720"/>
            <a:ext cx="1584360" cy="230328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4"/>
          <p:cNvSpPr/>
          <p:nvPr/>
        </p:nvSpPr>
        <p:spPr>
          <a:xfrm>
            <a:off x="755640" y="5084640"/>
            <a:ext cx="1008000" cy="419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5"/>
          <p:cNvSpPr/>
          <p:nvPr/>
        </p:nvSpPr>
        <p:spPr>
          <a:xfrm>
            <a:off x="6372360" y="331416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6588000" y="4581360"/>
            <a:ext cx="79236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7236000" y="550656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5003640" y="368568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6300720" y="1330920"/>
            <a:ext cx="792360" cy="32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395280" y="161856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042920" y="4437000"/>
            <a:ext cx="1008000" cy="26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34920" y="377928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C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2124000" y="4345200"/>
            <a:ext cx="576360" cy="534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e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4"/>
          <p:cNvSpPr/>
          <p:nvPr/>
        </p:nvSpPr>
        <p:spPr>
          <a:xfrm>
            <a:off x="1332000" y="262656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NaO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Object 45"/>
          <p:cNvGraphicFramePr/>
          <p:nvPr/>
        </p:nvGraphicFramePr>
        <p:xfrm>
          <a:off x="2340000" y="3500280"/>
          <a:ext cx="934920" cy="7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500280"/>
                    <a:ext cx="934920" cy="763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26" name="Object 46"/>
          <p:cNvGraphicFramePr/>
          <p:nvPr/>
        </p:nvGraphicFramePr>
        <p:xfrm>
          <a:off x="4546440" y="3403440"/>
          <a:ext cx="51120" cy="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3403440"/>
                    <a:ext cx="51120" cy="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47"/>
          <p:cNvGraphicFramePr/>
          <p:nvPr/>
        </p:nvGraphicFramePr>
        <p:xfrm>
          <a:off x="611280" y="2852640"/>
          <a:ext cx="1008000" cy="26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9" name="Object 4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852640"/>
                    <a:ext cx="1008000" cy="260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0" name="Object 48"/>
          <p:cNvGraphicFramePr/>
          <p:nvPr/>
        </p:nvGraphicFramePr>
        <p:xfrm>
          <a:off x="2340000" y="5229360"/>
          <a:ext cx="949320" cy="22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1" name="Object 4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5229360"/>
                    <a:ext cx="949320" cy="222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2" name="Object 49"/>
          <p:cNvGraphicFramePr/>
          <p:nvPr/>
        </p:nvGraphicFramePr>
        <p:xfrm>
          <a:off x="2340000" y="2521080"/>
          <a:ext cx="100800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3" name="Object 4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40000" y="2521080"/>
                    <a:ext cx="1008000" cy="474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4" name="Object 50"/>
          <p:cNvGraphicFramePr/>
          <p:nvPr/>
        </p:nvGraphicFramePr>
        <p:xfrm>
          <a:off x="2195640" y="1773360"/>
          <a:ext cx="1079280" cy="23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5" name="Object 5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95640" y="1773360"/>
                    <a:ext cx="1079280" cy="239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6" name="Object 51"/>
          <p:cNvGraphicFramePr/>
          <p:nvPr/>
        </p:nvGraphicFramePr>
        <p:xfrm>
          <a:off x="2050920" y="765000"/>
          <a:ext cx="155916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7" name="Object 5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0920" y="765000"/>
                    <a:ext cx="1559160" cy="304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8" name="Object 52"/>
          <p:cNvGraphicFramePr/>
          <p:nvPr/>
        </p:nvGraphicFramePr>
        <p:xfrm>
          <a:off x="4067280" y="2133720"/>
          <a:ext cx="1009440" cy="528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39" name="Object 5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67280" y="2133720"/>
                    <a:ext cx="1009440" cy="528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0" name="Object 53"/>
          <p:cNvGraphicFramePr/>
          <p:nvPr/>
        </p:nvGraphicFramePr>
        <p:xfrm>
          <a:off x="4211640" y="3981600"/>
          <a:ext cx="865080" cy="59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41" name="Object 5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11640" y="3981600"/>
                    <a:ext cx="865080" cy="5983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2" name="Object 55"/>
          <p:cNvGraphicFramePr/>
          <p:nvPr/>
        </p:nvGraphicFramePr>
        <p:xfrm>
          <a:off x="6300720" y="1916280"/>
          <a:ext cx="1440000" cy="510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43" name="Object 5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1916280"/>
                    <a:ext cx="1440000" cy="510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4" name="Object 56"/>
          <p:cNvGraphicFramePr/>
          <p:nvPr/>
        </p:nvGraphicFramePr>
        <p:xfrm>
          <a:off x="6300720" y="2556000"/>
          <a:ext cx="1079640" cy="531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45" name="Object 5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00720" y="2556000"/>
                    <a:ext cx="1079640" cy="5317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6" name="Object 57"/>
          <p:cNvGraphicFramePr/>
          <p:nvPr/>
        </p:nvGraphicFramePr>
        <p:xfrm>
          <a:off x="5940360" y="3860640"/>
          <a:ext cx="1584360" cy="552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47" name="Object 5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940360" y="3860640"/>
                    <a:ext cx="1584360" cy="552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8" name="Object 58"/>
          <p:cNvGraphicFramePr/>
          <p:nvPr/>
        </p:nvGraphicFramePr>
        <p:xfrm>
          <a:off x="6300720" y="4869000"/>
          <a:ext cx="1096920" cy="566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49" name="Object 5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300720" y="4869000"/>
                    <a:ext cx="1096920" cy="566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0" name="Object 59"/>
          <p:cNvGraphicFramePr/>
          <p:nvPr/>
        </p:nvGraphicFramePr>
        <p:xfrm>
          <a:off x="5508720" y="5950080"/>
          <a:ext cx="2095560" cy="4284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51" name="Object 5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508720" y="5950080"/>
                    <a:ext cx="2095560" cy="4284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2" name="Rectangle 60"/>
          <p:cNvSpPr/>
          <p:nvPr/>
        </p:nvSpPr>
        <p:spPr>
          <a:xfrm>
            <a:off x="179280" y="5734080"/>
            <a:ext cx="36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61"/>
          <p:cNvSpPr/>
          <p:nvPr/>
        </p:nvSpPr>
        <p:spPr>
          <a:xfrm>
            <a:off x="611280" y="573408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tion or eli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62"/>
          <p:cNvSpPr/>
          <p:nvPr/>
        </p:nvSpPr>
        <p:spPr>
          <a:xfrm>
            <a:off x="179280" y="6237360"/>
            <a:ext cx="36036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3"/>
          <p:cNvSpPr/>
          <p:nvPr/>
        </p:nvSpPr>
        <p:spPr>
          <a:xfrm>
            <a:off x="684360" y="63086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64"/>
          <p:cNvSpPr/>
          <p:nvPr/>
        </p:nvSpPr>
        <p:spPr>
          <a:xfrm>
            <a:off x="1692360" y="5805360"/>
            <a:ext cx="36036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5"/>
          <p:cNvSpPr/>
          <p:nvPr/>
        </p:nvSpPr>
        <p:spPr>
          <a:xfrm>
            <a:off x="2124000" y="58770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6"/>
          <p:cNvSpPr/>
          <p:nvPr/>
        </p:nvSpPr>
        <p:spPr>
          <a:xfrm>
            <a:off x="1619280" y="6308640"/>
            <a:ext cx="360360" cy="358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7"/>
          <p:cNvSpPr/>
          <p:nvPr/>
        </p:nvSpPr>
        <p:spPr>
          <a:xfrm>
            <a:off x="2050920" y="638172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69"/>
          <p:cNvSpPr/>
          <p:nvPr/>
        </p:nvSpPr>
        <p:spPr>
          <a:xfrm>
            <a:off x="1835280" y="5229360"/>
            <a:ext cx="360360" cy="35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0"/>
          <p:cNvSpPr/>
          <p:nvPr/>
        </p:nvSpPr>
        <p:spPr>
          <a:xfrm>
            <a:off x="5364000" y="765000"/>
            <a:ext cx="36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1"/>
          <p:cNvSpPr/>
          <p:nvPr/>
        </p:nvSpPr>
        <p:spPr>
          <a:xfrm>
            <a:off x="7885080" y="1268280"/>
            <a:ext cx="36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2"/>
          <p:cNvSpPr/>
          <p:nvPr/>
        </p:nvSpPr>
        <p:spPr>
          <a:xfrm>
            <a:off x="1403280" y="3429000"/>
            <a:ext cx="36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73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s 3 and 4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75"/>
          <p:cNvSpPr/>
          <p:nvPr/>
        </p:nvSpPr>
        <p:spPr>
          <a:xfrm flipH="1">
            <a:off x="2987280" y="4282920"/>
            <a:ext cx="144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6"/>
          <p:cNvSpPr/>
          <p:nvPr/>
        </p:nvSpPr>
        <p:spPr>
          <a:xfrm>
            <a:off x="2916360" y="4373640"/>
            <a:ext cx="503280" cy="34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OH in 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77"/>
          <p:cNvSpPr/>
          <p:nvPr/>
        </p:nvSpPr>
        <p:spPr>
          <a:xfrm>
            <a:off x="2556000" y="4941720"/>
            <a:ext cx="288720" cy="18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8" name="Object 1"/>
          <p:cNvGraphicFramePr/>
          <p:nvPr/>
        </p:nvGraphicFramePr>
        <p:xfrm>
          <a:off x="6084720" y="754200"/>
          <a:ext cx="1366920" cy="298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69" name="Object 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084720" y="754200"/>
                    <a:ext cx="1366920" cy="298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6300720" y="841320"/>
            <a:ext cx="10908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3492360" y="299736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1"/>
          <p:cNvSpPr/>
          <p:nvPr/>
        </p:nvSpPr>
        <p:spPr>
          <a:xfrm>
            <a:off x="7236000" y="3059280"/>
            <a:ext cx="106812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 flipV="1">
            <a:off x="7020000" y="42825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3"/>
          <p:cNvSpPr/>
          <p:nvPr/>
        </p:nvSpPr>
        <p:spPr>
          <a:xfrm>
            <a:off x="738036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4"/>
          <p:cNvSpPr/>
          <p:nvPr/>
        </p:nvSpPr>
        <p:spPr>
          <a:xfrm flipH="1" flipV="1">
            <a:off x="7390800" y="913680"/>
            <a:ext cx="990360" cy="198108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6804000" y="3068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6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7"/>
          <p:cNvSpPr/>
          <p:nvPr/>
        </p:nvSpPr>
        <p:spPr>
          <a:xfrm>
            <a:off x="3203640" y="1844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"/>
          <p:cNvSpPr/>
          <p:nvPr/>
        </p:nvSpPr>
        <p:spPr>
          <a:xfrm>
            <a:off x="1258920" y="3122640"/>
            <a:ext cx="108108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9"/>
          <p:cNvSpPr/>
          <p:nvPr/>
        </p:nvSpPr>
        <p:spPr>
          <a:xfrm flipV="1">
            <a:off x="2556000" y="4183200"/>
            <a:ext cx="71280" cy="10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0"/>
          <p:cNvSpPr/>
          <p:nvPr/>
        </p:nvSpPr>
        <p:spPr>
          <a:xfrm>
            <a:off x="2009880" y="2852640"/>
            <a:ext cx="392040" cy="237672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1"/>
          <p:cNvSpPr/>
          <p:nvPr/>
        </p:nvSpPr>
        <p:spPr>
          <a:xfrm>
            <a:off x="3203640" y="297828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2"/>
          <p:cNvSpPr/>
          <p:nvPr/>
        </p:nvSpPr>
        <p:spPr>
          <a:xfrm>
            <a:off x="752472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3"/>
          <p:cNvSpPr/>
          <p:nvPr/>
        </p:nvSpPr>
        <p:spPr>
          <a:xfrm>
            <a:off x="1825560" y="279396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4"/>
          <p:cNvSpPr/>
          <p:nvPr/>
        </p:nvSpPr>
        <p:spPr>
          <a:xfrm>
            <a:off x="1454040" y="1916280"/>
            <a:ext cx="876240" cy="21603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5"/>
          <p:cNvSpPr/>
          <p:nvPr/>
        </p:nvSpPr>
        <p:spPr>
          <a:xfrm>
            <a:off x="420840" y="981000"/>
            <a:ext cx="1919160" cy="315144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6"/>
          <p:cNvSpPr/>
          <p:nvPr/>
        </p:nvSpPr>
        <p:spPr>
          <a:xfrm>
            <a:off x="119160" y="1844640"/>
            <a:ext cx="2220840" cy="253224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7"/>
          <p:cNvSpPr/>
          <p:nvPr/>
        </p:nvSpPr>
        <p:spPr>
          <a:xfrm>
            <a:off x="4716360" y="2411280"/>
            <a:ext cx="1656000" cy="1187640"/>
          </a:xfrm>
          <a:custGeom>
            <a:avLst/>
            <a:gdLst/>
            <a:ahLst/>
            <a:rect l="l" t="t" r="r" b="b"/>
            <a:pathLst>
              <a:path w="1043" h="748">
                <a:moveTo>
                  <a:pt x="1043" y="408"/>
                </a:moveTo>
                <a:cubicBezTo>
                  <a:pt x="722" y="578"/>
                  <a:pt x="401" y="748"/>
                  <a:pt x="227" y="680"/>
                </a:cubicBezTo>
                <a:cubicBezTo>
                  <a:pt x="53" y="612"/>
                  <a:pt x="38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4"/>
          <p:cNvSpPr/>
          <p:nvPr/>
        </p:nvSpPr>
        <p:spPr>
          <a:xfrm>
            <a:off x="684360" y="260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1. Highlight all oxidations red, reductions blue, substitutions green and additions or eliminations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5"/>
          <p:cNvSpPr/>
          <p:nvPr/>
        </p:nvSpPr>
        <p:spPr>
          <a:xfrm flipH="1">
            <a:off x="3276720" y="907920"/>
            <a:ext cx="3024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46"/>
          <p:cNvSpPr/>
          <p:nvPr/>
        </p:nvSpPr>
        <p:spPr>
          <a:xfrm>
            <a:off x="803160" y="3112920"/>
            <a:ext cx="1536840" cy="2232360"/>
          </a:xfrm>
          <a:custGeom>
            <a:avLst/>
            <a:gdLst/>
            <a:ahLst/>
            <a:rect l="l" t="t" r="r" b="b"/>
            <a:pathLst>
              <a:path w="968" h="1406">
                <a:moveTo>
                  <a:pt x="968" y="1406"/>
                </a:moveTo>
                <a:cubicBezTo>
                  <a:pt x="635" y="1394"/>
                  <a:pt x="302" y="1383"/>
                  <a:pt x="151" y="1224"/>
                </a:cubicBezTo>
                <a:cubicBezTo>
                  <a:pt x="0" y="1065"/>
                  <a:pt x="68" y="657"/>
                  <a:pt x="61" y="453"/>
                </a:cubicBezTo>
                <a:cubicBezTo>
                  <a:pt x="54" y="249"/>
                  <a:pt x="80" y="124"/>
                  <a:pt x="1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7"/>
          <p:cNvSpPr/>
          <p:nvPr/>
        </p:nvSpPr>
        <p:spPr>
          <a:xfrm flipH="1">
            <a:off x="3021120" y="4211640"/>
            <a:ext cx="38160" cy="101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8"/>
          <p:cNvSpPr/>
          <p:nvPr/>
        </p:nvSpPr>
        <p:spPr>
          <a:xfrm>
            <a:off x="5589720" y="207648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340000" y="4010040"/>
            <a:ext cx="100800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300720" y="1930320"/>
            <a:ext cx="107964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356000" y="4370400"/>
            <a:ext cx="86364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3492360" y="2997360"/>
            <a:ext cx="863640" cy="143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8"/>
          <p:cNvSpPr/>
          <p:nvPr/>
        </p:nvSpPr>
        <p:spPr>
          <a:xfrm>
            <a:off x="7318440" y="855720"/>
            <a:ext cx="1092240" cy="2087640"/>
          </a:xfrm>
          <a:custGeom>
            <a:avLst/>
            <a:gdLst/>
            <a:ahLst/>
            <a:rect l="l" t="t" r="r" b="b"/>
            <a:pathLst>
              <a:path w="688" h="1270">
                <a:moveTo>
                  <a:pt x="0" y="0"/>
                </a:moveTo>
                <a:cubicBezTo>
                  <a:pt x="336" y="280"/>
                  <a:pt x="672" y="560"/>
                  <a:pt x="680" y="772"/>
                </a:cubicBezTo>
                <a:cubicBezTo>
                  <a:pt x="688" y="984"/>
                  <a:pt x="151" y="1187"/>
                  <a:pt x="45" y="127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0"/>
          <p:cNvSpPr/>
          <p:nvPr/>
        </p:nvSpPr>
        <p:spPr>
          <a:xfrm>
            <a:off x="7254720" y="3068640"/>
            <a:ext cx="106848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 flipV="1">
            <a:off x="7020000" y="4282560"/>
            <a:ext cx="0" cy="792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2"/>
          <p:cNvSpPr/>
          <p:nvPr/>
        </p:nvSpPr>
        <p:spPr>
          <a:xfrm>
            <a:off x="739944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3"/>
          <p:cNvSpPr/>
          <p:nvPr/>
        </p:nvSpPr>
        <p:spPr>
          <a:xfrm>
            <a:off x="5580000" y="213372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6804000" y="3068640"/>
            <a:ext cx="0" cy="1008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5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6"/>
          <p:cNvSpPr/>
          <p:nvPr/>
        </p:nvSpPr>
        <p:spPr>
          <a:xfrm>
            <a:off x="3203640" y="1844640"/>
            <a:ext cx="115236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7"/>
          <p:cNvSpPr/>
          <p:nvPr/>
        </p:nvSpPr>
        <p:spPr>
          <a:xfrm>
            <a:off x="1403280" y="3127320"/>
            <a:ext cx="1081080" cy="20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8"/>
          <p:cNvSpPr/>
          <p:nvPr/>
        </p:nvSpPr>
        <p:spPr>
          <a:xfrm flipV="1">
            <a:off x="2700360" y="4202280"/>
            <a:ext cx="71280" cy="1008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9"/>
          <p:cNvSpPr/>
          <p:nvPr/>
        </p:nvSpPr>
        <p:spPr>
          <a:xfrm flipH="1" flipV="1">
            <a:off x="7314480" y="914400"/>
            <a:ext cx="369720" cy="193824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0"/>
          <p:cNvSpPr/>
          <p:nvPr/>
        </p:nvSpPr>
        <p:spPr>
          <a:xfrm>
            <a:off x="3203640" y="299736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2844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1"/>
          <p:cNvSpPr/>
          <p:nvPr/>
        </p:nvSpPr>
        <p:spPr>
          <a:xfrm>
            <a:off x="754380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2"/>
          <p:cNvSpPr/>
          <p:nvPr/>
        </p:nvSpPr>
        <p:spPr>
          <a:xfrm>
            <a:off x="1816200" y="277488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3"/>
          <p:cNvSpPr/>
          <p:nvPr/>
        </p:nvSpPr>
        <p:spPr>
          <a:xfrm>
            <a:off x="1454040" y="1916280"/>
            <a:ext cx="876240" cy="21603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4"/>
          <p:cNvSpPr/>
          <p:nvPr/>
        </p:nvSpPr>
        <p:spPr>
          <a:xfrm>
            <a:off x="411120" y="981000"/>
            <a:ext cx="1919160" cy="315144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5"/>
          <p:cNvSpPr/>
          <p:nvPr/>
        </p:nvSpPr>
        <p:spPr>
          <a:xfrm>
            <a:off x="109440" y="1844640"/>
            <a:ext cx="2220840" cy="253224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6"/>
          <p:cNvSpPr/>
          <p:nvPr/>
        </p:nvSpPr>
        <p:spPr>
          <a:xfrm>
            <a:off x="4716360" y="2421000"/>
            <a:ext cx="1656000" cy="1187280"/>
          </a:xfrm>
          <a:custGeom>
            <a:avLst/>
            <a:gdLst/>
            <a:ahLst/>
            <a:rect l="l" t="t" r="r" b="b"/>
            <a:pathLst>
              <a:path w="1043" h="748">
                <a:moveTo>
                  <a:pt x="1043" y="408"/>
                </a:moveTo>
                <a:cubicBezTo>
                  <a:pt x="722" y="578"/>
                  <a:pt x="401" y="748"/>
                  <a:pt x="227" y="680"/>
                </a:cubicBezTo>
                <a:cubicBezTo>
                  <a:pt x="53" y="612"/>
                  <a:pt x="38" y="113"/>
                  <a:pt x="0" y="0"/>
                </a:cubicBezTo>
              </a:path>
            </a:pathLst>
          </a:custGeom>
          <a:noFill/>
          <a:ln w="2844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7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1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8"/>
          <p:cNvSpPr/>
          <p:nvPr/>
        </p:nvSpPr>
        <p:spPr>
          <a:xfrm flipH="1">
            <a:off x="3276720" y="907920"/>
            <a:ext cx="3024000" cy="73080"/>
          </a:xfrm>
          <a:prstGeom prst="line">
            <a:avLst/>
          </a:prstGeom>
          <a:ln w="284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9"/>
          <p:cNvSpPr/>
          <p:nvPr/>
        </p:nvSpPr>
        <p:spPr>
          <a:xfrm>
            <a:off x="793800" y="3132000"/>
            <a:ext cx="1536480" cy="2159280"/>
          </a:xfrm>
          <a:custGeom>
            <a:avLst/>
            <a:gdLst/>
            <a:ahLst/>
            <a:rect l="l" t="t" r="r" b="b"/>
            <a:pathLst>
              <a:path w="968" h="1406">
                <a:moveTo>
                  <a:pt x="968" y="1406"/>
                </a:moveTo>
                <a:cubicBezTo>
                  <a:pt x="635" y="1394"/>
                  <a:pt x="302" y="1383"/>
                  <a:pt x="151" y="1224"/>
                </a:cubicBezTo>
                <a:cubicBezTo>
                  <a:pt x="0" y="1065"/>
                  <a:pt x="68" y="657"/>
                  <a:pt x="61" y="453"/>
                </a:cubicBezTo>
                <a:cubicBezTo>
                  <a:pt x="54" y="249"/>
                  <a:pt x="80" y="124"/>
                  <a:pt x="106" y="0"/>
                </a:cubicBezTo>
              </a:path>
            </a:pathLst>
          </a:custGeom>
          <a:noFill/>
          <a:ln w="2844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0"/>
          <p:cNvSpPr/>
          <p:nvPr/>
        </p:nvSpPr>
        <p:spPr>
          <a:xfrm>
            <a:off x="1168560" y="3139920"/>
            <a:ext cx="1171440" cy="2079720"/>
          </a:xfrm>
          <a:custGeom>
            <a:avLst/>
            <a:gdLst/>
            <a:ahLst/>
            <a:rect l="l" t="t" r="r" b="b"/>
            <a:pathLst>
              <a:path w="693" h="1400">
                <a:moveTo>
                  <a:pt x="0" y="0"/>
                </a:moveTo>
                <a:lnTo>
                  <a:pt x="693" y="140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1"/>
          <p:cNvSpPr/>
          <p:nvPr/>
        </p:nvSpPr>
        <p:spPr>
          <a:xfrm>
            <a:off x="642960" y="3124080"/>
            <a:ext cx="1687320" cy="2306880"/>
          </a:xfrm>
          <a:custGeom>
            <a:avLst/>
            <a:gdLst/>
            <a:ahLst/>
            <a:rect l="l" t="t" r="r" b="b"/>
            <a:pathLst>
              <a:path w="1063" h="1453">
                <a:moveTo>
                  <a:pt x="1063" y="1440"/>
                </a:moveTo>
                <a:cubicBezTo>
                  <a:pt x="915" y="1417"/>
                  <a:pt x="330" y="1453"/>
                  <a:pt x="165" y="1301"/>
                </a:cubicBezTo>
                <a:cubicBezTo>
                  <a:pt x="0" y="1149"/>
                  <a:pt x="79" y="747"/>
                  <a:pt x="75" y="530"/>
                </a:cubicBezTo>
                <a:cubicBezTo>
                  <a:pt x="71" y="313"/>
                  <a:pt x="129" y="110"/>
                  <a:pt x="143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2"/>
          <p:cNvSpPr/>
          <p:nvPr/>
        </p:nvSpPr>
        <p:spPr>
          <a:xfrm>
            <a:off x="3276720" y="1014480"/>
            <a:ext cx="3024000" cy="73080"/>
          </a:xfrm>
          <a:custGeom>
            <a:avLst/>
            <a:gdLst/>
            <a:ahLst/>
            <a:rect l="l" t="t" r="r" b="b"/>
            <a:pathLst>
              <a:path w="1905" h="46">
                <a:moveTo>
                  <a:pt x="1905" y="0"/>
                </a:moveTo>
                <a:lnTo>
                  <a:pt x="767" y="36"/>
                </a:lnTo>
                <a:lnTo>
                  <a:pt x="0" y="46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4"/>
          <p:cNvSpPr/>
          <p:nvPr/>
        </p:nvSpPr>
        <p:spPr>
          <a:xfrm>
            <a:off x="7020000" y="2133720"/>
            <a:ext cx="0" cy="7189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5"/>
          <p:cNvSpPr/>
          <p:nvPr/>
        </p:nvSpPr>
        <p:spPr>
          <a:xfrm flipH="1">
            <a:off x="2987280" y="4221000"/>
            <a:ext cx="71640" cy="1008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6"/>
          <p:cNvSpPr/>
          <p:nvPr/>
        </p:nvSpPr>
        <p:spPr>
          <a:xfrm>
            <a:off x="2171880" y="2995560"/>
            <a:ext cx="392040" cy="222408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6172200" y="5973480"/>
            <a:ext cx="18288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6300720" y="5089320"/>
            <a:ext cx="1395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2. Draw the correct structures alongside the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882720" y="2793600"/>
            <a:ext cx="7189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322360" y="3649320"/>
            <a:ext cx="1008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322360" y="2666880"/>
            <a:ext cx="1152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283440" y="3649320"/>
            <a:ext cx="1224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283440" y="2496960"/>
            <a:ext cx="11667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283440" y="1272960"/>
            <a:ext cx="107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300720" y="55368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338720" y="42400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4338720" y="2079360"/>
            <a:ext cx="7189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322360" y="164772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2322360" y="78228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2322360" y="537336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6066000" y="5910120"/>
            <a:ext cx="17794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6283440" y="4802040"/>
            <a:ext cx="1395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3330720" y="47386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2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8"/>
          <p:cNvGraphicFramePr/>
          <p:nvPr/>
        </p:nvGraphicFramePr>
        <p:xfrm>
          <a:off x="2197080" y="3909960"/>
          <a:ext cx="1336680" cy="10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3909960"/>
                    <a:ext cx="133668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19"/>
          <p:cNvGraphicFramePr/>
          <p:nvPr/>
        </p:nvGraphicFramePr>
        <p:xfrm>
          <a:off x="622440" y="3081240"/>
          <a:ext cx="1212840" cy="3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440" y="3081240"/>
                    <a:ext cx="121284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0"/>
          <p:cNvGraphicFramePr/>
          <p:nvPr/>
        </p:nvGraphicFramePr>
        <p:xfrm>
          <a:off x="1979640" y="5645160"/>
          <a:ext cx="129708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5645160"/>
                    <a:ext cx="12970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21"/>
          <p:cNvGraphicFramePr/>
          <p:nvPr/>
        </p:nvGraphicFramePr>
        <p:xfrm>
          <a:off x="2394000" y="2905200"/>
          <a:ext cx="1098360" cy="51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94000" y="2905200"/>
                    <a:ext cx="10983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22"/>
          <p:cNvGraphicFramePr/>
          <p:nvPr/>
        </p:nvGraphicFramePr>
        <p:xfrm>
          <a:off x="2144880" y="1940040"/>
          <a:ext cx="1274760" cy="282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4880" y="1940040"/>
                    <a:ext cx="127476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23"/>
          <p:cNvGraphicFramePr/>
          <p:nvPr/>
        </p:nvGraphicFramePr>
        <p:xfrm>
          <a:off x="1989000" y="1076400"/>
          <a:ext cx="1602000" cy="31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9000" y="1076400"/>
                    <a:ext cx="16020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24"/>
          <p:cNvGraphicFramePr/>
          <p:nvPr/>
        </p:nvGraphicFramePr>
        <p:xfrm>
          <a:off x="4067280" y="2362320"/>
          <a:ext cx="1271520" cy="66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9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362320"/>
                    <a:ext cx="127152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25"/>
          <p:cNvGraphicFramePr/>
          <p:nvPr/>
        </p:nvGraphicFramePr>
        <p:xfrm>
          <a:off x="4356000" y="4522680"/>
          <a:ext cx="973080" cy="674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1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56000" y="4522680"/>
                    <a:ext cx="973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26"/>
          <p:cNvGraphicFramePr/>
          <p:nvPr/>
        </p:nvGraphicFramePr>
        <p:xfrm>
          <a:off x="6046920" y="795240"/>
          <a:ext cx="1509480" cy="33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3" name="Object 2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46920" y="795240"/>
                    <a:ext cx="1509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27"/>
          <p:cNvGraphicFramePr/>
          <p:nvPr/>
        </p:nvGraphicFramePr>
        <p:xfrm>
          <a:off x="6138720" y="1557360"/>
          <a:ext cx="1528920" cy="542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5" name="Object 2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38720" y="1557360"/>
                    <a:ext cx="1528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28"/>
          <p:cNvGraphicFramePr/>
          <p:nvPr/>
        </p:nvGraphicFramePr>
        <p:xfrm>
          <a:off x="6283440" y="2816280"/>
          <a:ext cx="1312920" cy="647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7" name="Object 2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83440" y="2816280"/>
                    <a:ext cx="13129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29"/>
          <p:cNvGraphicFramePr/>
          <p:nvPr/>
        </p:nvGraphicFramePr>
        <p:xfrm>
          <a:off x="6067440" y="3870360"/>
          <a:ext cx="2033640" cy="709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9" name="Object 2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67440" y="3870360"/>
                    <a:ext cx="20336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30"/>
          <p:cNvGraphicFramePr/>
          <p:nvPr/>
        </p:nvGraphicFramePr>
        <p:xfrm>
          <a:off x="6372360" y="5065560"/>
          <a:ext cx="1218960" cy="630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1" name="Object 3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372360" y="5065560"/>
                    <a:ext cx="12189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1"/>
          <p:cNvGraphicFramePr/>
          <p:nvPr/>
        </p:nvGraphicFramePr>
        <p:xfrm>
          <a:off x="5580000" y="6173640"/>
          <a:ext cx="2589120" cy="530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3" name="Object 3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580000" y="6173640"/>
                    <a:ext cx="25891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900000" y="294300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349360" y="4009680"/>
            <a:ext cx="1008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3492360" y="299736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3492360" y="3357720"/>
            <a:ext cx="1008360" cy="44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9"/>
          <p:cNvSpPr/>
          <p:nvPr/>
        </p:nvSpPr>
        <p:spPr>
          <a:xfrm>
            <a:off x="7308720" y="907920"/>
            <a:ext cx="1092240" cy="2016360"/>
          </a:xfrm>
          <a:custGeom>
            <a:avLst/>
            <a:gdLst/>
            <a:ahLst/>
            <a:rect l="l" t="t" r="r" b="b"/>
            <a:pathLst>
              <a:path w="688" h="1270">
                <a:moveTo>
                  <a:pt x="0" y="0"/>
                </a:moveTo>
                <a:cubicBezTo>
                  <a:pt x="336" y="280"/>
                  <a:pt x="672" y="560"/>
                  <a:pt x="680" y="772"/>
                </a:cubicBezTo>
                <a:cubicBezTo>
                  <a:pt x="688" y="984"/>
                  <a:pt x="151" y="1187"/>
                  <a:pt x="45" y="12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1"/>
          <p:cNvSpPr/>
          <p:nvPr/>
        </p:nvSpPr>
        <p:spPr>
          <a:xfrm>
            <a:off x="7236000" y="3068640"/>
            <a:ext cx="106812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7020000" y="429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3"/>
          <p:cNvSpPr/>
          <p:nvPr/>
        </p:nvSpPr>
        <p:spPr>
          <a:xfrm>
            <a:off x="738036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4"/>
          <p:cNvSpPr/>
          <p:nvPr/>
        </p:nvSpPr>
        <p:spPr>
          <a:xfrm>
            <a:off x="5580000" y="209556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6804000" y="3068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3203640" y="1844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8"/>
          <p:cNvSpPr/>
          <p:nvPr/>
        </p:nvSpPr>
        <p:spPr>
          <a:xfrm>
            <a:off x="1258920" y="3132000"/>
            <a:ext cx="1081080" cy="21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9"/>
          <p:cNvSpPr/>
          <p:nvPr/>
        </p:nvSpPr>
        <p:spPr>
          <a:xfrm flipV="1">
            <a:off x="2700360" y="4220640"/>
            <a:ext cx="71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0"/>
          <p:cNvSpPr/>
          <p:nvPr/>
        </p:nvSpPr>
        <p:spPr>
          <a:xfrm>
            <a:off x="2009880" y="2852640"/>
            <a:ext cx="392040" cy="237672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1"/>
          <p:cNvSpPr/>
          <p:nvPr/>
        </p:nvSpPr>
        <p:spPr>
          <a:xfrm>
            <a:off x="3203640" y="297828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2"/>
          <p:cNvSpPr/>
          <p:nvPr/>
        </p:nvSpPr>
        <p:spPr>
          <a:xfrm>
            <a:off x="752472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3"/>
          <p:cNvSpPr/>
          <p:nvPr/>
        </p:nvSpPr>
        <p:spPr>
          <a:xfrm>
            <a:off x="1835280" y="279396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4"/>
          <p:cNvSpPr/>
          <p:nvPr/>
        </p:nvSpPr>
        <p:spPr>
          <a:xfrm>
            <a:off x="1463760" y="1916280"/>
            <a:ext cx="876240" cy="21603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5"/>
          <p:cNvSpPr/>
          <p:nvPr/>
        </p:nvSpPr>
        <p:spPr>
          <a:xfrm>
            <a:off x="420840" y="981000"/>
            <a:ext cx="1919160" cy="315144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6"/>
          <p:cNvSpPr/>
          <p:nvPr/>
        </p:nvSpPr>
        <p:spPr>
          <a:xfrm>
            <a:off x="119160" y="1816200"/>
            <a:ext cx="2220840" cy="252072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7"/>
          <p:cNvSpPr/>
          <p:nvPr/>
        </p:nvSpPr>
        <p:spPr>
          <a:xfrm>
            <a:off x="4716360" y="2401920"/>
            <a:ext cx="1656000" cy="1187280"/>
          </a:xfrm>
          <a:custGeom>
            <a:avLst/>
            <a:gdLst/>
            <a:ahLst/>
            <a:rect l="l" t="t" r="r" b="b"/>
            <a:pathLst>
              <a:path w="1043" h="748">
                <a:moveTo>
                  <a:pt x="1043" y="408"/>
                </a:moveTo>
                <a:cubicBezTo>
                  <a:pt x="722" y="578"/>
                  <a:pt x="401" y="748"/>
                  <a:pt x="227" y="680"/>
                </a:cubicBezTo>
                <a:cubicBezTo>
                  <a:pt x="53" y="612"/>
                  <a:pt x="38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3. Label all arrows with reagents and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 flipH="1">
            <a:off x="2987280" y="4221000"/>
            <a:ext cx="7164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9"/>
          <p:cNvSpPr/>
          <p:nvPr/>
        </p:nvSpPr>
        <p:spPr>
          <a:xfrm>
            <a:off x="684360" y="260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4. Draw in arrows for all the reactions you have met and label with reagents and conditions. Use a red colour to show oxidations and a blue colour for red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6300720" y="105696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2340000" y="113004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3492360" y="297828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492360" y="3357720"/>
            <a:ext cx="1008360" cy="44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reeform 34"/>
          <p:cNvSpPr/>
          <p:nvPr/>
        </p:nvSpPr>
        <p:spPr>
          <a:xfrm flipH="1" flipV="1">
            <a:off x="7162920" y="914400"/>
            <a:ext cx="1218960" cy="196704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6172200" y="841320"/>
            <a:ext cx="990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2340000" y="86508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3492360" y="299736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3492360" y="3357720"/>
            <a:ext cx="1008360" cy="44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23"/>
          <p:cNvSpPr/>
          <p:nvPr/>
        </p:nvSpPr>
        <p:spPr>
          <a:xfrm>
            <a:off x="7236000" y="3068640"/>
            <a:ext cx="106812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5"/>
          <p:cNvSpPr/>
          <p:nvPr/>
        </p:nvSpPr>
        <p:spPr>
          <a:xfrm flipV="1">
            <a:off x="7020000" y="42825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6"/>
          <p:cNvSpPr/>
          <p:nvPr/>
        </p:nvSpPr>
        <p:spPr>
          <a:xfrm>
            <a:off x="738036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7"/>
          <p:cNvSpPr/>
          <p:nvPr/>
        </p:nvSpPr>
        <p:spPr>
          <a:xfrm>
            <a:off x="5580000" y="209556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>
            <a:off x="6804000" y="3068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>
            <a:off x="3203640" y="1844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>
            <a:off x="1258920" y="3122640"/>
            <a:ext cx="108108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V="1">
            <a:off x="2700360" y="4220640"/>
            <a:ext cx="71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6"/>
          <p:cNvSpPr/>
          <p:nvPr/>
        </p:nvSpPr>
        <p:spPr>
          <a:xfrm>
            <a:off x="3203640" y="299736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7"/>
          <p:cNvSpPr/>
          <p:nvPr/>
        </p:nvSpPr>
        <p:spPr>
          <a:xfrm>
            <a:off x="752472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8"/>
          <p:cNvSpPr/>
          <p:nvPr/>
        </p:nvSpPr>
        <p:spPr>
          <a:xfrm>
            <a:off x="1835280" y="279396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9"/>
          <p:cNvSpPr/>
          <p:nvPr/>
        </p:nvSpPr>
        <p:spPr>
          <a:xfrm>
            <a:off x="1463760" y="1916280"/>
            <a:ext cx="876240" cy="21603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40"/>
          <p:cNvSpPr/>
          <p:nvPr/>
        </p:nvSpPr>
        <p:spPr>
          <a:xfrm>
            <a:off x="420840" y="981000"/>
            <a:ext cx="1919160" cy="315144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1"/>
          <p:cNvSpPr/>
          <p:nvPr/>
        </p:nvSpPr>
        <p:spPr>
          <a:xfrm>
            <a:off x="119160" y="1844640"/>
            <a:ext cx="2220840" cy="253224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42"/>
          <p:cNvSpPr/>
          <p:nvPr/>
        </p:nvSpPr>
        <p:spPr>
          <a:xfrm>
            <a:off x="3132000" y="1960560"/>
            <a:ext cx="3168720" cy="122400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3"/>
          <p:cNvSpPr/>
          <p:nvPr/>
        </p:nvSpPr>
        <p:spPr>
          <a:xfrm>
            <a:off x="3348000" y="1484280"/>
            <a:ext cx="100800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distil off 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4"/>
          <p:cNvSpPr/>
          <p:nvPr/>
        </p:nvSpPr>
        <p:spPr>
          <a:xfrm>
            <a:off x="5148360" y="1916280"/>
            <a:ext cx="72072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5"/>
          <p:cNvSpPr/>
          <p:nvPr/>
        </p:nvSpPr>
        <p:spPr>
          <a:xfrm>
            <a:off x="7956720" y="1689840"/>
            <a:ext cx="792000" cy="325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6"/>
          <p:cNvSpPr/>
          <p:nvPr/>
        </p:nvSpPr>
        <p:spPr>
          <a:xfrm>
            <a:off x="8244000" y="520632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7"/>
          <p:cNvSpPr/>
          <p:nvPr/>
        </p:nvSpPr>
        <p:spPr>
          <a:xfrm>
            <a:off x="7812000" y="383796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8"/>
          <p:cNvSpPr/>
          <p:nvPr/>
        </p:nvSpPr>
        <p:spPr>
          <a:xfrm flipH="1" flipV="1">
            <a:off x="3276360" y="907920"/>
            <a:ext cx="28954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9"/>
          <p:cNvSpPr/>
          <p:nvPr/>
        </p:nvSpPr>
        <p:spPr>
          <a:xfrm>
            <a:off x="4140360" y="692280"/>
            <a:ext cx="1008000" cy="419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0"/>
          <p:cNvSpPr/>
          <p:nvPr/>
        </p:nvSpPr>
        <p:spPr>
          <a:xfrm>
            <a:off x="4140360" y="270828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2"/>
          <p:cNvSpPr/>
          <p:nvPr/>
        </p:nvSpPr>
        <p:spPr>
          <a:xfrm>
            <a:off x="3492360" y="486900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53"/>
          <p:cNvSpPr/>
          <p:nvPr/>
        </p:nvSpPr>
        <p:spPr>
          <a:xfrm>
            <a:off x="755640" y="3103560"/>
            <a:ext cx="1584360" cy="230364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1"/>
          <p:cNvSpPr/>
          <p:nvPr/>
        </p:nvSpPr>
        <p:spPr>
          <a:xfrm>
            <a:off x="755640" y="5084640"/>
            <a:ext cx="1008000" cy="419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4"/>
          <p:cNvSpPr/>
          <p:nvPr/>
        </p:nvSpPr>
        <p:spPr>
          <a:xfrm>
            <a:off x="6372360" y="331416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5"/>
          <p:cNvSpPr/>
          <p:nvPr/>
        </p:nvSpPr>
        <p:spPr>
          <a:xfrm>
            <a:off x="6588000" y="4581360"/>
            <a:ext cx="79236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6"/>
          <p:cNvSpPr/>
          <p:nvPr/>
        </p:nvSpPr>
        <p:spPr>
          <a:xfrm>
            <a:off x="7164360" y="5346000"/>
            <a:ext cx="79236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7"/>
          <p:cNvSpPr/>
          <p:nvPr/>
        </p:nvSpPr>
        <p:spPr>
          <a:xfrm>
            <a:off x="5003640" y="368568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8"/>
          <p:cNvSpPr/>
          <p:nvPr/>
        </p:nvSpPr>
        <p:spPr>
          <a:xfrm>
            <a:off x="6300720" y="1330920"/>
            <a:ext cx="792360" cy="325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9"/>
          <p:cNvSpPr/>
          <p:nvPr/>
        </p:nvSpPr>
        <p:spPr>
          <a:xfrm>
            <a:off x="395280" y="161856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0"/>
          <p:cNvSpPr/>
          <p:nvPr/>
        </p:nvSpPr>
        <p:spPr>
          <a:xfrm>
            <a:off x="1042920" y="4437000"/>
            <a:ext cx="1008000" cy="26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1"/>
          <p:cNvSpPr/>
          <p:nvPr/>
        </p:nvSpPr>
        <p:spPr>
          <a:xfrm>
            <a:off x="34920" y="377928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C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2"/>
          <p:cNvSpPr/>
          <p:nvPr/>
        </p:nvSpPr>
        <p:spPr>
          <a:xfrm>
            <a:off x="2124000" y="4345200"/>
            <a:ext cx="576360" cy="534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e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3"/>
          <p:cNvSpPr/>
          <p:nvPr/>
        </p:nvSpPr>
        <p:spPr>
          <a:xfrm>
            <a:off x="1332000" y="262656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NaO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5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s 3 and 4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6"/>
          <p:cNvSpPr/>
          <p:nvPr/>
        </p:nvSpPr>
        <p:spPr>
          <a:xfrm>
            <a:off x="179280" y="5734080"/>
            <a:ext cx="36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7"/>
          <p:cNvSpPr/>
          <p:nvPr/>
        </p:nvSpPr>
        <p:spPr>
          <a:xfrm>
            <a:off x="1835280" y="5229360"/>
            <a:ext cx="360360" cy="35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8"/>
          <p:cNvSpPr/>
          <p:nvPr/>
        </p:nvSpPr>
        <p:spPr>
          <a:xfrm>
            <a:off x="7740720" y="1197000"/>
            <a:ext cx="36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9"/>
          <p:cNvSpPr/>
          <p:nvPr/>
        </p:nvSpPr>
        <p:spPr>
          <a:xfrm>
            <a:off x="5219640" y="692280"/>
            <a:ext cx="360360" cy="35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0"/>
          <p:cNvSpPr/>
          <p:nvPr/>
        </p:nvSpPr>
        <p:spPr>
          <a:xfrm>
            <a:off x="1332000" y="3357720"/>
            <a:ext cx="360360" cy="35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1"/>
          <p:cNvSpPr/>
          <p:nvPr/>
        </p:nvSpPr>
        <p:spPr>
          <a:xfrm>
            <a:off x="6588000" y="1125360"/>
            <a:ext cx="360360" cy="1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2"/>
          <p:cNvSpPr/>
          <p:nvPr/>
        </p:nvSpPr>
        <p:spPr>
          <a:xfrm>
            <a:off x="611280" y="573408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tion or eli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3"/>
          <p:cNvSpPr/>
          <p:nvPr/>
        </p:nvSpPr>
        <p:spPr>
          <a:xfrm>
            <a:off x="179280" y="6237360"/>
            <a:ext cx="36036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4"/>
          <p:cNvSpPr/>
          <p:nvPr/>
        </p:nvSpPr>
        <p:spPr>
          <a:xfrm>
            <a:off x="684360" y="63086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5"/>
          <p:cNvSpPr/>
          <p:nvPr/>
        </p:nvSpPr>
        <p:spPr>
          <a:xfrm>
            <a:off x="1692360" y="5805360"/>
            <a:ext cx="36036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6"/>
          <p:cNvSpPr/>
          <p:nvPr/>
        </p:nvSpPr>
        <p:spPr>
          <a:xfrm>
            <a:off x="2124000" y="58770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7"/>
          <p:cNvSpPr/>
          <p:nvPr/>
        </p:nvSpPr>
        <p:spPr>
          <a:xfrm>
            <a:off x="1619280" y="6308640"/>
            <a:ext cx="360360" cy="358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8"/>
          <p:cNvSpPr/>
          <p:nvPr/>
        </p:nvSpPr>
        <p:spPr>
          <a:xfrm>
            <a:off x="2050920" y="638172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9"/>
          <p:cNvSpPr/>
          <p:nvPr/>
        </p:nvSpPr>
        <p:spPr>
          <a:xfrm>
            <a:off x="2556000" y="4941720"/>
            <a:ext cx="288720" cy="18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80"/>
          <p:cNvSpPr/>
          <p:nvPr/>
        </p:nvSpPr>
        <p:spPr>
          <a:xfrm flipH="1">
            <a:off x="2987280" y="4221000"/>
            <a:ext cx="144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1"/>
          <p:cNvSpPr/>
          <p:nvPr/>
        </p:nvSpPr>
        <p:spPr>
          <a:xfrm>
            <a:off x="2916360" y="4373640"/>
            <a:ext cx="503280" cy="34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OH in 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82"/>
          <p:cNvSpPr/>
          <p:nvPr/>
        </p:nvSpPr>
        <p:spPr>
          <a:xfrm>
            <a:off x="2171880" y="3005280"/>
            <a:ext cx="392040" cy="237636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reeform 41"/>
          <p:cNvSpPr/>
          <p:nvPr/>
        </p:nvSpPr>
        <p:spPr>
          <a:xfrm>
            <a:off x="2171880" y="3267000"/>
            <a:ext cx="392040" cy="222408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"/>
          <p:cNvSpPr/>
          <p:nvPr/>
        </p:nvSpPr>
        <p:spPr>
          <a:xfrm>
            <a:off x="3348000" y="3214800"/>
            <a:ext cx="863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3348000" y="515952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"/>
          <p:cNvSpPr/>
          <p:nvPr/>
        </p:nvSpPr>
        <p:spPr>
          <a:xfrm>
            <a:off x="6804000" y="13431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6"/>
          <p:cNvSpPr/>
          <p:nvPr/>
        </p:nvSpPr>
        <p:spPr>
          <a:xfrm>
            <a:off x="7236000" y="3387600"/>
            <a:ext cx="1035000" cy="2227320"/>
          </a:xfrm>
          <a:custGeom>
            <a:avLst/>
            <a:gdLst/>
            <a:ahLst/>
            <a:rect l="l" t="t" r="r" b="b"/>
            <a:pathLst>
              <a:path w="652" h="1403">
                <a:moveTo>
                  <a:pt x="104" y="1403"/>
                </a:moveTo>
                <a:cubicBezTo>
                  <a:pt x="191" y="1283"/>
                  <a:pt x="652" y="915"/>
                  <a:pt x="635" y="681"/>
                </a:cubicBezTo>
                <a:cubicBezTo>
                  <a:pt x="618" y="447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7"/>
          <p:cNvSpPr/>
          <p:nvPr/>
        </p:nvSpPr>
        <p:spPr>
          <a:xfrm flipV="1">
            <a:off x="7020000" y="47084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8"/>
          <p:cNvSpPr/>
          <p:nvPr/>
        </p:nvSpPr>
        <p:spPr>
          <a:xfrm>
            <a:off x="7389720" y="3287880"/>
            <a:ext cx="162108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9"/>
          <p:cNvSpPr/>
          <p:nvPr/>
        </p:nvSpPr>
        <p:spPr>
          <a:xfrm>
            <a:off x="5570640" y="242424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>
            <a:off x="6804000" y="3400560"/>
            <a:ext cx="0" cy="72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>
            <a:off x="5086440" y="2639880"/>
            <a:ext cx="1214280" cy="71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>
            <a:off x="3276720" y="2135160"/>
            <a:ext cx="790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3"/>
          <p:cNvSpPr/>
          <p:nvPr/>
        </p:nvSpPr>
        <p:spPr>
          <a:xfrm>
            <a:off x="1258920" y="3413160"/>
            <a:ext cx="108108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 flipV="1">
            <a:off x="2700360" y="4564080"/>
            <a:ext cx="71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5"/>
          <p:cNvSpPr/>
          <p:nvPr/>
        </p:nvSpPr>
        <p:spPr>
          <a:xfrm flipH="1" flipV="1" rot="668400">
            <a:off x="7505280" y="1394640"/>
            <a:ext cx="714600" cy="180540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6"/>
          <p:cNvSpPr/>
          <p:nvPr/>
        </p:nvSpPr>
        <p:spPr>
          <a:xfrm>
            <a:off x="3317760" y="3262320"/>
            <a:ext cx="1297080" cy="292896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7"/>
          <p:cNvSpPr/>
          <p:nvPr/>
        </p:nvSpPr>
        <p:spPr>
          <a:xfrm>
            <a:off x="7543800" y="4511520"/>
            <a:ext cx="514440" cy="187164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8"/>
          <p:cNvSpPr/>
          <p:nvPr/>
        </p:nvSpPr>
        <p:spPr>
          <a:xfrm>
            <a:off x="1835280" y="289404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9"/>
          <p:cNvSpPr/>
          <p:nvPr/>
        </p:nvSpPr>
        <p:spPr>
          <a:xfrm>
            <a:off x="1547640" y="2308320"/>
            <a:ext cx="792360" cy="208764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0"/>
          <p:cNvSpPr/>
          <p:nvPr/>
        </p:nvSpPr>
        <p:spPr>
          <a:xfrm>
            <a:off x="420840" y="1373040"/>
            <a:ext cx="1919160" cy="306720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1"/>
          <p:cNvSpPr/>
          <p:nvPr/>
        </p:nvSpPr>
        <p:spPr>
          <a:xfrm rot="21337800">
            <a:off x="42840" y="2282760"/>
            <a:ext cx="2220840" cy="246060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2"/>
          <p:cNvSpPr/>
          <p:nvPr/>
        </p:nvSpPr>
        <p:spPr>
          <a:xfrm>
            <a:off x="3213000" y="2308320"/>
            <a:ext cx="3078360" cy="114912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3"/>
          <p:cNvSpPr/>
          <p:nvPr/>
        </p:nvSpPr>
        <p:spPr>
          <a:xfrm flipH="1">
            <a:off x="3616200" y="1198440"/>
            <a:ext cx="25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24"/>
          <p:cNvSpPr/>
          <p:nvPr/>
        </p:nvSpPr>
        <p:spPr>
          <a:xfrm>
            <a:off x="746280" y="3413160"/>
            <a:ext cx="1584000" cy="230328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25"/>
          <p:cNvGraphicFramePr/>
          <p:nvPr/>
        </p:nvGraphicFramePr>
        <p:xfrm>
          <a:off x="2349360" y="3738600"/>
          <a:ext cx="1008360" cy="8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9360" y="3738600"/>
                    <a:ext cx="1008360" cy="8240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9" name="Object 26"/>
          <p:cNvGraphicFramePr/>
          <p:nvPr/>
        </p:nvGraphicFramePr>
        <p:xfrm>
          <a:off x="4546440" y="3693960"/>
          <a:ext cx="51120" cy="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3693960"/>
                    <a:ext cx="51120" cy="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27"/>
          <p:cNvGraphicFramePr/>
          <p:nvPr/>
        </p:nvGraphicFramePr>
        <p:xfrm>
          <a:off x="611280" y="3143160"/>
          <a:ext cx="1008000" cy="26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2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143160"/>
                    <a:ext cx="1008000" cy="260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3" name="Object 29"/>
          <p:cNvGraphicFramePr/>
          <p:nvPr/>
        </p:nvGraphicFramePr>
        <p:xfrm>
          <a:off x="2340000" y="2782800"/>
          <a:ext cx="1008000" cy="47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4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2782800"/>
                    <a:ext cx="1008000" cy="474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5" name="Object 30"/>
          <p:cNvGraphicFramePr/>
          <p:nvPr/>
        </p:nvGraphicFramePr>
        <p:xfrm>
          <a:off x="2185920" y="2063880"/>
          <a:ext cx="1079640" cy="23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6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85920" y="2063880"/>
                    <a:ext cx="1079640" cy="239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7" name="Object 31"/>
          <p:cNvGraphicFramePr/>
          <p:nvPr/>
        </p:nvGraphicFramePr>
        <p:xfrm>
          <a:off x="2050920" y="1055520"/>
          <a:ext cx="1559160" cy="30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8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1055520"/>
                    <a:ext cx="1559160" cy="304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9" name="Object 32"/>
          <p:cNvGraphicFramePr/>
          <p:nvPr/>
        </p:nvGraphicFramePr>
        <p:xfrm>
          <a:off x="4067280" y="2424240"/>
          <a:ext cx="1009440" cy="528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0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424240"/>
                    <a:ext cx="1009440" cy="528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1" name="Object 33"/>
          <p:cNvGraphicFramePr/>
          <p:nvPr/>
        </p:nvGraphicFramePr>
        <p:xfrm>
          <a:off x="4211640" y="4272120"/>
          <a:ext cx="865080" cy="598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2" name="Object 3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4272120"/>
                    <a:ext cx="865080" cy="5983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3" name="Object 35"/>
          <p:cNvGraphicFramePr/>
          <p:nvPr/>
        </p:nvGraphicFramePr>
        <p:xfrm>
          <a:off x="6300720" y="2206800"/>
          <a:ext cx="1440000" cy="510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54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2206800"/>
                    <a:ext cx="1440000" cy="510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5" name="Object 36"/>
          <p:cNvGraphicFramePr/>
          <p:nvPr/>
        </p:nvGraphicFramePr>
        <p:xfrm>
          <a:off x="6300720" y="2855880"/>
          <a:ext cx="1079640" cy="531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56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2855880"/>
                    <a:ext cx="1079640" cy="5317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7" name="Object 37"/>
          <p:cNvGraphicFramePr/>
          <p:nvPr/>
        </p:nvGraphicFramePr>
        <p:xfrm>
          <a:off x="5950080" y="4141800"/>
          <a:ext cx="1584360" cy="552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8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50080" y="4141800"/>
                    <a:ext cx="1584360" cy="552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9" name="Object 38"/>
          <p:cNvGraphicFramePr/>
          <p:nvPr/>
        </p:nvGraphicFramePr>
        <p:xfrm>
          <a:off x="6300720" y="5159520"/>
          <a:ext cx="1096920" cy="566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60" name="Object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0720" y="5159520"/>
                    <a:ext cx="1096920" cy="566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1" name="Object 39"/>
          <p:cNvGraphicFramePr/>
          <p:nvPr/>
        </p:nvGraphicFramePr>
        <p:xfrm>
          <a:off x="5508720" y="6240600"/>
          <a:ext cx="2095560" cy="428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62" name="Object 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08720" y="6240600"/>
                    <a:ext cx="2095560" cy="4284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3" name="Text Box 40"/>
          <p:cNvSpPr/>
          <p:nvPr/>
        </p:nvSpPr>
        <p:spPr>
          <a:xfrm>
            <a:off x="684360" y="260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1. Highlight all oxidations red, reductions blue, substitutions green and additions or eliminations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Object 28"/>
          <p:cNvGraphicFramePr/>
          <p:nvPr/>
        </p:nvGraphicFramePr>
        <p:xfrm>
          <a:off x="2340000" y="5519880"/>
          <a:ext cx="949320" cy="222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65" name="Object 2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40000" y="5519880"/>
                    <a:ext cx="949320" cy="222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6" name="Object 1"/>
          <p:cNvGraphicFramePr/>
          <p:nvPr/>
        </p:nvGraphicFramePr>
        <p:xfrm>
          <a:off x="6172200" y="1012680"/>
          <a:ext cx="1509840" cy="330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67" name="Object 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172200" y="1012680"/>
                    <a:ext cx="1509840" cy="330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3:23:13Z</dcterms:created>
  <dc:creator>TJolliff</dc:creator>
  <dc:description/>
  <dc:language>en-US</dc:language>
  <cp:lastModifiedBy>Robert Smith</cp:lastModifiedBy>
  <dcterms:modified xsi:type="dcterms:W3CDTF">2016-04-18T08:28:20Z</dcterms:modified>
  <cp:revision>54</cp:revision>
  <dc:subject/>
  <dc:title>Organic reactions</dc:title>
</cp:coreProperties>
</file>