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5FB-0BFD-4762-8A17-DB531A9A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681-BD9F-4516-A3DB-557FF38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92C-0109-42EE-BC6F-9FDAE1F8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8C7-3A38-4189-A804-B4691D6B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6CC-2C40-4B37-9FFE-B89952B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130-07E5-4034-8416-9C38ADF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3F3-51C0-48F7-A0BE-253DC5DE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681-1E18-4239-B08B-5A1C37B2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B32-2682-4057-A96A-957EA19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C06-AC45-4A84-B667-6695DC3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6DA-1F70-43B3-9FA0-8B4E1A8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769-01E8-49FA-A9F5-FAC1AB9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C93-0846-4C94-A87C-080235D7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ganic rea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16"/>
          <p:cNvSpPr/>
          <p:nvPr/>
        </p:nvSpPr>
        <p:spPr>
          <a:xfrm>
            <a:off x="3357720" y="2949480"/>
            <a:ext cx="993600" cy="11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6804000" y="11984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1"/>
          <p:cNvSpPr/>
          <p:nvPr/>
        </p:nvSpPr>
        <p:spPr>
          <a:xfrm>
            <a:off x="7236000" y="327168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2"/>
          <p:cNvSpPr/>
          <p:nvPr/>
        </p:nvSpPr>
        <p:spPr>
          <a:xfrm flipV="1">
            <a:off x="7020000" y="45828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3"/>
          <p:cNvSpPr/>
          <p:nvPr/>
        </p:nvSpPr>
        <p:spPr>
          <a:xfrm>
            <a:off x="7399440" y="31431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4"/>
          <p:cNvSpPr/>
          <p:nvPr/>
        </p:nvSpPr>
        <p:spPr>
          <a:xfrm>
            <a:off x="5560920" y="2403360"/>
            <a:ext cx="720720" cy="302436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>
            <a:off x="6804000" y="3265560"/>
            <a:ext cx="0" cy="722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5076720" y="2495520"/>
            <a:ext cx="1224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7"/>
          <p:cNvSpPr/>
          <p:nvPr/>
        </p:nvSpPr>
        <p:spPr>
          <a:xfrm>
            <a:off x="3276720" y="1990800"/>
            <a:ext cx="79056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"/>
          <p:cNvSpPr/>
          <p:nvPr/>
        </p:nvSpPr>
        <p:spPr>
          <a:xfrm>
            <a:off x="1249200" y="3278160"/>
            <a:ext cx="1081080" cy="208584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9"/>
          <p:cNvSpPr/>
          <p:nvPr/>
        </p:nvSpPr>
        <p:spPr>
          <a:xfrm flipV="1">
            <a:off x="2700360" y="4438440"/>
            <a:ext cx="71280" cy="93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0"/>
          <p:cNvSpPr/>
          <p:nvPr/>
        </p:nvSpPr>
        <p:spPr>
          <a:xfrm>
            <a:off x="2163600" y="3132000"/>
            <a:ext cx="39240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1"/>
          <p:cNvSpPr/>
          <p:nvPr/>
        </p:nvSpPr>
        <p:spPr>
          <a:xfrm>
            <a:off x="3203640" y="31431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2"/>
          <p:cNvSpPr/>
          <p:nvPr/>
        </p:nvSpPr>
        <p:spPr>
          <a:xfrm>
            <a:off x="7543800" y="436716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3"/>
          <p:cNvSpPr/>
          <p:nvPr/>
        </p:nvSpPr>
        <p:spPr>
          <a:xfrm>
            <a:off x="1825560" y="294012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4"/>
          <p:cNvSpPr/>
          <p:nvPr/>
        </p:nvSpPr>
        <p:spPr>
          <a:xfrm rot="21438600">
            <a:off x="1437840" y="212724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5"/>
          <p:cNvSpPr/>
          <p:nvPr/>
        </p:nvSpPr>
        <p:spPr>
          <a:xfrm rot="21282000">
            <a:off x="533520" y="1212480"/>
            <a:ext cx="163008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6"/>
          <p:cNvSpPr/>
          <p:nvPr/>
        </p:nvSpPr>
        <p:spPr>
          <a:xfrm rot="21351000">
            <a:off x="175680" y="206208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7"/>
          <p:cNvSpPr/>
          <p:nvPr/>
        </p:nvSpPr>
        <p:spPr>
          <a:xfrm>
            <a:off x="3203640" y="2135160"/>
            <a:ext cx="3078000" cy="11494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 flipH="1" flipV="1">
            <a:off x="3635280" y="1054080"/>
            <a:ext cx="2765520" cy="64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47"/>
          <p:cNvSpPr/>
          <p:nvPr/>
        </p:nvSpPr>
        <p:spPr>
          <a:xfrm>
            <a:off x="900000" y="3287880"/>
            <a:ext cx="1440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9"/>
          <p:cNvGraphicFramePr/>
          <p:nvPr/>
        </p:nvGraphicFramePr>
        <p:xfrm>
          <a:off x="2340000" y="3646440"/>
          <a:ext cx="93492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646440"/>
                    <a:ext cx="934920" cy="763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1" name="Object 61"/>
          <p:cNvGraphicFramePr/>
          <p:nvPr/>
        </p:nvGraphicFramePr>
        <p:xfrm>
          <a:off x="611280" y="2998800"/>
          <a:ext cx="100800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998800"/>
                    <a:ext cx="1008000" cy="260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3" name="Object 62"/>
          <p:cNvGraphicFramePr/>
          <p:nvPr/>
        </p:nvGraphicFramePr>
        <p:xfrm>
          <a:off x="2340000" y="5375160"/>
          <a:ext cx="949320" cy="2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375160"/>
                    <a:ext cx="949320" cy="222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5" name="Object 63"/>
          <p:cNvGraphicFramePr/>
          <p:nvPr/>
        </p:nvGraphicFramePr>
        <p:xfrm>
          <a:off x="2340000" y="2638440"/>
          <a:ext cx="10080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638440"/>
                    <a:ext cx="1008000" cy="474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7" name="Object 64"/>
          <p:cNvGraphicFramePr/>
          <p:nvPr/>
        </p:nvGraphicFramePr>
        <p:xfrm>
          <a:off x="2195640" y="1919160"/>
          <a:ext cx="107928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919160"/>
                    <a:ext cx="1079280" cy="239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9" name="Object 65"/>
          <p:cNvGraphicFramePr/>
          <p:nvPr/>
        </p:nvGraphicFramePr>
        <p:xfrm>
          <a:off x="2050920" y="91116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911160"/>
                    <a:ext cx="1559160" cy="304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1" name="Object 66"/>
          <p:cNvGraphicFramePr/>
          <p:nvPr/>
        </p:nvGraphicFramePr>
        <p:xfrm>
          <a:off x="4067280" y="2279520"/>
          <a:ext cx="100944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Object 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279520"/>
                    <a:ext cx="1009440" cy="52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Object 67"/>
          <p:cNvGraphicFramePr/>
          <p:nvPr/>
        </p:nvGraphicFramePr>
        <p:xfrm>
          <a:off x="4211640" y="4127400"/>
          <a:ext cx="86508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Object 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127400"/>
                    <a:ext cx="865080" cy="598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5" name="Object 69"/>
          <p:cNvGraphicFramePr/>
          <p:nvPr/>
        </p:nvGraphicFramePr>
        <p:xfrm>
          <a:off x="6300720" y="2062080"/>
          <a:ext cx="144000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Object 6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62080"/>
                    <a:ext cx="1440000" cy="511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7" name="Object 70"/>
          <p:cNvGraphicFramePr/>
          <p:nvPr/>
        </p:nvGraphicFramePr>
        <p:xfrm>
          <a:off x="6300720" y="271152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8" name="Object 7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711520"/>
                    <a:ext cx="1079640" cy="5317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9" name="Object 71"/>
          <p:cNvGraphicFramePr/>
          <p:nvPr/>
        </p:nvGraphicFramePr>
        <p:xfrm>
          <a:off x="5940360" y="4006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0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006800"/>
                    <a:ext cx="1584360" cy="5526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1" name="Object 72"/>
          <p:cNvGraphicFramePr/>
          <p:nvPr/>
        </p:nvGraphicFramePr>
        <p:xfrm>
          <a:off x="6300720" y="5014800"/>
          <a:ext cx="109692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2" name="Object 7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014800"/>
                    <a:ext cx="1096920" cy="5670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3" name="Object 73"/>
          <p:cNvGraphicFramePr/>
          <p:nvPr/>
        </p:nvGraphicFramePr>
        <p:xfrm>
          <a:off x="5508720" y="6095880"/>
          <a:ext cx="2095560" cy="428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4" name="Object 7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095880"/>
                    <a:ext cx="2095560" cy="428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5" name="Text Box 74"/>
          <p:cNvSpPr/>
          <p:nvPr/>
        </p:nvSpPr>
        <p:spPr>
          <a:xfrm>
            <a:off x="68436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5"/>
          <p:cNvSpPr/>
          <p:nvPr/>
        </p:nvSpPr>
        <p:spPr>
          <a:xfrm>
            <a:off x="855720" y="3298680"/>
            <a:ext cx="1458720" cy="2352960"/>
          </a:xfrm>
          <a:custGeom>
            <a:avLst/>
            <a:gdLst/>
            <a:ahLst/>
            <a:rect l="l" t="t" r="r" b="b"/>
            <a:pathLst>
              <a:path w="975" h="1577">
                <a:moveTo>
                  <a:pt x="975" y="1448"/>
                </a:moveTo>
                <a:cubicBezTo>
                  <a:pt x="838" y="1429"/>
                  <a:pt x="318" y="1577"/>
                  <a:pt x="159" y="1336"/>
                </a:cubicBezTo>
                <a:cubicBezTo>
                  <a:pt x="0" y="1095"/>
                  <a:pt x="51" y="278"/>
                  <a:pt x="23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6"/>
          <p:cNvSpPr/>
          <p:nvPr/>
        </p:nvSpPr>
        <p:spPr>
          <a:xfrm flipH="1">
            <a:off x="3635280" y="1136520"/>
            <a:ext cx="2765520" cy="61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7"/>
          <p:cNvSpPr/>
          <p:nvPr/>
        </p:nvSpPr>
        <p:spPr>
          <a:xfrm>
            <a:off x="1403280" y="3287880"/>
            <a:ext cx="1027080" cy="205236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9"/>
          <p:cNvSpPr/>
          <p:nvPr/>
        </p:nvSpPr>
        <p:spPr>
          <a:xfrm flipH="1">
            <a:off x="3047760" y="4438800"/>
            <a:ext cx="11160" cy="888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80"/>
          <p:cNvSpPr/>
          <p:nvPr/>
        </p:nvSpPr>
        <p:spPr>
          <a:xfrm flipV="1">
            <a:off x="7451640" y="1227960"/>
            <a:ext cx="819360" cy="176868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81"/>
          <p:cNvSpPr/>
          <p:nvPr/>
        </p:nvSpPr>
        <p:spPr>
          <a:xfrm flipH="1" flipV="1" rot="663000">
            <a:off x="7507800" y="1309680"/>
            <a:ext cx="1027080" cy="18622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6400800" y="8683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00800" y="868320"/>
                    <a:ext cx="1509840" cy="3301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5"/>
          <p:cNvGraphicFramePr/>
          <p:nvPr/>
        </p:nvGraphicFramePr>
        <p:xfrm>
          <a:off x="2340000" y="35002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93600" cy="811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Object 27"/>
          <p:cNvGraphicFramePr/>
          <p:nvPr/>
        </p:nvGraphicFramePr>
        <p:xfrm>
          <a:off x="611280" y="2852640"/>
          <a:ext cx="106992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852640"/>
                    <a:ext cx="1069920" cy="27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Object 28"/>
          <p:cNvGraphicFramePr/>
          <p:nvPr/>
        </p:nvGraphicFramePr>
        <p:xfrm>
          <a:off x="2340000" y="522936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229360"/>
                    <a:ext cx="1008000" cy="236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Object 29"/>
          <p:cNvGraphicFramePr/>
          <p:nvPr/>
        </p:nvGraphicFramePr>
        <p:xfrm>
          <a:off x="2340000" y="24922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69920" cy="503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Object 30"/>
          <p:cNvGraphicFramePr/>
          <p:nvPr/>
        </p:nvGraphicFramePr>
        <p:xfrm>
          <a:off x="2195640" y="17733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773360"/>
                    <a:ext cx="1145880" cy="253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Object 31"/>
          <p:cNvGraphicFramePr/>
          <p:nvPr/>
        </p:nvGraphicFramePr>
        <p:xfrm>
          <a:off x="2050920" y="765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656000" cy="324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Object 32"/>
          <p:cNvGraphicFramePr/>
          <p:nvPr/>
        </p:nvGraphicFramePr>
        <p:xfrm>
          <a:off x="4067280" y="21337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7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71360" cy="560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33"/>
          <p:cNvGraphicFramePr/>
          <p:nvPr/>
        </p:nvGraphicFramePr>
        <p:xfrm>
          <a:off x="4211640" y="39816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919080" cy="63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0" name="Object 35"/>
          <p:cNvGraphicFramePr/>
          <p:nvPr/>
        </p:nvGraphicFramePr>
        <p:xfrm>
          <a:off x="6300720" y="16686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1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668600"/>
                    <a:ext cx="1528920" cy="542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2" name="Object 36"/>
          <p:cNvGraphicFramePr/>
          <p:nvPr/>
        </p:nvGraphicFramePr>
        <p:xfrm>
          <a:off x="6300720" y="256536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56536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4" name="Object 37"/>
          <p:cNvGraphicFramePr/>
          <p:nvPr/>
        </p:nvGraphicFramePr>
        <p:xfrm>
          <a:off x="5940360" y="38606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5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682640" cy="587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6" name="Object 38"/>
          <p:cNvGraphicFramePr/>
          <p:nvPr/>
        </p:nvGraphicFramePr>
        <p:xfrm>
          <a:off x="6300720" y="486900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7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165320" cy="601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8" name="Object 39"/>
          <p:cNvGraphicFramePr/>
          <p:nvPr/>
        </p:nvGraphicFramePr>
        <p:xfrm>
          <a:off x="5508720" y="59500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9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225520" cy="455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0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Write the correct n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th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Object 1"/>
          <p:cNvGraphicFramePr/>
          <p:nvPr/>
        </p:nvGraphicFramePr>
        <p:xfrm>
          <a:off x="6156360" y="98100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52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56360" y="98100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6300720" y="4081320"/>
            <a:ext cx="13194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300720" y="285732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6248520" y="602424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300720" y="5089320"/>
            <a:ext cx="14716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18"/>
          <p:cNvGraphicFramePr/>
          <p:nvPr/>
        </p:nvGraphicFramePr>
        <p:xfrm>
          <a:off x="2411280" y="4292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292640"/>
                    <a:ext cx="9939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19"/>
          <p:cNvGraphicFramePr/>
          <p:nvPr/>
        </p:nvGraphicFramePr>
        <p:xfrm>
          <a:off x="611280" y="35020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50208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0"/>
          <p:cNvGraphicFramePr/>
          <p:nvPr/>
        </p:nvGraphicFramePr>
        <p:xfrm>
          <a:off x="2340000" y="587844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878440"/>
                    <a:ext cx="10080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1"/>
          <p:cNvGraphicFramePr/>
          <p:nvPr/>
        </p:nvGraphicFramePr>
        <p:xfrm>
          <a:off x="2411280" y="2997360"/>
          <a:ext cx="107028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997360"/>
                    <a:ext cx="10702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22"/>
          <p:cNvGraphicFramePr/>
          <p:nvPr/>
        </p:nvGraphicFramePr>
        <p:xfrm>
          <a:off x="2124000" y="2060640"/>
          <a:ext cx="114624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2060640"/>
                    <a:ext cx="11462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23"/>
          <p:cNvGraphicFramePr/>
          <p:nvPr/>
        </p:nvGraphicFramePr>
        <p:xfrm>
          <a:off x="1908000" y="1197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0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11970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4"/>
          <p:cNvGraphicFramePr/>
          <p:nvPr/>
        </p:nvGraphicFramePr>
        <p:xfrm>
          <a:off x="4284720" y="2492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2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4720" y="2492280"/>
                    <a:ext cx="1071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5"/>
          <p:cNvGraphicFramePr/>
          <p:nvPr/>
        </p:nvGraphicFramePr>
        <p:xfrm>
          <a:off x="4427640" y="46530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4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4653000"/>
                    <a:ext cx="91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6156360" y="2205000"/>
          <a:ext cx="152856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2205000"/>
                    <a:ext cx="1528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28"/>
          <p:cNvGraphicFramePr/>
          <p:nvPr/>
        </p:nvGraphicFramePr>
        <p:xfrm>
          <a:off x="6300720" y="321480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21480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29"/>
          <p:cNvGraphicFramePr/>
          <p:nvPr/>
        </p:nvGraphicFramePr>
        <p:xfrm>
          <a:off x="6084720" y="4437000"/>
          <a:ext cx="168300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90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437000"/>
                    <a:ext cx="16830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0"/>
          <p:cNvGraphicFramePr/>
          <p:nvPr/>
        </p:nvGraphicFramePr>
        <p:xfrm>
          <a:off x="6443640" y="530064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2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43640" y="5300640"/>
                    <a:ext cx="1165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31"/>
          <p:cNvGraphicFramePr/>
          <p:nvPr/>
        </p:nvGraphicFramePr>
        <p:xfrm>
          <a:off x="5943600" y="6324480"/>
          <a:ext cx="222552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4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43600" y="6324480"/>
                    <a:ext cx="222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1"/>
          <p:cNvGraphicFramePr/>
          <p:nvPr/>
        </p:nvGraphicFramePr>
        <p:xfrm>
          <a:off x="6110280" y="10969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6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10280" y="1096920"/>
                    <a:ext cx="1509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"/>
          <p:cNvSpPr/>
          <p:nvPr/>
        </p:nvSpPr>
        <p:spPr>
          <a:xfrm>
            <a:off x="7236000" y="306864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0"/>
          <p:cNvSpPr/>
          <p:nvPr/>
        </p:nvSpPr>
        <p:spPr>
          <a:xfrm>
            <a:off x="680400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3276720" y="1905120"/>
            <a:ext cx="79056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1258920" y="316080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2700360" y="428292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5"/>
          <p:cNvSpPr/>
          <p:nvPr/>
        </p:nvSpPr>
        <p:spPr>
          <a:xfrm flipH="1" flipV="1" rot="698400">
            <a:off x="7489440" y="1111320"/>
            <a:ext cx="777960" cy="18781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7"/>
          <p:cNvSpPr/>
          <p:nvPr/>
        </p:nvSpPr>
        <p:spPr>
          <a:xfrm>
            <a:off x="7534440" y="4221000"/>
            <a:ext cx="514080" cy="180036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8"/>
          <p:cNvSpPr/>
          <p:nvPr/>
        </p:nvSpPr>
        <p:spPr>
          <a:xfrm>
            <a:off x="1835280" y="25750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"/>
          <p:cNvSpPr/>
          <p:nvPr/>
        </p:nvSpPr>
        <p:spPr>
          <a:xfrm rot="21393600">
            <a:off x="1609200" y="1980720"/>
            <a:ext cx="662040" cy="20955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0"/>
          <p:cNvSpPr/>
          <p:nvPr/>
        </p:nvSpPr>
        <p:spPr>
          <a:xfrm rot="63600">
            <a:off x="485280" y="1063800"/>
            <a:ext cx="1871640" cy="306216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"/>
          <p:cNvSpPr/>
          <p:nvPr/>
        </p:nvSpPr>
        <p:spPr>
          <a:xfrm rot="21361200">
            <a:off x="133200" y="1971720"/>
            <a:ext cx="213372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2"/>
          <p:cNvSpPr/>
          <p:nvPr/>
        </p:nvSpPr>
        <p:spPr>
          <a:xfrm>
            <a:off x="3232080" y="2076480"/>
            <a:ext cx="3078360" cy="10810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3"/>
          <p:cNvSpPr/>
          <p:nvPr/>
        </p:nvSpPr>
        <p:spPr>
          <a:xfrm flipH="1" flipV="1">
            <a:off x="3634920" y="907920"/>
            <a:ext cx="253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4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2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1" name="Object 2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27"/>
          <p:cNvGraphicFramePr/>
          <p:nvPr/>
        </p:nvGraphicFramePr>
        <p:xfrm>
          <a:off x="685800" y="288612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88612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5" name="Object 29"/>
          <p:cNvGraphicFramePr/>
          <p:nvPr/>
        </p:nvGraphicFramePr>
        <p:xfrm>
          <a:off x="2340000" y="249228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7" name="Object 30"/>
          <p:cNvGraphicFramePr/>
          <p:nvPr/>
        </p:nvGraphicFramePr>
        <p:xfrm>
          <a:off x="2209680" y="182880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182880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9" name="Object 3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0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1" name="Object 3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2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3" name="Object 3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4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5" name="Object 3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6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7" name="Object 36"/>
          <p:cNvGraphicFramePr/>
          <p:nvPr/>
        </p:nvGraphicFramePr>
        <p:xfrm>
          <a:off x="6324480" y="251460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8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5146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9" name="Object 3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0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1" name="Object 3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42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3" name="Object 3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44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5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41"/>
          <p:cNvSpPr/>
          <p:nvPr/>
        </p:nvSpPr>
        <p:spPr>
          <a:xfrm>
            <a:off x="320364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2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4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9" name="Freeform 42"/>
          <p:cNvSpPr/>
          <p:nvPr/>
        </p:nvSpPr>
        <p:spPr>
          <a:xfrm>
            <a:off x="1981080" y="2971800"/>
            <a:ext cx="609840" cy="22575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"/>
          <p:cNvGraphicFramePr/>
          <p:nvPr/>
        </p:nvGraphicFramePr>
        <p:xfrm>
          <a:off x="6183360" y="716040"/>
          <a:ext cx="1509840" cy="330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51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83360" y="71604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Object 2"/>
          <p:cNvGraphicFramePr/>
          <p:nvPr/>
        </p:nvGraphicFramePr>
        <p:xfrm>
          <a:off x="2340000" y="38368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836880"/>
                    <a:ext cx="9936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3"/>
          <p:cNvGraphicFramePr/>
          <p:nvPr/>
        </p:nvGraphicFramePr>
        <p:xfrm>
          <a:off x="611280" y="318924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18924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4"/>
          <p:cNvGraphicFramePr/>
          <p:nvPr/>
        </p:nvGraphicFramePr>
        <p:xfrm>
          <a:off x="2340000" y="5565600"/>
          <a:ext cx="1008000" cy="2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565600"/>
                    <a:ext cx="1008000" cy="2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5"/>
          <p:cNvGraphicFramePr/>
          <p:nvPr/>
        </p:nvGraphicFramePr>
        <p:xfrm>
          <a:off x="2340000" y="28288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828880"/>
                    <a:ext cx="106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6"/>
          <p:cNvGraphicFramePr/>
          <p:nvPr/>
        </p:nvGraphicFramePr>
        <p:xfrm>
          <a:off x="2195640" y="21099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109960"/>
                    <a:ext cx="114588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7"/>
          <p:cNvGraphicFramePr/>
          <p:nvPr/>
        </p:nvGraphicFramePr>
        <p:xfrm>
          <a:off x="2050920" y="11016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016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8"/>
          <p:cNvGraphicFramePr/>
          <p:nvPr/>
        </p:nvGraphicFramePr>
        <p:xfrm>
          <a:off x="4067280" y="24703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70320"/>
                    <a:ext cx="10713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9"/>
          <p:cNvGraphicFramePr/>
          <p:nvPr/>
        </p:nvGraphicFramePr>
        <p:xfrm>
          <a:off x="4211640" y="4317840"/>
          <a:ext cx="919080" cy="63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317840"/>
                    <a:ext cx="919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11"/>
          <p:cNvGraphicFramePr/>
          <p:nvPr/>
        </p:nvGraphicFramePr>
        <p:xfrm>
          <a:off x="6300720" y="20430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4300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2"/>
          <p:cNvGraphicFramePr/>
          <p:nvPr/>
        </p:nvGraphicFramePr>
        <p:xfrm>
          <a:off x="6300720" y="31399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71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13992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3"/>
          <p:cNvGraphicFramePr/>
          <p:nvPr/>
        </p:nvGraphicFramePr>
        <p:xfrm>
          <a:off x="5940360" y="41972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7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197240"/>
                    <a:ext cx="16826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4"/>
          <p:cNvGraphicFramePr/>
          <p:nvPr/>
        </p:nvGraphicFramePr>
        <p:xfrm>
          <a:off x="6300720" y="5205240"/>
          <a:ext cx="1165320" cy="601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7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205240"/>
                    <a:ext cx="11653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5"/>
          <p:cNvGraphicFramePr/>
          <p:nvPr/>
        </p:nvGraphicFramePr>
        <p:xfrm>
          <a:off x="5508720" y="62866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7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86680"/>
                    <a:ext cx="222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17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"/>
          <p:cNvGraphicFramePr/>
          <p:nvPr/>
        </p:nvGraphicFramePr>
        <p:xfrm>
          <a:off x="6227640" y="1125360"/>
          <a:ext cx="1509840" cy="330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80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27640" y="1125360"/>
                    <a:ext cx="1509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reeform 78"/>
          <p:cNvSpPr/>
          <p:nvPr/>
        </p:nvSpPr>
        <p:spPr>
          <a:xfrm flipH="1" flipV="1">
            <a:off x="7451640" y="944640"/>
            <a:ext cx="930240" cy="182232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7"/>
          <p:cNvSpPr/>
          <p:nvPr/>
        </p:nvSpPr>
        <p:spPr>
          <a:xfrm>
            <a:off x="7236000" y="3094200"/>
            <a:ext cx="1035000" cy="222696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7389720" y="299736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0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6804000" y="306864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3276720" y="184464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1258920" y="314172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2700360" y="427356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6"/>
          <p:cNvSpPr/>
          <p:nvPr/>
        </p:nvSpPr>
        <p:spPr>
          <a:xfrm>
            <a:off x="2009880" y="2987640"/>
            <a:ext cx="39204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7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8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9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20"/>
          <p:cNvSpPr/>
          <p:nvPr/>
        </p:nvSpPr>
        <p:spPr>
          <a:xfrm>
            <a:off x="1538280" y="2017800"/>
            <a:ext cx="792000" cy="19159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21"/>
          <p:cNvSpPr/>
          <p:nvPr/>
        </p:nvSpPr>
        <p:spPr>
          <a:xfrm rot="21283800">
            <a:off x="563400" y="1118880"/>
            <a:ext cx="163044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22"/>
          <p:cNvSpPr/>
          <p:nvPr/>
        </p:nvSpPr>
        <p:spPr>
          <a:xfrm rot="21364800">
            <a:off x="185400" y="194436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23"/>
          <p:cNvSpPr/>
          <p:nvPr/>
        </p:nvSpPr>
        <p:spPr>
          <a:xfrm>
            <a:off x="3203640" y="2013120"/>
            <a:ext cx="3078000" cy="1077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3492360" y="1484280"/>
            <a:ext cx="100836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9"/>
          <p:cNvSpPr/>
          <p:nvPr/>
        </p:nvSpPr>
        <p:spPr>
          <a:xfrm flipH="1" flipV="1">
            <a:off x="3635280" y="907560"/>
            <a:ext cx="2449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4140360" y="285264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3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7236000" y="55065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4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6" name="Object 4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7"/>
          <p:cNvGraphicFramePr/>
          <p:nvPr/>
        </p:nvGraphicFramePr>
        <p:xfrm>
          <a:off x="611280" y="285264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85264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0" name="Object 4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4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2" name="Object 49"/>
          <p:cNvGraphicFramePr/>
          <p:nvPr/>
        </p:nvGraphicFramePr>
        <p:xfrm>
          <a:off x="2340000" y="2521080"/>
          <a:ext cx="100800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2521080"/>
                    <a:ext cx="1008000" cy="47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4" name="Object 50"/>
          <p:cNvGraphicFramePr/>
          <p:nvPr/>
        </p:nvGraphicFramePr>
        <p:xfrm>
          <a:off x="2195640" y="1773360"/>
          <a:ext cx="1079280" cy="23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1773360"/>
                    <a:ext cx="107928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6" name="Object 5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7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8" name="Object 5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9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0" name="Object 5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1" name="Object 5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2" name="Object 5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3" name="Object 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4" name="Object 56"/>
          <p:cNvGraphicFramePr/>
          <p:nvPr/>
        </p:nvGraphicFramePr>
        <p:xfrm>
          <a:off x="6300720" y="2556000"/>
          <a:ext cx="1079640" cy="531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5" name="Object 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0720" y="25560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6" name="Object 5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7" name="Object 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8" name="Object 5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49" name="Object 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0" name="Object 5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51" name="Object 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2" name="Rectangle 60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1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2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3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4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5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6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7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9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0"/>
          <p:cNvSpPr/>
          <p:nvPr/>
        </p:nvSpPr>
        <p:spPr>
          <a:xfrm>
            <a:off x="5364000" y="765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1"/>
          <p:cNvSpPr/>
          <p:nvPr/>
        </p:nvSpPr>
        <p:spPr>
          <a:xfrm>
            <a:off x="7885080" y="12682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2"/>
          <p:cNvSpPr/>
          <p:nvPr/>
        </p:nvSpPr>
        <p:spPr>
          <a:xfrm>
            <a:off x="1403280" y="3429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3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5"/>
          <p:cNvSpPr/>
          <p:nvPr/>
        </p:nvSpPr>
        <p:spPr>
          <a:xfrm flipH="1">
            <a:off x="2987280" y="4282920"/>
            <a:ext cx="14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7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Object 1"/>
          <p:cNvGraphicFramePr/>
          <p:nvPr/>
        </p:nvGraphicFramePr>
        <p:xfrm>
          <a:off x="6084720" y="754200"/>
          <a:ext cx="1366920" cy="29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69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84720" y="754200"/>
                    <a:ext cx="1366920" cy="29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7236000" y="305928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V="1">
            <a:off x="2556000" y="4183200"/>
            <a:ext cx="7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182556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6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4716360" y="2411280"/>
            <a:ext cx="165600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5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6"/>
          <p:cNvSpPr/>
          <p:nvPr/>
        </p:nvSpPr>
        <p:spPr>
          <a:xfrm>
            <a:off x="803160" y="3112920"/>
            <a:ext cx="1536840" cy="223236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7"/>
          <p:cNvSpPr/>
          <p:nvPr/>
        </p:nvSpPr>
        <p:spPr>
          <a:xfrm flipH="1">
            <a:off x="3021120" y="4211640"/>
            <a:ext cx="3816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8"/>
          <p:cNvSpPr/>
          <p:nvPr/>
        </p:nvSpPr>
        <p:spPr>
          <a:xfrm>
            <a:off x="5589720" y="207648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340000" y="401004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300720" y="1930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356000" y="437040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"/>
          <p:cNvSpPr/>
          <p:nvPr/>
        </p:nvSpPr>
        <p:spPr>
          <a:xfrm>
            <a:off x="7318440" y="855720"/>
            <a:ext cx="1092240" cy="208764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7254720" y="306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1403280" y="3127320"/>
            <a:ext cx="108108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00360" y="4202280"/>
            <a:ext cx="71280" cy="1008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9"/>
          <p:cNvSpPr/>
          <p:nvPr/>
        </p:nvSpPr>
        <p:spPr>
          <a:xfrm flipH="1" flipV="1">
            <a:off x="7314480" y="914400"/>
            <a:ext cx="369720" cy="19382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0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1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>
            <a:off x="1816200" y="27748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41112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>
            <a:off x="10944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>
            <a:off x="4716360" y="242100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93800" y="3132000"/>
            <a:ext cx="1536480" cy="215928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>
            <a:off x="1168560" y="3139920"/>
            <a:ext cx="1171440" cy="2079720"/>
          </a:xfrm>
          <a:custGeom>
            <a:avLst/>
            <a:gdLst/>
            <a:ahLst/>
            <a:rect l="l" t="t" r="r" b="b"/>
            <a:pathLst>
              <a:path w="693" h="1400">
                <a:moveTo>
                  <a:pt x="0" y="0"/>
                </a:moveTo>
                <a:lnTo>
                  <a:pt x="693" y="140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>
            <a:off x="642960" y="3124080"/>
            <a:ext cx="1687320" cy="2306880"/>
          </a:xfrm>
          <a:custGeom>
            <a:avLst/>
            <a:gdLst/>
            <a:ahLst/>
            <a:rect l="l" t="t" r="r" b="b"/>
            <a:pathLst>
              <a:path w="1063" h="1453">
                <a:moveTo>
                  <a:pt x="1063" y="1440"/>
                </a:moveTo>
                <a:cubicBezTo>
                  <a:pt x="915" y="1417"/>
                  <a:pt x="330" y="1453"/>
                  <a:pt x="165" y="1301"/>
                </a:cubicBezTo>
                <a:cubicBezTo>
                  <a:pt x="0" y="1149"/>
                  <a:pt x="79" y="747"/>
                  <a:pt x="75" y="530"/>
                </a:cubicBezTo>
                <a:cubicBezTo>
                  <a:pt x="71" y="313"/>
                  <a:pt x="129" y="110"/>
                  <a:pt x="143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>
            <a:off x="3276720" y="1014480"/>
            <a:ext cx="3024000" cy="73080"/>
          </a:xfrm>
          <a:custGeom>
            <a:avLst/>
            <a:gdLst/>
            <a:ahLst/>
            <a:rect l="l" t="t" r="r" b="b"/>
            <a:pathLst>
              <a:path w="1905" h="46">
                <a:moveTo>
                  <a:pt x="1905" y="0"/>
                </a:moveTo>
                <a:lnTo>
                  <a:pt x="767" y="36"/>
                </a:lnTo>
                <a:lnTo>
                  <a:pt x="0" y="46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7020000" y="2133720"/>
            <a:ext cx="0" cy="718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5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6"/>
          <p:cNvSpPr/>
          <p:nvPr/>
        </p:nvSpPr>
        <p:spPr>
          <a:xfrm>
            <a:off x="2171880" y="299556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172200" y="597348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300720" y="508932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Draw the correct structures alongside th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882720" y="279360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322360" y="364932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322360" y="2666880"/>
            <a:ext cx="1152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283440" y="3649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283440" y="249696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83440" y="1272960"/>
            <a:ext cx="107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300720" y="553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338720" y="42400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338720" y="207936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322360" y="164772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322360" y="7822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322360" y="537336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066000" y="5910120"/>
            <a:ext cx="17794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283440" y="480204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330720" y="47386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8"/>
          <p:cNvGraphicFramePr/>
          <p:nvPr/>
        </p:nvGraphicFramePr>
        <p:xfrm>
          <a:off x="2197080" y="3909960"/>
          <a:ext cx="133668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3909960"/>
                    <a:ext cx="13366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9"/>
          <p:cNvGraphicFramePr/>
          <p:nvPr/>
        </p:nvGraphicFramePr>
        <p:xfrm>
          <a:off x="622440" y="3081240"/>
          <a:ext cx="12128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440" y="3081240"/>
                    <a:ext cx="12128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0"/>
          <p:cNvGraphicFramePr/>
          <p:nvPr/>
        </p:nvGraphicFramePr>
        <p:xfrm>
          <a:off x="1979640" y="5645160"/>
          <a:ext cx="12970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5645160"/>
                    <a:ext cx="1297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1"/>
          <p:cNvGraphicFramePr/>
          <p:nvPr/>
        </p:nvGraphicFramePr>
        <p:xfrm>
          <a:off x="2394000" y="2905200"/>
          <a:ext cx="109836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4000" y="2905200"/>
                    <a:ext cx="1098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2"/>
          <p:cNvGraphicFramePr/>
          <p:nvPr/>
        </p:nvGraphicFramePr>
        <p:xfrm>
          <a:off x="2144880" y="1940040"/>
          <a:ext cx="127476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4880" y="1940040"/>
                    <a:ext cx="12747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3"/>
          <p:cNvGraphicFramePr/>
          <p:nvPr/>
        </p:nvGraphicFramePr>
        <p:xfrm>
          <a:off x="1989000" y="1076400"/>
          <a:ext cx="160200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9000" y="1076400"/>
                    <a:ext cx="1602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4"/>
          <p:cNvGraphicFramePr/>
          <p:nvPr/>
        </p:nvGraphicFramePr>
        <p:xfrm>
          <a:off x="4067280" y="2362320"/>
          <a:ext cx="1271520" cy="66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362320"/>
                    <a:ext cx="1271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5"/>
          <p:cNvGraphicFramePr/>
          <p:nvPr/>
        </p:nvGraphicFramePr>
        <p:xfrm>
          <a:off x="4356000" y="4522680"/>
          <a:ext cx="9730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4522680"/>
                    <a:ext cx="973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6"/>
          <p:cNvGraphicFramePr/>
          <p:nvPr/>
        </p:nvGraphicFramePr>
        <p:xfrm>
          <a:off x="6046920" y="795240"/>
          <a:ext cx="15094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46920" y="795240"/>
                    <a:ext cx="1509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7"/>
          <p:cNvGraphicFramePr/>
          <p:nvPr/>
        </p:nvGraphicFramePr>
        <p:xfrm>
          <a:off x="6138720" y="1557360"/>
          <a:ext cx="152892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8720" y="155736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8"/>
          <p:cNvGraphicFramePr/>
          <p:nvPr/>
        </p:nvGraphicFramePr>
        <p:xfrm>
          <a:off x="6283440" y="2816280"/>
          <a:ext cx="131292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83440" y="2816280"/>
                    <a:ext cx="1312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9"/>
          <p:cNvGraphicFramePr/>
          <p:nvPr/>
        </p:nvGraphicFramePr>
        <p:xfrm>
          <a:off x="6067440" y="3870360"/>
          <a:ext cx="2033640" cy="709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7440" y="3870360"/>
                    <a:ext cx="20336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0"/>
          <p:cNvGraphicFramePr/>
          <p:nvPr/>
        </p:nvGraphicFramePr>
        <p:xfrm>
          <a:off x="6372360" y="5065560"/>
          <a:ext cx="1218960" cy="630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1" name="Object 3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72360" y="5065560"/>
                    <a:ext cx="12189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1"/>
          <p:cNvGraphicFramePr/>
          <p:nvPr/>
        </p:nvGraphicFramePr>
        <p:xfrm>
          <a:off x="5580000" y="6173640"/>
          <a:ext cx="2589120" cy="530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80000" y="6173640"/>
                    <a:ext cx="2589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00000" y="294300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349360" y="400968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7308720" y="907920"/>
            <a:ext cx="1092240" cy="201636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1258920" y="313200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3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4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6"/>
          <p:cNvSpPr/>
          <p:nvPr/>
        </p:nvSpPr>
        <p:spPr>
          <a:xfrm>
            <a:off x="119160" y="1816200"/>
            <a:ext cx="2220840" cy="252072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7"/>
          <p:cNvSpPr/>
          <p:nvPr/>
        </p:nvSpPr>
        <p:spPr>
          <a:xfrm>
            <a:off x="4716360" y="240192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9"/>
          <p:cNvSpPr/>
          <p:nvPr/>
        </p:nvSpPr>
        <p:spPr>
          <a:xfrm>
            <a:off x="684360" y="26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300720" y="105696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340000" y="113004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4"/>
          <p:cNvSpPr/>
          <p:nvPr/>
        </p:nvSpPr>
        <p:spPr>
          <a:xfrm flipH="1" flipV="1">
            <a:off x="7162920" y="914400"/>
            <a:ext cx="1218960" cy="19670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6172200" y="841320"/>
            <a:ext cx="990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340000" y="8650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0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1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3132000" y="1960560"/>
            <a:ext cx="3168720" cy="122400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8"/>
          <p:cNvSpPr/>
          <p:nvPr/>
        </p:nvSpPr>
        <p:spPr>
          <a:xfrm flipH="1" flipV="1">
            <a:off x="3276360" y="907920"/>
            <a:ext cx="28954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0"/>
          <p:cNvSpPr/>
          <p:nvPr/>
        </p:nvSpPr>
        <p:spPr>
          <a:xfrm>
            <a:off x="4140360" y="2708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3"/>
          <p:cNvSpPr/>
          <p:nvPr/>
        </p:nvSpPr>
        <p:spPr>
          <a:xfrm>
            <a:off x="755640" y="3103560"/>
            <a:ext cx="1584360" cy="230364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1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>
            <a:off x="7164360" y="5346000"/>
            <a:ext cx="79236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9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0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1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2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3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7740720" y="1197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5219640" y="69228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0"/>
          <p:cNvSpPr/>
          <p:nvPr/>
        </p:nvSpPr>
        <p:spPr>
          <a:xfrm>
            <a:off x="1332000" y="335772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1"/>
          <p:cNvSpPr/>
          <p:nvPr/>
        </p:nvSpPr>
        <p:spPr>
          <a:xfrm>
            <a:off x="6588000" y="1125360"/>
            <a:ext cx="360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2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3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6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7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9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0"/>
          <p:cNvSpPr/>
          <p:nvPr/>
        </p:nvSpPr>
        <p:spPr>
          <a:xfrm flipH="1">
            <a:off x="2987280" y="4221000"/>
            <a:ext cx="144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1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82"/>
          <p:cNvSpPr/>
          <p:nvPr/>
        </p:nvSpPr>
        <p:spPr>
          <a:xfrm>
            <a:off x="2171880" y="300528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41"/>
          <p:cNvSpPr/>
          <p:nvPr/>
        </p:nvSpPr>
        <p:spPr>
          <a:xfrm>
            <a:off x="2171880" y="326700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"/>
          <p:cNvSpPr/>
          <p:nvPr/>
        </p:nvSpPr>
        <p:spPr>
          <a:xfrm>
            <a:off x="3348000" y="321480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348000" y="51595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6804000" y="1343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7236000" y="338760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7020000" y="47084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7389720" y="32878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570640" y="242424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6804000" y="3400560"/>
            <a:ext cx="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5086440" y="2639880"/>
            <a:ext cx="12142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3276720" y="213516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1258920" y="341316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2700360" y="45640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H="1" flipV="1" rot="668400">
            <a:off x="7505280" y="1394640"/>
            <a:ext cx="714600" cy="18054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3317760" y="3262320"/>
            <a:ext cx="1297080" cy="292896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7543800" y="451152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1835280" y="289404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1547640" y="230832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420840" y="1373040"/>
            <a:ext cx="1919160" cy="30672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rot="21337800">
            <a:off x="42840" y="2282760"/>
            <a:ext cx="222084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3213000" y="2308320"/>
            <a:ext cx="3078360" cy="114912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3616200" y="1198440"/>
            <a:ext cx="25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746280" y="3413160"/>
            <a:ext cx="1584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5"/>
          <p:cNvGraphicFramePr/>
          <p:nvPr/>
        </p:nvGraphicFramePr>
        <p:xfrm>
          <a:off x="2349360" y="3738600"/>
          <a:ext cx="10083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3738600"/>
                    <a:ext cx="1008360" cy="82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9" name="Object 26"/>
          <p:cNvGraphicFramePr/>
          <p:nvPr/>
        </p:nvGraphicFramePr>
        <p:xfrm>
          <a:off x="4546440" y="369396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69396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7"/>
          <p:cNvGraphicFramePr/>
          <p:nvPr/>
        </p:nvGraphicFramePr>
        <p:xfrm>
          <a:off x="611280" y="314316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14316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Object 29"/>
          <p:cNvGraphicFramePr/>
          <p:nvPr/>
        </p:nvGraphicFramePr>
        <p:xfrm>
          <a:off x="2340000" y="278280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8280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30"/>
          <p:cNvGraphicFramePr/>
          <p:nvPr/>
        </p:nvGraphicFramePr>
        <p:xfrm>
          <a:off x="2185920" y="206388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5920" y="206388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" name="Object 31"/>
          <p:cNvGraphicFramePr/>
          <p:nvPr/>
        </p:nvGraphicFramePr>
        <p:xfrm>
          <a:off x="2050920" y="105552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05552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9" name="Object 32"/>
          <p:cNvGraphicFramePr/>
          <p:nvPr/>
        </p:nvGraphicFramePr>
        <p:xfrm>
          <a:off x="4067280" y="242424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2424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1" name="Object 33"/>
          <p:cNvGraphicFramePr/>
          <p:nvPr/>
        </p:nvGraphicFramePr>
        <p:xfrm>
          <a:off x="4211640" y="427212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27212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3" name="Object 35"/>
          <p:cNvGraphicFramePr/>
          <p:nvPr/>
        </p:nvGraphicFramePr>
        <p:xfrm>
          <a:off x="6300720" y="220680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4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20680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Object 36"/>
          <p:cNvGraphicFramePr/>
          <p:nvPr/>
        </p:nvGraphicFramePr>
        <p:xfrm>
          <a:off x="6300720" y="285588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6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85588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7" name="Object 37"/>
          <p:cNvGraphicFramePr/>
          <p:nvPr/>
        </p:nvGraphicFramePr>
        <p:xfrm>
          <a:off x="5950080" y="4141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8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50080" y="414180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9" name="Object 38"/>
          <p:cNvGraphicFramePr/>
          <p:nvPr/>
        </p:nvGraphicFramePr>
        <p:xfrm>
          <a:off x="6300720" y="515952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0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15952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Object 39"/>
          <p:cNvGraphicFramePr/>
          <p:nvPr/>
        </p:nvGraphicFramePr>
        <p:xfrm>
          <a:off x="5508720" y="624060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2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4060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3" name="Text Box 40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8"/>
          <p:cNvGraphicFramePr/>
          <p:nvPr/>
        </p:nvGraphicFramePr>
        <p:xfrm>
          <a:off x="2340000" y="551988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5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51988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6" name="Object 1"/>
          <p:cNvGraphicFramePr/>
          <p:nvPr/>
        </p:nvGraphicFramePr>
        <p:xfrm>
          <a:off x="6172200" y="1012680"/>
          <a:ext cx="1509840" cy="330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7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72200" y="1012680"/>
                    <a:ext cx="1509840" cy="330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3:23:13Z</dcterms:created>
  <dc:creator>TJolliff</dc:creator>
  <dc:description/>
  <dc:language>en-US</dc:language>
  <cp:lastModifiedBy>Robert Smith</cp:lastModifiedBy>
  <dcterms:modified xsi:type="dcterms:W3CDTF">2016-04-18T08:28:20Z</dcterms:modified>
  <cp:revision>54</cp:revision>
  <dc:subject/>
  <dc:title>Organic reactions</dc:title>
</cp:coreProperties>
</file>