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209-3BAB-4B0C-BA61-8F147CCA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F8F-D25E-43E9-9542-B4C0EFCF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4BE-23E3-446C-A2B9-D494A02B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FFD-70CA-4A01-AEE5-7BDD4ACC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BCD-DD65-4485-8D7D-FE6CF275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31D-E62B-48FE-85CA-2FD6A8CF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6F6-5402-4FF3-908C-2B232BF0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4C6-09D5-464D-BA5F-3F40ADD3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EA9-0878-4E6D-A355-A47193E7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6CC-E654-4E45-940C-1EB4BB55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EDD-CF4B-4557-8566-CEDBCB2B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BD7-3C95-473F-8780-EE3E8580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F1D8-722F-43B0-869E-E0C82B730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8"/>
          <p:cNvSpPr/>
          <p:nvPr/>
        </p:nvSpPr>
        <p:spPr>
          <a:xfrm>
            <a:off x="1066680" y="1752480"/>
            <a:ext cx="746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Rocks are not what they se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They are constantly chang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1"/>
          <p:cNvSpPr/>
          <p:nvPr/>
        </p:nvSpPr>
        <p:spPr>
          <a:xfrm>
            <a:off x="1066680" y="457200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Find out what happens step by step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by repeatedly clicking the mouse 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or pressing the enter key 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1066680" y="38401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or happen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very quickly</a:t>
            </a: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1066680" y="3200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Changes can take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illions of years</a:t>
            </a: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3"/>
          <p:cNvSpPr/>
          <p:nvPr/>
        </p:nvSpPr>
        <p:spPr>
          <a:xfrm>
            <a:off x="3276720" y="457200"/>
            <a:ext cx="2209680" cy="609480"/>
          </a:xfrm>
          <a:prstGeom prst="rightArrow">
            <a:avLst>
              <a:gd name="adj1" fmla="val 50000"/>
              <a:gd name="adj2" fmla="val 90638"/>
            </a:avLst>
          </a:pr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5562720" y="457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Sedimentary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1"/>
          <p:cNvSpPr/>
          <p:nvPr/>
        </p:nvSpPr>
        <p:spPr>
          <a:xfrm flipH="1" flipV="1" rot="5400000">
            <a:off x="1635480" y="4530600"/>
            <a:ext cx="1370160" cy="1601640"/>
          </a:xfrm>
          <a:custGeom>
            <a:avLst/>
            <a:gdLst>
              <a:gd name="textAreaLeft" fmla="*/ 788400 w 1370160"/>
              <a:gd name="textAreaRight" fmla="*/ 1208880 w 1370160"/>
              <a:gd name="textAreaTop" fmla="*/ 303480 h 1601640"/>
              <a:gd name="textAreaBottom" fmla="*/ 597240 h 1601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80" y="0"/>
                </a:lnTo>
                <a:lnTo>
                  <a:pt x="13780" y="4099"/>
                </a:lnTo>
                <a:lnTo>
                  <a:pt x="12427" y="4099"/>
                </a:lnTo>
                <a:cubicBezTo>
                  <a:pt x="5564" y="4099"/>
                  <a:pt x="0" y="7707"/>
                  <a:pt x="0" y="12158"/>
                </a:cubicBezTo>
                <a:lnTo>
                  <a:pt x="0" y="21600"/>
                </a:lnTo>
                <a:lnTo>
                  <a:pt x="4048" y="21600"/>
                </a:lnTo>
                <a:lnTo>
                  <a:pt x="4048" y="12158"/>
                </a:lnTo>
                <a:cubicBezTo>
                  <a:pt x="4048" y="9894"/>
                  <a:pt x="7799" y="8059"/>
                  <a:pt x="12427" y="8059"/>
                </a:cubicBezTo>
                <a:lnTo>
                  <a:pt x="13780" y="8059"/>
                </a:lnTo>
                <a:lnTo>
                  <a:pt x="137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32"/>
          <p:cNvSpPr/>
          <p:nvPr/>
        </p:nvSpPr>
        <p:spPr>
          <a:xfrm>
            <a:off x="1676520" y="2057400"/>
            <a:ext cx="609480" cy="137160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36"/>
          <p:cNvSpPr/>
          <p:nvPr/>
        </p:nvSpPr>
        <p:spPr>
          <a:xfrm flipH="1" flipV="1" rot="21588000">
            <a:off x="5864040" y="4826160"/>
            <a:ext cx="1982520" cy="1344600"/>
          </a:xfrm>
          <a:custGeom>
            <a:avLst/>
            <a:gdLst>
              <a:gd name="textAreaLeft" fmla="*/ 1140120 w 1982520"/>
              <a:gd name="textAreaRight" fmla="*/ 1748520 w 1982520"/>
              <a:gd name="textAreaTop" fmla="*/ 254880 h 1344600"/>
              <a:gd name="textAreaBottom" fmla="*/ 50148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80" y="0"/>
                </a:lnTo>
                <a:lnTo>
                  <a:pt x="13780" y="4099"/>
                </a:lnTo>
                <a:lnTo>
                  <a:pt x="12427" y="4099"/>
                </a:lnTo>
                <a:cubicBezTo>
                  <a:pt x="5564" y="4099"/>
                  <a:pt x="0" y="7707"/>
                  <a:pt x="0" y="12158"/>
                </a:cubicBezTo>
                <a:lnTo>
                  <a:pt x="0" y="21600"/>
                </a:lnTo>
                <a:lnTo>
                  <a:pt x="4048" y="21600"/>
                </a:lnTo>
                <a:lnTo>
                  <a:pt x="4048" y="12158"/>
                </a:lnTo>
                <a:cubicBezTo>
                  <a:pt x="4048" y="9894"/>
                  <a:pt x="7799" y="8059"/>
                  <a:pt x="12427" y="8059"/>
                </a:cubicBezTo>
                <a:lnTo>
                  <a:pt x="13780" y="8059"/>
                </a:lnTo>
                <a:lnTo>
                  <a:pt x="137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67"/>
          <p:cNvGrpSpPr/>
          <p:nvPr/>
        </p:nvGrpSpPr>
        <p:grpSpPr>
          <a:xfrm>
            <a:off x="1219320" y="3562200"/>
            <a:ext cx="2286000" cy="1047600"/>
            <a:chOff x="1219320" y="3562200"/>
            <a:chExt cx="2286000" cy="1047600"/>
          </a:xfrm>
        </p:grpSpPr>
        <p:sp>
          <p:nvSpPr>
            <p:cNvPr id="51" name="Text Box 4"/>
            <p:cNvSpPr/>
            <p:nvPr/>
          </p:nvSpPr>
          <p:spPr>
            <a:xfrm>
              <a:off x="1219320" y="356220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Rockwell"/>
                </a:rPr>
                <a:t>Igneous r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1219320" y="4038480"/>
              <a:ext cx="2286000" cy="28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219320" y="4324320"/>
              <a:ext cx="2286000" cy="28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7"/>
          <p:cNvSpPr/>
          <p:nvPr/>
        </p:nvSpPr>
        <p:spPr>
          <a:xfrm>
            <a:off x="182880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82880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6"/>
          <p:cNvSpPr/>
          <p:nvPr/>
        </p:nvSpPr>
        <p:spPr>
          <a:xfrm>
            <a:off x="457200" y="4319640"/>
            <a:ext cx="13716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large crys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7"/>
          <p:cNvSpPr/>
          <p:nvPr/>
        </p:nvSpPr>
        <p:spPr>
          <a:xfrm>
            <a:off x="457200" y="4005360"/>
            <a:ext cx="13716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mall crys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8"/>
          <p:cNvSpPr/>
          <p:nvPr/>
        </p:nvSpPr>
        <p:spPr>
          <a:xfrm>
            <a:off x="6858000" y="5762520"/>
            <a:ext cx="2133720" cy="10087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very high temperatures causing me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9"/>
          <p:cNvSpPr/>
          <p:nvPr/>
        </p:nvSpPr>
        <p:spPr>
          <a:xfrm>
            <a:off x="304920" y="5715000"/>
            <a:ext cx="2133360" cy="10087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oling and crystallisation (solid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0"/>
          <p:cNvSpPr/>
          <p:nvPr/>
        </p:nvSpPr>
        <p:spPr>
          <a:xfrm>
            <a:off x="228600" y="2562120"/>
            <a:ext cx="3276720" cy="398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eathering and er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74"/>
          <p:cNvGrpSpPr/>
          <p:nvPr/>
        </p:nvGrpSpPr>
        <p:grpSpPr>
          <a:xfrm>
            <a:off x="0" y="3486240"/>
            <a:ext cx="1219320" cy="609480"/>
            <a:chOff x="0" y="3486240"/>
            <a:chExt cx="1219320" cy="609480"/>
          </a:xfrm>
        </p:grpSpPr>
        <p:sp>
          <p:nvSpPr>
            <p:cNvPr id="62" name="Text Box 57"/>
            <p:cNvSpPr/>
            <p:nvPr/>
          </p:nvSpPr>
          <p:spPr>
            <a:xfrm>
              <a:off x="0" y="3486240"/>
              <a:ext cx="1219320" cy="337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fast c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59"/>
            <p:cNvSpPr/>
            <p:nvPr/>
          </p:nvSpPr>
          <p:spPr>
            <a:xfrm>
              <a:off x="228600" y="3790800"/>
              <a:ext cx="304920" cy="30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75"/>
          <p:cNvGrpSpPr/>
          <p:nvPr/>
        </p:nvGrpSpPr>
        <p:grpSpPr>
          <a:xfrm>
            <a:off x="0" y="4552920"/>
            <a:ext cx="1295280" cy="673920"/>
            <a:chOff x="0" y="4552920"/>
            <a:chExt cx="1295280" cy="673920"/>
          </a:xfrm>
        </p:grpSpPr>
        <p:sp>
          <p:nvSpPr>
            <p:cNvPr id="65" name="Text Box 58"/>
            <p:cNvSpPr/>
            <p:nvPr/>
          </p:nvSpPr>
          <p:spPr>
            <a:xfrm>
              <a:off x="0" y="4889520"/>
              <a:ext cx="1295280" cy="337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slow c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0"/>
            <p:cNvSpPr/>
            <p:nvPr/>
          </p:nvSpPr>
          <p:spPr>
            <a:xfrm flipV="1">
              <a:off x="228600" y="4552920"/>
              <a:ext cx="304920" cy="457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Text Box 62"/>
          <p:cNvSpPr/>
          <p:nvPr/>
        </p:nvSpPr>
        <p:spPr>
          <a:xfrm>
            <a:off x="3695760" y="61149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Verdana"/>
              </a:rPr>
              <a:t>very ho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23"/>
          <p:cNvGrpSpPr/>
          <p:nvPr/>
        </p:nvGrpSpPr>
        <p:grpSpPr>
          <a:xfrm>
            <a:off x="5943600" y="1200240"/>
            <a:ext cx="2819520" cy="459720"/>
            <a:chOff x="5943600" y="1200240"/>
            <a:chExt cx="2819520" cy="459720"/>
          </a:xfrm>
        </p:grpSpPr>
        <p:sp>
          <p:nvSpPr>
            <p:cNvPr id="69" name="Rectangle 72"/>
            <p:cNvSpPr/>
            <p:nvPr/>
          </p:nvSpPr>
          <p:spPr>
            <a:xfrm>
              <a:off x="5943600" y="1314360"/>
              <a:ext cx="2819520" cy="285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73"/>
            <p:cNvSpPr/>
            <p:nvPr/>
          </p:nvSpPr>
          <p:spPr>
            <a:xfrm>
              <a:off x="6019920" y="1200240"/>
              <a:ext cx="197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ud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9000" y="5334120"/>
            <a:ext cx="2286000" cy="847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cc33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Magm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(molten r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990720" y="457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111"/>
          <p:cNvGrpSpPr/>
          <p:nvPr/>
        </p:nvGrpSpPr>
        <p:grpSpPr>
          <a:xfrm>
            <a:off x="990720" y="1171440"/>
            <a:ext cx="2286000" cy="459720"/>
            <a:chOff x="990720" y="1171440"/>
            <a:chExt cx="2286000" cy="459720"/>
          </a:xfrm>
        </p:grpSpPr>
        <p:sp>
          <p:nvSpPr>
            <p:cNvPr id="74" name="Rectangle 11"/>
            <p:cNvSpPr/>
            <p:nvPr/>
          </p:nvSpPr>
          <p:spPr>
            <a:xfrm>
              <a:off x="990720" y="1285920"/>
              <a:ext cx="2286000" cy="28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3"/>
            <p:cNvSpPr/>
            <p:nvPr/>
          </p:nvSpPr>
          <p:spPr>
            <a:xfrm>
              <a:off x="1752480" y="1171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110"/>
          <p:cNvGrpSpPr/>
          <p:nvPr/>
        </p:nvGrpSpPr>
        <p:grpSpPr>
          <a:xfrm>
            <a:off x="990720" y="1457280"/>
            <a:ext cx="2438280" cy="459720"/>
            <a:chOff x="990720" y="1457280"/>
            <a:chExt cx="2438280" cy="459720"/>
          </a:xfrm>
        </p:grpSpPr>
        <p:sp>
          <p:nvSpPr>
            <p:cNvPr id="77" name="Rectangle 12"/>
            <p:cNvSpPr/>
            <p:nvPr/>
          </p:nvSpPr>
          <p:spPr>
            <a:xfrm>
              <a:off x="990720" y="1571760"/>
              <a:ext cx="2286000" cy="28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4"/>
            <p:cNvSpPr/>
            <p:nvPr/>
          </p:nvSpPr>
          <p:spPr>
            <a:xfrm>
              <a:off x="2438280" y="1457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112"/>
          <p:cNvGrpSpPr/>
          <p:nvPr/>
        </p:nvGrpSpPr>
        <p:grpSpPr>
          <a:xfrm>
            <a:off x="990720" y="914400"/>
            <a:ext cx="2286000" cy="459720"/>
            <a:chOff x="990720" y="914400"/>
            <a:chExt cx="2286000" cy="459720"/>
          </a:xfrm>
        </p:grpSpPr>
        <p:sp>
          <p:nvSpPr>
            <p:cNvPr id="80" name="Rectangle 86"/>
            <p:cNvSpPr/>
            <p:nvPr/>
          </p:nvSpPr>
          <p:spPr>
            <a:xfrm>
              <a:off x="990720" y="1009800"/>
              <a:ext cx="2286000" cy="28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87"/>
            <p:cNvSpPr/>
            <p:nvPr/>
          </p:nvSpPr>
          <p:spPr>
            <a:xfrm>
              <a:off x="990720" y="914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hel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51"/>
          <p:cNvSpPr/>
          <p:nvPr/>
        </p:nvSpPr>
        <p:spPr>
          <a:xfrm>
            <a:off x="838080" y="0"/>
            <a:ext cx="8153640" cy="398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diment is compacted (squashed) and particles get c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4952880" y="371484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Metamorphic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22"/>
          <p:cNvGrpSpPr/>
          <p:nvPr/>
        </p:nvGrpSpPr>
        <p:grpSpPr>
          <a:xfrm>
            <a:off x="5943600" y="914400"/>
            <a:ext cx="2819520" cy="459720"/>
            <a:chOff x="5943600" y="914400"/>
            <a:chExt cx="2819520" cy="459720"/>
          </a:xfrm>
        </p:grpSpPr>
        <p:sp>
          <p:nvSpPr>
            <p:cNvPr id="85" name="Rectangle 17"/>
            <p:cNvSpPr/>
            <p:nvPr/>
          </p:nvSpPr>
          <p:spPr>
            <a:xfrm>
              <a:off x="5943600" y="990720"/>
              <a:ext cx="2819520" cy="323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69"/>
            <p:cNvSpPr/>
            <p:nvPr/>
          </p:nvSpPr>
          <p:spPr>
            <a:xfrm>
              <a:off x="6019920" y="9144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Times New Roman"/>
                </a:rPr>
                <a:t>lime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124"/>
          <p:cNvGrpSpPr/>
          <p:nvPr/>
        </p:nvGrpSpPr>
        <p:grpSpPr>
          <a:xfrm>
            <a:off x="5943600" y="1486080"/>
            <a:ext cx="2819520" cy="459720"/>
            <a:chOff x="5943600" y="1486080"/>
            <a:chExt cx="2819520" cy="459720"/>
          </a:xfrm>
        </p:grpSpPr>
        <p:sp>
          <p:nvSpPr>
            <p:cNvPr id="88" name="Rectangle 101"/>
            <p:cNvSpPr/>
            <p:nvPr/>
          </p:nvSpPr>
          <p:spPr>
            <a:xfrm>
              <a:off x="5943600" y="1600200"/>
              <a:ext cx="2819520" cy="2858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02"/>
            <p:cNvSpPr/>
            <p:nvPr/>
          </p:nvSpPr>
          <p:spPr>
            <a:xfrm>
              <a:off x="6019920" y="1486080"/>
              <a:ext cx="197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and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5"/>
          <p:cNvGrpSpPr/>
          <p:nvPr/>
        </p:nvGrpSpPr>
        <p:grpSpPr>
          <a:xfrm>
            <a:off x="3566520" y="1980720"/>
            <a:ext cx="4357800" cy="2259000"/>
            <a:chOff x="3566520" y="1980720"/>
            <a:chExt cx="4357800" cy="2259000"/>
          </a:xfrm>
        </p:grpSpPr>
        <p:sp>
          <p:nvSpPr>
            <p:cNvPr id="91" name="AutoShape 34"/>
            <p:cNvSpPr/>
            <p:nvPr/>
          </p:nvSpPr>
          <p:spPr>
            <a:xfrm rot="10800000">
              <a:off x="7314840" y="1980720"/>
              <a:ext cx="609480" cy="1752840"/>
            </a:xfrm>
            <a:prstGeom prst="upArrow">
              <a:avLst>
                <a:gd name="adj1" fmla="val 50000"/>
                <a:gd name="adj2" fmla="val 71899"/>
              </a:avLst>
            </a:prstGeom>
            <a:solidFill>
              <a:srgbClr val="3333cc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103"/>
            <p:cNvSpPr/>
            <p:nvPr/>
          </p:nvSpPr>
          <p:spPr>
            <a:xfrm rot="211200">
              <a:off x="3581280" y="3657600"/>
              <a:ext cx="1600200" cy="533520"/>
            </a:xfrm>
            <a:prstGeom prst="rightArrow">
              <a:avLst>
                <a:gd name="adj1" fmla="val 50000"/>
                <a:gd name="adj2" fmla="val 74983"/>
              </a:avLst>
            </a:prstGeom>
            <a:solidFill>
              <a:srgbClr val="3333cc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09"/>
          <p:cNvGrpSpPr/>
          <p:nvPr/>
        </p:nvGrpSpPr>
        <p:grpSpPr>
          <a:xfrm>
            <a:off x="5638680" y="1295280"/>
            <a:ext cx="3124440" cy="3202920"/>
            <a:chOff x="5638680" y="1295280"/>
            <a:chExt cx="3124440" cy="3202920"/>
          </a:xfrm>
        </p:grpSpPr>
        <p:grpSp>
          <p:nvGrpSpPr>
            <p:cNvPr id="94" name="Group 96"/>
            <p:cNvGrpSpPr/>
            <p:nvPr/>
          </p:nvGrpSpPr>
          <p:grpSpPr>
            <a:xfrm>
              <a:off x="5638680" y="4038480"/>
              <a:ext cx="3124440" cy="459720"/>
              <a:chOff x="5638680" y="4038480"/>
              <a:chExt cx="3124440" cy="459720"/>
            </a:xfrm>
          </p:grpSpPr>
          <p:sp>
            <p:nvSpPr>
              <p:cNvPr id="95" name="Rectangle 23"/>
              <p:cNvSpPr/>
              <p:nvPr/>
            </p:nvSpPr>
            <p:spPr>
              <a:xfrm>
                <a:off x="5638680" y="4133880"/>
                <a:ext cx="3124440" cy="28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25"/>
              <p:cNvSpPr/>
              <p:nvPr/>
            </p:nvSpPr>
            <p:spPr>
              <a:xfrm>
                <a:off x="6324480" y="40384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mar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AutoShape 78"/>
            <p:cNvSpPr/>
            <p:nvPr/>
          </p:nvSpPr>
          <p:spPr>
            <a:xfrm>
              <a:off x="8267760" y="1295280"/>
              <a:ext cx="266760" cy="2971800"/>
            </a:xfrm>
            <a:prstGeom prst="downArrow">
              <a:avLst>
                <a:gd name="adj1" fmla="val 50000"/>
                <a:gd name="adj2" fmla="val 278509"/>
              </a:avLst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106"/>
          <p:cNvGrpSpPr/>
          <p:nvPr/>
        </p:nvGrpSpPr>
        <p:grpSpPr>
          <a:xfrm>
            <a:off x="5638680" y="1600200"/>
            <a:ext cx="3181320" cy="3164760"/>
            <a:chOff x="5638680" y="1600200"/>
            <a:chExt cx="3181320" cy="3164760"/>
          </a:xfrm>
        </p:grpSpPr>
        <p:grpSp>
          <p:nvGrpSpPr>
            <p:cNvPr id="99" name="Group 98"/>
            <p:cNvGrpSpPr/>
            <p:nvPr/>
          </p:nvGrpSpPr>
          <p:grpSpPr>
            <a:xfrm>
              <a:off x="5638680" y="4305240"/>
              <a:ext cx="3124440" cy="459720"/>
              <a:chOff x="5638680" y="4305240"/>
              <a:chExt cx="3124440" cy="459720"/>
            </a:xfrm>
          </p:grpSpPr>
          <p:sp>
            <p:nvSpPr>
              <p:cNvPr id="100" name="Rectangle 24"/>
              <p:cNvSpPr/>
              <p:nvPr/>
            </p:nvSpPr>
            <p:spPr>
              <a:xfrm>
                <a:off x="5638680" y="4419720"/>
                <a:ext cx="3124440" cy="285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26"/>
              <p:cNvSpPr/>
              <p:nvPr/>
            </p:nvSpPr>
            <p:spPr>
              <a:xfrm>
                <a:off x="6477120" y="4305240"/>
                <a:ext cx="93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sl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AutoShape 79"/>
            <p:cNvSpPr/>
            <p:nvPr/>
          </p:nvSpPr>
          <p:spPr>
            <a:xfrm>
              <a:off x="8534520" y="1600200"/>
              <a:ext cx="285480" cy="2952720"/>
            </a:xfrm>
            <a:prstGeom prst="downArrow">
              <a:avLst>
                <a:gd name="adj1" fmla="val 50000"/>
                <a:gd name="adj2" fmla="val 258575"/>
              </a:avLst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30"/>
          <p:cNvGrpSpPr/>
          <p:nvPr/>
        </p:nvGrpSpPr>
        <p:grpSpPr>
          <a:xfrm>
            <a:off x="3733920" y="2305080"/>
            <a:ext cx="3657600" cy="2561040"/>
            <a:chOff x="3733920" y="2305080"/>
            <a:chExt cx="3657600" cy="2561040"/>
          </a:xfrm>
        </p:grpSpPr>
        <p:sp>
          <p:nvSpPr>
            <p:cNvPr id="104" name="Text Box 128"/>
            <p:cNvSpPr/>
            <p:nvPr/>
          </p:nvSpPr>
          <p:spPr>
            <a:xfrm>
              <a:off x="3733920" y="4162320"/>
              <a:ext cx="1524240" cy="70380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heat and 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45"/>
            <p:cNvSpPr/>
            <p:nvPr/>
          </p:nvSpPr>
          <p:spPr>
            <a:xfrm>
              <a:off x="6019920" y="2305080"/>
              <a:ext cx="1371600" cy="70380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heat and </a:t>
              </a:r>
              <a:br>
                <a:rPr sz="2000"/>
              </a:b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32"/>
          <p:cNvGrpSpPr/>
          <p:nvPr/>
        </p:nvGrpSpPr>
        <p:grpSpPr>
          <a:xfrm>
            <a:off x="3429000" y="990720"/>
            <a:ext cx="2819520" cy="2818800"/>
            <a:chOff x="3429000" y="990720"/>
            <a:chExt cx="2819520" cy="2818800"/>
          </a:xfrm>
        </p:grpSpPr>
        <p:sp>
          <p:nvSpPr>
            <p:cNvPr id="107" name="Line 53"/>
            <p:cNvSpPr/>
            <p:nvPr/>
          </p:nvSpPr>
          <p:spPr>
            <a:xfrm flipH="1" flipV="1">
              <a:off x="3580920" y="1690200"/>
              <a:ext cx="2133720" cy="211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4"/>
            <p:cNvSpPr/>
            <p:nvPr/>
          </p:nvSpPr>
          <p:spPr>
            <a:xfrm flipH="1">
              <a:off x="3580920" y="990720"/>
              <a:ext cx="221004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7"/>
            <p:cNvSpPr/>
            <p:nvPr/>
          </p:nvSpPr>
          <p:spPr>
            <a:xfrm>
              <a:off x="3429000" y="1857240"/>
              <a:ext cx="457200" cy="1738440"/>
            </a:xfrm>
            <a:custGeom>
              <a:avLst/>
              <a:gdLst/>
              <a:ahLst/>
              <a:rect l="l" t="t" r="r" b="b"/>
              <a:pathLst>
                <a:path w="192" h="816">
                  <a:moveTo>
                    <a:pt x="0" y="816"/>
                  </a:moveTo>
                  <a:cubicBezTo>
                    <a:pt x="96" y="668"/>
                    <a:pt x="192" y="520"/>
                    <a:pt x="192" y="384"/>
                  </a:cubicBezTo>
                  <a:cubicBezTo>
                    <a:pt x="192" y="248"/>
                    <a:pt x="96" y="124"/>
                    <a:pt x="0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2"/>
            <p:cNvSpPr/>
            <p:nvPr/>
          </p:nvSpPr>
          <p:spPr>
            <a:xfrm>
              <a:off x="3886200" y="1371600"/>
              <a:ext cx="236232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Any rock can 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be weathered 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or eroded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    to mud or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         s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5"/>
          <p:cNvGrpSpPr/>
          <p:nvPr/>
        </p:nvGrpSpPr>
        <p:grpSpPr>
          <a:xfrm>
            <a:off x="0" y="0"/>
            <a:ext cx="5334120" cy="5956200"/>
            <a:chOff x="0" y="0"/>
            <a:chExt cx="5334120" cy="5956200"/>
          </a:xfrm>
        </p:grpSpPr>
        <p:sp>
          <p:nvSpPr>
            <p:cNvPr id="112" name="AutoShape 3"/>
            <p:cNvSpPr/>
            <p:nvPr/>
          </p:nvSpPr>
          <p:spPr>
            <a:xfrm>
              <a:off x="0" y="0"/>
              <a:ext cx="5334120" cy="2666880"/>
            </a:xfrm>
            <a:prstGeom prst="cloudCallout">
              <a:avLst>
                <a:gd name="adj1" fmla="val -8124"/>
                <a:gd name="adj2" fmla="val 8416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me changes are rapid eg landslides and volcanic eruptions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Object 4"/>
            <p:cNvGraphicFramePr/>
            <p:nvPr/>
          </p:nvGraphicFramePr>
          <p:xfrm>
            <a:off x="762120" y="3581280"/>
            <a:ext cx="2590560" cy="237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3581280"/>
                      <a:ext cx="2590560" cy="23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AutoShape 9">
            <a:hlinkClick r:id="" action="ppaction://hlinkshowjump?jump=nextslide"/>
          </p:cNvPr>
          <p:cNvSpPr/>
          <p:nvPr/>
        </p:nvSpPr>
        <p:spPr>
          <a:xfrm>
            <a:off x="3505320" y="5791320"/>
            <a:ext cx="5486400" cy="838080"/>
          </a:xfrm>
          <a:custGeom>
            <a:avLst/>
            <a:gdLst>
              <a:gd name="textAreaLeft" fmla="*/ 54000 w 5486400"/>
              <a:gd name="textAreaRight" fmla="*/ 5432400 w 5486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1351" h="21600">
                <a:moveTo>
                  <a:pt x="0" y="0"/>
                </a:moveTo>
                <a:lnTo>
                  <a:pt x="141351" y="0"/>
                </a:lnTo>
                <a:lnTo>
                  <a:pt x="141351" y="21600"/>
                </a:lnTo>
                <a:lnTo>
                  <a:pt x="0" y="21600"/>
                </a:lnTo>
                <a:close/>
              </a:path>
              <a:path fill="lightenLess" w="141351" h="21600">
                <a:moveTo>
                  <a:pt x="0" y="0"/>
                </a:moveTo>
                <a:lnTo>
                  <a:pt x="141351" y="0"/>
                </a:lnTo>
                <a:lnTo>
                  <a:pt x="139951" y="1400"/>
                </a:lnTo>
                <a:lnTo>
                  <a:pt x="1400" y="1400"/>
                </a:lnTo>
                <a:close/>
              </a:path>
              <a:path fill="darken" w="141351" h="21600">
                <a:moveTo>
                  <a:pt x="141351" y="0"/>
                </a:moveTo>
                <a:lnTo>
                  <a:pt x="141351" y="21600"/>
                </a:lnTo>
                <a:lnTo>
                  <a:pt x="139951" y="20200"/>
                </a:lnTo>
                <a:lnTo>
                  <a:pt x="139951" y="1400"/>
                </a:lnTo>
                <a:close/>
              </a:path>
              <a:path fill="darkenLess" w="141351" h="21600">
                <a:moveTo>
                  <a:pt x="141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951" y="20200"/>
                </a:lnTo>
                <a:close/>
              </a:path>
              <a:path fill="lighten" w="141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lick here to run the Rock Cycle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 again automatical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4"/>
          <p:cNvGrpSpPr/>
          <p:nvPr/>
        </p:nvGrpSpPr>
        <p:grpSpPr>
          <a:xfrm>
            <a:off x="4495680" y="457200"/>
            <a:ext cx="5181840" cy="5562720"/>
            <a:chOff x="4495680" y="457200"/>
            <a:chExt cx="5181840" cy="5562720"/>
          </a:xfrm>
        </p:grpSpPr>
        <p:pic>
          <p:nvPicPr>
            <p:cNvPr id="117" name="Object 6" descr=""/>
            <p:cNvPicPr/>
            <p:nvPr/>
          </p:nvPicPr>
          <p:blipFill>
            <a:blip r:embed="rId3"/>
            <a:stretch/>
          </p:blipFill>
          <p:spPr>
            <a:xfrm>
              <a:off x="4495680" y="2666880"/>
              <a:ext cx="3886200" cy="33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7"/>
            <p:cNvSpPr/>
            <p:nvPr/>
          </p:nvSpPr>
          <p:spPr>
            <a:xfrm>
              <a:off x="5410080" y="457200"/>
              <a:ext cx="3733920" cy="2286000"/>
            </a:xfrm>
            <a:prstGeom prst="wedgeEllipseCallout">
              <a:avLst>
                <a:gd name="adj1" fmla="val -45282"/>
                <a:gd name="adj2" fmla="val 5798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5638680" y="744480"/>
              <a:ext cx="403884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… </a:t>
              </a: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but much of </a:t>
              </a:r>
              <a:br>
                <a:rPr sz="2800"/>
              </a:b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 the cycle takes </a:t>
              </a:r>
              <a:br>
                <a:rPr sz="2800"/>
              </a:b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 millions and millions </a:t>
              </a:r>
              <a:br>
                <a:rPr sz="2800"/>
              </a:b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      of years!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276720" y="457200"/>
            <a:ext cx="2209680" cy="609480"/>
          </a:xfrm>
          <a:prstGeom prst="rightArrow">
            <a:avLst>
              <a:gd name="adj1" fmla="val 50000"/>
              <a:gd name="adj2" fmla="val 90638"/>
            </a:avLst>
          </a:pr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562720" y="457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Sedimentary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 flipH="1" flipV="1" rot="5400000">
            <a:off x="1635480" y="4530600"/>
            <a:ext cx="1370160" cy="1601640"/>
          </a:xfrm>
          <a:custGeom>
            <a:avLst/>
            <a:gdLst>
              <a:gd name="textAreaLeft" fmla="*/ 788400 w 1370160"/>
              <a:gd name="textAreaRight" fmla="*/ 1208880 w 1370160"/>
              <a:gd name="textAreaTop" fmla="*/ 303480 h 1601640"/>
              <a:gd name="textAreaBottom" fmla="*/ 597240 h 1601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80" y="0"/>
                </a:lnTo>
                <a:lnTo>
                  <a:pt x="13780" y="4099"/>
                </a:lnTo>
                <a:lnTo>
                  <a:pt x="12427" y="4099"/>
                </a:lnTo>
                <a:cubicBezTo>
                  <a:pt x="5564" y="4099"/>
                  <a:pt x="0" y="7707"/>
                  <a:pt x="0" y="12158"/>
                </a:cubicBezTo>
                <a:lnTo>
                  <a:pt x="0" y="21600"/>
                </a:lnTo>
                <a:lnTo>
                  <a:pt x="4048" y="21600"/>
                </a:lnTo>
                <a:lnTo>
                  <a:pt x="4048" y="12158"/>
                </a:lnTo>
                <a:cubicBezTo>
                  <a:pt x="4048" y="9894"/>
                  <a:pt x="7799" y="8059"/>
                  <a:pt x="12427" y="8059"/>
                </a:cubicBezTo>
                <a:lnTo>
                  <a:pt x="13780" y="8059"/>
                </a:lnTo>
                <a:lnTo>
                  <a:pt x="137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676520" y="2057400"/>
            <a:ext cx="609480" cy="137160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 flipH="1" flipV="1" rot="21588000">
            <a:off x="5864040" y="4826160"/>
            <a:ext cx="1982520" cy="1344600"/>
          </a:xfrm>
          <a:custGeom>
            <a:avLst/>
            <a:gdLst>
              <a:gd name="textAreaLeft" fmla="*/ 1140120 w 1982520"/>
              <a:gd name="textAreaRight" fmla="*/ 1748520 w 1982520"/>
              <a:gd name="textAreaTop" fmla="*/ 254880 h 1344600"/>
              <a:gd name="textAreaBottom" fmla="*/ 50148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80" y="0"/>
                </a:lnTo>
                <a:lnTo>
                  <a:pt x="13780" y="4099"/>
                </a:lnTo>
                <a:lnTo>
                  <a:pt x="12427" y="4099"/>
                </a:lnTo>
                <a:cubicBezTo>
                  <a:pt x="5564" y="4099"/>
                  <a:pt x="0" y="7707"/>
                  <a:pt x="0" y="12158"/>
                </a:cubicBezTo>
                <a:lnTo>
                  <a:pt x="0" y="21600"/>
                </a:lnTo>
                <a:lnTo>
                  <a:pt x="4048" y="21600"/>
                </a:lnTo>
                <a:lnTo>
                  <a:pt x="4048" y="12158"/>
                </a:lnTo>
                <a:cubicBezTo>
                  <a:pt x="4048" y="9894"/>
                  <a:pt x="7799" y="8059"/>
                  <a:pt x="12427" y="8059"/>
                </a:cubicBezTo>
                <a:lnTo>
                  <a:pt x="13780" y="8059"/>
                </a:lnTo>
                <a:lnTo>
                  <a:pt x="137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1219320" y="3562200"/>
            <a:ext cx="2286000" cy="1047600"/>
            <a:chOff x="1219320" y="3562200"/>
            <a:chExt cx="2286000" cy="1047600"/>
          </a:xfrm>
        </p:grpSpPr>
        <p:sp>
          <p:nvSpPr>
            <p:cNvPr id="126" name="Text Box 8"/>
            <p:cNvSpPr/>
            <p:nvPr/>
          </p:nvSpPr>
          <p:spPr>
            <a:xfrm>
              <a:off x="1219320" y="356220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Rockwell"/>
                </a:rPr>
                <a:t>Igneous r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1219320" y="4038480"/>
              <a:ext cx="2286000" cy="28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1219320" y="4324320"/>
              <a:ext cx="2286000" cy="28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1"/>
          <p:cNvSpPr/>
          <p:nvPr/>
        </p:nvSpPr>
        <p:spPr>
          <a:xfrm>
            <a:off x="182880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82880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57200" y="4319640"/>
            <a:ext cx="13716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large crys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457200" y="4005360"/>
            <a:ext cx="13716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mall crys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858000" y="5762520"/>
            <a:ext cx="2133720" cy="10087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very high temperatures causing me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304920" y="5715000"/>
            <a:ext cx="2133360" cy="10087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oling and crystallisation (solid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228600" y="2562120"/>
            <a:ext cx="3276720" cy="398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eathering and er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8"/>
          <p:cNvGrpSpPr/>
          <p:nvPr/>
        </p:nvGrpSpPr>
        <p:grpSpPr>
          <a:xfrm>
            <a:off x="0" y="3486240"/>
            <a:ext cx="1219320" cy="609480"/>
            <a:chOff x="0" y="3486240"/>
            <a:chExt cx="1219320" cy="609480"/>
          </a:xfrm>
        </p:grpSpPr>
        <p:sp>
          <p:nvSpPr>
            <p:cNvPr id="137" name="Text Box 19"/>
            <p:cNvSpPr/>
            <p:nvPr/>
          </p:nvSpPr>
          <p:spPr>
            <a:xfrm>
              <a:off x="0" y="3486240"/>
              <a:ext cx="1219320" cy="337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fast c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228600" y="3790800"/>
              <a:ext cx="304920" cy="30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1"/>
          <p:cNvGrpSpPr/>
          <p:nvPr/>
        </p:nvGrpSpPr>
        <p:grpSpPr>
          <a:xfrm>
            <a:off x="0" y="4552920"/>
            <a:ext cx="1295280" cy="673920"/>
            <a:chOff x="0" y="4552920"/>
            <a:chExt cx="1295280" cy="673920"/>
          </a:xfrm>
        </p:grpSpPr>
        <p:sp>
          <p:nvSpPr>
            <p:cNvPr id="140" name="Text Box 22"/>
            <p:cNvSpPr/>
            <p:nvPr/>
          </p:nvSpPr>
          <p:spPr>
            <a:xfrm>
              <a:off x="0" y="4889520"/>
              <a:ext cx="1295280" cy="337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slow c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3"/>
            <p:cNvSpPr/>
            <p:nvPr/>
          </p:nvSpPr>
          <p:spPr>
            <a:xfrm flipV="1">
              <a:off x="228600" y="4552920"/>
              <a:ext cx="304920" cy="457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24"/>
          <p:cNvSpPr/>
          <p:nvPr/>
        </p:nvSpPr>
        <p:spPr>
          <a:xfrm>
            <a:off x="3695760" y="61149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Verdana"/>
              </a:rPr>
              <a:t>very ho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5943600" y="1200240"/>
            <a:ext cx="2819520" cy="459720"/>
            <a:chOff x="5943600" y="1200240"/>
            <a:chExt cx="2819520" cy="459720"/>
          </a:xfrm>
        </p:grpSpPr>
        <p:sp>
          <p:nvSpPr>
            <p:cNvPr id="144" name="Rectangle 26"/>
            <p:cNvSpPr/>
            <p:nvPr/>
          </p:nvSpPr>
          <p:spPr>
            <a:xfrm>
              <a:off x="5943600" y="1314360"/>
              <a:ext cx="2819520" cy="285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7"/>
            <p:cNvSpPr/>
            <p:nvPr/>
          </p:nvSpPr>
          <p:spPr>
            <a:xfrm>
              <a:off x="6019920" y="1200240"/>
              <a:ext cx="197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ud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9000" y="5334120"/>
            <a:ext cx="2286000" cy="847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cc33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Magm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(molten r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990720" y="457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30"/>
          <p:cNvGrpSpPr/>
          <p:nvPr/>
        </p:nvGrpSpPr>
        <p:grpSpPr>
          <a:xfrm>
            <a:off x="990720" y="1171440"/>
            <a:ext cx="2286000" cy="459720"/>
            <a:chOff x="990720" y="1171440"/>
            <a:chExt cx="2286000" cy="459720"/>
          </a:xfrm>
        </p:grpSpPr>
        <p:sp>
          <p:nvSpPr>
            <p:cNvPr id="149" name="Rectangle 31"/>
            <p:cNvSpPr/>
            <p:nvPr/>
          </p:nvSpPr>
          <p:spPr>
            <a:xfrm>
              <a:off x="990720" y="1285920"/>
              <a:ext cx="2286000" cy="28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32"/>
            <p:cNvSpPr/>
            <p:nvPr/>
          </p:nvSpPr>
          <p:spPr>
            <a:xfrm>
              <a:off x="1752480" y="1171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33"/>
          <p:cNvGrpSpPr/>
          <p:nvPr/>
        </p:nvGrpSpPr>
        <p:grpSpPr>
          <a:xfrm>
            <a:off x="990720" y="1457280"/>
            <a:ext cx="2438280" cy="459720"/>
            <a:chOff x="990720" y="1457280"/>
            <a:chExt cx="2438280" cy="459720"/>
          </a:xfrm>
        </p:grpSpPr>
        <p:sp>
          <p:nvSpPr>
            <p:cNvPr id="152" name="Rectangle 34"/>
            <p:cNvSpPr/>
            <p:nvPr/>
          </p:nvSpPr>
          <p:spPr>
            <a:xfrm>
              <a:off x="990720" y="1571760"/>
              <a:ext cx="2286000" cy="28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35"/>
            <p:cNvSpPr/>
            <p:nvPr/>
          </p:nvSpPr>
          <p:spPr>
            <a:xfrm>
              <a:off x="2438280" y="1457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36"/>
          <p:cNvGrpSpPr/>
          <p:nvPr/>
        </p:nvGrpSpPr>
        <p:grpSpPr>
          <a:xfrm>
            <a:off x="990720" y="914400"/>
            <a:ext cx="2286000" cy="459720"/>
            <a:chOff x="990720" y="914400"/>
            <a:chExt cx="2286000" cy="459720"/>
          </a:xfrm>
        </p:grpSpPr>
        <p:sp>
          <p:nvSpPr>
            <p:cNvPr id="155" name="Rectangle 37"/>
            <p:cNvSpPr/>
            <p:nvPr/>
          </p:nvSpPr>
          <p:spPr>
            <a:xfrm>
              <a:off x="990720" y="1009800"/>
              <a:ext cx="2286000" cy="28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38"/>
            <p:cNvSpPr/>
            <p:nvPr/>
          </p:nvSpPr>
          <p:spPr>
            <a:xfrm>
              <a:off x="990720" y="914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hel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39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diment is compacted (squashed) and particles get c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4952880" y="371484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Metamorphic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41"/>
          <p:cNvGrpSpPr/>
          <p:nvPr/>
        </p:nvGrpSpPr>
        <p:grpSpPr>
          <a:xfrm>
            <a:off x="5943600" y="914400"/>
            <a:ext cx="2819520" cy="459720"/>
            <a:chOff x="5943600" y="914400"/>
            <a:chExt cx="2819520" cy="459720"/>
          </a:xfrm>
        </p:grpSpPr>
        <p:sp>
          <p:nvSpPr>
            <p:cNvPr id="160" name="Rectangle 42"/>
            <p:cNvSpPr/>
            <p:nvPr/>
          </p:nvSpPr>
          <p:spPr>
            <a:xfrm>
              <a:off x="5943600" y="990720"/>
              <a:ext cx="2819520" cy="323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6019920" y="9144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Times New Roman"/>
                </a:rPr>
                <a:t>lime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44"/>
          <p:cNvGrpSpPr/>
          <p:nvPr/>
        </p:nvGrpSpPr>
        <p:grpSpPr>
          <a:xfrm>
            <a:off x="5943600" y="1486080"/>
            <a:ext cx="2819520" cy="459720"/>
            <a:chOff x="5943600" y="1486080"/>
            <a:chExt cx="2819520" cy="459720"/>
          </a:xfrm>
        </p:grpSpPr>
        <p:sp>
          <p:nvSpPr>
            <p:cNvPr id="163" name="Rectangle 45"/>
            <p:cNvSpPr/>
            <p:nvPr/>
          </p:nvSpPr>
          <p:spPr>
            <a:xfrm>
              <a:off x="5943600" y="1600200"/>
              <a:ext cx="2819520" cy="2858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46"/>
            <p:cNvSpPr/>
            <p:nvPr/>
          </p:nvSpPr>
          <p:spPr>
            <a:xfrm>
              <a:off x="6019920" y="1486080"/>
              <a:ext cx="197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and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47"/>
          <p:cNvGrpSpPr/>
          <p:nvPr/>
        </p:nvGrpSpPr>
        <p:grpSpPr>
          <a:xfrm>
            <a:off x="3566520" y="1980720"/>
            <a:ext cx="4357800" cy="2259000"/>
            <a:chOff x="3566520" y="1980720"/>
            <a:chExt cx="4357800" cy="2259000"/>
          </a:xfrm>
        </p:grpSpPr>
        <p:sp>
          <p:nvSpPr>
            <p:cNvPr id="166" name="AutoShape 48"/>
            <p:cNvSpPr/>
            <p:nvPr/>
          </p:nvSpPr>
          <p:spPr>
            <a:xfrm rot="10800000">
              <a:off x="7314840" y="1980720"/>
              <a:ext cx="609480" cy="1752840"/>
            </a:xfrm>
            <a:prstGeom prst="upArrow">
              <a:avLst>
                <a:gd name="adj1" fmla="val 50000"/>
                <a:gd name="adj2" fmla="val 71899"/>
              </a:avLst>
            </a:prstGeom>
            <a:solidFill>
              <a:srgbClr val="3333cc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49"/>
            <p:cNvSpPr/>
            <p:nvPr/>
          </p:nvSpPr>
          <p:spPr>
            <a:xfrm rot="211200">
              <a:off x="3581280" y="3657600"/>
              <a:ext cx="1600200" cy="533520"/>
            </a:xfrm>
            <a:prstGeom prst="rightArrow">
              <a:avLst>
                <a:gd name="adj1" fmla="val 50000"/>
                <a:gd name="adj2" fmla="val 74983"/>
              </a:avLst>
            </a:prstGeom>
            <a:solidFill>
              <a:srgbClr val="3333cc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50"/>
          <p:cNvGrpSpPr/>
          <p:nvPr/>
        </p:nvGrpSpPr>
        <p:grpSpPr>
          <a:xfrm>
            <a:off x="5638680" y="1295280"/>
            <a:ext cx="3124440" cy="3202920"/>
            <a:chOff x="5638680" y="1295280"/>
            <a:chExt cx="3124440" cy="3202920"/>
          </a:xfrm>
        </p:grpSpPr>
        <p:grpSp>
          <p:nvGrpSpPr>
            <p:cNvPr id="169" name="Group 51"/>
            <p:cNvGrpSpPr/>
            <p:nvPr/>
          </p:nvGrpSpPr>
          <p:grpSpPr>
            <a:xfrm>
              <a:off x="5638680" y="4038480"/>
              <a:ext cx="3124440" cy="459720"/>
              <a:chOff x="5638680" y="4038480"/>
              <a:chExt cx="3124440" cy="459720"/>
            </a:xfrm>
          </p:grpSpPr>
          <p:sp>
            <p:nvSpPr>
              <p:cNvPr id="170" name="Rectangle 52"/>
              <p:cNvSpPr/>
              <p:nvPr/>
            </p:nvSpPr>
            <p:spPr>
              <a:xfrm>
                <a:off x="5638680" y="4133880"/>
                <a:ext cx="3124440" cy="28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53"/>
              <p:cNvSpPr/>
              <p:nvPr/>
            </p:nvSpPr>
            <p:spPr>
              <a:xfrm>
                <a:off x="6324480" y="40384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mar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AutoShape 54"/>
            <p:cNvSpPr/>
            <p:nvPr/>
          </p:nvSpPr>
          <p:spPr>
            <a:xfrm>
              <a:off x="8267760" y="1295280"/>
              <a:ext cx="266760" cy="2971800"/>
            </a:xfrm>
            <a:prstGeom prst="downArrow">
              <a:avLst>
                <a:gd name="adj1" fmla="val 50000"/>
                <a:gd name="adj2" fmla="val 278509"/>
              </a:avLst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55"/>
          <p:cNvGrpSpPr/>
          <p:nvPr/>
        </p:nvGrpSpPr>
        <p:grpSpPr>
          <a:xfrm>
            <a:off x="5638680" y="1600200"/>
            <a:ext cx="3181320" cy="3164760"/>
            <a:chOff x="5638680" y="1600200"/>
            <a:chExt cx="3181320" cy="3164760"/>
          </a:xfrm>
        </p:grpSpPr>
        <p:grpSp>
          <p:nvGrpSpPr>
            <p:cNvPr id="174" name="Group 56"/>
            <p:cNvGrpSpPr/>
            <p:nvPr/>
          </p:nvGrpSpPr>
          <p:grpSpPr>
            <a:xfrm>
              <a:off x="5638680" y="4305240"/>
              <a:ext cx="3124440" cy="459720"/>
              <a:chOff x="5638680" y="4305240"/>
              <a:chExt cx="3124440" cy="459720"/>
            </a:xfrm>
          </p:grpSpPr>
          <p:sp>
            <p:nvSpPr>
              <p:cNvPr id="175" name="Rectangle 57"/>
              <p:cNvSpPr/>
              <p:nvPr/>
            </p:nvSpPr>
            <p:spPr>
              <a:xfrm>
                <a:off x="5638680" y="4419720"/>
                <a:ext cx="3124440" cy="285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6477120" y="4305240"/>
                <a:ext cx="93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sl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AutoShape 59"/>
            <p:cNvSpPr/>
            <p:nvPr/>
          </p:nvSpPr>
          <p:spPr>
            <a:xfrm>
              <a:off x="8534520" y="1600200"/>
              <a:ext cx="285480" cy="2952720"/>
            </a:xfrm>
            <a:prstGeom prst="downArrow">
              <a:avLst>
                <a:gd name="adj1" fmla="val 50000"/>
                <a:gd name="adj2" fmla="val 258575"/>
              </a:avLst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0"/>
          <p:cNvGrpSpPr/>
          <p:nvPr/>
        </p:nvGrpSpPr>
        <p:grpSpPr>
          <a:xfrm>
            <a:off x="3733920" y="2305080"/>
            <a:ext cx="3657600" cy="2561040"/>
            <a:chOff x="3733920" y="2305080"/>
            <a:chExt cx="3657600" cy="2561040"/>
          </a:xfrm>
        </p:grpSpPr>
        <p:sp>
          <p:nvSpPr>
            <p:cNvPr id="179" name="Text Box 61"/>
            <p:cNvSpPr/>
            <p:nvPr/>
          </p:nvSpPr>
          <p:spPr>
            <a:xfrm>
              <a:off x="3733920" y="4162320"/>
              <a:ext cx="1524240" cy="70380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heat and 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62"/>
            <p:cNvSpPr/>
            <p:nvPr/>
          </p:nvSpPr>
          <p:spPr>
            <a:xfrm>
              <a:off x="6019920" y="2305080"/>
              <a:ext cx="1371600" cy="70380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heat and </a:t>
              </a:r>
              <a:br>
                <a:rPr sz="2000"/>
              </a:b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8"/>
          <p:cNvGrpSpPr/>
          <p:nvPr/>
        </p:nvGrpSpPr>
        <p:grpSpPr>
          <a:xfrm>
            <a:off x="3429000" y="990720"/>
            <a:ext cx="2819520" cy="2818800"/>
            <a:chOff x="3429000" y="990720"/>
            <a:chExt cx="2819520" cy="2818800"/>
          </a:xfrm>
        </p:grpSpPr>
        <p:sp>
          <p:nvSpPr>
            <p:cNvPr id="182" name="Line 69"/>
            <p:cNvSpPr/>
            <p:nvPr/>
          </p:nvSpPr>
          <p:spPr>
            <a:xfrm flipH="1" flipV="1">
              <a:off x="3580920" y="1690200"/>
              <a:ext cx="2133720" cy="211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70"/>
            <p:cNvSpPr/>
            <p:nvPr/>
          </p:nvSpPr>
          <p:spPr>
            <a:xfrm flipH="1">
              <a:off x="3580920" y="990720"/>
              <a:ext cx="221004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71"/>
            <p:cNvSpPr/>
            <p:nvPr/>
          </p:nvSpPr>
          <p:spPr>
            <a:xfrm>
              <a:off x="3429000" y="1857240"/>
              <a:ext cx="457200" cy="1738440"/>
            </a:xfrm>
            <a:custGeom>
              <a:avLst/>
              <a:gdLst/>
              <a:ahLst/>
              <a:rect l="l" t="t" r="r" b="b"/>
              <a:pathLst>
                <a:path w="192" h="816">
                  <a:moveTo>
                    <a:pt x="0" y="816"/>
                  </a:moveTo>
                  <a:cubicBezTo>
                    <a:pt x="96" y="668"/>
                    <a:pt x="192" y="520"/>
                    <a:pt x="192" y="384"/>
                  </a:cubicBezTo>
                  <a:cubicBezTo>
                    <a:pt x="192" y="248"/>
                    <a:pt x="96" y="124"/>
                    <a:pt x="0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72"/>
            <p:cNvSpPr/>
            <p:nvPr/>
          </p:nvSpPr>
          <p:spPr>
            <a:xfrm>
              <a:off x="3886200" y="1371600"/>
              <a:ext cx="236232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Any rock can 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be weathered 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or eroded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    to mud or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         s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Verdana"/>
              </a:rPr>
              <a:t>Referen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685800" y="457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Peter Hollamby and Steve Lewis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for the Royal Society of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27"/>
          <p:cNvGrpSpPr/>
          <p:nvPr/>
        </p:nvGrpSpPr>
        <p:grpSpPr>
          <a:xfrm>
            <a:off x="685800" y="838080"/>
            <a:ext cx="8763120" cy="1143000"/>
            <a:chOff x="685800" y="838080"/>
            <a:chExt cx="8763120" cy="1143000"/>
          </a:xfrm>
        </p:grpSpPr>
        <p:sp>
          <p:nvSpPr>
            <p:cNvPr id="189" name="Rectangle 13"/>
            <p:cNvSpPr/>
            <p:nvPr/>
          </p:nvSpPr>
          <p:spPr>
            <a:xfrm>
              <a:off x="685800" y="838080"/>
              <a:ext cx="8763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Verdana"/>
                </a:rPr>
                <a:t>Move back to any point in this presentation </a:t>
              </a:r>
              <a:br>
                <a:rPr sz="2800"/>
              </a:br>
              <a:r>
                <a:rPr b="0" lang="en-GB" sz="2800" spc="-1" strike="noStrike">
                  <a:solidFill>
                    <a:srgbClr val="ffff00"/>
                  </a:solidFill>
                  <a:latin typeface="Verdana"/>
                </a:rPr>
                <a:t>by using either the backspace </a:t>
              </a:r>
              <a:br>
                <a:rPr sz="2800"/>
              </a:br>
              <a:r>
                <a:rPr b="0" lang="en-GB" sz="2800" spc="-1" strike="noStrike">
                  <a:solidFill>
                    <a:srgbClr val="ffff00"/>
                  </a:solidFill>
                  <a:latin typeface="Verdana"/>
                </a:rPr>
                <a:t>or up arrow </a:t>
              </a:r>
              <a:r>
                <a:rPr b="0" lang="en-GB" sz="2800" spc="-1" strike="noStrike">
                  <a:solidFill>
                    <a:srgbClr val="ffff00"/>
                  </a:solidFill>
                  <a:latin typeface="Verdana"/>
                </a:rPr>
                <a:t>	</a:t>
              </a:r>
              <a:r>
                <a:rPr b="0" lang="en-GB" sz="2800" spc="-1" strike="noStrike">
                  <a:solidFill>
                    <a:srgbClr val="ffff00"/>
                  </a:solidFill>
                  <a:latin typeface="Verdana"/>
                </a:rPr>
                <a:t>keys.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23"/>
            <p:cNvGrpSpPr/>
            <p:nvPr/>
          </p:nvGrpSpPr>
          <p:grpSpPr>
            <a:xfrm>
              <a:off x="6248520" y="1047600"/>
              <a:ext cx="1218960" cy="380880"/>
              <a:chOff x="6248520" y="1047600"/>
              <a:chExt cx="1218960" cy="380880"/>
            </a:xfrm>
          </p:grpSpPr>
          <p:sp>
            <p:nvSpPr>
              <p:cNvPr id="191" name="Rectangle 14"/>
              <p:cNvSpPr/>
              <p:nvPr/>
            </p:nvSpPr>
            <p:spPr>
              <a:xfrm>
                <a:off x="6248520" y="1047600"/>
                <a:ext cx="1218960" cy="3808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15"/>
              <p:cNvSpPr/>
              <p:nvPr/>
            </p:nvSpPr>
            <p:spPr>
              <a:xfrm>
                <a:off x="6343560" y="1236240"/>
                <a:ext cx="685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24"/>
            <p:cNvGrpSpPr/>
            <p:nvPr/>
          </p:nvGrpSpPr>
          <p:grpSpPr>
            <a:xfrm>
              <a:off x="2971800" y="1447920"/>
              <a:ext cx="380880" cy="380880"/>
              <a:chOff x="2971800" y="1447920"/>
              <a:chExt cx="380880" cy="380880"/>
            </a:xfrm>
          </p:grpSpPr>
          <p:sp>
            <p:nvSpPr>
              <p:cNvPr id="194" name="Rectangle 20"/>
              <p:cNvSpPr/>
              <p:nvPr/>
            </p:nvSpPr>
            <p:spPr>
              <a:xfrm>
                <a:off x="2971800" y="1447920"/>
                <a:ext cx="380880" cy="3808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22"/>
              <p:cNvSpPr/>
              <p:nvPr/>
            </p:nvSpPr>
            <p:spPr>
              <a:xfrm flipV="1">
                <a:off x="3048120" y="1523880"/>
                <a:ext cx="0" cy="22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5:30:41Z</dcterms:created>
  <dc:creator>Peter Hollamby, St Cyres School</dc:creator>
  <dc:description>Step by step rock cycle followed by automated version which has a brief delay at each step.</dc:description>
  <cp:keywords>presentation</cp:keywords>
  <dc:language>en-US</dc:language>
  <cp:lastModifiedBy>Chris Runciman</cp:lastModifiedBy>
  <dcterms:modified xsi:type="dcterms:W3CDTF">2020-09-16T15:52:34Z</dcterms:modified>
  <cp:revision>66</cp:revision>
  <dc:subject/>
  <dc:title>Rock cycle answers - What is the rock cycle?</dc:title>
</cp:coreProperties>
</file>