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11077" t="4921" r="11077" b="88597"/>
          <a:stretch/>
        </p:blipFill>
        <p:spPr>
          <a:xfrm>
            <a:off x="0" y="9443880"/>
            <a:ext cx="6862680" cy="462240"/>
          </a:xfrm>
          <a:prstGeom prst="rect">
            <a:avLst/>
          </a:prstGeom>
          <a:ln w="0">
            <a:noFill/>
          </a:ln>
        </p:spPr>
      </p:pic>
      <p:pic>
        <p:nvPicPr>
          <p:cNvPr id="1" name="Picture 6" descr=""/>
          <p:cNvPicPr/>
          <p:nvPr/>
        </p:nvPicPr>
        <p:blipFill>
          <a:blip r:embed="rId3"/>
          <a:srcRect l="11077" t="4921" r="11077" b="88597"/>
          <a:stretch/>
        </p:blipFill>
        <p:spPr>
          <a:xfrm>
            <a:off x="-4680" y="0"/>
            <a:ext cx="6862680" cy="46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Text Box 5"/>
          <p:cNvSpPr/>
          <p:nvPr/>
        </p:nvSpPr>
        <p:spPr>
          <a:xfrm>
            <a:off x="189000" y="776160"/>
            <a:ext cx="6480000" cy="379620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ufacturing Fireworks</a:t>
            </a:r>
            <a:endParaRPr b="0" lang="en-US" sz="20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w do you make a 3 inch shell?</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ou and your group are going to act as a small pyrotechnics manufacturing company. </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a list of the parts needed and the cost of each part, for making a 3 inch </a:t>
            </a:r>
            <a:r>
              <a:rPr b="1" lang="en-GB" sz="1400" spc="-1" strike="noStrike">
                <a:solidFill>
                  <a:srgbClr val="000000"/>
                </a:solidFill>
                <a:latin typeface="Arial"/>
              </a:rPr>
              <a:t>red</a:t>
            </a:r>
            <a:r>
              <a:rPr b="0" lang="en-GB" sz="1400" spc="-1" strike="noStrike">
                <a:solidFill>
                  <a:srgbClr val="000000"/>
                </a:solidFill>
                <a:latin typeface="Arial"/>
              </a:rPr>
              <a:t> shell, including all necessary casings and fuses, etc. Assume you have all large electrical equipment, such as ball mills. Assume you have plenty of black powder already prepared. When budgeting, make sure to keep in mind cost, shipping and of course, safety. How much does just one 3 inch shell cost to make?</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 the amount of 75:15:10 black powder needed as a lift charge for your firework.</a:t>
            </a:r>
            <a:endParaRPr b="0" lang="en-US" sz="14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5"/>
          <p:cNvSpPr/>
          <p:nvPr/>
        </p:nvSpPr>
        <p:spPr>
          <a:xfrm>
            <a:off x="189000" y="776160"/>
            <a:ext cx="6480000" cy="373968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ufacturing Fireworks</a:t>
            </a:r>
            <a:endParaRPr b="0" lang="en-US" sz="20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w do you make a 3 inch shell?</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ou and your group are going to act as a small pyrotechnics manufacturing company. </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a list of the parts needed and the cost of each part, for making a 3 inch </a:t>
            </a:r>
            <a:r>
              <a:rPr b="1" lang="en-GB" sz="1400" spc="-1" strike="noStrike">
                <a:solidFill>
                  <a:srgbClr val="000000"/>
                </a:solidFill>
                <a:latin typeface="Arial"/>
              </a:rPr>
              <a:t>green</a:t>
            </a:r>
            <a:r>
              <a:rPr b="0" lang="en-GB" sz="1400" spc="-1" strike="noStrike">
                <a:solidFill>
                  <a:srgbClr val="000000"/>
                </a:solidFill>
                <a:latin typeface="Arial"/>
              </a:rPr>
              <a:t> shell, including all necessary casings and fuses, etc. Assume you have all large electrical equipment, such as ball mills. Assume you have plenty of black powder already prepared. When budgeting, make sure to keep in mind cost, shipping and of course, safety. How much does just one 3 inch shell cost to make?</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 the amount of 75:15:10 black powder needed as a lift charge for your firework.</a:t>
            </a:r>
            <a:endParaRPr b="0" lang="en-US" sz="14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5"/>
          <p:cNvSpPr/>
          <p:nvPr/>
        </p:nvSpPr>
        <p:spPr>
          <a:xfrm>
            <a:off x="189000" y="776160"/>
            <a:ext cx="6480000" cy="373788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ufacturing Fireworks</a:t>
            </a:r>
            <a:endParaRPr b="0" lang="en-US" sz="20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w do you make a 3 inch shell?</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ou and your group are going to act as a small pyrotechnics manufacturing company. </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a list of the parts needed and the cost of each part, for making a 3 inch </a:t>
            </a:r>
            <a:r>
              <a:rPr b="1" lang="en-GB" sz="1400" spc="-1" strike="noStrike">
                <a:solidFill>
                  <a:srgbClr val="000000"/>
                </a:solidFill>
                <a:latin typeface="Arial"/>
              </a:rPr>
              <a:t>gold</a:t>
            </a:r>
            <a:r>
              <a:rPr b="0" lang="en-GB" sz="1400" spc="-1" strike="noStrike">
                <a:solidFill>
                  <a:srgbClr val="000000"/>
                </a:solidFill>
                <a:latin typeface="Arial"/>
              </a:rPr>
              <a:t> or </a:t>
            </a:r>
            <a:r>
              <a:rPr b="1" lang="en-GB" sz="1400" spc="-1" strike="noStrike">
                <a:solidFill>
                  <a:srgbClr val="000000"/>
                </a:solidFill>
                <a:latin typeface="Arial"/>
              </a:rPr>
              <a:t>yellow</a:t>
            </a:r>
            <a:r>
              <a:rPr b="0" lang="en-GB" sz="1400" spc="-1" strike="noStrike">
                <a:solidFill>
                  <a:srgbClr val="000000"/>
                </a:solidFill>
                <a:latin typeface="Arial"/>
              </a:rPr>
              <a:t> shell, including all necessary casings and fuses, etc. Assume you have all large electrical equipment, such as ball mills. Assume you have plenty of black powder already prepared. When budgeting, make sure to keep in mind cost, shipping and of course, safety. How much does just one 3 inch shell cost to make?</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 the amount of 75:15:10 black powder needed as a lift charge for your firework.</a:t>
            </a:r>
            <a:endParaRPr b="0" lang="en-US" sz="14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9000" y="776160"/>
            <a:ext cx="6480000" cy="376704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ufacturing Fireworks</a:t>
            </a:r>
            <a:endParaRPr b="0" lang="en-US" sz="20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w do you make a 3 inch shell?</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ou and your group are going to act as a small pyrotechnics manufacturing company. </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a list of the parts needed and the cost of each part, for making a 3 inch </a:t>
            </a:r>
            <a:r>
              <a:rPr b="1" lang="en-GB" sz="1400" spc="-1" strike="noStrike">
                <a:solidFill>
                  <a:srgbClr val="000000"/>
                </a:solidFill>
                <a:latin typeface="Arial"/>
              </a:rPr>
              <a:t>blue</a:t>
            </a:r>
            <a:r>
              <a:rPr b="0" lang="en-GB" sz="1400" spc="-1" strike="noStrike">
                <a:solidFill>
                  <a:srgbClr val="000000"/>
                </a:solidFill>
                <a:latin typeface="Arial"/>
              </a:rPr>
              <a:t> shell, including all necessary casings and fuses, etc. Assume you have all large electrical equipment, such as ball mills. Assume you have plenty of black powder already prepared. When budgeting, make sure to keep in mind cost, shipping and of course, safety. How much does just one 3 inch shell cost to make?</a:t>
            </a: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 the amount of 75:15:10 black powder needed as a lift charge for your firework.</a:t>
            </a:r>
            <a:endParaRPr b="0" lang="en-US" sz="14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40" indent="-324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0" indent="-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09:31:54Z</dcterms:created>
  <dc:creator>Gan Shermer</dc:creator>
  <dc:description/>
  <dc:language>en-US</dc:language>
  <cp:lastModifiedBy>Gan Shermer</cp:lastModifiedBy>
  <dcterms:modified xsi:type="dcterms:W3CDTF">2012-08-09T12:42:38Z</dcterms:modified>
  <cp:revision>9</cp:revision>
  <dc:subject/>
  <dc:title>PowerPoint Presentation</dc:title>
</cp:coreProperties>
</file>